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7520" cy="6845400"/>
            <a:chOff x="0" y="0"/>
            <a:chExt cx="913752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45400"/>
            </a:xfrm>
            <a:prstGeom prst="rect">
              <a:avLst/>
            </a:prstGeom>
            <a:gradFill rotWithShape="0">
              <a:gsLst>
                <a:gs pos="0">
                  <a:srgbClr val="414141"/>
                </a:gs>
                <a:gs pos="50000">
                  <a:srgbClr val="7a7a7a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480" y="380880"/>
              <a:ext cx="9131040" cy="6096240"/>
              <a:chOff x="6480" y="380880"/>
              <a:chExt cx="9131040" cy="60962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80" y="380880"/>
                <a:ext cx="9131040" cy="85680"/>
                <a:chOff x="6480" y="380880"/>
                <a:chExt cx="9131040" cy="8568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480" y="466560"/>
                  <a:ext cx="913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80" y="380880"/>
                  <a:ext cx="913104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6480" y="6400800"/>
                <a:ext cx="9131040" cy="76320"/>
                <a:chOff x="6480" y="6400800"/>
                <a:chExt cx="9131040" cy="763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6480" y="6400800"/>
                  <a:ext cx="913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6480" y="6477120"/>
                  <a:ext cx="913104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