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57200"/>
              <a:ext cx="9131400" cy="6019920"/>
              <a:chOff x="0" y="457200"/>
              <a:chExt cx="9131400" cy="601992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0" y="4286160"/>
                <a:ext cx="9131400" cy="1524240"/>
                <a:chOff x="0" y="4286160"/>
                <a:chExt cx="9131400" cy="1524240"/>
              </a:xfrm>
            </p:grpSpPr>
            <p:sp>
              <p:nvSpPr>
                <p:cNvPr id="4" name=""/>
                <p:cNvSpPr/>
                <p:nvPr/>
              </p:nvSpPr>
              <p:spPr>
                <a:xfrm flipH="1">
                  <a:off x="0" y="4286160"/>
                  <a:ext cx="9129600" cy="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H="1">
                  <a:off x="0" y="4438800"/>
                  <a:ext cx="9128160" cy="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H="1">
                  <a:off x="0" y="459108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cb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H="1">
                  <a:off x="0" y="474336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cb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H="1">
                  <a:off x="0" y="489600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flipH="1">
                  <a:off x="0" y="504828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 flipH="1">
                  <a:off x="0" y="520056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50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 flipH="1">
                  <a:off x="0" y="535320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flipH="1">
                  <a:off x="0" y="550548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>
                  <a:off x="0" y="565776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>
                  <a:off x="0" y="5810400"/>
                  <a:ext cx="913140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" name=""/>
              <p:cNvSpPr/>
              <p:nvPr/>
            </p:nvSpPr>
            <p:spPr>
              <a:xfrm>
                <a:off x="457200" y="457200"/>
                <a:ext cx="8229600" cy="601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957400" y="905040"/>
            <a:ext cx="3228840" cy="78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round/>
          </a:ln>
          <a:effectLst>
            <a:outerShdw dist="0" dir="0" blurRad="0" rotWithShape="0">
              <a:srgbClr val="60606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