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62600"/>
            <a:ext cx="8839440" cy="833400"/>
            <a:chOff x="152280" y="5862600"/>
            <a:chExt cx="8839440" cy="833400"/>
          </a:xfrm>
        </p:grpSpPr>
        <p:sp>
          <p:nvSpPr>
            <p:cNvPr id="1" name=""/>
            <p:cNvSpPr/>
            <p:nvPr/>
          </p:nvSpPr>
          <p:spPr>
            <a:xfrm>
              <a:off x="152280" y="6039000"/>
              <a:ext cx="8834400" cy="52380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5862600"/>
              <a:ext cx="8839440" cy="833400"/>
              <a:chOff x="152280" y="5862600"/>
              <a:chExt cx="8839440" cy="8334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52280" y="6033960"/>
                <a:ext cx="8839440" cy="531000"/>
                <a:chOff x="152280" y="6033960"/>
                <a:chExt cx="8839440" cy="5310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152280" y="603396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52280" y="621504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52280" y="639612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152280" y="604512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52280" y="622620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47474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52280" y="640728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8078760" y="5862600"/>
                <a:ext cx="658800" cy="833400"/>
                <a:chOff x="8078760" y="5862600"/>
                <a:chExt cx="658800" cy="83340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089920" y="5862600"/>
                  <a:ext cx="635040" cy="83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50000">
                      <a:srgbClr val="ffffff"/>
                    </a:gs>
                    <a:gs pos="100000">
                      <a:srgbClr val="cccccc"/>
                    </a:gs>
                  </a:gsLst>
                  <a:lin ang="5400000"/>
                </a:gradFill>
                <a:ln w="12600">
                  <a:solidFill>
                    <a:srgbClr val="dadada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 txBox="1"/>
                <p:nvPr/>
              </p:nvSpPr>
              <p:spPr>
                <a:xfrm>
                  <a:off x="8078760" y="5961240"/>
                  <a:ext cx="658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Book Antiqua"/>
                    </a:rPr>
                    <a:t>YOU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Book Antiqua"/>
                    </a:rPr>
                    <a:t>LOG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Book Antiqua"/>
                    </a:rPr>
                    <a:t>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0020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