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1914480" y="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2000" y="19080"/>
              <a:ext cx="324360" cy="1076760"/>
            </a:xfrm>
            <a:custGeom>
              <a:avLst/>
              <a:gdLst/>
              <a:ahLst/>
              <a:rect l="0" t="0" r="r" b="b"/>
              <a:pathLst>
                <a:path w="901" h="2991">
                  <a:moveTo>
                    <a:pt x="368" y="76"/>
                  </a:moveTo>
                  <a:lnTo>
                    <a:pt x="828" y="0"/>
                  </a:lnTo>
                  <a:lnTo>
                    <a:pt x="597" y="476"/>
                  </a:lnTo>
                  <a:lnTo>
                    <a:pt x="414" y="1010"/>
                  </a:lnTo>
                  <a:lnTo>
                    <a:pt x="368" y="1238"/>
                  </a:lnTo>
                  <a:lnTo>
                    <a:pt x="368" y="1448"/>
                  </a:lnTo>
                  <a:lnTo>
                    <a:pt x="432" y="1657"/>
                  </a:lnTo>
                  <a:lnTo>
                    <a:pt x="533" y="1791"/>
                  </a:lnTo>
                  <a:lnTo>
                    <a:pt x="652" y="1924"/>
                  </a:lnTo>
                  <a:lnTo>
                    <a:pt x="818" y="2171"/>
                  </a:lnTo>
                  <a:lnTo>
                    <a:pt x="883" y="2344"/>
                  </a:lnTo>
                  <a:lnTo>
                    <a:pt x="901" y="2553"/>
                  </a:lnTo>
                  <a:lnTo>
                    <a:pt x="864" y="2820"/>
                  </a:lnTo>
                  <a:lnTo>
                    <a:pt x="763" y="2991"/>
                  </a:lnTo>
                  <a:lnTo>
                    <a:pt x="349" y="2610"/>
                  </a:lnTo>
                  <a:lnTo>
                    <a:pt x="404" y="2496"/>
                  </a:lnTo>
                  <a:lnTo>
                    <a:pt x="450" y="2344"/>
                  </a:lnTo>
                  <a:lnTo>
                    <a:pt x="450" y="2190"/>
                  </a:lnTo>
                  <a:lnTo>
                    <a:pt x="414" y="2019"/>
                  </a:lnTo>
                  <a:lnTo>
                    <a:pt x="340" y="1848"/>
                  </a:lnTo>
                  <a:lnTo>
                    <a:pt x="220" y="1676"/>
                  </a:lnTo>
                  <a:lnTo>
                    <a:pt x="82" y="1505"/>
                  </a:lnTo>
                  <a:lnTo>
                    <a:pt x="18" y="1238"/>
                  </a:lnTo>
                  <a:lnTo>
                    <a:pt x="0" y="972"/>
                  </a:lnTo>
                  <a:lnTo>
                    <a:pt x="36" y="762"/>
                  </a:lnTo>
                  <a:lnTo>
                    <a:pt x="156" y="514"/>
                  </a:lnTo>
                  <a:lnTo>
                    <a:pt x="368" y="76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400480"/>
              <a:ext cx="438480" cy="657720"/>
            </a:xfrm>
            <a:custGeom>
              <a:avLst/>
              <a:gdLst/>
              <a:ahLst/>
              <a:rect l="0" t="0" r="r" b="b"/>
              <a:pathLst>
                <a:path w="1218" h="1827">
                  <a:moveTo>
                    <a:pt x="496" y="46"/>
                  </a:moveTo>
                  <a:lnTo>
                    <a:pt x="1118" y="0"/>
                  </a:lnTo>
                  <a:lnTo>
                    <a:pt x="808" y="290"/>
                  </a:lnTo>
                  <a:lnTo>
                    <a:pt x="558" y="617"/>
                  </a:lnTo>
                  <a:lnTo>
                    <a:pt x="496" y="756"/>
                  </a:lnTo>
                  <a:lnTo>
                    <a:pt x="496" y="884"/>
                  </a:lnTo>
                  <a:lnTo>
                    <a:pt x="583" y="1012"/>
                  </a:lnTo>
                  <a:lnTo>
                    <a:pt x="721" y="1094"/>
                  </a:lnTo>
                  <a:lnTo>
                    <a:pt x="882" y="1175"/>
                  </a:lnTo>
                  <a:lnTo>
                    <a:pt x="1106" y="1326"/>
                  </a:lnTo>
                  <a:lnTo>
                    <a:pt x="1193" y="1432"/>
                  </a:lnTo>
                  <a:lnTo>
                    <a:pt x="1218" y="1560"/>
                  </a:lnTo>
                  <a:lnTo>
                    <a:pt x="1168" y="1722"/>
                  </a:lnTo>
                  <a:lnTo>
                    <a:pt x="1031" y="1827"/>
                  </a:lnTo>
                  <a:lnTo>
                    <a:pt x="471" y="1595"/>
                  </a:lnTo>
                  <a:lnTo>
                    <a:pt x="546" y="1525"/>
                  </a:lnTo>
                  <a:lnTo>
                    <a:pt x="608" y="1432"/>
                  </a:lnTo>
                  <a:lnTo>
                    <a:pt x="608" y="1338"/>
                  </a:lnTo>
                  <a:lnTo>
                    <a:pt x="558" y="1233"/>
                  </a:lnTo>
                  <a:lnTo>
                    <a:pt x="459" y="1128"/>
                  </a:lnTo>
                  <a:lnTo>
                    <a:pt x="298" y="1024"/>
                  </a:lnTo>
                  <a:lnTo>
                    <a:pt x="111" y="919"/>
                  </a:lnTo>
                  <a:lnTo>
                    <a:pt x="24" y="756"/>
                  </a:lnTo>
                  <a:lnTo>
                    <a:pt x="0" y="594"/>
                  </a:lnTo>
                  <a:lnTo>
                    <a:pt x="49" y="466"/>
                  </a:lnTo>
                  <a:lnTo>
                    <a:pt x="211" y="313"/>
                  </a:lnTo>
                  <a:lnTo>
                    <a:pt x="496" y="46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24600" y="581040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9120" y="6660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920" y="15238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596" y="51"/>
                  </a:moveTo>
                  <a:lnTo>
                    <a:pt x="82" y="0"/>
                  </a:lnTo>
                  <a:lnTo>
                    <a:pt x="338" y="324"/>
                  </a:lnTo>
                  <a:lnTo>
                    <a:pt x="544" y="687"/>
                  </a:lnTo>
                  <a:lnTo>
                    <a:pt x="596" y="843"/>
                  </a:lnTo>
                  <a:lnTo>
                    <a:pt x="596" y="986"/>
                  </a:lnTo>
                  <a:lnTo>
                    <a:pt x="524" y="1129"/>
                  </a:lnTo>
                  <a:lnTo>
                    <a:pt x="410" y="1220"/>
                  </a:lnTo>
                  <a:lnTo>
                    <a:pt x="277" y="1311"/>
                  </a:lnTo>
                  <a:lnTo>
                    <a:pt x="92" y="1480"/>
                  </a:lnTo>
                  <a:lnTo>
                    <a:pt x="20" y="1597"/>
                  </a:lnTo>
                  <a:lnTo>
                    <a:pt x="0" y="1739"/>
                  </a:lnTo>
                  <a:lnTo>
                    <a:pt x="41" y="1921"/>
                  </a:lnTo>
                  <a:lnTo>
                    <a:pt x="153" y="2038"/>
                  </a:lnTo>
                  <a:lnTo>
                    <a:pt x="616" y="1778"/>
                  </a:lnTo>
                  <a:lnTo>
                    <a:pt x="555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544" y="1376"/>
                  </a:lnTo>
                  <a:lnTo>
                    <a:pt x="626" y="1259"/>
                  </a:lnTo>
                  <a:lnTo>
                    <a:pt x="760" y="1142"/>
                  </a:lnTo>
                  <a:lnTo>
                    <a:pt x="914" y="1026"/>
                  </a:lnTo>
                  <a:lnTo>
                    <a:pt x="985" y="843"/>
                  </a:lnTo>
                  <a:lnTo>
                    <a:pt x="1006" y="661"/>
                  </a:lnTo>
                  <a:lnTo>
                    <a:pt x="965" y="519"/>
                  </a:lnTo>
                  <a:lnTo>
                    <a:pt x="832" y="350"/>
                  </a:lnTo>
                  <a:lnTo>
                    <a:pt x="596" y="5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573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2" y="0"/>
                  </a:moveTo>
                  <a:lnTo>
                    <a:pt x="0" y="450"/>
                  </a:lnTo>
                  <a:lnTo>
                    <a:pt x="415" y="821"/>
                  </a:lnTo>
                  <a:lnTo>
                    <a:pt x="689" y="370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2484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" y="57243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90440" y="63151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05040" y="61815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76600" y="63914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57720" y="610560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572160" y="62197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72680" y="58197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9560" y="351468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05880" y="216216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10520" y="9050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39080" y="4752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267600" y="29520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305240" y="28440"/>
              <a:ext cx="248040" cy="295560"/>
            </a:xfrm>
            <a:custGeom>
              <a:avLst/>
              <a:gdLst/>
              <a:ahLst/>
              <a:rect l="0" t="0" r="r" b="b"/>
              <a:pathLst>
                <a:path w="689" h="821">
                  <a:moveTo>
                    <a:pt x="293" y="0"/>
                  </a:moveTo>
                  <a:lnTo>
                    <a:pt x="0" y="452"/>
                  </a:lnTo>
                  <a:lnTo>
                    <a:pt x="413" y="821"/>
                  </a:lnTo>
                  <a:lnTo>
                    <a:pt x="689" y="36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795760" y="71280"/>
              <a:ext cx="448200" cy="381240"/>
            </a:xfrm>
            <a:custGeom>
              <a:avLst/>
              <a:gdLst/>
              <a:ahLst/>
              <a:rect l="0" t="0" r="r" b="b"/>
              <a:pathLst>
                <a:path w="1245" h="1059">
                  <a:moveTo>
                    <a:pt x="1213" y="431"/>
                  </a:moveTo>
                  <a:lnTo>
                    <a:pt x="1245" y="972"/>
                  </a:lnTo>
                  <a:lnTo>
                    <a:pt x="1047" y="702"/>
                  </a:lnTo>
                  <a:lnTo>
                    <a:pt x="824" y="485"/>
                  </a:lnTo>
                  <a:lnTo>
                    <a:pt x="729" y="431"/>
                  </a:lnTo>
                  <a:lnTo>
                    <a:pt x="642" y="431"/>
                  </a:lnTo>
                  <a:lnTo>
                    <a:pt x="555" y="507"/>
                  </a:lnTo>
                  <a:lnTo>
                    <a:pt x="500" y="627"/>
                  </a:lnTo>
                  <a:lnTo>
                    <a:pt x="444" y="767"/>
                  </a:lnTo>
                  <a:lnTo>
                    <a:pt x="341" y="962"/>
                  </a:lnTo>
                  <a:lnTo>
                    <a:pt x="269" y="1037"/>
                  </a:lnTo>
                  <a:lnTo>
                    <a:pt x="182" y="1059"/>
                  </a:lnTo>
                  <a:lnTo>
                    <a:pt x="71" y="1016"/>
                  </a:lnTo>
                  <a:lnTo>
                    <a:pt x="0" y="897"/>
                  </a:lnTo>
                  <a:lnTo>
                    <a:pt x="158" y="410"/>
                  </a:lnTo>
                  <a:lnTo>
                    <a:pt x="205" y="475"/>
                  </a:lnTo>
                  <a:lnTo>
                    <a:pt x="269" y="530"/>
                  </a:lnTo>
                  <a:lnTo>
                    <a:pt x="333" y="530"/>
                  </a:lnTo>
                  <a:lnTo>
                    <a:pt x="404" y="485"/>
                  </a:lnTo>
                  <a:lnTo>
                    <a:pt x="476" y="399"/>
                  </a:lnTo>
                  <a:lnTo>
                    <a:pt x="547" y="259"/>
                  </a:lnTo>
                  <a:lnTo>
                    <a:pt x="618" y="97"/>
                  </a:lnTo>
                  <a:lnTo>
                    <a:pt x="729" y="21"/>
                  </a:lnTo>
                  <a:lnTo>
                    <a:pt x="840" y="0"/>
                  </a:lnTo>
                  <a:lnTo>
                    <a:pt x="927" y="43"/>
                  </a:lnTo>
                  <a:lnTo>
                    <a:pt x="1031" y="183"/>
                  </a:lnTo>
                  <a:lnTo>
                    <a:pt x="1213" y="431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00880" y="299880"/>
              <a:ext cx="448200" cy="381240"/>
            </a:xfrm>
            <a:custGeom>
              <a:avLst/>
              <a:gdLst/>
              <a:ahLst/>
              <a:rect l="0" t="0" r="r" b="b"/>
              <a:pathLst>
                <a:path w="1245" h="1059">
                  <a:moveTo>
                    <a:pt x="1213" y="431"/>
                  </a:moveTo>
                  <a:lnTo>
                    <a:pt x="1245" y="972"/>
                  </a:lnTo>
                  <a:lnTo>
                    <a:pt x="1047" y="702"/>
                  </a:lnTo>
                  <a:lnTo>
                    <a:pt x="824" y="485"/>
                  </a:lnTo>
                  <a:lnTo>
                    <a:pt x="729" y="431"/>
                  </a:lnTo>
                  <a:lnTo>
                    <a:pt x="642" y="431"/>
                  </a:lnTo>
                  <a:lnTo>
                    <a:pt x="555" y="507"/>
                  </a:lnTo>
                  <a:lnTo>
                    <a:pt x="500" y="627"/>
                  </a:lnTo>
                  <a:lnTo>
                    <a:pt x="444" y="767"/>
                  </a:lnTo>
                  <a:lnTo>
                    <a:pt x="341" y="962"/>
                  </a:lnTo>
                  <a:lnTo>
                    <a:pt x="269" y="1037"/>
                  </a:lnTo>
                  <a:lnTo>
                    <a:pt x="182" y="1059"/>
                  </a:lnTo>
                  <a:lnTo>
                    <a:pt x="71" y="1016"/>
                  </a:lnTo>
                  <a:lnTo>
                    <a:pt x="0" y="897"/>
                  </a:lnTo>
                  <a:lnTo>
                    <a:pt x="158" y="410"/>
                  </a:lnTo>
                  <a:lnTo>
                    <a:pt x="205" y="475"/>
                  </a:lnTo>
                  <a:lnTo>
                    <a:pt x="269" y="530"/>
                  </a:lnTo>
                  <a:lnTo>
                    <a:pt x="333" y="530"/>
                  </a:lnTo>
                  <a:lnTo>
                    <a:pt x="404" y="485"/>
                  </a:lnTo>
                  <a:lnTo>
                    <a:pt x="476" y="399"/>
                  </a:lnTo>
                  <a:lnTo>
                    <a:pt x="547" y="259"/>
                  </a:lnTo>
                  <a:lnTo>
                    <a:pt x="618" y="97"/>
                  </a:lnTo>
                  <a:lnTo>
                    <a:pt x="729" y="21"/>
                  </a:lnTo>
                  <a:lnTo>
                    <a:pt x="840" y="0"/>
                  </a:lnTo>
                  <a:lnTo>
                    <a:pt x="927" y="43"/>
                  </a:lnTo>
                  <a:lnTo>
                    <a:pt x="1031" y="183"/>
                  </a:lnTo>
                  <a:lnTo>
                    <a:pt x="1213" y="43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96280" y="1633680"/>
              <a:ext cx="448200" cy="381240"/>
            </a:xfrm>
            <a:custGeom>
              <a:avLst/>
              <a:gdLst/>
              <a:ahLst/>
              <a:rect l="0" t="0" r="r" b="b"/>
              <a:pathLst>
                <a:path w="1245" h="1059">
                  <a:moveTo>
                    <a:pt x="1213" y="431"/>
                  </a:moveTo>
                  <a:lnTo>
                    <a:pt x="1245" y="972"/>
                  </a:lnTo>
                  <a:lnTo>
                    <a:pt x="1047" y="702"/>
                  </a:lnTo>
                  <a:lnTo>
                    <a:pt x="824" y="485"/>
                  </a:lnTo>
                  <a:lnTo>
                    <a:pt x="729" y="431"/>
                  </a:lnTo>
                  <a:lnTo>
                    <a:pt x="642" y="431"/>
                  </a:lnTo>
                  <a:lnTo>
                    <a:pt x="555" y="507"/>
                  </a:lnTo>
                  <a:lnTo>
                    <a:pt x="500" y="627"/>
                  </a:lnTo>
                  <a:lnTo>
                    <a:pt x="444" y="767"/>
                  </a:lnTo>
                  <a:lnTo>
                    <a:pt x="341" y="962"/>
                  </a:lnTo>
                  <a:lnTo>
                    <a:pt x="269" y="1037"/>
                  </a:lnTo>
                  <a:lnTo>
                    <a:pt x="182" y="1059"/>
                  </a:lnTo>
                  <a:lnTo>
                    <a:pt x="71" y="1016"/>
                  </a:lnTo>
                  <a:lnTo>
                    <a:pt x="0" y="897"/>
                  </a:lnTo>
                  <a:lnTo>
                    <a:pt x="158" y="410"/>
                  </a:lnTo>
                  <a:lnTo>
                    <a:pt x="205" y="475"/>
                  </a:lnTo>
                  <a:lnTo>
                    <a:pt x="269" y="530"/>
                  </a:lnTo>
                  <a:lnTo>
                    <a:pt x="333" y="530"/>
                  </a:lnTo>
                  <a:lnTo>
                    <a:pt x="404" y="485"/>
                  </a:lnTo>
                  <a:lnTo>
                    <a:pt x="476" y="399"/>
                  </a:lnTo>
                  <a:lnTo>
                    <a:pt x="547" y="259"/>
                  </a:lnTo>
                  <a:lnTo>
                    <a:pt x="618" y="97"/>
                  </a:lnTo>
                  <a:lnTo>
                    <a:pt x="729" y="21"/>
                  </a:lnTo>
                  <a:lnTo>
                    <a:pt x="840" y="0"/>
                  </a:lnTo>
                  <a:lnTo>
                    <a:pt x="927" y="43"/>
                  </a:lnTo>
                  <a:lnTo>
                    <a:pt x="1031" y="183"/>
                  </a:lnTo>
                  <a:lnTo>
                    <a:pt x="1213" y="43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33760" y="0"/>
              <a:ext cx="476640" cy="657360"/>
            </a:xfrm>
            <a:custGeom>
              <a:avLst/>
              <a:gdLst/>
              <a:ahLst/>
              <a:rect l="0" t="0" r="r" b="b"/>
              <a:pathLst>
                <a:path w="1324" h="1826">
                  <a:moveTo>
                    <a:pt x="540" y="46"/>
                  </a:moveTo>
                  <a:lnTo>
                    <a:pt x="1216" y="0"/>
                  </a:lnTo>
                  <a:lnTo>
                    <a:pt x="878" y="290"/>
                  </a:lnTo>
                  <a:lnTo>
                    <a:pt x="608" y="616"/>
                  </a:lnTo>
                  <a:lnTo>
                    <a:pt x="540" y="755"/>
                  </a:lnTo>
                  <a:lnTo>
                    <a:pt x="540" y="883"/>
                  </a:lnTo>
                  <a:lnTo>
                    <a:pt x="635" y="1012"/>
                  </a:lnTo>
                  <a:lnTo>
                    <a:pt x="783" y="1094"/>
                  </a:lnTo>
                  <a:lnTo>
                    <a:pt x="959" y="1175"/>
                  </a:lnTo>
                  <a:lnTo>
                    <a:pt x="1203" y="1326"/>
                  </a:lnTo>
                  <a:lnTo>
                    <a:pt x="1297" y="1431"/>
                  </a:lnTo>
                  <a:lnTo>
                    <a:pt x="1324" y="1559"/>
                  </a:lnTo>
                  <a:lnTo>
                    <a:pt x="1270" y="1721"/>
                  </a:lnTo>
                  <a:lnTo>
                    <a:pt x="1122" y="1826"/>
                  </a:lnTo>
                  <a:lnTo>
                    <a:pt x="513" y="1594"/>
                  </a:lnTo>
                  <a:lnTo>
                    <a:pt x="594" y="1524"/>
                  </a:lnTo>
                  <a:lnTo>
                    <a:pt x="662" y="1431"/>
                  </a:lnTo>
                  <a:lnTo>
                    <a:pt x="662" y="1338"/>
                  </a:lnTo>
                  <a:lnTo>
                    <a:pt x="608" y="1233"/>
                  </a:lnTo>
                  <a:lnTo>
                    <a:pt x="500" y="1128"/>
                  </a:lnTo>
                  <a:lnTo>
                    <a:pt x="323" y="1024"/>
                  </a:lnTo>
                  <a:lnTo>
                    <a:pt x="121" y="919"/>
                  </a:lnTo>
                  <a:lnTo>
                    <a:pt x="26" y="755"/>
                  </a:lnTo>
                  <a:lnTo>
                    <a:pt x="0" y="593"/>
                  </a:lnTo>
                  <a:lnTo>
                    <a:pt x="53" y="465"/>
                  </a:lnTo>
                  <a:lnTo>
                    <a:pt x="229" y="313"/>
                  </a:lnTo>
                  <a:lnTo>
                    <a:pt x="540" y="46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981840" y="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620200" y="8380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05720" y="47242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648400" y="611172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952640" y="594036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52280" y="453060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4760" y="323856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596" y="51"/>
                  </a:moveTo>
                  <a:lnTo>
                    <a:pt x="82" y="0"/>
                  </a:lnTo>
                  <a:lnTo>
                    <a:pt x="338" y="324"/>
                  </a:lnTo>
                  <a:lnTo>
                    <a:pt x="544" y="687"/>
                  </a:lnTo>
                  <a:lnTo>
                    <a:pt x="596" y="843"/>
                  </a:lnTo>
                  <a:lnTo>
                    <a:pt x="596" y="986"/>
                  </a:lnTo>
                  <a:lnTo>
                    <a:pt x="524" y="1129"/>
                  </a:lnTo>
                  <a:lnTo>
                    <a:pt x="410" y="1220"/>
                  </a:lnTo>
                  <a:lnTo>
                    <a:pt x="277" y="1311"/>
                  </a:lnTo>
                  <a:lnTo>
                    <a:pt x="92" y="1480"/>
                  </a:lnTo>
                  <a:lnTo>
                    <a:pt x="20" y="1597"/>
                  </a:lnTo>
                  <a:lnTo>
                    <a:pt x="0" y="1739"/>
                  </a:lnTo>
                  <a:lnTo>
                    <a:pt x="41" y="1921"/>
                  </a:lnTo>
                  <a:lnTo>
                    <a:pt x="153" y="2038"/>
                  </a:lnTo>
                  <a:lnTo>
                    <a:pt x="616" y="1778"/>
                  </a:lnTo>
                  <a:lnTo>
                    <a:pt x="555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544" y="1376"/>
                  </a:lnTo>
                  <a:lnTo>
                    <a:pt x="626" y="1259"/>
                  </a:lnTo>
                  <a:lnTo>
                    <a:pt x="760" y="1142"/>
                  </a:lnTo>
                  <a:lnTo>
                    <a:pt x="914" y="1026"/>
                  </a:lnTo>
                  <a:lnTo>
                    <a:pt x="985" y="843"/>
                  </a:lnTo>
                  <a:lnTo>
                    <a:pt x="1006" y="661"/>
                  </a:lnTo>
                  <a:lnTo>
                    <a:pt x="965" y="519"/>
                  </a:lnTo>
                  <a:lnTo>
                    <a:pt x="832" y="350"/>
                  </a:lnTo>
                  <a:lnTo>
                    <a:pt x="596" y="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3800" y="603900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596" y="51"/>
                  </a:moveTo>
                  <a:lnTo>
                    <a:pt x="82" y="0"/>
                  </a:lnTo>
                  <a:lnTo>
                    <a:pt x="338" y="324"/>
                  </a:lnTo>
                  <a:lnTo>
                    <a:pt x="544" y="687"/>
                  </a:lnTo>
                  <a:lnTo>
                    <a:pt x="596" y="843"/>
                  </a:lnTo>
                  <a:lnTo>
                    <a:pt x="596" y="986"/>
                  </a:lnTo>
                  <a:lnTo>
                    <a:pt x="524" y="1129"/>
                  </a:lnTo>
                  <a:lnTo>
                    <a:pt x="410" y="1220"/>
                  </a:lnTo>
                  <a:lnTo>
                    <a:pt x="277" y="1311"/>
                  </a:lnTo>
                  <a:lnTo>
                    <a:pt x="92" y="1480"/>
                  </a:lnTo>
                  <a:lnTo>
                    <a:pt x="20" y="1597"/>
                  </a:lnTo>
                  <a:lnTo>
                    <a:pt x="0" y="1739"/>
                  </a:lnTo>
                  <a:lnTo>
                    <a:pt x="41" y="1921"/>
                  </a:lnTo>
                  <a:lnTo>
                    <a:pt x="153" y="2038"/>
                  </a:lnTo>
                  <a:lnTo>
                    <a:pt x="616" y="1778"/>
                  </a:lnTo>
                  <a:lnTo>
                    <a:pt x="555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544" y="1376"/>
                  </a:lnTo>
                  <a:lnTo>
                    <a:pt x="626" y="1259"/>
                  </a:lnTo>
                  <a:lnTo>
                    <a:pt x="760" y="1142"/>
                  </a:lnTo>
                  <a:lnTo>
                    <a:pt x="914" y="1026"/>
                  </a:lnTo>
                  <a:lnTo>
                    <a:pt x="985" y="843"/>
                  </a:lnTo>
                  <a:lnTo>
                    <a:pt x="1006" y="661"/>
                  </a:lnTo>
                  <a:lnTo>
                    <a:pt x="965" y="519"/>
                  </a:lnTo>
                  <a:lnTo>
                    <a:pt x="832" y="350"/>
                  </a:lnTo>
                  <a:lnTo>
                    <a:pt x="596" y="51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57480" y="601668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286760" y="594036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883720" y="567360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6640" y="237816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705800" y="168120"/>
              <a:ext cx="248040" cy="829080"/>
            </a:xfrm>
            <a:custGeom>
              <a:avLst/>
              <a:gdLst/>
              <a:ahLst/>
              <a:rect l="0" t="0" r="r" b="b"/>
              <a:pathLst>
                <a:path w="689" h="2303">
                  <a:moveTo>
                    <a:pt x="408" y="58"/>
                  </a:moveTo>
                  <a:lnTo>
                    <a:pt x="56" y="0"/>
                  </a:lnTo>
                  <a:lnTo>
                    <a:pt x="232" y="366"/>
                  </a:lnTo>
                  <a:lnTo>
                    <a:pt x="373" y="778"/>
                  </a:lnTo>
                  <a:lnTo>
                    <a:pt x="408" y="954"/>
                  </a:lnTo>
                  <a:lnTo>
                    <a:pt x="408" y="1115"/>
                  </a:lnTo>
                  <a:lnTo>
                    <a:pt x="358" y="1276"/>
                  </a:lnTo>
                  <a:lnTo>
                    <a:pt x="281" y="1379"/>
                  </a:lnTo>
                  <a:lnTo>
                    <a:pt x="190" y="1481"/>
                  </a:lnTo>
                  <a:lnTo>
                    <a:pt x="63" y="1672"/>
                  </a:lnTo>
                  <a:lnTo>
                    <a:pt x="14" y="1805"/>
                  </a:lnTo>
                  <a:lnTo>
                    <a:pt x="0" y="1966"/>
                  </a:lnTo>
                  <a:lnTo>
                    <a:pt x="28" y="2171"/>
                  </a:lnTo>
                  <a:lnTo>
                    <a:pt x="105" y="2303"/>
                  </a:lnTo>
                  <a:lnTo>
                    <a:pt x="422" y="2010"/>
                  </a:lnTo>
                  <a:lnTo>
                    <a:pt x="380" y="1922"/>
                  </a:lnTo>
                  <a:lnTo>
                    <a:pt x="344" y="1805"/>
                  </a:lnTo>
                  <a:lnTo>
                    <a:pt x="344" y="1687"/>
                  </a:lnTo>
                  <a:lnTo>
                    <a:pt x="373" y="1555"/>
                  </a:lnTo>
                  <a:lnTo>
                    <a:pt x="429" y="1423"/>
                  </a:lnTo>
                  <a:lnTo>
                    <a:pt x="521" y="1291"/>
                  </a:lnTo>
                  <a:lnTo>
                    <a:pt x="626" y="1159"/>
                  </a:lnTo>
                  <a:lnTo>
                    <a:pt x="675" y="954"/>
                  </a:lnTo>
                  <a:lnTo>
                    <a:pt x="689" y="748"/>
                  </a:lnTo>
                  <a:lnTo>
                    <a:pt x="661" y="587"/>
                  </a:lnTo>
                  <a:lnTo>
                    <a:pt x="570" y="395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00720" y="0"/>
              <a:ext cx="248040" cy="562320"/>
            </a:xfrm>
            <a:custGeom>
              <a:avLst/>
              <a:gdLst/>
              <a:ahLst/>
              <a:rect l="0" t="0" r="r" b="b"/>
              <a:pathLst>
                <a:path w="689" h="1562">
                  <a:moveTo>
                    <a:pt x="408" y="39"/>
                  </a:moveTo>
                  <a:lnTo>
                    <a:pt x="56" y="0"/>
                  </a:lnTo>
                  <a:lnTo>
                    <a:pt x="232" y="248"/>
                  </a:lnTo>
                  <a:lnTo>
                    <a:pt x="373" y="526"/>
                  </a:lnTo>
                  <a:lnTo>
                    <a:pt x="408" y="646"/>
                  </a:lnTo>
                  <a:lnTo>
                    <a:pt x="408" y="755"/>
                  </a:lnTo>
                  <a:lnTo>
                    <a:pt x="358" y="866"/>
                  </a:lnTo>
                  <a:lnTo>
                    <a:pt x="281" y="935"/>
                  </a:lnTo>
                  <a:lnTo>
                    <a:pt x="190" y="1005"/>
                  </a:lnTo>
                  <a:lnTo>
                    <a:pt x="63" y="1134"/>
                  </a:lnTo>
                  <a:lnTo>
                    <a:pt x="14" y="1223"/>
                  </a:lnTo>
                  <a:lnTo>
                    <a:pt x="0" y="1333"/>
                  </a:lnTo>
                  <a:lnTo>
                    <a:pt x="28" y="1472"/>
                  </a:lnTo>
                  <a:lnTo>
                    <a:pt x="105" y="1562"/>
                  </a:lnTo>
                  <a:lnTo>
                    <a:pt x="422" y="1363"/>
                  </a:lnTo>
                  <a:lnTo>
                    <a:pt x="380" y="1303"/>
                  </a:lnTo>
                  <a:lnTo>
                    <a:pt x="344" y="1223"/>
                  </a:lnTo>
                  <a:lnTo>
                    <a:pt x="344" y="1144"/>
                  </a:lnTo>
                  <a:lnTo>
                    <a:pt x="373" y="1054"/>
                  </a:lnTo>
                  <a:lnTo>
                    <a:pt x="429" y="965"/>
                  </a:lnTo>
                  <a:lnTo>
                    <a:pt x="521" y="875"/>
                  </a:lnTo>
                  <a:lnTo>
                    <a:pt x="626" y="786"/>
                  </a:lnTo>
                  <a:lnTo>
                    <a:pt x="675" y="646"/>
                  </a:lnTo>
                  <a:lnTo>
                    <a:pt x="689" y="507"/>
                  </a:lnTo>
                  <a:lnTo>
                    <a:pt x="661" y="397"/>
                  </a:lnTo>
                  <a:lnTo>
                    <a:pt x="570" y="268"/>
                  </a:lnTo>
                  <a:lnTo>
                    <a:pt x="408" y="39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639280" y="2990880"/>
              <a:ext cx="362160" cy="733680"/>
            </a:xfrm>
            <a:custGeom>
              <a:avLst/>
              <a:gdLst/>
              <a:ahLst/>
              <a:rect l="0" t="0" r="r" b="b"/>
              <a:pathLst>
                <a:path w="1006" h="2038">
                  <a:moveTo>
                    <a:pt x="410" y="51"/>
                  </a:moveTo>
                  <a:lnTo>
                    <a:pt x="924" y="0"/>
                  </a:lnTo>
                  <a:lnTo>
                    <a:pt x="667" y="324"/>
                  </a:lnTo>
                  <a:lnTo>
                    <a:pt x="461" y="687"/>
                  </a:lnTo>
                  <a:lnTo>
                    <a:pt x="410" y="843"/>
                  </a:lnTo>
                  <a:lnTo>
                    <a:pt x="410" y="986"/>
                  </a:lnTo>
                  <a:lnTo>
                    <a:pt x="482" y="1129"/>
                  </a:lnTo>
                  <a:lnTo>
                    <a:pt x="596" y="1220"/>
                  </a:lnTo>
                  <a:lnTo>
                    <a:pt x="729" y="1311"/>
                  </a:lnTo>
                  <a:lnTo>
                    <a:pt x="914" y="1480"/>
                  </a:lnTo>
                  <a:lnTo>
                    <a:pt x="985" y="1597"/>
                  </a:lnTo>
                  <a:lnTo>
                    <a:pt x="1006" y="1739"/>
                  </a:lnTo>
                  <a:lnTo>
                    <a:pt x="965" y="1921"/>
                  </a:lnTo>
                  <a:lnTo>
                    <a:pt x="852" y="2038"/>
                  </a:lnTo>
                  <a:lnTo>
                    <a:pt x="389" y="1778"/>
                  </a:lnTo>
                  <a:lnTo>
                    <a:pt x="451" y="1700"/>
                  </a:lnTo>
                  <a:lnTo>
                    <a:pt x="502" y="1597"/>
                  </a:lnTo>
                  <a:lnTo>
                    <a:pt x="502" y="1493"/>
                  </a:lnTo>
                  <a:lnTo>
                    <a:pt x="461" y="1376"/>
                  </a:lnTo>
                  <a:lnTo>
                    <a:pt x="379" y="1259"/>
                  </a:lnTo>
                  <a:lnTo>
                    <a:pt x="246" y="1142"/>
                  </a:lnTo>
                  <a:lnTo>
                    <a:pt x="92" y="1026"/>
                  </a:lnTo>
                  <a:lnTo>
                    <a:pt x="20" y="843"/>
                  </a:lnTo>
                  <a:lnTo>
                    <a:pt x="0" y="661"/>
                  </a:lnTo>
                  <a:lnTo>
                    <a:pt x="41" y="519"/>
                  </a:lnTo>
                  <a:lnTo>
                    <a:pt x="174" y="350"/>
                  </a:lnTo>
                  <a:lnTo>
                    <a:pt x="410" y="5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677440" y="4057560"/>
              <a:ext cx="438480" cy="657720"/>
            </a:xfrm>
            <a:custGeom>
              <a:avLst/>
              <a:gdLst/>
              <a:ahLst/>
              <a:rect l="0" t="0" r="r" b="b"/>
              <a:pathLst>
                <a:path w="1218" h="1827">
                  <a:moveTo>
                    <a:pt x="496" y="46"/>
                  </a:moveTo>
                  <a:lnTo>
                    <a:pt x="1118" y="0"/>
                  </a:lnTo>
                  <a:lnTo>
                    <a:pt x="808" y="290"/>
                  </a:lnTo>
                  <a:lnTo>
                    <a:pt x="558" y="617"/>
                  </a:lnTo>
                  <a:lnTo>
                    <a:pt x="496" y="756"/>
                  </a:lnTo>
                  <a:lnTo>
                    <a:pt x="496" y="884"/>
                  </a:lnTo>
                  <a:lnTo>
                    <a:pt x="583" y="1012"/>
                  </a:lnTo>
                  <a:lnTo>
                    <a:pt x="721" y="1094"/>
                  </a:lnTo>
                  <a:lnTo>
                    <a:pt x="882" y="1175"/>
                  </a:lnTo>
                  <a:lnTo>
                    <a:pt x="1106" y="1326"/>
                  </a:lnTo>
                  <a:lnTo>
                    <a:pt x="1193" y="1432"/>
                  </a:lnTo>
                  <a:lnTo>
                    <a:pt x="1218" y="1560"/>
                  </a:lnTo>
                  <a:lnTo>
                    <a:pt x="1168" y="1722"/>
                  </a:lnTo>
                  <a:lnTo>
                    <a:pt x="1031" y="1827"/>
                  </a:lnTo>
                  <a:lnTo>
                    <a:pt x="471" y="1595"/>
                  </a:lnTo>
                  <a:lnTo>
                    <a:pt x="546" y="1525"/>
                  </a:lnTo>
                  <a:lnTo>
                    <a:pt x="608" y="1432"/>
                  </a:lnTo>
                  <a:lnTo>
                    <a:pt x="608" y="1338"/>
                  </a:lnTo>
                  <a:lnTo>
                    <a:pt x="558" y="1233"/>
                  </a:lnTo>
                  <a:lnTo>
                    <a:pt x="459" y="1128"/>
                  </a:lnTo>
                  <a:lnTo>
                    <a:pt x="298" y="1024"/>
                  </a:lnTo>
                  <a:lnTo>
                    <a:pt x="111" y="919"/>
                  </a:lnTo>
                  <a:lnTo>
                    <a:pt x="24" y="756"/>
                  </a:lnTo>
                  <a:lnTo>
                    <a:pt x="0" y="594"/>
                  </a:lnTo>
                  <a:lnTo>
                    <a:pt x="49" y="466"/>
                  </a:lnTo>
                  <a:lnTo>
                    <a:pt x="211" y="313"/>
                  </a:lnTo>
                  <a:lnTo>
                    <a:pt x="496" y="46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67600" y="6057720"/>
              <a:ext cx="438480" cy="657720"/>
            </a:xfrm>
            <a:custGeom>
              <a:avLst/>
              <a:gdLst/>
              <a:ahLst/>
              <a:rect l="0" t="0" r="r" b="b"/>
              <a:pathLst>
                <a:path w="1218" h="1827">
                  <a:moveTo>
                    <a:pt x="496" y="46"/>
                  </a:moveTo>
                  <a:lnTo>
                    <a:pt x="1118" y="0"/>
                  </a:lnTo>
                  <a:lnTo>
                    <a:pt x="808" y="290"/>
                  </a:lnTo>
                  <a:lnTo>
                    <a:pt x="558" y="617"/>
                  </a:lnTo>
                  <a:lnTo>
                    <a:pt x="496" y="756"/>
                  </a:lnTo>
                  <a:lnTo>
                    <a:pt x="496" y="884"/>
                  </a:lnTo>
                  <a:lnTo>
                    <a:pt x="583" y="1012"/>
                  </a:lnTo>
                  <a:lnTo>
                    <a:pt x="721" y="1094"/>
                  </a:lnTo>
                  <a:lnTo>
                    <a:pt x="882" y="1175"/>
                  </a:lnTo>
                  <a:lnTo>
                    <a:pt x="1106" y="1326"/>
                  </a:lnTo>
                  <a:lnTo>
                    <a:pt x="1193" y="1432"/>
                  </a:lnTo>
                  <a:lnTo>
                    <a:pt x="1218" y="1560"/>
                  </a:lnTo>
                  <a:lnTo>
                    <a:pt x="1168" y="1722"/>
                  </a:lnTo>
                  <a:lnTo>
                    <a:pt x="1031" y="1827"/>
                  </a:lnTo>
                  <a:lnTo>
                    <a:pt x="471" y="1595"/>
                  </a:lnTo>
                  <a:lnTo>
                    <a:pt x="546" y="1525"/>
                  </a:lnTo>
                  <a:lnTo>
                    <a:pt x="608" y="1432"/>
                  </a:lnTo>
                  <a:lnTo>
                    <a:pt x="608" y="1338"/>
                  </a:lnTo>
                  <a:lnTo>
                    <a:pt x="558" y="1233"/>
                  </a:lnTo>
                  <a:lnTo>
                    <a:pt x="459" y="1128"/>
                  </a:lnTo>
                  <a:lnTo>
                    <a:pt x="298" y="1024"/>
                  </a:lnTo>
                  <a:lnTo>
                    <a:pt x="111" y="919"/>
                  </a:lnTo>
                  <a:lnTo>
                    <a:pt x="24" y="756"/>
                  </a:lnTo>
                  <a:lnTo>
                    <a:pt x="0" y="594"/>
                  </a:lnTo>
                  <a:lnTo>
                    <a:pt x="49" y="466"/>
                  </a:lnTo>
                  <a:lnTo>
                    <a:pt x="211" y="313"/>
                  </a:lnTo>
                  <a:lnTo>
                    <a:pt x="496" y="46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29040" y="6359400"/>
              <a:ext cx="438480" cy="486000"/>
            </a:xfrm>
            <a:custGeom>
              <a:avLst/>
              <a:gdLst/>
              <a:ahLst/>
              <a:rect l="0" t="0" r="r" b="b"/>
              <a:pathLst>
                <a:path w="1218" h="1350">
                  <a:moveTo>
                    <a:pt x="496" y="34"/>
                  </a:moveTo>
                  <a:lnTo>
                    <a:pt x="1118" y="0"/>
                  </a:lnTo>
                  <a:lnTo>
                    <a:pt x="808" y="214"/>
                  </a:lnTo>
                  <a:lnTo>
                    <a:pt x="558" y="455"/>
                  </a:lnTo>
                  <a:lnTo>
                    <a:pt x="496" y="558"/>
                  </a:lnTo>
                  <a:lnTo>
                    <a:pt x="496" y="653"/>
                  </a:lnTo>
                  <a:lnTo>
                    <a:pt x="583" y="748"/>
                  </a:lnTo>
                  <a:lnTo>
                    <a:pt x="721" y="808"/>
                  </a:lnTo>
                  <a:lnTo>
                    <a:pt x="882" y="869"/>
                  </a:lnTo>
                  <a:lnTo>
                    <a:pt x="1106" y="980"/>
                  </a:lnTo>
                  <a:lnTo>
                    <a:pt x="1193" y="1058"/>
                  </a:lnTo>
                  <a:lnTo>
                    <a:pt x="1218" y="1152"/>
                  </a:lnTo>
                  <a:lnTo>
                    <a:pt x="1168" y="1273"/>
                  </a:lnTo>
                  <a:lnTo>
                    <a:pt x="1031" y="1350"/>
                  </a:lnTo>
                  <a:lnTo>
                    <a:pt x="471" y="1178"/>
                  </a:lnTo>
                  <a:lnTo>
                    <a:pt x="546" y="1126"/>
                  </a:lnTo>
                  <a:lnTo>
                    <a:pt x="608" y="1058"/>
                  </a:lnTo>
                  <a:lnTo>
                    <a:pt x="608" y="989"/>
                  </a:lnTo>
                  <a:lnTo>
                    <a:pt x="558" y="912"/>
                  </a:lnTo>
                  <a:lnTo>
                    <a:pt x="459" y="834"/>
                  </a:lnTo>
                  <a:lnTo>
                    <a:pt x="298" y="757"/>
                  </a:lnTo>
                  <a:lnTo>
                    <a:pt x="111" y="679"/>
                  </a:lnTo>
                  <a:lnTo>
                    <a:pt x="24" y="558"/>
                  </a:lnTo>
                  <a:lnTo>
                    <a:pt x="0" y="438"/>
                  </a:lnTo>
                  <a:lnTo>
                    <a:pt x="49" y="343"/>
                  </a:lnTo>
                  <a:lnTo>
                    <a:pt x="211" y="232"/>
                  </a:lnTo>
                  <a:lnTo>
                    <a:pt x="496" y="34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42920" y="647208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4320" y="635796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4091040"/>
              <a:ext cx="543240" cy="267120"/>
            </a:xfrm>
            <a:custGeom>
              <a:avLst/>
              <a:gdLst/>
              <a:ahLst/>
              <a:rect l="0" t="0" r="r" b="b"/>
              <a:pathLst>
                <a:path w="1509" h="742">
                  <a:moveTo>
                    <a:pt x="1470" y="303"/>
                  </a:moveTo>
                  <a:lnTo>
                    <a:pt x="1509" y="682"/>
                  </a:lnTo>
                  <a:lnTo>
                    <a:pt x="1268" y="492"/>
                  </a:lnTo>
                  <a:lnTo>
                    <a:pt x="1000" y="341"/>
                  </a:lnTo>
                  <a:lnTo>
                    <a:pt x="884" y="303"/>
                  </a:lnTo>
                  <a:lnTo>
                    <a:pt x="779" y="303"/>
                  </a:lnTo>
                  <a:lnTo>
                    <a:pt x="672" y="356"/>
                  </a:lnTo>
                  <a:lnTo>
                    <a:pt x="605" y="439"/>
                  </a:lnTo>
                  <a:lnTo>
                    <a:pt x="537" y="537"/>
                  </a:lnTo>
                  <a:lnTo>
                    <a:pt x="413" y="674"/>
                  </a:lnTo>
                  <a:lnTo>
                    <a:pt x="326" y="727"/>
                  </a:lnTo>
                  <a:lnTo>
                    <a:pt x="220" y="742"/>
                  </a:lnTo>
                  <a:lnTo>
                    <a:pt x="86" y="712"/>
                  </a:lnTo>
                  <a:lnTo>
                    <a:pt x="0" y="629"/>
                  </a:lnTo>
                  <a:lnTo>
                    <a:pt x="192" y="288"/>
                  </a:lnTo>
                  <a:lnTo>
                    <a:pt x="249" y="333"/>
                  </a:lnTo>
                  <a:lnTo>
                    <a:pt x="326" y="371"/>
                  </a:lnTo>
                  <a:lnTo>
                    <a:pt x="403" y="371"/>
                  </a:lnTo>
                  <a:lnTo>
                    <a:pt x="489" y="341"/>
                  </a:lnTo>
                  <a:lnTo>
                    <a:pt x="576" y="280"/>
                  </a:lnTo>
                  <a:lnTo>
                    <a:pt x="662" y="181"/>
                  </a:lnTo>
                  <a:lnTo>
                    <a:pt x="749" y="68"/>
                  </a:lnTo>
                  <a:lnTo>
                    <a:pt x="884" y="15"/>
                  </a:lnTo>
                  <a:lnTo>
                    <a:pt x="1019" y="0"/>
                  </a:lnTo>
                  <a:lnTo>
                    <a:pt x="1124" y="30"/>
                  </a:lnTo>
                  <a:lnTo>
                    <a:pt x="1249" y="128"/>
                  </a:lnTo>
                  <a:lnTo>
                    <a:pt x="1470" y="303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67280" y="3348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6280" y="24300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5000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19720" y="204840"/>
              <a:ext cx="829080" cy="267120"/>
            </a:xfrm>
            <a:custGeom>
              <a:avLst/>
              <a:gdLst/>
              <a:ahLst/>
              <a:rect l="0" t="0" r="r" b="b"/>
              <a:pathLst>
                <a:path w="2303" h="742">
                  <a:moveTo>
                    <a:pt x="2245" y="303"/>
                  </a:moveTo>
                  <a:lnTo>
                    <a:pt x="2303" y="682"/>
                  </a:lnTo>
                  <a:lnTo>
                    <a:pt x="1937" y="492"/>
                  </a:lnTo>
                  <a:lnTo>
                    <a:pt x="1525" y="341"/>
                  </a:lnTo>
                  <a:lnTo>
                    <a:pt x="1349" y="303"/>
                  </a:lnTo>
                  <a:lnTo>
                    <a:pt x="1188" y="303"/>
                  </a:lnTo>
                  <a:lnTo>
                    <a:pt x="1027" y="356"/>
                  </a:lnTo>
                  <a:lnTo>
                    <a:pt x="924" y="439"/>
                  </a:lnTo>
                  <a:lnTo>
                    <a:pt x="822" y="537"/>
                  </a:lnTo>
                  <a:lnTo>
                    <a:pt x="631" y="674"/>
                  </a:lnTo>
                  <a:lnTo>
                    <a:pt x="498" y="727"/>
                  </a:lnTo>
                  <a:lnTo>
                    <a:pt x="337" y="742"/>
                  </a:lnTo>
                  <a:lnTo>
                    <a:pt x="131" y="712"/>
                  </a:lnTo>
                  <a:lnTo>
                    <a:pt x="0" y="629"/>
                  </a:lnTo>
                  <a:lnTo>
                    <a:pt x="293" y="288"/>
                  </a:lnTo>
                  <a:lnTo>
                    <a:pt x="381" y="333"/>
                  </a:lnTo>
                  <a:lnTo>
                    <a:pt x="498" y="371"/>
                  </a:lnTo>
                  <a:lnTo>
                    <a:pt x="616" y="371"/>
                  </a:lnTo>
                  <a:lnTo>
                    <a:pt x="748" y="341"/>
                  </a:lnTo>
                  <a:lnTo>
                    <a:pt x="880" y="280"/>
                  </a:lnTo>
                  <a:lnTo>
                    <a:pt x="1012" y="181"/>
                  </a:lnTo>
                  <a:lnTo>
                    <a:pt x="1144" y="68"/>
                  </a:lnTo>
                  <a:lnTo>
                    <a:pt x="1349" y="15"/>
                  </a:lnTo>
                  <a:lnTo>
                    <a:pt x="1555" y="0"/>
                  </a:lnTo>
                  <a:lnTo>
                    <a:pt x="1716" y="30"/>
                  </a:lnTo>
                  <a:lnTo>
                    <a:pt x="1908" y="128"/>
                  </a:lnTo>
                  <a:lnTo>
                    <a:pt x="2245" y="303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a27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500093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500093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500093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500093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500093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a27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500093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