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74760" y="324000"/>
            <a:ext cx="8369280" cy="958680"/>
            <a:chOff x="374760" y="324000"/>
            <a:chExt cx="8369280" cy="958680"/>
          </a:xfrm>
        </p:grpSpPr>
        <p:sp>
          <p:nvSpPr>
            <p:cNvPr id="79" name=""/>
            <p:cNvSpPr/>
            <p:nvPr/>
          </p:nvSpPr>
          <p:spPr>
            <a:xfrm>
              <a:off x="374760" y="324000"/>
              <a:ext cx="8369280" cy="9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631800" y="517680"/>
              <a:ext cx="643896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ructions for using Calendar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90600" y="1523880"/>
            <a:ext cx="8381880" cy="4800600"/>
            <a:chOff x="390600" y="1523880"/>
            <a:chExt cx="8381880" cy="4800600"/>
          </a:xfrm>
        </p:grpSpPr>
        <p:sp>
          <p:nvSpPr>
            <p:cNvPr id="82" name=""/>
            <p:cNvSpPr/>
            <p:nvPr/>
          </p:nvSpPr>
          <p:spPr>
            <a:xfrm>
              <a:off x="390600" y="1523880"/>
              <a:ext cx="8381880" cy="4800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822240" y="1774800"/>
              <a:ext cx="725472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Outline View, the months are listed as January 1994, February 1994, and so on. Find the month you need, then copy and paste into your presentation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441600" y="2914560"/>
              <a:ext cx="2197440" cy="1486080"/>
              <a:chOff x="3441600" y="2914560"/>
              <a:chExt cx="2197440" cy="148608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3505320" y="2914560"/>
                <a:ext cx="2133720" cy="1486080"/>
                <a:chOff x="3505320" y="2914560"/>
                <a:chExt cx="2133720" cy="1486080"/>
              </a:xfrm>
            </p:grpSpPr>
            <p:sp>
              <p:nvSpPr>
                <p:cNvPr id="86" name=""/>
                <p:cNvSpPr txBox="1"/>
                <p:nvPr/>
              </p:nvSpPr>
              <p:spPr>
                <a:xfrm>
                  <a:off x="3505320" y="2914560"/>
                  <a:ext cx="2133720" cy="228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anuary 199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 txBox="1"/>
                <p:nvPr/>
              </p:nvSpPr>
              <p:spPr>
                <a:xfrm>
                  <a:off x="3505320" y="3143160"/>
                  <a:ext cx="2133720" cy="1257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ts val="901"/>
                    </a:lnSpc>
                    <a:spcAft>
                      <a:spcPts val="201"/>
                    </a:spcAft>
                    <a:tabLst>
                      <a:tab algn="ctr" pos="142920"/>
                      <a:tab algn="r" pos="299880"/>
                      <a:tab algn="ctr" pos="457200"/>
                      <a:tab algn="r" pos="600120"/>
                      <a:tab algn="ctr" pos="771480"/>
                      <a:tab algn="r" pos="900000"/>
                      <a:tab algn="ctr" pos="1057320"/>
                      <a:tab algn="r" pos="1214280"/>
                      <a:tab algn="ctr" pos="1371600"/>
                      <a:tab algn="r" pos="1514520"/>
                      <a:tab algn="ctr" pos="1685880"/>
                      <a:tab algn="r" pos="1814400"/>
                      <a:tab algn="ctr" pos="1971720"/>
                      <a:tab algn="r" pos="211464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n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on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e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ed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hu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ri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at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499"/>
                    </a:lnSpc>
                    <a:spcAft>
                      <a:spcPts val="1100"/>
                    </a:spcAft>
                    <a:tabLst>
                      <a:tab algn="ctr" pos="142920"/>
                      <a:tab algn="r" pos="299880"/>
                      <a:tab algn="ctr" pos="457200"/>
                      <a:tab algn="r" pos="600120"/>
                      <a:tab algn="ctr" pos="771480"/>
                      <a:tab algn="r" pos="900000"/>
                      <a:tab algn="ctr" pos="1057320"/>
                      <a:tab algn="r" pos="1214280"/>
                      <a:tab algn="ctr" pos="1371600"/>
                      <a:tab algn="r" pos="1514520"/>
                      <a:tab algn="ctr" pos="1685880"/>
                      <a:tab algn="r" pos="1814400"/>
                      <a:tab algn="ctr" pos="1971720"/>
                      <a:tab algn="r" pos="211464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499"/>
                    </a:lnSpc>
                    <a:spcAft>
                      <a:spcPts val="1100"/>
                    </a:spcAft>
                    <a:tabLst>
                      <a:tab algn="ctr" pos="142920"/>
                      <a:tab algn="r" pos="299880"/>
                      <a:tab algn="ctr" pos="457200"/>
                      <a:tab algn="r" pos="600120"/>
                      <a:tab algn="ctr" pos="771480"/>
                      <a:tab algn="r" pos="900000"/>
                      <a:tab algn="ctr" pos="1057320"/>
                      <a:tab algn="r" pos="1214280"/>
                      <a:tab algn="ctr" pos="1371600"/>
                      <a:tab algn="r" pos="1514520"/>
                      <a:tab algn="ctr" pos="1685880"/>
                      <a:tab algn="r" pos="1814400"/>
                      <a:tab algn="ctr" pos="1971720"/>
                      <a:tab algn="r" pos="211464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499"/>
                    </a:lnSpc>
                    <a:spcAft>
                      <a:spcPts val="1100"/>
                    </a:spcAft>
                    <a:tabLst>
                      <a:tab algn="ctr" pos="142920"/>
                      <a:tab algn="r" pos="299880"/>
                      <a:tab algn="ctr" pos="457200"/>
                      <a:tab algn="r" pos="600120"/>
                      <a:tab algn="ctr" pos="771480"/>
                      <a:tab algn="r" pos="900000"/>
                      <a:tab algn="ctr" pos="1057320"/>
                      <a:tab algn="r" pos="1214280"/>
                      <a:tab algn="ctr" pos="1371600"/>
                      <a:tab algn="r" pos="1514520"/>
                      <a:tab algn="ctr" pos="1685880"/>
                      <a:tab algn="r" pos="1814400"/>
                      <a:tab algn="ctr" pos="1971720"/>
                      <a:tab algn="r" pos="211464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4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5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6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499"/>
                    </a:lnSpc>
                    <a:spcAft>
                      <a:spcPts val="1100"/>
                    </a:spcAft>
                    <a:tabLst>
                      <a:tab algn="ctr" pos="142920"/>
                      <a:tab algn="r" pos="299880"/>
                      <a:tab algn="ctr" pos="457200"/>
                      <a:tab algn="r" pos="600120"/>
                      <a:tab algn="ctr" pos="771480"/>
                      <a:tab algn="r" pos="900000"/>
                      <a:tab algn="ctr" pos="1057320"/>
                      <a:tab algn="r" pos="1214280"/>
                      <a:tab algn="ctr" pos="1371600"/>
                      <a:tab algn="r" pos="1514520"/>
                      <a:tab algn="ctr" pos="1685880"/>
                      <a:tab algn="r" pos="1814400"/>
                      <a:tab algn="ctr" pos="1971720"/>
                      <a:tab algn="r" pos="211464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8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3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499"/>
                    </a:lnSpc>
                    <a:spcAft>
                      <a:spcPts val="1100"/>
                    </a:spcAft>
                    <a:tabLst>
                      <a:tab algn="ctr" pos="142920"/>
                      <a:tab algn="r" pos="299880"/>
                      <a:tab algn="ctr" pos="457200"/>
                      <a:tab algn="r" pos="600120"/>
                      <a:tab algn="ctr" pos="771480"/>
                      <a:tab algn="r" pos="900000"/>
                      <a:tab algn="ctr" pos="1057320"/>
                      <a:tab algn="r" pos="1214280"/>
                      <a:tab algn="ctr" pos="1371600"/>
                      <a:tab algn="r" pos="1514520"/>
                      <a:tab algn="ctr" pos="1685880"/>
                      <a:tab algn="r" pos="1814400"/>
                      <a:tab algn="ctr" pos="1971720"/>
                      <a:tab algn="r" pos="211464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7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499"/>
                    </a:lnSpc>
                    <a:spcAft>
                      <a:spcPts val="1100"/>
                    </a:spcAft>
                    <a:tabLst>
                      <a:tab algn="ctr" pos="142920"/>
                      <a:tab algn="r" pos="299880"/>
                      <a:tab algn="ctr" pos="457200"/>
                      <a:tab algn="r" pos="600120"/>
                      <a:tab algn="ctr" pos="771480"/>
                      <a:tab algn="r" pos="900000"/>
                      <a:tab algn="ctr" pos="1057320"/>
                      <a:tab algn="r" pos="1214280"/>
                      <a:tab algn="ctr" pos="1371600"/>
                      <a:tab algn="r" pos="1514520"/>
                      <a:tab algn="ctr" pos="1685880"/>
                      <a:tab algn="r" pos="1814400"/>
                      <a:tab algn="ctr" pos="1971720"/>
                      <a:tab algn="r" pos="211464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1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3505320" y="3257640"/>
                  <a:ext cx="2133360" cy="1143000"/>
                  <a:chOff x="3505320" y="3257640"/>
                  <a:chExt cx="2133360" cy="114300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809880" y="325764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4114800" y="325764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4419720" y="325764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4724280" y="325764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5029200" y="325764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5334120" y="325764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3505320" y="4210200"/>
                    <a:ext cx="2133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3505320" y="4019400"/>
                    <a:ext cx="2133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3505320" y="3828960"/>
                    <a:ext cx="2133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3505320" y="3638520"/>
                    <a:ext cx="2133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505320" y="3448080"/>
                    <a:ext cx="2133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505320" y="3257640"/>
                    <a:ext cx="2133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1" name=""/>
              <p:cNvSpPr/>
              <p:nvPr/>
            </p:nvSpPr>
            <p:spPr>
              <a:xfrm>
                <a:off x="5353200" y="4000680"/>
                <a:ext cx="228960" cy="190800"/>
              </a:xfrm>
              <a:custGeom>
                <a:avLst/>
                <a:gdLst/>
                <a:ahLst/>
                <a:rect l="0" t="0" r="r" b="b"/>
                <a:pathLst>
                  <a:path w="636" h="530">
                    <a:moveTo>
                      <a:pt x="317" y="0"/>
                    </a:moveTo>
                    <a:lnTo>
                      <a:pt x="243" y="202"/>
                    </a:lnTo>
                    <a:lnTo>
                      <a:pt x="0" y="202"/>
                    </a:lnTo>
                    <a:lnTo>
                      <a:pt x="197" y="329"/>
                    </a:lnTo>
                    <a:lnTo>
                      <a:pt x="123" y="530"/>
                    </a:lnTo>
                    <a:lnTo>
                      <a:pt x="317" y="413"/>
                    </a:lnTo>
                    <a:lnTo>
                      <a:pt x="512" y="530"/>
                    </a:lnTo>
                    <a:lnTo>
                      <a:pt x="437" y="329"/>
                    </a:lnTo>
                    <a:lnTo>
                      <a:pt x="636" y="202"/>
                    </a:lnTo>
                    <a:lnTo>
                      <a:pt x="392" y="202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0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67120" y="3886200"/>
                <a:ext cx="914760" cy="86040"/>
              </a:xfrm>
              <a:custGeom>
                <a:avLst/>
                <a:gdLst/>
                <a:ahLst/>
                <a:rect l="0" t="0" r="r" b="b"/>
                <a:pathLst>
                  <a:path w="2541" h="239">
                    <a:moveTo>
                      <a:pt x="0" y="0"/>
                    </a:moveTo>
                    <a:lnTo>
                      <a:pt x="0" y="239"/>
                    </a:lnTo>
                    <a:lnTo>
                      <a:pt x="1778" y="239"/>
                    </a:lnTo>
                    <a:lnTo>
                      <a:pt x="2541" y="120"/>
                    </a:lnTo>
                    <a:lnTo>
                      <a:pt x="177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029200" y="3448080"/>
                <a:ext cx="30492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5029200" y="3448080"/>
                <a:ext cx="30492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3441600" y="3814920"/>
                <a:ext cx="520560" cy="223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 txBox="1"/>
            <p:nvPr/>
          </p:nvSpPr>
          <p:spPr>
            <a:xfrm>
              <a:off x="820800" y="3351240"/>
              <a:ext cx="1922400" cy="106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oose Ungroup from the Draw menu to edit the calenda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498760" y="5151600"/>
              <a:ext cx="3063960" cy="106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PowerPoint’s AutoShapes Tool and Text Tool to create timelines, graphics, and annotations on the calenda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6400800" y="3962520"/>
              <a:ext cx="205740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resize your calendar, use the Scale command on the Draw menu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6613560" y="2712960"/>
              <a:ext cx="1692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the Line Tool to “X” out cell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343480" y="3124080"/>
              <a:ext cx="1219320" cy="381240"/>
            </a:xfrm>
            <a:prstGeom prst="line">
              <a:avLst/>
            </a:prstGeom>
            <a:ln w="25560">
              <a:solidFill>
                <a:srgbClr val="02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276800" y="4038480"/>
              <a:ext cx="1143000" cy="990720"/>
              <a:chOff x="4276800" y="4038480"/>
              <a:chExt cx="1143000" cy="990720"/>
            </a:xfrm>
          </p:grpSpPr>
          <p:sp>
            <p:nvSpPr>
              <p:cNvPr id="112" name=""/>
              <p:cNvSpPr/>
              <p:nvPr/>
            </p:nvSpPr>
            <p:spPr>
              <a:xfrm>
                <a:off x="4276800" y="4038480"/>
                <a:ext cx="615960" cy="990720"/>
              </a:xfrm>
              <a:prstGeom prst="line">
                <a:avLst/>
              </a:prstGeom>
              <a:ln w="12600">
                <a:solidFill>
                  <a:srgbClr val="02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4892760" y="4254480"/>
                <a:ext cx="527040" cy="774720"/>
              </a:xfrm>
              <a:prstGeom prst="line">
                <a:avLst/>
              </a:prstGeom>
              <a:ln w="12600">
                <a:solidFill>
                  <a:srgbClr val="02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 flipV="1">
              <a:off x="2523960" y="3276720"/>
              <a:ext cx="990720" cy="685800"/>
            </a:xfrm>
            <a:prstGeom prst="line">
              <a:avLst/>
            </a:prstGeom>
            <a:ln w="25560">
              <a:solidFill>
                <a:srgbClr val="02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7085160" y="6456240"/>
            <a:ext cx="17542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tember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391520" y="645624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tober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48520" y="6456240"/>
            <a:ext cx="16905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161120" y="6456240"/>
            <a:ext cx="16779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5840" y="438120"/>
            <a:ext cx="85629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389720" y="6456240"/>
            <a:ext cx="1449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7288200" y="6456240"/>
            <a:ext cx="15508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94560" y="6456240"/>
            <a:ext cx="12445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746840" y="6456240"/>
            <a:ext cx="10922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il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823160" y="6456240"/>
            <a:ext cx="1015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734240" y="64562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389720" y="6456240"/>
            <a:ext cx="1449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810560" y="6456240"/>
            <a:ext cx="10288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480440" y="6456240"/>
            <a:ext cx="135900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ust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085160" y="6456240"/>
            <a:ext cx="17542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tember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391520" y="645624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tober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148520" y="6456240"/>
            <a:ext cx="16905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161120" y="6456240"/>
            <a:ext cx="16779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389720" y="6456240"/>
            <a:ext cx="1449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7288200" y="6456240"/>
            <a:ext cx="15508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594560" y="6456240"/>
            <a:ext cx="12445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746840" y="6456240"/>
            <a:ext cx="10922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il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288200" y="6456240"/>
            <a:ext cx="15508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7823160" y="6456240"/>
            <a:ext cx="1015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734240" y="64562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594560" y="6456240"/>
            <a:ext cx="12445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746840" y="6456240"/>
            <a:ext cx="10922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il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823160" y="6456240"/>
            <a:ext cx="1015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734240" y="64562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810560" y="6456240"/>
            <a:ext cx="10288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480440" y="6456240"/>
            <a:ext cx="135900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ust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Calendars</dc:title>
</cp:coreProperties>
</file>