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36760"/>
            <a:ext cx="8385120" cy="299880"/>
            <a:chOff x="0" y="1436760"/>
            <a:chExt cx="8385120" cy="299880"/>
          </a:xfrm>
        </p:grpSpPr>
        <p:grpSp>
          <p:nvGrpSpPr>
            <p:cNvPr id="1" name=""/>
            <p:cNvGrpSpPr/>
            <p:nvPr/>
          </p:nvGrpSpPr>
          <p:grpSpPr>
            <a:xfrm>
              <a:off x="8188200" y="1436760"/>
              <a:ext cx="196920" cy="299880"/>
              <a:chOff x="8188200" y="1436760"/>
              <a:chExt cx="196920" cy="299880"/>
            </a:xfrm>
          </p:grpSpPr>
          <p:sp>
            <p:nvSpPr>
              <p:cNvPr id="2" name=""/>
              <p:cNvSpPr/>
              <p:nvPr/>
            </p:nvSpPr>
            <p:spPr>
              <a:xfrm>
                <a:off x="8337600" y="1436760"/>
                <a:ext cx="47520" cy="299880"/>
              </a:xfrm>
              <a:prstGeom prst="rect">
                <a:avLst/>
              </a:prstGeom>
              <a:solidFill>
                <a:srgbClr val="c0c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188200" y="1436760"/>
                <a:ext cx="95400" cy="299880"/>
              </a:xfrm>
              <a:prstGeom prst="rect">
                <a:avLst/>
              </a:prstGeom>
              <a:solidFill>
                <a:srgbClr val="c0c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696080" y="1436760"/>
              <a:ext cx="417600" cy="299880"/>
              <a:chOff x="7696080" y="1436760"/>
              <a:chExt cx="41760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7966080" y="1436760"/>
                <a:ext cx="147600" cy="299880"/>
              </a:xfrm>
              <a:prstGeom prst="rect">
                <a:avLst/>
              </a:prstGeom>
              <a:solidFill>
                <a:srgbClr val="8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96080" y="1436760"/>
                <a:ext cx="200160" cy="299880"/>
              </a:xfrm>
              <a:prstGeom prst="rect">
                <a:avLst/>
              </a:prstGeom>
              <a:solidFill>
                <a:srgbClr val="8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7013520" y="1436760"/>
              <a:ext cx="612720" cy="299880"/>
              <a:chOff x="7013520" y="1436760"/>
              <a:chExt cx="61272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7381800" y="1436760"/>
                <a:ext cx="244440" cy="299880"/>
              </a:xfrm>
              <a:prstGeom prst="rect">
                <a:avLst/>
              </a:prstGeom>
              <a:solidFill>
                <a:srgbClr val="404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013520" y="1436760"/>
                <a:ext cx="299880" cy="299880"/>
              </a:xfrm>
              <a:prstGeom prst="rect">
                <a:avLst/>
              </a:prstGeom>
              <a:solidFill>
                <a:srgbClr val="404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5052960" y="1436760"/>
              <a:ext cx="1890720" cy="299880"/>
              <a:chOff x="5052960" y="1436760"/>
              <a:chExt cx="189072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5648400" y="1436760"/>
                <a:ext cx="396720" cy="2998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597720" y="1436760"/>
                <a:ext cx="345960" cy="2998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134040" y="1436760"/>
                <a:ext cx="396720" cy="2998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052960" y="1436760"/>
                <a:ext cx="498600" cy="2998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0" y="1436760"/>
              <a:ext cx="4989240" cy="299880"/>
              <a:chOff x="0" y="1436760"/>
              <a:chExt cx="4989240" cy="299880"/>
            </a:xfrm>
          </p:grpSpPr>
          <p:sp>
            <p:nvSpPr>
              <p:cNvPr id="16" name=""/>
              <p:cNvSpPr/>
              <p:nvPr/>
            </p:nvSpPr>
            <p:spPr>
              <a:xfrm>
                <a:off x="4441680" y="1436760"/>
                <a:ext cx="547560" cy="299880"/>
              </a:xfrm>
              <a:prstGeom prst="rect">
                <a:avLst/>
              </a:prstGeom>
              <a:solidFill>
                <a:srgbClr val="0000e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1436760"/>
                <a:ext cx="4375080" cy="299880"/>
              </a:xfrm>
              <a:prstGeom prst="rect">
                <a:avLst/>
              </a:prstGeom>
              <a:solidFill>
                <a:srgbClr val="0000e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1904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