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ing Status 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eak the subject into areas of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 the main subject component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al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us of th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sent schedule or timeline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ne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am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cription of scope o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ne: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was learned during period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Two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am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cription of scope o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Two: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was learned during period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oritize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lude suggested courses of action fo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ize past action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future 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any requirements you have of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ggest a time and place for the next check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Reporting Status or Progress</dc:title>
</cp:coreProperties>
</file>