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400" cy="6845040"/>
            <a:chOff x="0" y="0"/>
            <a:chExt cx="9131400" cy="6845040"/>
          </a:xfrm>
        </p:grpSpPr>
        <p:sp>
          <p:nvSpPr>
            <p:cNvPr id="1" name=""/>
            <p:cNvSpPr/>
            <p:nvPr/>
          </p:nvSpPr>
          <p:spPr>
            <a:xfrm>
              <a:off x="0" y="533412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5486400"/>
              <a:ext cx="112680" cy="112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5080" bIns="55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5867280"/>
              <a:ext cx="304920" cy="304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0120" y="5934240"/>
              <a:ext cx="50760" cy="50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25280" y="6032520"/>
              <a:ext cx="457200" cy="4572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27160" y="6134040"/>
              <a:ext cx="74520" cy="74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470320" y="6464160"/>
              <a:ext cx="380880" cy="380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4200" y="6548400"/>
              <a:ext cx="63360" cy="63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4419720"/>
              <a:ext cx="380880" cy="380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240" y="4503600"/>
              <a:ext cx="63360" cy="63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553080" y="609588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705720" y="6248520"/>
              <a:ext cx="112680" cy="112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5080" bIns="55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172200" y="6400800"/>
              <a:ext cx="380880" cy="380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256440" y="6485040"/>
              <a:ext cx="63360" cy="63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238880" y="6095880"/>
              <a:ext cx="380880" cy="380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323120" y="6180120"/>
              <a:ext cx="63360" cy="63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597880" y="1801800"/>
              <a:ext cx="533520" cy="5335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17040" y="1920960"/>
              <a:ext cx="87480" cy="87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6800" y="2514600"/>
              <a:ext cx="228600" cy="2286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37560" y="2565360"/>
              <a:ext cx="38160" cy="38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71600" y="0"/>
              <a:ext cx="533520" cy="5335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488960" y="117360"/>
              <a:ext cx="88920" cy="88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905120" y="152280"/>
              <a:ext cx="380880" cy="380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89000" y="236520"/>
              <a:ext cx="63360" cy="63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