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45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9132840" cy="8571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0" y="19080"/>
                <a:ext cx="9106200" cy="6742080"/>
                <a:chOff x="0" y="19080"/>
                <a:chExt cx="9106200" cy="6742080"/>
              </a:xfrm>
            </p:grpSpPr>
            <p:grpSp>
              <p:nvGrpSpPr>
                <p:cNvPr id="5" name=""/>
                <p:cNvGrpSpPr/>
                <p:nvPr/>
              </p:nvGrpSpPr>
              <p:grpSpPr>
                <a:xfrm>
                  <a:off x="8373960" y="19080"/>
                  <a:ext cx="732240" cy="811440"/>
                  <a:chOff x="8373960" y="19080"/>
                  <a:chExt cx="732240" cy="81144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871056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37396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9012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871056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8291520" y="19080"/>
                  <a:ext cx="50760" cy="811440"/>
                  <a:chOff x="8291520" y="19080"/>
                  <a:chExt cx="50760" cy="81144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291520" y="19080"/>
                    <a:ext cx="5076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91520" y="474840"/>
                    <a:ext cx="5076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7535880" y="19080"/>
                  <a:ext cx="733320" cy="811440"/>
                  <a:chOff x="7535880" y="19080"/>
                  <a:chExt cx="733320" cy="81144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7873920" y="19080"/>
                    <a:ext cx="475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753588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95168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873920" y="474840"/>
                    <a:ext cx="475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453440" y="19080"/>
                  <a:ext cx="49320" cy="811440"/>
                  <a:chOff x="7453440" y="19080"/>
                  <a:chExt cx="49320" cy="8114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745344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45344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6699240" y="19080"/>
                  <a:ext cx="731880" cy="811440"/>
                  <a:chOff x="6699240" y="19080"/>
                  <a:chExt cx="731880" cy="8114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03584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69924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11504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03584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" name=""/>
                <p:cNvGrpSpPr/>
                <p:nvPr/>
              </p:nvGrpSpPr>
              <p:grpSpPr>
                <a:xfrm>
                  <a:off x="6616800" y="19080"/>
                  <a:ext cx="49320" cy="811440"/>
                  <a:chOff x="6616800" y="19080"/>
                  <a:chExt cx="49320" cy="81144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661680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61680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5861160" y="19080"/>
                  <a:ext cx="733320" cy="811440"/>
                  <a:chOff x="5861160" y="19080"/>
                  <a:chExt cx="733320" cy="81144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>
                    <a:off x="619920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586116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627696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619920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5780160" y="19080"/>
                  <a:ext cx="49320" cy="811440"/>
                  <a:chOff x="5780160" y="19080"/>
                  <a:chExt cx="49320" cy="81144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578016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578016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5024520" y="19080"/>
                  <a:ext cx="731880" cy="811440"/>
                  <a:chOff x="5024520" y="19080"/>
                  <a:chExt cx="731880" cy="81144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361120" y="19080"/>
                    <a:ext cx="5076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02452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44032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361120" y="474840"/>
                    <a:ext cx="5076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4943520" y="19080"/>
                  <a:ext cx="49320" cy="811440"/>
                  <a:chOff x="4943520" y="19080"/>
                  <a:chExt cx="49320" cy="8114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>
                    <a:off x="494352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494352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4186080" y="19080"/>
                  <a:ext cx="733680" cy="811440"/>
                  <a:chOff x="4186080" y="19080"/>
                  <a:chExt cx="733680" cy="81144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4524480" y="19080"/>
                    <a:ext cx="475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418608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60224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4524480" y="474840"/>
                    <a:ext cx="475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4105440" y="19080"/>
                  <a:ext cx="49320" cy="811440"/>
                  <a:chOff x="4105440" y="19080"/>
                  <a:chExt cx="49320" cy="81144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10544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10544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349800" y="19080"/>
                  <a:ext cx="731880" cy="811440"/>
                  <a:chOff x="3349800" y="19080"/>
                  <a:chExt cx="731880" cy="81144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68604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34980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76560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68604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268800" y="19080"/>
                  <a:ext cx="49320" cy="811440"/>
                  <a:chOff x="3268800" y="19080"/>
                  <a:chExt cx="49320" cy="81144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26880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26880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2511360" y="19080"/>
                  <a:ext cx="733680" cy="811440"/>
                  <a:chOff x="2511360" y="19080"/>
                  <a:chExt cx="733680" cy="811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84940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51136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2752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84940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432160" y="19080"/>
                  <a:ext cx="49320" cy="811440"/>
                  <a:chOff x="2432160" y="19080"/>
                  <a:chExt cx="49320" cy="8114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43216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43216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74720" y="19080"/>
                  <a:ext cx="732240" cy="811440"/>
                  <a:chOff x="1674720" y="19080"/>
                  <a:chExt cx="7322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01312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7472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90880" y="396720"/>
                    <a:ext cx="31608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01312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593720" y="19080"/>
                  <a:ext cx="50760" cy="811440"/>
                  <a:chOff x="1593720" y="19080"/>
                  <a:chExt cx="50760" cy="81144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593720" y="474840"/>
                    <a:ext cx="5076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93720" y="19080"/>
                    <a:ext cx="5076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36640" y="19080"/>
                  <a:ext cx="733320" cy="811440"/>
                  <a:chOff x="836640" y="19080"/>
                  <a:chExt cx="733320" cy="8114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7468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3664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252440" y="396720"/>
                    <a:ext cx="317520" cy="5544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17468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755640" y="19080"/>
                  <a:ext cx="49320" cy="811440"/>
                  <a:chOff x="755640" y="19080"/>
                  <a:chExt cx="49320" cy="8114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755640" y="474840"/>
                    <a:ext cx="49320" cy="3556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640" y="19080"/>
                    <a:ext cx="49320" cy="353880"/>
                  </a:xfrm>
                  <a:prstGeom prst="ellipse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0" y="19080"/>
                  <a:ext cx="731880" cy="6742080"/>
                  <a:chOff x="0" y="19080"/>
                  <a:chExt cx="731880" cy="674208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19080"/>
                    <a:ext cx="731880" cy="811440"/>
                    <a:chOff x="0" y="19080"/>
                    <a:chExt cx="731880" cy="81144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336600" y="474840"/>
                      <a:ext cx="50760" cy="3556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336600" y="1908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0" y="396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14360" y="396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0" y="853920"/>
                    <a:ext cx="731880" cy="54000"/>
                    <a:chOff x="0" y="853920"/>
                    <a:chExt cx="731880" cy="5400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0" y="853920"/>
                      <a:ext cx="316080" cy="5400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14360" y="853920"/>
                      <a:ext cx="317520" cy="5400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0" y="930240"/>
                    <a:ext cx="731880" cy="812880"/>
                    <a:chOff x="0" y="930240"/>
                    <a:chExt cx="731880" cy="812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36600" y="930240"/>
                      <a:ext cx="50760" cy="35712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0" y="130968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14360" y="130968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6600" y="138924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0" y="1765440"/>
                    <a:ext cx="731880" cy="55440"/>
                    <a:chOff x="0" y="1765440"/>
                    <a:chExt cx="731880" cy="5544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0" y="176544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14360" y="176544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0" y="1844640"/>
                    <a:ext cx="731880" cy="809640"/>
                    <a:chOff x="0" y="1844640"/>
                    <a:chExt cx="731880" cy="80964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36600" y="184464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0" y="2220840"/>
                      <a:ext cx="316080" cy="572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4360" y="2220840"/>
                      <a:ext cx="317520" cy="572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6600" y="230040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0" y="2678040"/>
                    <a:ext cx="731880" cy="55440"/>
                    <a:chOff x="0" y="2678040"/>
                    <a:chExt cx="731880" cy="55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0" y="267804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14360" y="267804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2755800"/>
                    <a:ext cx="731880" cy="812880"/>
                    <a:chOff x="0" y="2755800"/>
                    <a:chExt cx="731880" cy="8128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6600" y="275580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13380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14360" y="313380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336600" y="3211560"/>
                      <a:ext cx="50760" cy="35712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0" y="3591000"/>
                    <a:ext cx="731880" cy="55440"/>
                    <a:chOff x="0" y="3591000"/>
                    <a:chExt cx="731880" cy="554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0" y="359100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14360" y="359100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0" y="3670200"/>
                    <a:ext cx="731880" cy="809640"/>
                    <a:chOff x="0" y="3670200"/>
                    <a:chExt cx="731880" cy="8096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36600" y="367020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0" y="404640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14360" y="404640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36600" y="412596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0" y="4502160"/>
                    <a:ext cx="731880" cy="57240"/>
                    <a:chOff x="0" y="4502160"/>
                    <a:chExt cx="731880" cy="5724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0" y="4502160"/>
                      <a:ext cx="316080" cy="572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4360" y="4502160"/>
                      <a:ext cx="317520" cy="572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0" y="4581360"/>
                    <a:ext cx="731880" cy="809640"/>
                    <a:chOff x="0" y="4581360"/>
                    <a:chExt cx="731880" cy="8096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36600" y="458136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0" y="495936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4360" y="495936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36600" y="503712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0" y="5415120"/>
                    <a:ext cx="731880" cy="55440"/>
                    <a:chOff x="0" y="5415120"/>
                    <a:chExt cx="731880" cy="554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0" y="541512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14360" y="541512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0" y="5492880"/>
                    <a:ext cx="731880" cy="812880"/>
                    <a:chOff x="0" y="5492880"/>
                    <a:chExt cx="731880" cy="8128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36600" y="5492880"/>
                      <a:ext cx="50760" cy="35712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0" y="5872320"/>
                      <a:ext cx="316080" cy="5400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14360" y="5872320"/>
                      <a:ext cx="317520" cy="5400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36600" y="5950080"/>
                      <a:ext cx="50760" cy="3556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0" y="6327720"/>
                    <a:ext cx="731880" cy="433440"/>
                    <a:chOff x="0" y="6327720"/>
                    <a:chExt cx="731880" cy="433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36600" y="6407280"/>
                      <a:ext cx="50760" cy="35388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0" y="6327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4360" y="6327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279f"/>
                    </a:solidFill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65000" y="857160"/>
                <a:ext cx="8367840" cy="5988240"/>
                <a:chOff x="765000" y="857160"/>
                <a:chExt cx="8367840" cy="5988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68240" y="85716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1ce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" y="857160"/>
                  <a:ext cx="0" cy="5988240"/>
                </a:xfrm>
                <a:prstGeom prst="line">
                  <a:avLst/>
                </a:prstGeom>
                <a:ln w="12600">
                  <a:solidFill>
                    <a:srgbClr val="c1ce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92160" y="1085760"/>
            <a:ext cx="777096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1d86f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44800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d86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d86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