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400"/>
            <a:ext cx="9131400" cy="6831000"/>
            <a:chOff x="0" y="14400"/>
            <a:chExt cx="9131400" cy="6831000"/>
          </a:xfrm>
        </p:grpSpPr>
        <p:grpSp>
          <p:nvGrpSpPr>
            <p:cNvPr id="2" name=""/>
            <p:cNvGrpSpPr/>
            <p:nvPr/>
          </p:nvGrpSpPr>
          <p:grpSpPr>
            <a:xfrm>
              <a:off x="14400" y="14400"/>
              <a:ext cx="9117000" cy="457200"/>
              <a:chOff x="14400" y="14400"/>
              <a:chExt cx="9117000" cy="457200"/>
            </a:xfrm>
          </p:grpSpPr>
          <p:sp>
            <p:nvSpPr>
              <p:cNvPr id="3" name=""/>
              <p:cNvSpPr/>
              <p:nvPr/>
            </p:nvSpPr>
            <p:spPr>
              <a:xfrm>
                <a:off x="14400" y="14400"/>
                <a:ext cx="4557600" cy="447840"/>
              </a:xfrm>
              <a:prstGeom prst="rect">
                <a:avLst/>
              </a:prstGeom>
              <a:gradFill rotWithShape="0">
                <a:gsLst>
                  <a:gs pos="0">
                    <a:srgbClr val="b760f9"/>
                  </a:gs>
                  <a:gs pos="100000">
                    <a:srgbClr val="f0dffd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572000" y="14400"/>
                <a:ext cx="4559400" cy="457200"/>
              </a:xfrm>
              <a:prstGeom prst="rect">
                <a:avLst/>
              </a:prstGeom>
              <a:gradFill rotWithShape="0">
                <a:gsLst>
                  <a:gs pos="0">
                    <a:srgbClr val="e9e9e9"/>
                  </a:gs>
                  <a:gs pos="100000">
                    <a:srgbClr val="919191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0" y="6386400"/>
              <a:ext cx="9131400" cy="459000"/>
              <a:chOff x="0" y="6386400"/>
              <a:chExt cx="9131400" cy="459000"/>
            </a:xfrm>
          </p:grpSpPr>
          <p:sp>
            <p:nvSpPr>
              <p:cNvPr id="6" name=""/>
              <p:cNvSpPr/>
              <p:nvPr/>
            </p:nvSpPr>
            <p:spPr>
              <a:xfrm>
                <a:off x="0" y="6400800"/>
                <a:ext cx="4572000" cy="44460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e9e9e9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572000" y="6386400"/>
                <a:ext cx="4559400" cy="458640"/>
              </a:xfrm>
              <a:prstGeom prst="rect">
                <a:avLst/>
              </a:prstGeom>
              <a:gradFill rotWithShape="0">
                <a:gsLst>
                  <a:gs pos="0">
                    <a:srgbClr val="f0dffd"/>
                  </a:gs>
                  <a:gs pos="100000">
                    <a:srgbClr val="b760f9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228600" y="609480"/>
              <a:ext cx="8686800" cy="5638680"/>
            </a:xfrm>
            <a:prstGeom prst="rect">
              <a:avLst/>
            </a:prstGeom>
            <a:solidFill>
              <a:srgbClr val="f6eaff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b760f9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b760f9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