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417680" y="6300720"/>
            <a:ext cx="60292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tim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80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31800" y="517680"/>
              <a:ext cx="7120080" cy="58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Timelin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74760" y="1600200"/>
            <a:ext cx="8350200" cy="4800600"/>
            <a:chOff x="374760" y="1600200"/>
            <a:chExt cx="8350200" cy="4800600"/>
          </a:xfrm>
        </p:grpSpPr>
        <p:sp>
          <p:nvSpPr>
            <p:cNvPr id="83" name=""/>
            <p:cNvSpPr/>
            <p:nvPr/>
          </p:nvSpPr>
          <p:spPr>
            <a:xfrm>
              <a:off x="374760" y="1600200"/>
              <a:ext cx="835020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127160" y="2003400"/>
              <a:ext cx="7026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se the format you like, then place a copy into your present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189080" y="2879640"/>
              <a:ext cx="3108240" cy="2933280"/>
              <a:chOff x="1189080" y="2879640"/>
              <a:chExt cx="3108240" cy="2933280"/>
            </a:xfrm>
          </p:grpSpPr>
          <p:sp>
            <p:nvSpPr>
              <p:cNvPr id="86" name=""/>
              <p:cNvSpPr txBox="1"/>
              <p:nvPr/>
            </p:nvSpPr>
            <p:spPr>
              <a:xfrm>
                <a:off x="1189080" y="2879640"/>
                <a:ext cx="487440" cy="2933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cecece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76520" y="2879640"/>
                <a:ext cx="2560680" cy="18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167652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210348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530440" y="2879640"/>
                <a:ext cx="42552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95596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338292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80988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0348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3044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5596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8292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0988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44840" y="34592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3840120" y="4251240"/>
                <a:ext cx="457200" cy="21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n time!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8080" y="446400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0"/>
                    </a:moveTo>
                    <a:lnTo>
                      <a:pt x="162" y="162"/>
                    </a:lnTo>
                    <a:lnTo>
                      <a:pt x="0" y="162"/>
                    </a:lnTo>
                    <a:lnTo>
                      <a:pt x="131" y="263"/>
                    </a:lnTo>
                    <a:lnTo>
                      <a:pt x="82" y="424"/>
                    </a:lnTo>
                    <a:lnTo>
                      <a:pt x="211" y="331"/>
                    </a:lnTo>
                    <a:lnTo>
                      <a:pt x="342" y="424"/>
                    </a:lnTo>
                    <a:lnTo>
                      <a:pt x="292" y="263"/>
                    </a:lnTo>
                    <a:lnTo>
                      <a:pt x="424" y="161"/>
                    </a:lnTo>
                    <a:lnTo>
                      <a:pt x="262" y="161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37000" y="3846600"/>
                <a:ext cx="57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75080" y="37558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4080" y="37558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84560" y="4159080"/>
                <a:ext cx="57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24080" y="40687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72000" y="40687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859040" y="3184560"/>
                <a:ext cx="762120" cy="9216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82720" y="31543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31543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 txBox="1"/>
            <p:nvPr/>
          </p:nvSpPr>
          <p:spPr>
            <a:xfrm>
              <a:off x="5029200" y="2895480"/>
              <a:ext cx="297180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size your timeline, use the Scale command on the Draw menu. This way, the text will resize too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733920" y="522756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suggested styles or use PowerPoint’s AutoShape Tool to create your timelines and graphic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4038480"/>
              <a:ext cx="1143360" cy="1143360"/>
            </a:xfrm>
            <a:custGeom>
              <a:avLst/>
              <a:gdLst/>
              <a:ahLst/>
              <a:rect l="0" t="0" r="r" b="b"/>
              <a:pathLst>
                <a:path fill="none" w="3176" h="3176">
                  <a:moveTo>
                    <a:pt x="0" y="0"/>
                  </a:moveTo>
                  <a:lnTo>
                    <a:pt x="3176" y="3176"/>
                  </a:lnTo>
                  <a:lnTo>
                    <a:pt x="2989" y="1681"/>
                  </a:lnTo>
                </a:path>
              </a:pathLst>
            </a:custGeom>
            <a:ln w="25560">
              <a:solidFill>
                <a:srgbClr val="0000e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900000" y="1523880"/>
            <a:ext cx="7315200" cy="4496040"/>
            <a:chOff x="900000" y="1523880"/>
            <a:chExt cx="7315200" cy="4496040"/>
          </a:xfrm>
        </p:grpSpPr>
        <p:grpSp>
          <p:nvGrpSpPr>
            <p:cNvPr id="440" name=""/>
            <p:cNvGrpSpPr/>
            <p:nvPr/>
          </p:nvGrpSpPr>
          <p:grpSpPr>
            <a:xfrm>
              <a:off x="900000" y="1523880"/>
              <a:ext cx="7315200" cy="4496040"/>
              <a:chOff x="900000" y="1523880"/>
              <a:chExt cx="7315200" cy="4496040"/>
            </a:xfrm>
          </p:grpSpPr>
          <p:sp>
            <p:nvSpPr>
              <p:cNvPr id="441" name=""/>
              <p:cNvSpPr/>
              <p:nvPr/>
            </p:nvSpPr>
            <p:spPr>
              <a:xfrm>
                <a:off x="900000" y="1523880"/>
                <a:ext cx="73152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9000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15098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21193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27288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33386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9481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45576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51674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57769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63864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69962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76057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00000" y="198108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098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1193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288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386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481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576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674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769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864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962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057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 txBox="1"/>
            <p:nvPr/>
          </p:nvSpPr>
          <p:spPr>
            <a:xfrm>
              <a:off x="1212840" y="226224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2652840" y="312408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2652840" y="388620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519440" y="4648320"/>
              <a:ext cx="2286360" cy="381240"/>
              <a:chOff x="4519440" y="4648320"/>
              <a:chExt cx="2286360" cy="381240"/>
            </a:xfrm>
          </p:grpSpPr>
          <p:sp>
            <p:nvSpPr>
              <p:cNvPr id="470" name=""/>
              <p:cNvSpPr txBox="1"/>
              <p:nvPr/>
            </p:nvSpPr>
            <p:spPr>
              <a:xfrm>
                <a:off x="4710240" y="47242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19440" y="46483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24560" y="46483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737712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691992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47720" y="1600200"/>
            <a:ext cx="7620120" cy="4495680"/>
            <a:chOff x="747720" y="1600200"/>
            <a:chExt cx="7620120" cy="4495680"/>
          </a:xfrm>
        </p:grpSpPr>
        <p:sp>
          <p:nvSpPr>
            <p:cNvPr id="477" name=""/>
            <p:cNvSpPr txBox="1"/>
            <p:nvPr/>
          </p:nvSpPr>
          <p:spPr>
            <a:xfrm>
              <a:off x="747720" y="1600200"/>
              <a:ext cx="1219320" cy="4495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967040" y="1600200"/>
              <a:ext cx="6400800" cy="4495680"/>
              <a:chOff x="1967040" y="1600200"/>
              <a:chExt cx="6400800" cy="4495680"/>
            </a:xfrm>
          </p:grpSpPr>
          <p:sp>
            <p:nvSpPr>
              <p:cNvPr id="479" name=""/>
              <p:cNvSpPr/>
              <p:nvPr/>
            </p:nvSpPr>
            <p:spPr>
              <a:xfrm>
                <a:off x="1967040" y="1600200"/>
                <a:ext cx="64008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19670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25002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30337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35672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41004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46339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51674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>
                <a:off x="57006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62341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67676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>
                <a:off x="73008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78343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67040" y="198108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002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337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672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004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339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674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006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341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676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008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43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2157480" y="2209680"/>
              <a:ext cx="2286000" cy="381240"/>
              <a:chOff x="2157480" y="2209680"/>
              <a:chExt cx="2286000" cy="381240"/>
            </a:xfrm>
          </p:grpSpPr>
          <p:sp>
            <p:nvSpPr>
              <p:cNvPr id="505" name=""/>
              <p:cNvSpPr txBox="1"/>
              <p:nvPr/>
            </p:nvSpPr>
            <p:spPr>
              <a:xfrm>
                <a:off x="2347920" y="22860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57480" y="2209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62240" y="2209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062240" y="30481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062240" y="3790800"/>
              <a:ext cx="1752840" cy="381240"/>
              <a:chOff x="4062240" y="3790800"/>
              <a:chExt cx="1752840" cy="381240"/>
            </a:xfrm>
          </p:grpSpPr>
          <p:sp>
            <p:nvSpPr>
              <p:cNvPr id="510" name=""/>
              <p:cNvSpPr/>
              <p:nvPr/>
            </p:nvSpPr>
            <p:spPr>
              <a:xfrm>
                <a:off x="4214880" y="40194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62240" y="37908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33840" y="37908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433840" y="4572000"/>
              <a:ext cx="1752840" cy="381240"/>
              <a:chOff x="5433840" y="4572000"/>
              <a:chExt cx="1752840" cy="381240"/>
            </a:xfrm>
          </p:grpSpPr>
          <p:sp>
            <p:nvSpPr>
              <p:cNvPr id="514" name=""/>
              <p:cNvSpPr/>
              <p:nvPr/>
            </p:nvSpPr>
            <p:spPr>
              <a:xfrm>
                <a:off x="5586480" y="48006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33840" y="4572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05440" y="4572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900000" y="1523880"/>
            <a:ext cx="7315200" cy="5227200"/>
            <a:chOff x="900000" y="1523880"/>
            <a:chExt cx="7315200" cy="5227200"/>
          </a:xfrm>
        </p:grpSpPr>
        <p:grpSp>
          <p:nvGrpSpPr>
            <p:cNvPr id="521" name=""/>
            <p:cNvGrpSpPr/>
            <p:nvPr/>
          </p:nvGrpSpPr>
          <p:grpSpPr>
            <a:xfrm>
              <a:off x="900000" y="1523880"/>
              <a:ext cx="7315200" cy="4496040"/>
              <a:chOff x="900000" y="1523880"/>
              <a:chExt cx="7315200" cy="4496040"/>
            </a:xfrm>
          </p:grpSpPr>
          <p:sp>
            <p:nvSpPr>
              <p:cNvPr id="522" name=""/>
              <p:cNvSpPr/>
              <p:nvPr/>
            </p:nvSpPr>
            <p:spPr>
              <a:xfrm>
                <a:off x="900000" y="1523880"/>
                <a:ext cx="73152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9000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15098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21193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27288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33386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39481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45576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51674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57769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63864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69962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76057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900000" y="198108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098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1193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7288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386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481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576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1674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69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864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962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057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 txBox="1"/>
            <p:nvPr/>
          </p:nvSpPr>
          <p:spPr>
            <a:xfrm>
              <a:off x="1138320" y="223344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2195640" y="259092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2195640" y="304812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3186000" y="350532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3300480" y="4038480"/>
              <a:ext cx="2286000" cy="381240"/>
              <a:chOff x="3300480" y="4038480"/>
              <a:chExt cx="2286000" cy="381240"/>
            </a:xfrm>
          </p:grpSpPr>
          <p:sp>
            <p:nvSpPr>
              <p:cNvPr id="552" name=""/>
              <p:cNvSpPr txBox="1"/>
              <p:nvPr/>
            </p:nvSpPr>
            <p:spPr>
              <a:xfrm>
                <a:off x="3490920" y="41148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0048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20524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 txBox="1"/>
            <p:nvPr/>
          </p:nvSpPr>
          <p:spPr>
            <a:xfrm>
              <a:off x="5205240" y="455292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4672080" y="5029200"/>
              <a:ext cx="2286000" cy="381240"/>
              <a:chOff x="4672080" y="5029200"/>
              <a:chExt cx="2286000" cy="381240"/>
            </a:xfrm>
          </p:grpSpPr>
          <p:sp>
            <p:nvSpPr>
              <p:cNvPr id="557" name=""/>
              <p:cNvSpPr txBox="1"/>
              <p:nvPr/>
            </p:nvSpPr>
            <p:spPr>
              <a:xfrm>
                <a:off x="4862520" y="510552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72080" y="50292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76840" y="50292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529400" y="54864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7072200" y="49528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747720" y="1523880"/>
            <a:ext cx="7620120" cy="4496040"/>
            <a:chOff x="747720" y="1523880"/>
            <a:chExt cx="7620120" cy="4496040"/>
          </a:xfrm>
        </p:grpSpPr>
        <p:sp>
          <p:nvSpPr>
            <p:cNvPr id="564" name=""/>
            <p:cNvSpPr txBox="1"/>
            <p:nvPr/>
          </p:nvSpPr>
          <p:spPr>
            <a:xfrm>
              <a:off x="747720" y="1523880"/>
              <a:ext cx="1219320" cy="4495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967040" y="1523880"/>
              <a:ext cx="6400800" cy="4496040"/>
              <a:chOff x="1967040" y="1523880"/>
              <a:chExt cx="6400800" cy="4496040"/>
            </a:xfrm>
          </p:grpSpPr>
          <p:sp>
            <p:nvSpPr>
              <p:cNvPr id="566" name=""/>
              <p:cNvSpPr/>
              <p:nvPr/>
            </p:nvSpPr>
            <p:spPr>
              <a:xfrm>
                <a:off x="1967040" y="1523880"/>
                <a:ext cx="64008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19670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25002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30337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35672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41004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6339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51674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>
                <a:off x="57006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62341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67676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73008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78343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5002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337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672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1004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339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674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006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341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676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008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343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119320" y="2133720"/>
              <a:ext cx="1371960" cy="228960"/>
              <a:chOff x="2119320" y="2133720"/>
              <a:chExt cx="1371960" cy="228960"/>
            </a:xfrm>
          </p:grpSpPr>
          <p:sp>
            <p:nvSpPr>
              <p:cNvPr id="592" name=""/>
              <p:cNvSpPr/>
              <p:nvPr/>
            </p:nvSpPr>
            <p:spPr>
              <a:xfrm>
                <a:off x="2271600" y="22669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119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62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0"/>
                    </a:moveTo>
                    <a:lnTo>
                      <a:pt x="636" y="0"/>
                    </a:lnTo>
                    <a:lnTo>
                      <a:pt x="317" y="6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262320" y="266688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262320" y="3124080"/>
              <a:ext cx="1371960" cy="228960"/>
              <a:chOff x="3262320" y="3124080"/>
              <a:chExt cx="1371960" cy="228960"/>
            </a:xfrm>
          </p:grpSpPr>
          <p:sp>
            <p:nvSpPr>
              <p:cNvPr id="597" name=""/>
              <p:cNvSpPr/>
              <p:nvPr/>
            </p:nvSpPr>
            <p:spPr>
              <a:xfrm>
                <a:off x="3414600" y="323856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62320" y="312408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05320" y="312408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405320" y="363852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405320" y="4114800"/>
              <a:ext cx="1371960" cy="228960"/>
              <a:chOff x="4405320" y="4114800"/>
              <a:chExt cx="1371960" cy="228960"/>
            </a:xfrm>
          </p:grpSpPr>
          <p:sp>
            <p:nvSpPr>
              <p:cNvPr id="602" name=""/>
              <p:cNvSpPr/>
              <p:nvPr/>
            </p:nvSpPr>
            <p:spPr>
              <a:xfrm>
                <a:off x="4557600" y="42292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05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48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5776920" y="457200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5776920" y="5029200"/>
              <a:ext cx="1371960" cy="228960"/>
              <a:chOff x="5776920" y="5029200"/>
              <a:chExt cx="1371960" cy="228960"/>
            </a:xfrm>
          </p:grpSpPr>
          <p:sp>
            <p:nvSpPr>
              <p:cNvPr id="607" name=""/>
              <p:cNvSpPr/>
              <p:nvPr/>
            </p:nvSpPr>
            <p:spPr>
              <a:xfrm>
                <a:off x="5929200" y="516240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776920" y="5029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19920" y="5029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52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28880" y="1447920"/>
            <a:ext cx="7086240" cy="4873320"/>
            <a:chOff x="1028880" y="1447920"/>
            <a:chExt cx="7086240" cy="4873320"/>
          </a:xfrm>
        </p:grpSpPr>
        <p:grpSp>
          <p:nvGrpSpPr>
            <p:cNvPr id="116" name=""/>
            <p:cNvGrpSpPr/>
            <p:nvPr/>
          </p:nvGrpSpPr>
          <p:grpSpPr>
            <a:xfrm>
              <a:off x="1028880" y="1447920"/>
              <a:ext cx="6934320" cy="4648320"/>
              <a:chOff x="1028880" y="1447920"/>
              <a:chExt cx="6934320" cy="4648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0288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288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108576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37530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88636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1028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562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095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62872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31622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36957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422892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762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295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5829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6362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6896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429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288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2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95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29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622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957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292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62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95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9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62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96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29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 txBox="1"/>
            <p:nvPr/>
          </p:nvSpPr>
          <p:spPr>
            <a:xfrm>
              <a:off x="1265400" y="279576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705040" y="350532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705040" y="419112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572000" y="4876920"/>
              <a:ext cx="2286360" cy="381240"/>
              <a:chOff x="4572000" y="4876920"/>
              <a:chExt cx="2286360" cy="381240"/>
            </a:xfrm>
          </p:grpSpPr>
          <p:sp>
            <p:nvSpPr>
              <p:cNvPr id="152" name=""/>
              <p:cNvSpPr txBox="1"/>
              <p:nvPr/>
            </p:nvSpPr>
            <p:spPr>
              <a:xfrm>
                <a:off x="4762440" y="49528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48769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77120" y="48769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742968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97212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80960" y="1447920"/>
            <a:ext cx="8153640" cy="4648320"/>
            <a:chOff x="480960" y="1447920"/>
            <a:chExt cx="8153640" cy="4648320"/>
          </a:xfrm>
        </p:grpSpPr>
        <p:sp>
          <p:nvSpPr>
            <p:cNvPr id="159" name=""/>
            <p:cNvSpPr txBox="1"/>
            <p:nvPr/>
          </p:nvSpPr>
          <p:spPr>
            <a:xfrm>
              <a:off x="48096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700280" y="1447920"/>
              <a:ext cx="6934320" cy="4648320"/>
              <a:chOff x="1700280" y="1447920"/>
              <a:chExt cx="6934320" cy="4648320"/>
            </a:xfrm>
          </p:grpSpPr>
          <p:sp>
            <p:nvSpPr>
              <p:cNvPr id="161" name=""/>
              <p:cNvSpPr/>
              <p:nvPr/>
            </p:nvSpPr>
            <p:spPr>
              <a:xfrm>
                <a:off x="17002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002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17575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44244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65581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1700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2233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766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300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3833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4367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4900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5433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967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6500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7034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7567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8101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002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33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66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00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33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67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00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33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67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00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4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67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01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890720" y="2857680"/>
              <a:ext cx="2286360" cy="381240"/>
              <a:chOff x="1890720" y="2857680"/>
              <a:chExt cx="2286360" cy="381240"/>
            </a:xfrm>
          </p:grpSpPr>
          <p:sp>
            <p:nvSpPr>
              <p:cNvPr id="193" name=""/>
              <p:cNvSpPr txBox="1"/>
              <p:nvPr/>
            </p:nvSpPr>
            <p:spPr>
              <a:xfrm>
                <a:off x="2081160" y="293364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90720" y="2857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95840" y="2857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795840" y="35053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4100400" y="4152960"/>
              <a:ext cx="1752840" cy="381240"/>
              <a:chOff x="4100400" y="4152960"/>
              <a:chExt cx="1752840" cy="381240"/>
            </a:xfrm>
          </p:grpSpPr>
          <p:sp>
            <p:nvSpPr>
              <p:cNvPr id="198" name=""/>
              <p:cNvSpPr/>
              <p:nvPr/>
            </p:nvSpPr>
            <p:spPr>
              <a:xfrm>
                <a:off x="4253040" y="438156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00400" y="415296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72000" y="415296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548320" y="4781520"/>
              <a:ext cx="1752840" cy="381240"/>
              <a:chOff x="5548320" y="4781520"/>
              <a:chExt cx="1752840" cy="381240"/>
            </a:xfrm>
          </p:grpSpPr>
          <p:sp>
            <p:nvSpPr>
              <p:cNvPr id="202" name=""/>
              <p:cNvSpPr/>
              <p:nvPr/>
            </p:nvSpPr>
            <p:spPr>
              <a:xfrm>
                <a:off x="5700600" y="501012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48320" y="47815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19920" y="47815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87248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741528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14480" y="1447920"/>
            <a:ext cx="7086600" cy="5646240"/>
            <a:chOff x="1014480" y="1447920"/>
            <a:chExt cx="7086600" cy="5646240"/>
          </a:xfrm>
        </p:grpSpPr>
        <p:grpSp>
          <p:nvGrpSpPr>
            <p:cNvPr id="209" name=""/>
            <p:cNvGrpSpPr/>
            <p:nvPr/>
          </p:nvGrpSpPr>
          <p:grpSpPr>
            <a:xfrm>
              <a:off x="1014480" y="1447920"/>
              <a:ext cx="6934320" cy="4648320"/>
              <a:chOff x="1014480" y="1447920"/>
              <a:chExt cx="6934320" cy="4648320"/>
            </a:xfrm>
          </p:grpSpPr>
          <p:sp>
            <p:nvSpPr>
              <p:cNvPr id="210" name=""/>
              <p:cNvSpPr/>
              <p:nvPr/>
            </p:nvSpPr>
            <p:spPr>
              <a:xfrm>
                <a:off x="10144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144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10717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7386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58723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014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1547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081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2614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147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681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214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748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5281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5815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63482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68817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7415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144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47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81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14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47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81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14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48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81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15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482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817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152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1176480" y="276696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233440" y="312408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233440" y="350532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224160" y="396252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338640" y="4419720"/>
              <a:ext cx="2286000" cy="381240"/>
              <a:chOff x="3338640" y="4419720"/>
              <a:chExt cx="2286000" cy="381240"/>
            </a:xfrm>
          </p:grpSpPr>
          <p:sp>
            <p:nvSpPr>
              <p:cNvPr id="246" name=""/>
              <p:cNvSpPr txBox="1"/>
              <p:nvPr/>
            </p:nvSpPr>
            <p:spPr>
              <a:xfrm>
                <a:off x="3529080" y="44956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38640" y="4419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43400" y="4419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 txBox="1"/>
            <p:nvPr/>
          </p:nvSpPr>
          <p:spPr>
            <a:xfrm>
              <a:off x="5243400" y="489600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710240" y="5334120"/>
              <a:ext cx="2286000" cy="381240"/>
              <a:chOff x="4710240" y="5334120"/>
              <a:chExt cx="2286000" cy="381240"/>
            </a:xfrm>
          </p:grpSpPr>
          <p:sp>
            <p:nvSpPr>
              <p:cNvPr id="251" name=""/>
              <p:cNvSpPr txBox="1"/>
              <p:nvPr/>
            </p:nvSpPr>
            <p:spPr>
              <a:xfrm>
                <a:off x="4900680" y="54100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10240" y="53341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15000" y="53341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7415280" y="57150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958080" y="51814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80960" y="1447920"/>
            <a:ext cx="8153640" cy="4648320"/>
            <a:chOff x="480960" y="1447920"/>
            <a:chExt cx="8153640" cy="4648320"/>
          </a:xfrm>
        </p:grpSpPr>
        <p:sp>
          <p:nvSpPr>
            <p:cNvPr id="258" name=""/>
            <p:cNvSpPr txBox="1"/>
            <p:nvPr/>
          </p:nvSpPr>
          <p:spPr>
            <a:xfrm>
              <a:off x="48096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700280" y="1447920"/>
              <a:ext cx="6934320" cy="4648320"/>
              <a:chOff x="1700280" y="1447920"/>
              <a:chExt cx="6934320" cy="4648320"/>
            </a:xfrm>
          </p:grpSpPr>
          <p:sp>
            <p:nvSpPr>
              <p:cNvPr id="260" name=""/>
              <p:cNvSpPr/>
              <p:nvPr/>
            </p:nvSpPr>
            <p:spPr>
              <a:xfrm>
                <a:off x="17002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002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17575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44244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65581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1700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2233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766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3300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3833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4367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4900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5433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967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6500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7034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7567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8101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002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33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66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00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33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67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0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33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67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00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34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67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01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852560" y="2724120"/>
              <a:ext cx="1371960" cy="228960"/>
              <a:chOff x="1852560" y="2724120"/>
              <a:chExt cx="1371960" cy="228960"/>
            </a:xfrm>
          </p:grpSpPr>
          <p:sp>
            <p:nvSpPr>
              <p:cNvPr id="292" name=""/>
              <p:cNvSpPr/>
              <p:nvPr/>
            </p:nvSpPr>
            <p:spPr>
              <a:xfrm>
                <a:off x="2004840" y="28576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2560" y="27241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95560" y="27241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0"/>
                    </a:moveTo>
                    <a:lnTo>
                      <a:pt x="636" y="0"/>
                    </a:lnTo>
                    <a:lnTo>
                      <a:pt x="317" y="6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147840" y="316224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47840" y="3581280"/>
              <a:ext cx="1371960" cy="228960"/>
              <a:chOff x="3147840" y="3581280"/>
              <a:chExt cx="1371960" cy="228960"/>
            </a:xfrm>
          </p:grpSpPr>
          <p:sp>
            <p:nvSpPr>
              <p:cNvPr id="297" name=""/>
              <p:cNvSpPr/>
              <p:nvPr/>
            </p:nvSpPr>
            <p:spPr>
              <a:xfrm>
                <a:off x="3300480" y="369576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47840" y="358128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290840" y="358128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290840" y="400068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672080" y="4419720"/>
              <a:ext cx="1371960" cy="228960"/>
              <a:chOff x="4672080" y="4419720"/>
              <a:chExt cx="1371960" cy="228960"/>
            </a:xfrm>
          </p:grpSpPr>
          <p:sp>
            <p:nvSpPr>
              <p:cNvPr id="302" name=""/>
              <p:cNvSpPr/>
              <p:nvPr/>
            </p:nvSpPr>
            <p:spPr>
              <a:xfrm>
                <a:off x="4824360" y="4533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72080" y="4419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15080" y="4419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6043680" y="480060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043680" y="5200560"/>
              <a:ext cx="1371960" cy="228960"/>
              <a:chOff x="6043680" y="5200560"/>
              <a:chExt cx="1371960" cy="228960"/>
            </a:xfrm>
          </p:grpSpPr>
          <p:sp>
            <p:nvSpPr>
              <p:cNvPr id="307" name=""/>
              <p:cNvSpPr/>
              <p:nvPr/>
            </p:nvSpPr>
            <p:spPr>
              <a:xfrm>
                <a:off x="6195960" y="533412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43680" y="520056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86680" y="520056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948440" y="55627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7491240" y="502920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71400" y="1752480"/>
            <a:ext cx="7772400" cy="4416120"/>
            <a:chOff x="671400" y="1752480"/>
            <a:chExt cx="7772400" cy="4416120"/>
          </a:xfrm>
        </p:grpSpPr>
        <p:grpSp>
          <p:nvGrpSpPr>
            <p:cNvPr id="314" name=""/>
            <p:cNvGrpSpPr/>
            <p:nvPr/>
          </p:nvGrpSpPr>
          <p:grpSpPr>
            <a:xfrm>
              <a:off x="671400" y="1752480"/>
              <a:ext cx="7772400" cy="4191120"/>
              <a:chOff x="671400" y="1752480"/>
              <a:chExt cx="7772400" cy="4191120"/>
            </a:xfrm>
          </p:grpSpPr>
          <p:sp>
            <p:nvSpPr>
              <p:cNvPr id="315" name=""/>
              <p:cNvSpPr/>
              <p:nvPr/>
            </p:nvSpPr>
            <p:spPr>
              <a:xfrm>
                <a:off x="671400" y="1752480"/>
                <a:ext cx="7772400" cy="419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67140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196704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326232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455760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85324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714852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1400" y="2286000"/>
                <a:ext cx="777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6704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6232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5760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5324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4852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 txBox="1"/>
            <p:nvPr/>
          </p:nvSpPr>
          <p:spPr>
            <a:xfrm>
              <a:off x="998640" y="264312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367160" y="335268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2819520" y="411480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686120" y="4800600"/>
              <a:ext cx="2286360" cy="381240"/>
              <a:chOff x="4686120" y="4800600"/>
              <a:chExt cx="2286360" cy="381240"/>
            </a:xfrm>
          </p:grpSpPr>
          <p:sp>
            <p:nvSpPr>
              <p:cNvPr id="332" name=""/>
              <p:cNvSpPr txBox="1"/>
              <p:nvPr/>
            </p:nvSpPr>
            <p:spPr>
              <a:xfrm>
                <a:off x="4876920" y="487692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6120" y="48006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91240" y="48006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7696080" y="53341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7238880" y="480060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47720" y="1447920"/>
            <a:ext cx="7620120" cy="4648320"/>
            <a:chOff x="747720" y="1447920"/>
            <a:chExt cx="7620120" cy="4648320"/>
          </a:xfrm>
        </p:grpSpPr>
        <p:sp>
          <p:nvSpPr>
            <p:cNvPr id="339" name=""/>
            <p:cNvSpPr txBox="1"/>
            <p:nvPr/>
          </p:nvSpPr>
          <p:spPr>
            <a:xfrm>
              <a:off x="74772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967040" y="1447920"/>
              <a:ext cx="6400800" cy="4648320"/>
              <a:chOff x="1967040" y="1447920"/>
              <a:chExt cx="6400800" cy="4648320"/>
            </a:xfrm>
          </p:grpSpPr>
          <p:sp>
            <p:nvSpPr>
              <p:cNvPr id="341" name=""/>
              <p:cNvSpPr/>
              <p:nvPr/>
            </p:nvSpPr>
            <p:spPr>
              <a:xfrm>
                <a:off x="1967040" y="1447920"/>
                <a:ext cx="640080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19670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30337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41004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51674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62341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73008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004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744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341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008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233440" y="2133720"/>
              <a:ext cx="2286360" cy="381240"/>
              <a:chOff x="2233440" y="2133720"/>
              <a:chExt cx="2286360" cy="381240"/>
            </a:xfrm>
          </p:grpSpPr>
          <p:sp>
            <p:nvSpPr>
              <p:cNvPr id="355" name=""/>
              <p:cNvSpPr txBox="1"/>
              <p:nvPr/>
            </p:nvSpPr>
            <p:spPr>
              <a:xfrm>
                <a:off x="2424240" y="22096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33440" y="2133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38560" y="2133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138560" y="293364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4138560" y="3753000"/>
              <a:ext cx="1752840" cy="381240"/>
              <a:chOff x="4138560" y="3753000"/>
              <a:chExt cx="1752840" cy="381240"/>
            </a:xfrm>
          </p:grpSpPr>
          <p:sp>
            <p:nvSpPr>
              <p:cNvPr id="360" name=""/>
              <p:cNvSpPr/>
              <p:nvPr/>
            </p:nvSpPr>
            <p:spPr>
              <a:xfrm>
                <a:off x="4290840" y="398160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38560" y="3753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10160" y="3753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510160" y="4591080"/>
              <a:ext cx="1752840" cy="381240"/>
              <a:chOff x="5510160" y="4591080"/>
              <a:chExt cx="1752840" cy="381240"/>
            </a:xfrm>
          </p:grpSpPr>
          <p:sp>
            <p:nvSpPr>
              <p:cNvPr id="364" name=""/>
              <p:cNvSpPr/>
              <p:nvPr/>
            </p:nvSpPr>
            <p:spPr>
              <a:xfrm>
                <a:off x="5662440" y="481968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10160" y="45910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81760" y="45910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71400" y="1600200"/>
            <a:ext cx="7772400" cy="5112720"/>
            <a:chOff x="671400" y="1600200"/>
            <a:chExt cx="7772400" cy="5112720"/>
          </a:xfrm>
        </p:grpSpPr>
        <p:grpSp>
          <p:nvGrpSpPr>
            <p:cNvPr id="371" name=""/>
            <p:cNvGrpSpPr/>
            <p:nvPr/>
          </p:nvGrpSpPr>
          <p:grpSpPr>
            <a:xfrm>
              <a:off x="671400" y="1600200"/>
              <a:ext cx="7772400" cy="4191120"/>
              <a:chOff x="671400" y="1600200"/>
              <a:chExt cx="7772400" cy="4191120"/>
            </a:xfrm>
          </p:grpSpPr>
          <p:sp>
            <p:nvSpPr>
              <p:cNvPr id="372" name=""/>
              <p:cNvSpPr/>
              <p:nvPr/>
            </p:nvSpPr>
            <p:spPr>
              <a:xfrm>
                <a:off x="671400" y="1600200"/>
                <a:ext cx="7772400" cy="419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67140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196704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326232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455760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85324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714852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1400" y="2133720"/>
                <a:ext cx="777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6704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6232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5760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324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4852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 txBox="1"/>
            <p:nvPr/>
          </p:nvSpPr>
          <p:spPr>
            <a:xfrm>
              <a:off x="1062000" y="238608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2119320" y="274320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2119320" y="312408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3033720" y="358128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3300480" y="4038480"/>
              <a:ext cx="2286000" cy="381240"/>
              <a:chOff x="3300480" y="4038480"/>
              <a:chExt cx="2286000" cy="381240"/>
            </a:xfrm>
          </p:grpSpPr>
          <p:sp>
            <p:nvSpPr>
              <p:cNvPr id="390" name=""/>
              <p:cNvSpPr txBox="1"/>
              <p:nvPr/>
            </p:nvSpPr>
            <p:spPr>
              <a:xfrm>
                <a:off x="3490920" y="41148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0048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0524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 txBox="1"/>
            <p:nvPr/>
          </p:nvSpPr>
          <p:spPr>
            <a:xfrm>
              <a:off x="5205240" y="451476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672080" y="4952880"/>
              <a:ext cx="2286000" cy="381240"/>
              <a:chOff x="4672080" y="4952880"/>
              <a:chExt cx="2286000" cy="381240"/>
            </a:xfrm>
          </p:grpSpPr>
          <p:sp>
            <p:nvSpPr>
              <p:cNvPr id="395" name=""/>
              <p:cNvSpPr txBox="1"/>
              <p:nvPr/>
            </p:nvSpPr>
            <p:spPr>
              <a:xfrm>
                <a:off x="4862520" y="50292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72080" y="49528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76840" y="49528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47720" y="1447920"/>
            <a:ext cx="7620120" cy="4648320"/>
            <a:chOff x="747720" y="1447920"/>
            <a:chExt cx="7620120" cy="4648320"/>
          </a:xfrm>
        </p:grpSpPr>
        <p:sp>
          <p:nvSpPr>
            <p:cNvPr id="402" name=""/>
            <p:cNvSpPr txBox="1"/>
            <p:nvPr/>
          </p:nvSpPr>
          <p:spPr>
            <a:xfrm>
              <a:off x="74772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967040" y="1447920"/>
              <a:ext cx="6400800" cy="4648320"/>
              <a:chOff x="1967040" y="1447920"/>
              <a:chExt cx="6400800" cy="4648320"/>
            </a:xfrm>
          </p:grpSpPr>
          <p:sp>
            <p:nvSpPr>
              <p:cNvPr id="404" name=""/>
              <p:cNvSpPr/>
              <p:nvPr/>
            </p:nvSpPr>
            <p:spPr>
              <a:xfrm>
                <a:off x="1967040" y="1447920"/>
                <a:ext cx="640080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19670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30337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41004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51674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62341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73008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337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004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16744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341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008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119320" y="2133720"/>
              <a:ext cx="1371960" cy="228960"/>
              <a:chOff x="2119320" y="2133720"/>
              <a:chExt cx="1371960" cy="228960"/>
            </a:xfrm>
          </p:grpSpPr>
          <p:sp>
            <p:nvSpPr>
              <p:cNvPr id="418" name=""/>
              <p:cNvSpPr/>
              <p:nvPr/>
            </p:nvSpPr>
            <p:spPr>
              <a:xfrm>
                <a:off x="2271600" y="22669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119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62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0"/>
                    </a:moveTo>
                    <a:lnTo>
                      <a:pt x="636" y="0"/>
                    </a:lnTo>
                    <a:lnTo>
                      <a:pt x="317" y="6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262320" y="262872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262320" y="3162240"/>
              <a:ext cx="1371960" cy="228960"/>
              <a:chOff x="3262320" y="3162240"/>
              <a:chExt cx="1371960" cy="228960"/>
            </a:xfrm>
          </p:grpSpPr>
          <p:sp>
            <p:nvSpPr>
              <p:cNvPr id="423" name=""/>
              <p:cNvSpPr/>
              <p:nvPr/>
            </p:nvSpPr>
            <p:spPr>
              <a:xfrm>
                <a:off x="3414600" y="32767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62320" y="316224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05320" y="316224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4405320" y="363852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405320" y="4114800"/>
              <a:ext cx="1371960" cy="228960"/>
              <a:chOff x="4405320" y="4114800"/>
              <a:chExt cx="1371960" cy="228960"/>
            </a:xfrm>
          </p:grpSpPr>
          <p:sp>
            <p:nvSpPr>
              <p:cNvPr id="428" name=""/>
              <p:cNvSpPr/>
              <p:nvPr/>
            </p:nvSpPr>
            <p:spPr>
              <a:xfrm>
                <a:off x="4557600" y="42292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05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48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548320" y="461016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548320" y="5143320"/>
              <a:ext cx="1371960" cy="228960"/>
              <a:chOff x="5548320" y="5143320"/>
              <a:chExt cx="1371960" cy="228960"/>
            </a:xfrm>
          </p:grpSpPr>
          <p:sp>
            <p:nvSpPr>
              <p:cNvPr id="433" name=""/>
              <p:cNvSpPr/>
              <p:nvPr/>
            </p:nvSpPr>
            <p:spPr>
              <a:xfrm>
                <a:off x="5700600" y="52768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48320" y="5143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91320" y="5143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529400" y="54864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072200" y="49528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Timelines</dc:title>
</cp:coreProperties>
</file>