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09520"/>
            <a:ext cx="1524600" cy="1524600"/>
            <a:chOff x="380880" y="209520"/>
            <a:chExt cx="1524600" cy="1524600"/>
          </a:xfrm>
        </p:grpSpPr>
        <p:sp>
          <p:nvSpPr>
            <p:cNvPr id="1" name=""/>
            <p:cNvSpPr/>
            <p:nvPr/>
          </p:nvSpPr>
          <p:spPr>
            <a:xfrm>
              <a:off x="53352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09520"/>
              <a:ext cx="1524600" cy="1524600"/>
              <a:chOff x="380880" y="209520"/>
              <a:chExt cx="1524600" cy="1524600"/>
            </a:xfrm>
          </p:grpSpPr>
          <p:sp>
            <p:nvSpPr>
              <p:cNvPr id="3" name=""/>
              <p:cNvSpPr/>
              <p:nvPr/>
            </p:nvSpPr>
            <p:spPr>
              <a:xfrm>
                <a:off x="1143000" y="20952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0" y="423"/>
                    </a:moveTo>
                    <a:lnTo>
                      <a:pt x="0" y="0"/>
                    </a:lnTo>
                    <a:lnTo>
                      <a:pt x="2118" y="2118"/>
                    </a:lnTo>
                    <a:lnTo>
                      <a:pt x="1695" y="2118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20952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2118" y="0"/>
                    </a:moveTo>
                    <a:lnTo>
                      <a:pt x="2118" y="423"/>
                    </a:lnTo>
                    <a:lnTo>
                      <a:pt x="423" y="2118"/>
                    </a:lnTo>
                    <a:lnTo>
                      <a:pt x="0" y="2118"/>
                    </a:lnTo>
                    <a:lnTo>
                      <a:pt x="2118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43000" y="97164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1695" y="0"/>
                    </a:moveTo>
                    <a:lnTo>
                      <a:pt x="2118" y="0"/>
                    </a:lnTo>
                    <a:lnTo>
                      <a:pt x="0" y="2118"/>
                    </a:lnTo>
                    <a:lnTo>
                      <a:pt x="0" y="1695"/>
                    </a:lnTo>
                    <a:lnTo>
                      <a:pt x="1695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97164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423" y="0"/>
                    </a:moveTo>
                    <a:lnTo>
                      <a:pt x="2118" y="1695"/>
                    </a:lnTo>
                    <a:lnTo>
                      <a:pt x="2118" y="2118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