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52280" y="76320"/>
            <a:ext cx="8839080" cy="6723360"/>
            <a:chOff x="152280" y="76320"/>
            <a:chExt cx="8839080" cy="6723360"/>
          </a:xfrm>
        </p:grpSpPr>
        <p:sp>
          <p:nvSpPr>
            <p:cNvPr id="1" name=""/>
            <p:cNvSpPr/>
            <p:nvPr/>
          </p:nvSpPr>
          <p:spPr>
            <a:xfrm>
              <a:off x="152280" y="228600"/>
              <a:ext cx="8839080" cy="63244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custDash>
                <a:ds d="49296" sp="49296"/>
              </a:custDash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2001960" y="76320"/>
              <a:ext cx="5313600" cy="6723360"/>
              <a:chOff x="2001960" y="76320"/>
              <a:chExt cx="5313600" cy="6723360"/>
            </a:xfrm>
          </p:grpSpPr>
          <p:grpSp>
            <p:nvGrpSpPr>
              <p:cNvPr id="3" name=""/>
              <p:cNvGrpSpPr/>
              <p:nvPr/>
            </p:nvGrpSpPr>
            <p:grpSpPr>
              <a:xfrm>
                <a:off x="6400800" y="76320"/>
                <a:ext cx="914760" cy="762120"/>
                <a:chOff x="6400800" y="76320"/>
                <a:chExt cx="914760" cy="762120"/>
              </a:xfrm>
            </p:grpSpPr>
            <p:sp>
              <p:nvSpPr>
                <p:cNvPr id="4" name=""/>
                <p:cNvSpPr/>
                <p:nvPr/>
              </p:nvSpPr>
              <p:spPr>
                <a:xfrm>
                  <a:off x="6532560" y="152280"/>
                  <a:ext cx="783000" cy="686160"/>
                </a:xfrm>
                <a:custGeom>
                  <a:avLst/>
                  <a:gdLst/>
                  <a:ahLst/>
                  <a:rect l="0" t="0" r="r" b="b"/>
                  <a:pathLst>
                    <a:path w="2175" h="1906">
                      <a:moveTo>
                        <a:pt x="0" y="0"/>
                      </a:moveTo>
                      <a:lnTo>
                        <a:pt x="2175" y="0"/>
                      </a:lnTo>
                      <a:lnTo>
                        <a:pt x="1087" y="190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ecece"/>
                </a:solidFill>
                <a:ln w="12600">
                  <a:solidFill>
                    <a:srgbClr val="cecece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6400800" y="76320"/>
                  <a:ext cx="783000" cy="686160"/>
                </a:xfrm>
                <a:custGeom>
                  <a:avLst/>
                  <a:gdLst/>
                  <a:ahLst/>
                  <a:rect l="0" t="0" r="r" b="b"/>
                  <a:pathLst>
                    <a:path w="2175" h="1906">
                      <a:moveTo>
                        <a:pt x="0" y="0"/>
                      </a:moveTo>
                      <a:lnTo>
                        <a:pt x="2175" y="0"/>
                      </a:lnTo>
                      <a:lnTo>
                        <a:pt x="1087" y="190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676767"/>
                </a:solidFill>
                <a:ln w="12600">
                  <a:solidFill>
                    <a:srgbClr val="676767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" name=""/>
              <p:cNvGrpSpPr/>
              <p:nvPr/>
            </p:nvGrpSpPr>
            <p:grpSpPr>
              <a:xfrm>
                <a:off x="2001960" y="6019920"/>
                <a:ext cx="1005120" cy="779760"/>
                <a:chOff x="2001960" y="6019920"/>
                <a:chExt cx="1005120" cy="779760"/>
              </a:xfrm>
            </p:grpSpPr>
            <p:sp>
              <p:nvSpPr>
                <p:cNvPr id="7" name=""/>
                <p:cNvSpPr/>
                <p:nvPr/>
              </p:nvSpPr>
              <p:spPr>
                <a:xfrm>
                  <a:off x="2224080" y="6113520"/>
                  <a:ext cx="783000" cy="686160"/>
                </a:xfrm>
                <a:custGeom>
                  <a:avLst/>
                  <a:gdLst/>
                  <a:ahLst/>
                  <a:rect l="0" t="0" r="r" b="b"/>
                  <a:pathLst>
                    <a:path w="2175" h="1906">
                      <a:moveTo>
                        <a:pt x="0" y="1906"/>
                      </a:moveTo>
                      <a:lnTo>
                        <a:pt x="2175" y="1906"/>
                      </a:lnTo>
                      <a:lnTo>
                        <a:pt x="1087" y="0"/>
                      </a:lnTo>
                      <a:lnTo>
                        <a:pt x="0" y="1906"/>
                      </a:lnTo>
                      <a:close/>
                    </a:path>
                  </a:pathLst>
                </a:custGeom>
                <a:solidFill>
                  <a:srgbClr val="cecece"/>
                </a:solidFill>
                <a:ln w="12600">
                  <a:solidFill>
                    <a:srgbClr val="cecece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2001960" y="6019920"/>
                  <a:ext cx="783000" cy="686160"/>
                </a:xfrm>
                <a:custGeom>
                  <a:avLst/>
                  <a:gdLst/>
                  <a:ahLst/>
                  <a:rect l="0" t="0" r="r" b="b"/>
                  <a:pathLst>
                    <a:path w="2175" h="1906">
                      <a:moveTo>
                        <a:pt x="0" y="1906"/>
                      </a:moveTo>
                      <a:lnTo>
                        <a:pt x="2175" y="1906"/>
                      </a:lnTo>
                      <a:lnTo>
                        <a:pt x="1087" y="0"/>
                      </a:lnTo>
                      <a:lnTo>
                        <a:pt x="0" y="1906"/>
                      </a:lnTo>
                      <a:close/>
                    </a:path>
                  </a:pathLst>
                </a:custGeom>
                <a:solidFill>
                  <a:srgbClr val="676767"/>
                </a:solidFill>
                <a:ln w="12600">
                  <a:solidFill>
                    <a:srgbClr val="676767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232323"/>
                </a:solidFill>
                <a:latin typeface="Times New Roman"/>
                <a:ea typeface="Times New Roman"/>
              </a:rPr>
              <a:t>Lorem Ips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333333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or sit amet consectetuer adipiscing elit sed dia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333333"/>
              </a:buClr>
              <a:buFont typeface="Arial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nummy nibh euism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232323"/>
              </a:buClr>
              <a:buSzPct val="6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ncidunt 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232323"/>
              </a:buClr>
              <a:buSzPct val="6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oreet dolo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333333"/>
              </a:buClr>
              <a:buFont typeface="Arial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gna aliqu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333333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rci tation ullamcorper suscipit lobortis nisl ut aliquip ex ea 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rosoft Corporation</dc:creator>
  <dc:description/>
  <dc:language>en-US</dc:language>
  <cp:lastModifiedBy>Microsoft Corporation</cp:lastModifiedBy>
  <cp:revision>0</cp:revision>
  <dc:subject/>
  <dc:title>Lorem Ipsum</dc:title>
</cp:coreProperties>
</file>