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c4c4c"/>
                </a:gs>
              </a:gsLst>
              <a:path path="rect">
                <a:fillToRect l="0" t="0" r="100000" b="10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72960" y="380880"/>
              <a:ext cx="8759880" cy="6464160"/>
              <a:chOff x="372960" y="380880"/>
              <a:chExt cx="8759880" cy="6464160"/>
            </a:xfrm>
          </p:grpSpPr>
          <p:sp>
            <p:nvSpPr>
              <p:cNvPr id="3" name=""/>
              <p:cNvSpPr/>
              <p:nvPr/>
            </p:nvSpPr>
            <p:spPr>
              <a:xfrm>
                <a:off x="372960" y="380880"/>
                <a:ext cx="8759880" cy="6464160"/>
              </a:xfrm>
              <a:prstGeom prst="rect">
                <a:avLst/>
              </a:prstGeom>
              <a:solidFill>
                <a:srgbClr val="a1a1a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" name=""/>
              <p:cNvGrpSpPr/>
              <p:nvPr/>
            </p:nvGrpSpPr>
            <p:grpSpPr>
              <a:xfrm>
                <a:off x="6738840" y="4191120"/>
                <a:ext cx="2032200" cy="2285640"/>
                <a:chOff x="6738840" y="4191120"/>
                <a:chExt cx="2032200" cy="2285640"/>
              </a:xfrm>
            </p:grpSpPr>
            <p:sp>
              <p:nvSpPr>
                <p:cNvPr id="5" name=""/>
                <p:cNvSpPr/>
                <p:nvPr/>
              </p:nvSpPr>
              <p:spPr>
                <a:xfrm>
                  <a:off x="8636040" y="6324480"/>
                  <a:ext cx="135000" cy="152280"/>
                </a:xfrm>
                <a:prstGeom prst="rect">
                  <a:avLst/>
                </a:prstGeom>
                <a:solidFill>
                  <a:srgbClr val="fc0128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8364600" y="6324480"/>
                  <a:ext cx="136440" cy="152280"/>
                </a:xfrm>
                <a:prstGeom prst="rect">
                  <a:avLst/>
                </a:prstGeom>
                <a:solidFill>
                  <a:srgbClr val="ff5008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8094600" y="6324480"/>
                  <a:ext cx="135000" cy="15228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823160" y="6324480"/>
                  <a:ext cx="135000" cy="1522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7551720" y="6324480"/>
                  <a:ext cx="136440" cy="152280"/>
                </a:xfrm>
                <a:prstGeom prst="rect">
                  <a:avLst/>
                </a:prstGeom>
                <a:solidFill>
                  <a:srgbClr val="00dfc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281720" y="6324480"/>
                  <a:ext cx="135000" cy="15228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7010280" y="6324480"/>
                  <a:ext cx="135000" cy="152280"/>
                </a:xfrm>
                <a:prstGeom prst="rect">
                  <a:avLst/>
                </a:prstGeom>
                <a:solidFill>
                  <a:srgbClr val="8901f3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6738840" y="6324480"/>
                  <a:ext cx="136440" cy="152280"/>
                </a:xfrm>
                <a:prstGeom prst="rect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8636040" y="6019920"/>
                  <a:ext cx="135000" cy="152280"/>
                </a:xfrm>
                <a:prstGeom prst="rect">
                  <a:avLst/>
                </a:prstGeom>
                <a:solidFill>
                  <a:srgbClr val="ff5008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636040" y="5715000"/>
                  <a:ext cx="135000" cy="15228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636040" y="5410080"/>
                  <a:ext cx="135000" cy="1522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636040" y="5105520"/>
                  <a:ext cx="135000" cy="152280"/>
                </a:xfrm>
                <a:prstGeom prst="rect">
                  <a:avLst/>
                </a:prstGeom>
                <a:solidFill>
                  <a:srgbClr val="00dfc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636040" y="4800600"/>
                  <a:ext cx="135000" cy="15228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636040" y="4495680"/>
                  <a:ext cx="135000" cy="152280"/>
                </a:xfrm>
                <a:prstGeom prst="rect">
                  <a:avLst/>
                </a:prstGeom>
                <a:solidFill>
                  <a:srgbClr val="8901f3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8636040" y="4191120"/>
                  <a:ext cx="135000" cy="152280"/>
                </a:xfrm>
                <a:prstGeom prst="rect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1a1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