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232323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5b1b"/>
                </a:solidFill>
                <a:ln w="12600">
                  <a:solidFill>
                    <a:srgbClr val="f35b1b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f35b1b"/>
                </a:solidFill>
                <a:ln w="12600">
                  <a:solidFill>
                    <a:srgbClr val="f35b1b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35b1b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35b1b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35b1b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35b1b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