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6480"/>
            <a:ext cx="9131400" cy="6845400"/>
            <a:chOff x="6480" y="648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6480" y="6480"/>
              <a:ext cx="9131400" cy="6845400"/>
              <a:chOff x="6480" y="648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6480" y="6480"/>
                <a:ext cx="9131400" cy="6845400"/>
              </a:xfrm>
              <a:prstGeom prst="rect">
                <a:avLst/>
              </a:prstGeom>
              <a:gradFill rotWithShape="0">
                <a:gsLst>
                  <a:gs pos="0">
                    <a:srgbClr val="c0c0ff"/>
                  </a:gs>
                  <a:gs pos="100000">
                    <a:srgbClr val="ffffff"/>
                  </a:gs>
                </a:gsLst>
                <a:path path="rect">
                  <a:fillToRect l="100000" t="100000" r="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480" y="6480"/>
                <a:ext cx="8610480" cy="6324480"/>
              </a:xfrm>
              <a:prstGeom prst="rect">
                <a:avLst/>
              </a:prstGeom>
              <a:solidFill>
                <a:srgbClr val="c0c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461880" y="1324080"/>
              <a:ext cx="8669160" cy="85680"/>
            </a:xfrm>
            <a:prstGeom prst="rect">
              <a:avLst/>
            </a:prstGeom>
            <a:solidFill>
              <a:srgbClr val="e000e0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47560" y="219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1676520"/>
            <a:ext cx="77580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e000e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e000e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