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S Draw Color Palette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s that dither nic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316640" y="2013120"/>
            <a:ext cx="623880" cy="449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204920" y="2013120"/>
            <a:ext cx="62388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68480" y="2013120"/>
            <a:ext cx="623880" cy="442800"/>
          </a:xfrm>
          <a:prstGeom prst="rect">
            <a:avLst/>
          </a:prstGeom>
          <a:solidFill>
            <a:srgbClr val="e0e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32040" y="2013120"/>
            <a:ext cx="623880" cy="442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7400" y="2013120"/>
            <a:ext cx="623880" cy="442800"/>
          </a:xfrm>
          <a:prstGeom prst="rect">
            <a:avLst/>
          </a:prstGeom>
          <a:solidFill>
            <a:srgbClr val="a0a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60960" y="2013120"/>
            <a:ext cx="623880" cy="4428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24520" y="2013120"/>
            <a:ext cx="623880" cy="442800"/>
          </a:xfrm>
          <a:prstGeom prst="rect">
            <a:avLst/>
          </a:prstGeom>
          <a:solidFill>
            <a:srgbClr val="606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89520" y="2013120"/>
            <a:ext cx="623880" cy="442800"/>
          </a:xfrm>
          <a:prstGeom prst="rect">
            <a:avLst/>
          </a:prstGeom>
          <a:solidFill>
            <a:srgbClr val="404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2013120"/>
            <a:ext cx="623880" cy="442800"/>
          </a:xfrm>
          <a:prstGeom prst="rect">
            <a:avLst/>
          </a:prstGeom>
          <a:solidFill>
            <a:srgbClr val="202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360" y="2587680"/>
            <a:ext cx="623880" cy="450720"/>
          </a:xfrm>
          <a:prstGeom prst="rect">
            <a:avLst/>
          </a:prstGeom>
          <a:solidFill>
            <a:srgbClr val="ff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4920" y="2587680"/>
            <a:ext cx="623880" cy="444600"/>
          </a:xfrm>
          <a:prstGeom prst="rect">
            <a:avLst/>
          </a:prstGeom>
          <a:solidFill>
            <a:srgbClr val="ff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68480" y="2587680"/>
            <a:ext cx="623880" cy="444600"/>
          </a:xfrm>
          <a:prstGeom prst="rect">
            <a:avLst/>
          </a:prstGeom>
          <a:solidFill>
            <a:srgbClr val="ff4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32040" y="2587680"/>
            <a:ext cx="623880" cy="444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7400" y="2587680"/>
            <a:ext cx="623880" cy="444600"/>
          </a:xfrm>
          <a:prstGeom prst="rect">
            <a:avLst/>
          </a:prstGeom>
          <a:solidFill>
            <a:srgbClr val="e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0960" y="2587680"/>
            <a:ext cx="623880" cy="44460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4520" y="2587680"/>
            <a:ext cx="623880" cy="444600"/>
          </a:xfrm>
          <a:prstGeom prst="rect">
            <a:avLst/>
          </a:prstGeom>
          <a:solidFill>
            <a:srgbClr val="a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89520" y="2587680"/>
            <a:ext cx="623880" cy="44460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2587680"/>
            <a:ext cx="623880" cy="444600"/>
          </a:xfrm>
          <a:prstGeom prst="rect">
            <a:avLst/>
          </a:prstGeom>
          <a:solidFill>
            <a:srgbClr val="6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16640" y="2587680"/>
            <a:ext cx="623880" cy="444600"/>
          </a:xfrm>
          <a:prstGeom prst="rect">
            <a:avLst/>
          </a:prstGeom>
          <a:solidFill>
            <a:srgbClr val="4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80200" y="2587680"/>
            <a:ext cx="623880" cy="450720"/>
          </a:xfrm>
          <a:prstGeom prst="rect">
            <a:avLst/>
          </a:prstGeom>
          <a:solidFill>
            <a:srgbClr val="2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3164040"/>
            <a:ext cx="623880" cy="449280"/>
          </a:xfrm>
          <a:prstGeom prst="rect">
            <a:avLst/>
          </a:prstGeom>
          <a:solidFill>
            <a:srgbClr val="ffe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4920" y="3164040"/>
            <a:ext cx="623880" cy="442800"/>
          </a:xfrm>
          <a:prstGeom prst="rect">
            <a:avLst/>
          </a:prstGeom>
          <a:solidFill>
            <a:srgbClr val="ffc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68480" y="3164040"/>
            <a:ext cx="623880" cy="442800"/>
          </a:xfrm>
          <a:prstGeom prst="rect">
            <a:avLst/>
          </a:prstGeom>
          <a:solidFill>
            <a:srgbClr val="ffa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32040" y="3164040"/>
            <a:ext cx="623880" cy="442800"/>
          </a:xfrm>
          <a:prstGeom prst="rect">
            <a:avLst/>
          </a:prstGeom>
          <a:solidFill>
            <a:srgbClr val="ff8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7400" y="3164040"/>
            <a:ext cx="623880" cy="442800"/>
          </a:xfrm>
          <a:prstGeom prst="rect">
            <a:avLst/>
          </a:prstGeom>
          <a:solidFill>
            <a:srgbClr val="e07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0960" y="3164040"/>
            <a:ext cx="623880" cy="442800"/>
          </a:xfrm>
          <a:prstGeom prst="rect">
            <a:avLst/>
          </a:prstGeom>
          <a:solidFill>
            <a:srgbClr val="c06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4520" y="3164040"/>
            <a:ext cx="623880" cy="442800"/>
          </a:xfrm>
          <a:prstGeom prst="rect">
            <a:avLst/>
          </a:prstGeom>
          <a:solidFill>
            <a:srgbClr val="a05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89520" y="3164040"/>
            <a:ext cx="623880" cy="442800"/>
          </a:xfrm>
          <a:prstGeom prst="rect">
            <a:avLst/>
          </a:prstGeom>
          <a:solidFill>
            <a:srgbClr val="804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3164040"/>
            <a:ext cx="623880" cy="442800"/>
          </a:xfrm>
          <a:prstGeom prst="rect">
            <a:avLst/>
          </a:prstGeom>
          <a:solidFill>
            <a:srgbClr val="603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6640" y="3164040"/>
            <a:ext cx="623880" cy="442800"/>
          </a:xfrm>
          <a:prstGeom prst="rect">
            <a:avLst/>
          </a:prstGeom>
          <a:solidFill>
            <a:srgbClr val="402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80200" y="3164040"/>
            <a:ext cx="623880" cy="449280"/>
          </a:xfrm>
          <a:prstGeom prst="rect">
            <a:avLst/>
          </a:prstGeom>
          <a:solidFill>
            <a:srgbClr val="201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360" y="3738600"/>
            <a:ext cx="623880" cy="450720"/>
          </a:xfrm>
          <a:prstGeom prst="rect">
            <a:avLst/>
          </a:prstGeom>
          <a:solidFill>
            <a:srgbClr val="ffff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04920" y="3738600"/>
            <a:ext cx="623880" cy="444600"/>
          </a:xfrm>
          <a:prstGeom prst="rect">
            <a:avLst/>
          </a:prstGeom>
          <a:solidFill>
            <a:srgbClr val="ffff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8480" y="3738600"/>
            <a:ext cx="623880" cy="444600"/>
          </a:xfrm>
          <a:prstGeom prst="rect">
            <a:avLst/>
          </a:prstGeom>
          <a:solidFill>
            <a:srgbClr val="ffff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32040" y="3738600"/>
            <a:ext cx="623880" cy="44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7400" y="3738600"/>
            <a:ext cx="623880" cy="444600"/>
          </a:xfrm>
          <a:prstGeom prst="rect">
            <a:avLst/>
          </a:prstGeom>
          <a:solidFill>
            <a:srgbClr val="e0e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0960" y="3738600"/>
            <a:ext cx="623880" cy="444600"/>
          </a:xfrm>
          <a:prstGeom prst="rect">
            <a:avLst/>
          </a:prstGeom>
          <a:solidFill>
            <a:srgbClr val="c0c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4520" y="3738600"/>
            <a:ext cx="623880" cy="444600"/>
          </a:xfrm>
          <a:prstGeom prst="rect">
            <a:avLst/>
          </a:prstGeom>
          <a:solidFill>
            <a:srgbClr val="a0a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89520" y="3738600"/>
            <a:ext cx="623880" cy="44460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3738600"/>
            <a:ext cx="623880" cy="444600"/>
          </a:xfrm>
          <a:prstGeom prst="rect">
            <a:avLst/>
          </a:prstGeom>
          <a:solidFill>
            <a:srgbClr val="606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6640" y="3738600"/>
            <a:ext cx="623880" cy="444600"/>
          </a:xfrm>
          <a:prstGeom prst="rect">
            <a:avLst/>
          </a:prstGeom>
          <a:solidFill>
            <a:srgbClr val="404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80200" y="3738600"/>
            <a:ext cx="623880" cy="450720"/>
          </a:xfrm>
          <a:prstGeom prst="rect">
            <a:avLst/>
          </a:prstGeom>
          <a:solidFill>
            <a:srgbClr val="202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4314960"/>
            <a:ext cx="623880" cy="450720"/>
          </a:xfrm>
          <a:prstGeom prst="rect">
            <a:avLst/>
          </a:prstGeom>
          <a:solidFill>
            <a:srgbClr val="c0ff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04920" y="4314960"/>
            <a:ext cx="623880" cy="444600"/>
          </a:xfrm>
          <a:prstGeom prst="rect">
            <a:avLst/>
          </a:prstGeom>
          <a:solidFill>
            <a:srgbClr val="80ff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68480" y="4314960"/>
            <a:ext cx="623880" cy="444600"/>
          </a:xfrm>
          <a:prstGeom prst="rect">
            <a:avLst/>
          </a:prstGeom>
          <a:solidFill>
            <a:srgbClr val="40ff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32040" y="4314960"/>
            <a:ext cx="623880" cy="4446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7400" y="4314960"/>
            <a:ext cx="623880" cy="444600"/>
          </a:xfrm>
          <a:prstGeom prst="rect">
            <a:avLst/>
          </a:prstGeom>
          <a:solidFill>
            <a:srgbClr val="00e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0960" y="4314960"/>
            <a:ext cx="623880" cy="444600"/>
          </a:xfrm>
          <a:prstGeom prst="rect">
            <a:avLst/>
          </a:prstGeom>
          <a:solidFill>
            <a:srgbClr val="00c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4520" y="4314960"/>
            <a:ext cx="623880" cy="444600"/>
          </a:xfrm>
          <a:prstGeom prst="rect">
            <a:avLst/>
          </a:prstGeom>
          <a:solidFill>
            <a:srgbClr val="00a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89520" y="4314960"/>
            <a:ext cx="623880" cy="44460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314960"/>
            <a:ext cx="623880" cy="444600"/>
          </a:xfrm>
          <a:prstGeom prst="rect">
            <a:avLst/>
          </a:prstGeom>
          <a:solidFill>
            <a:srgbClr val="006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6640" y="4314960"/>
            <a:ext cx="623880" cy="444600"/>
          </a:xfrm>
          <a:prstGeom prst="rect">
            <a:avLst/>
          </a:prstGeom>
          <a:solidFill>
            <a:srgbClr val="004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80200" y="4314960"/>
            <a:ext cx="623880" cy="450720"/>
          </a:xfrm>
          <a:prstGeom prst="rect">
            <a:avLst/>
          </a:prstGeom>
          <a:solidFill>
            <a:srgbClr val="002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360" y="4890960"/>
            <a:ext cx="623880" cy="44928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4920" y="4890960"/>
            <a:ext cx="623880" cy="442800"/>
          </a:xfrm>
          <a:prstGeom prst="rect">
            <a:avLst/>
          </a:prstGeom>
          <a:solidFill>
            <a:srgbClr val="8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68480" y="4890960"/>
            <a:ext cx="623880" cy="442800"/>
          </a:xfrm>
          <a:prstGeom prst="rect">
            <a:avLst/>
          </a:prstGeom>
          <a:solidFill>
            <a:srgbClr val="4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32040" y="4890960"/>
            <a:ext cx="623880" cy="4428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7400" y="4890960"/>
            <a:ext cx="623880" cy="442800"/>
          </a:xfrm>
          <a:prstGeom prst="rect">
            <a:avLst/>
          </a:prstGeom>
          <a:solidFill>
            <a:srgbClr val="00e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0960" y="4890960"/>
            <a:ext cx="623880" cy="442800"/>
          </a:xfrm>
          <a:prstGeom prst="rect">
            <a:avLst/>
          </a:prstGeom>
          <a:solidFill>
            <a:srgbClr val="0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4520" y="4890960"/>
            <a:ext cx="623880" cy="442800"/>
          </a:xfrm>
          <a:prstGeom prst="rect">
            <a:avLst/>
          </a:prstGeom>
          <a:solidFill>
            <a:srgbClr val="00a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89520" y="4890960"/>
            <a:ext cx="623880" cy="442800"/>
          </a:xfrm>
          <a:prstGeom prst="rect">
            <a:avLst/>
          </a:prstGeom>
          <a:solidFill>
            <a:srgbClr val="00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890960"/>
            <a:ext cx="623880" cy="442800"/>
          </a:xfrm>
          <a:prstGeom prst="rect">
            <a:avLst/>
          </a:prstGeom>
          <a:solidFill>
            <a:srgbClr val="006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6640" y="4890960"/>
            <a:ext cx="623880" cy="442800"/>
          </a:xfrm>
          <a:prstGeom prst="rect">
            <a:avLst/>
          </a:prstGeom>
          <a:solidFill>
            <a:srgbClr val="004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80200" y="4890960"/>
            <a:ext cx="623880" cy="449280"/>
          </a:xfrm>
          <a:prstGeom prst="rect">
            <a:avLst/>
          </a:prstGeom>
          <a:solidFill>
            <a:srgbClr val="002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360" y="5465880"/>
            <a:ext cx="623880" cy="450720"/>
          </a:xfrm>
          <a:prstGeom prst="rect">
            <a:avLst/>
          </a:prstGeom>
          <a:solidFill>
            <a:srgbClr val="c0c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4920" y="5465880"/>
            <a:ext cx="623880" cy="444600"/>
          </a:xfrm>
          <a:prstGeom prst="rect">
            <a:avLst/>
          </a:prstGeom>
          <a:solidFill>
            <a:srgbClr val="808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68480" y="5465880"/>
            <a:ext cx="623880" cy="444600"/>
          </a:xfrm>
          <a:prstGeom prst="rect">
            <a:avLst/>
          </a:prstGeom>
          <a:solidFill>
            <a:srgbClr val="404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32040" y="5465880"/>
            <a:ext cx="623880" cy="444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7400" y="5465880"/>
            <a:ext cx="623880" cy="444600"/>
          </a:xfrm>
          <a:prstGeom prst="rect">
            <a:avLst/>
          </a:prstGeom>
          <a:solidFill>
            <a:srgbClr val="000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0960" y="5465880"/>
            <a:ext cx="623880" cy="444600"/>
          </a:xfrm>
          <a:prstGeom prst="rect">
            <a:avLst/>
          </a:prstGeom>
          <a:solidFill>
            <a:srgbClr val="0000c4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4520" y="5465880"/>
            <a:ext cx="623880" cy="444600"/>
          </a:xfrm>
          <a:prstGeom prst="rect">
            <a:avLst/>
          </a:prstGeom>
          <a:solidFill>
            <a:srgbClr val="000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89520" y="5465880"/>
            <a:ext cx="623880" cy="4446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5465880"/>
            <a:ext cx="623880" cy="444600"/>
          </a:xfrm>
          <a:prstGeom prst="rect">
            <a:avLst/>
          </a:prstGeom>
          <a:solidFill>
            <a:srgbClr val="000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6640" y="5465880"/>
            <a:ext cx="623880" cy="444600"/>
          </a:xfrm>
          <a:prstGeom prst="rect">
            <a:avLst/>
          </a:prstGeom>
          <a:solidFill>
            <a:srgbClr val="000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80200" y="5465880"/>
            <a:ext cx="623880" cy="450720"/>
          </a:xfrm>
          <a:prstGeom prst="rect">
            <a:avLst/>
          </a:prstGeom>
          <a:solidFill>
            <a:srgbClr val="000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360" y="6041880"/>
            <a:ext cx="623880" cy="449280"/>
          </a:xfrm>
          <a:prstGeom prst="rect">
            <a:avLst/>
          </a:prstGeom>
          <a:solidFill>
            <a:srgbClr val="ffc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04920" y="6041880"/>
            <a:ext cx="623880" cy="442800"/>
          </a:xfrm>
          <a:prstGeom prst="rect">
            <a:avLst/>
          </a:prstGeom>
          <a:solidFill>
            <a:srgbClr val="ff8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68480" y="6041880"/>
            <a:ext cx="623880" cy="442800"/>
          </a:xfrm>
          <a:prstGeom prst="rect">
            <a:avLst/>
          </a:prstGeom>
          <a:solidFill>
            <a:srgbClr val="ff4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32040" y="6041880"/>
            <a:ext cx="623880" cy="4428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7400" y="6041880"/>
            <a:ext cx="623880" cy="442800"/>
          </a:xfrm>
          <a:prstGeom prst="rect">
            <a:avLst/>
          </a:prstGeom>
          <a:solidFill>
            <a:srgbClr val="e00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0960" y="6041880"/>
            <a:ext cx="623880" cy="442800"/>
          </a:xfrm>
          <a:prstGeom prst="rect">
            <a:avLst/>
          </a:prstGeom>
          <a:solidFill>
            <a:srgbClr val="c00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4520" y="6041880"/>
            <a:ext cx="623880" cy="442800"/>
          </a:xfrm>
          <a:prstGeom prst="rect">
            <a:avLst/>
          </a:prstGeom>
          <a:solidFill>
            <a:srgbClr val="a00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41880"/>
            <a:ext cx="623880" cy="442800"/>
          </a:xfrm>
          <a:prstGeom prst="rect">
            <a:avLst/>
          </a:prstGeom>
          <a:solidFill>
            <a:srgbClr val="800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6041880"/>
            <a:ext cx="623880" cy="442800"/>
          </a:xfrm>
          <a:prstGeom prst="rect">
            <a:avLst/>
          </a:prstGeom>
          <a:solidFill>
            <a:srgbClr val="600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6640" y="6041880"/>
            <a:ext cx="623880" cy="442800"/>
          </a:xfrm>
          <a:prstGeom prst="rect">
            <a:avLst/>
          </a:prstGeom>
          <a:solidFill>
            <a:srgbClr val="400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80200" y="6041880"/>
            <a:ext cx="623880" cy="449280"/>
          </a:xfrm>
          <a:prstGeom prst="rect">
            <a:avLst/>
          </a:prstGeom>
          <a:solidFill>
            <a:srgbClr val="200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3672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30360" y="2139840"/>
            <a:ext cx="325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6320" y="2066760"/>
            <a:ext cx="469800" cy="436680"/>
          </a:xfrm>
          <a:prstGeom prst="rect">
            <a:avLst/>
          </a:prstGeom>
          <a:solidFill>
            <a:srgbClr val="41414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6320" y="3218040"/>
            <a:ext cx="469800" cy="433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6320" y="3794040"/>
            <a:ext cx="469800" cy="430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6320" y="4371840"/>
            <a:ext cx="469800" cy="4287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6320" y="4950000"/>
            <a:ext cx="469800" cy="428760"/>
          </a:xfrm>
          <a:prstGeom prst="rect">
            <a:avLst/>
          </a:prstGeom>
          <a:solidFill>
            <a:srgbClr val="47474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5521320"/>
            <a:ext cx="469800" cy="436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6100920"/>
            <a:ext cx="469800" cy="43344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6320" y="2638440"/>
            <a:ext cx="469800" cy="4366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8436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3960" y="2066760"/>
            <a:ext cx="469800" cy="436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23960" y="3218040"/>
            <a:ext cx="469800" cy="43344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23960" y="3794040"/>
            <a:ext cx="469800" cy="430200"/>
          </a:xfrm>
          <a:prstGeom prst="rect">
            <a:avLst/>
          </a:prstGeom>
          <a:solidFill>
            <a:srgbClr val="f766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3960" y="4371840"/>
            <a:ext cx="469800" cy="428760"/>
          </a:xfrm>
          <a:prstGeom prst="rect">
            <a:avLst/>
          </a:prstGeom>
          <a:solidFill>
            <a:srgbClr val="e5405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3960" y="4950000"/>
            <a:ext cx="469800" cy="428760"/>
          </a:xfrm>
          <a:prstGeom prst="rect">
            <a:avLst/>
          </a:prstGeom>
          <a:solidFill>
            <a:srgbClr val="cf0e3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3960" y="5521320"/>
            <a:ext cx="469800" cy="436680"/>
          </a:xfrm>
          <a:prstGeom prst="rect">
            <a:avLst/>
          </a:prstGeom>
          <a:solidFill>
            <a:srgbClr val="79001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3960" y="6100920"/>
            <a:ext cx="469800" cy="433440"/>
          </a:xfrm>
          <a:prstGeom prst="rect">
            <a:avLst/>
          </a:prstGeom>
          <a:solidFill>
            <a:srgbClr val="3f000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3960" y="2638440"/>
            <a:ext cx="469800" cy="4366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25520" y="17064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0" y="2066760"/>
            <a:ext cx="469800" cy="436680"/>
          </a:xfrm>
          <a:prstGeom prst="rect">
            <a:avLst/>
          </a:prstGeom>
          <a:solidFill>
            <a:srgbClr val="ff500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1600" y="3218040"/>
            <a:ext cx="469800" cy="433440"/>
          </a:xfrm>
          <a:prstGeom prst="rect">
            <a:avLst/>
          </a:prstGeom>
          <a:solidFill>
            <a:srgbClr val="ffa27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71600" y="3794040"/>
            <a:ext cx="469800" cy="430200"/>
          </a:xfrm>
          <a:prstGeom prst="rect">
            <a:avLst/>
          </a:prstGeom>
          <a:solidFill>
            <a:srgbClr val="f57b4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71600" y="4371840"/>
            <a:ext cx="469800" cy="4287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1600" y="4950000"/>
            <a:ext cx="469800" cy="42876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1600" y="5521320"/>
            <a:ext cx="469800" cy="436680"/>
          </a:xfrm>
          <a:prstGeom prst="rect">
            <a:avLst/>
          </a:prstGeom>
          <a:solidFill>
            <a:srgbClr val="712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1600" y="6100920"/>
            <a:ext cx="469800" cy="433440"/>
          </a:xfrm>
          <a:prstGeom prst="rect">
            <a:avLst/>
          </a:prstGeom>
          <a:solidFill>
            <a:srgbClr val="3e14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1600" y="2638440"/>
            <a:ext cx="469800" cy="43668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7964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9240" y="2066760"/>
            <a:ext cx="469800" cy="43668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218040"/>
            <a:ext cx="469800" cy="433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9240" y="3794040"/>
            <a:ext cx="469800" cy="430200"/>
          </a:xfrm>
          <a:prstGeom prst="rect">
            <a:avLst/>
          </a:prstGeom>
          <a:solidFill>
            <a:srgbClr val="ef91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9240" y="4371840"/>
            <a:ext cx="469800" cy="4287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9240" y="4950000"/>
            <a:ext cx="469800" cy="428760"/>
          </a:xfrm>
          <a:prstGeom prst="rect">
            <a:avLst/>
          </a:pr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9240" y="5521320"/>
            <a:ext cx="469800" cy="436680"/>
          </a:xfrm>
          <a:prstGeom prst="rect">
            <a:avLst/>
          </a:prstGeom>
          <a:solidFill>
            <a:srgbClr val="4c2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9240" y="6100920"/>
            <a:ext cx="469800" cy="433440"/>
          </a:xfrm>
          <a:prstGeom prst="rect">
            <a:avLst/>
          </a:prstGeom>
          <a:solidFill>
            <a:srgbClr val="372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9240" y="2638440"/>
            <a:ext cx="469800" cy="4366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06760" y="170640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7240" y="2066760"/>
            <a:ext cx="469800" cy="43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7240" y="3218040"/>
            <a:ext cx="469800" cy="4334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7240" y="3794040"/>
            <a:ext cx="469800" cy="4302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7240" y="4371840"/>
            <a:ext cx="469800" cy="42876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7240" y="4950000"/>
            <a:ext cx="469800" cy="428760"/>
          </a:xfrm>
          <a:prstGeom prst="rect">
            <a:avLst/>
          </a:prstGeom>
          <a:solidFill>
            <a:srgbClr val="4e4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7240" y="5521320"/>
            <a:ext cx="469800" cy="436680"/>
          </a:xfrm>
          <a:prstGeom prst="rect">
            <a:avLst/>
          </a:prstGeom>
          <a:solidFill>
            <a:srgbClr val="3a3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7240" y="6100920"/>
            <a:ext cx="469800" cy="433440"/>
          </a:xfrm>
          <a:prstGeom prst="rect">
            <a:avLst/>
          </a:prstGeom>
          <a:solidFill>
            <a:srgbClr val="282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7240" y="2638440"/>
            <a:ext cx="469800" cy="436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7528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4880" y="2066760"/>
            <a:ext cx="469800" cy="43668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4880" y="3218040"/>
            <a:ext cx="469800" cy="433440"/>
          </a:xfrm>
          <a:prstGeom prst="rect">
            <a:avLst/>
          </a:prstGeom>
          <a:solidFill>
            <a:srgbClr val="a3f25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4880" y="3794040"/>
            <a:ext cx="469800" cy="43020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4880" y="4371840"/>
            <a:ext cx="469800" cy="428760"/>
          </a:xfrm>
          <a:prstGeom prst="rect">
            <a:avLst/>
          </a:prstGeom>
          <a:solidFill>
            <a:srgbClr val="438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4880" y="4950000"/>
            <a:ext cx="469800" cy="428760"/>
          </a:xfrm>
          <a:prstGeom prst="rect">
            <a:avLst/>
          </a:prstGeom>
          <a:solidFill>
            <a:srgbClr val="31650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4880" y="5521320"/>
            <a:ext cx="469800" cy="436680"/>
          </a:xfrm>
          <a:prstGeom prst="rect">
            <a:avLst/>
          </a:prstGeom>
          <a:solidFill>
            <a:srgbClr val="1f4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4880" y="6100920"/>
            <a:ext cx="469800" cy="433440"/>
          </a:xfrm>
          <a:prstGeom prst="rect">
            <a:avLst/>
          </a:prstGeom>
          <a:solidFill>
            <a:srgbClr val="183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4880" y="2638440"/>
            <a:ext cx="469800" cy="43668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816440" y="17064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62520" y="2066760"/>
            <a:ext cx="469800" cy="4366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62520" y="3218040"/>
            <a:ext cx="469800" cy="433440"/>
          </a:xfrm>
          <a:prstGeom prst="rect">
            <a:avLst/>
          </a:prstGeom>
          <a:solidFill>
            <a:srgbClr val="a2ffa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62520" y="3794040"/>
            <a:ext cx="469800" cy="43020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62520" y="4371840"/>
            <a:ext cx="469800" cy="4287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950000"/>
            <a:ext cx="469800" cy="428760"/>
          </a:xfrm>
          <a:prstGeom prst="rect">
            <a:avLst/>
          </a:pr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62520" y="5521320"/>
            <a:ext cx="469800" cy="436680"/>
          </a:xfrm>
          <a:prstGeom prst="rect">
            <a:avLst/>
          </a:prstGeom>
          <a:solidFill>
            <a:srgbClr val="005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2520" y="6100920"/>
            <a:ext cx="469800" cy="433440"/>
          </a:xfrm>
          <a:prstGeom prst="rect">
            <a:avLst/>
          </a:prstGeom>
          <a:solidFill>
            <a:srgbClr val="003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62520" y="2638440"/>
            <a:ext cx="469800" cy="436680"/>
          </a:xfrm>
          <a:prstGeom prst="rect">
            <a:avLst/>
          </a:prstGeom>
          <a:solidFill>
            <a:srgbClr val="c8fec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464080" y="17064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10160" y="2066760"/>
            <a:ext cx="469800" cy="4366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160" y="3218040"/>
            <a:ext cx="469800" cy="4334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0160" y="3794040"/>
            <a:ext cx="469800" cy="43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10160" y="4371840"/>
            <a:ext cx="469800" cy="4287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10160" y="4950000"/>
            <a:ext cx="469800" cy="428760"/>
          </a:xfrm>
          <a:prstGeom prst="rect">
            <a:avLst/>
          </a:prstGeom>
          <a:solidFill>
            <a:srgbClr val="006b6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10160" y="5521320"/>
            <a:ext cx="469800" cy="436680"/>
          </a:xfrm>
          <a:prstGeom prst="rect">
            <a:avLst/>
          </a:prstGeom>
          <a:solidFill>
            <a:srgbClr val="004e4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10160" y="6100920"/>
            <a:ext cx="469800" cy="433440"/>
          </a:xfrm>
          <a:prstGeom prst="rect">
            <a:avLst/>
          </a:prstGeom>
          <a:solidFill>
            <a:srgbClr val="00353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10160" y="2638440"/>
            <a:ext cx="469800" cy="4366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820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7800" y="2066760"/>
            <a:ext cx="469800" cy="43668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7800" y="3218040"/>
            <a:ext cx="469800" cy="4334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7800" y="3794040"/>
            <a:ext cx="469800" cy="43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7800" y="4371840"/>
            <a:ext cx="469800" cy="42876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7800" y="4950000"/>
            <a:ext cx="469800" cy="42876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7800" y="5521320"/>
            <a:ext cx="469800" cy="43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7800" y="6100920"/>
            <a:ext cx="469800" cy="433440"/>
          </a:xfrm>
          <a:prstGeom prst="rect">
            <a:avLst/>
          </a:prstGeom>
          <a:solidFill>
            <a:srgbClr val="081d5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57800" y="2638440"/>
            <a:ext cx="469800" cy="4366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86720" y="1706400"/>
            <a:ext cx="50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5440" y="2066760"/>
            <a:ext cx="469800" cy="436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5440" y="3218040"/>
            <a:ext cx="469800" cy="4334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5440" y="3794040"/>
            <a:ext cx="469800" cy="43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5440" y="4371840"/>
            <a:ext cx="469800" cy="428760"/>
          </a:xfrm>
          <a:prstGeom prst="rect">
            <a:avLst/>
          </a:prstGeom>
          <a:solidFill>
            <a:srgbClr val="9234d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5440" y="4950000"/>
            <a:ext cx="469800" cy="42876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5440" y="5521320"/>
            <a:ext cx="469800" cy="436680"/>
          </a:xfrm>
          <a:prstGeom prst="rect">
            <a:avLst/>
          </a:prstGeom>
          <a:solidFill>
            <a:srgbClr val="50009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05440" y="6100920"/>
            <a:ext cx="469800" cy="433440"/>
          </a:xfrm>
          <a:prstGeom prst="rect">
            <a:avLst/>
          </a:prstGeom>
          <a:solidFill>
            <a:srgbClr val="28004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5440" y="2638440"/>
            <a:ext cx="469800" cy="436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419960" y="170640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53440" y="2066760"/>
            <a:ext cx="469800" cy="4366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53440" y="3218040"/>
            <a:ext cx="469800" cy="43344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3440" y="3794040"/>
            <a:ext cx="469800" cy="43020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3440" y="4371840"/>
            <a:ext cx="469800" cy="42876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53440" y="4950000"/>
            <a:ext cx="469800" cy="428760"/>
          </a:xfrm>
          <a:prstGeom prst="rect">
            <a:avLst/>
          </a:pr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3440" y="5521320"/>
            <a:ext cx="469800" cy="436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3440" y="6100920"/>
            <a:ext cx="469800" cy="433440"/>
          </a:xfrm>
          <a:prstGeom prst="rect">
            <a:avLst/>
          </a:prstGeom>
          <a:solidFill>
            <a:srgbClr val="3c002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3440" y="2638440"/>
            <a:ext cx="469800" cy="4366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078760" y="45306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064360" y="5670720"/>
            <a:ext cx="579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118360" y="4950000"/>
            <a:ext cx="469800" cy="428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18360" y="6100920"/>
            <a:ext cx="46980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enigraphics Color Pa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90720" y="609480"/>
            <a:ext cx="71629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7 Colors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lack, white, 3 shades of gray, an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6 shades of other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19880" y="2014560"/>
            <a:ext cx="617400" cy="438120"/>
          </a:xfrm>
          <a:prstGeom prst="rect">
            <a:avLst/>
          </a:prstGeom>
          <a:solidFill>
            <a:srgbClr val="40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05480" y="2014560"/>
            <a:ext cx="617400" cy="4381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91080" y="2014560"/>
            <a:ext cx="617400" cy="438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6680" y="2014560"/>
            <a:ext cx="6174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34280" y="2014560"/>
            <a:ext cx="617400" cy="438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71640" y="2587680"/>
            <a:ext cx="617400" cy="43812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6680" y="2587680"/>
            <a:ext cx="617400" cy="439560"/>
          </a:xfrm>
          <a:prstGeom prst="rect">
            <a:avLst/>
          </a:prstGeom>
          <a:solidFill>
            <a:srgbClr val="ff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91080" y="2587680"/>
            <a:ext cx="617400" cy="439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5480" y="2587680"/>
            <a:ext cx="617400" cy="439560"/>
          </a:xfrm>
          <a:prstGeom prst="rect">
            <a:avLst/>
          </a:prstGeom>
          <a:solidFill>
            <a:srgbClr val="c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19880" y="2587680"/>
            <a:ext cx="617400" cy="439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34280" y="2587680"/>
            <a:ext cx="617400" cy="439560"/>
          </a:xfrm>
          <a:prstGeom prst="rect">
            <a:avLst/>
          </a:prstGeom>
          <a:solidFill>
            <a:srgbClr val="4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71640" y="3160800"/>
            <a:ext cx="617400" cy="438120"/>
          </a:xfrm>
          <a:prstGeom prst="rect">
            <a:avLst/>
          </a:pr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6680" y="3160800"/>
            <a:ext cx="617400" cy="438120"/>
          </a:xfrm>
          <a:prstGeom prst="rect">
            <a:avLst/>
          </a:prstGeom>
          <a:solidFill>
            <a:srgbClr val="ffa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91080" y="3160800"/>
            <a:ext cx="617400" cy="438120"/>
          </a:xfrm>
          <a:prstGeom prst="rect">
            <a:avLst/>
          </a:pr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05480" y="3160800"/>
            <a:ext cx="617400" cy="438120"/>
          </a:xfrm>
          <a:prstGeom prst="rect">
            <a:avLst/>
          </a:prstGeom>
          <a:solidFill>
            <a:srgbClr val="c06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19880" y="3160800"/>
            <a:ext cx="617400" cy="438120"/>
          </a:xfrm>
          <a:prstGeom prst="rect">
            <a:avLst/>
          </a:prstGeom>
          <a:solidFill>
            <a:srgbClr val="804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34280" y="3160800"/>
            <a:ext cx="617400" cy="438120"/>
          </a:xfrm>
          <a:prstGeom prst="rect">
            <a:avLst/>
          </a:prstGeom>
          <a:solidFill>
            <a:srgbClr val="402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71640" y="3740040"/>
            <a:ext cx="617400" cy="439560"/>
          </a:xfrm>
          <a:prstGeom prst="rect">
            <a:avLst/>
          </a:prstGeom>
          <a:solidFill>
            <a:srgbClr val="ffff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76680" y="3740040"/>
            <a:ext cx="617400" cy="439560"/>
          </a:xfrm>
          <a:prstGeom prst="rect">
            <a:avLst/>
          </a:prstGeom>
          <a:solidFill>
            <a:srgbClr val="ffff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91080" y="3740040"/>
            <a:ext cx="617400" cy="439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05480" y="3740040"/>
            <a:ext cx="617400" cy="439560"/>
          </a:xfrm>
          <a:prstGeom prst="rect">
            <a:avLst/>
          </a:prstGeom>
          <a:solidFill>
            <a:srgbClr val="c0c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19880" y="3740040"/>
            <a:ext cx="617400" cy="43956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34280" y="3740040"/>
            <a:ext cx="617400" cy="439560"/>
          </a:xfrm>
          <a:prstGeom prst="rect">
            <a:avLst/>
          </a:prstGeom>
          <a:solidFill>
            <a:srgbClr val="404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71640" y="4316400"/>
            <a:ext cx="617400" cy="439560"/>
          </a:xfrm>
          <a:prstGeom prst="rect">
            <a:avLst/>
          </a:pr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6680" y="4316400"/>
            <a:ext cx="617400" cy="439560"/>
          </a:xfrm>
          <a:prstGeom prst="rect">
            <a:avLst/>
          </a:prstGeom>
          <a:solidFill>
            <a:srgbClr val="40ff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1080" y="4316400"/>
            <a:ext cx="617400" cy="439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05480" y="4316400"/>
            <a:ext cx="617400" cy="4395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9880" y="4316400"/>
            <a:ext cx="617400" cy="4395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34280" y="4316400"/>
            <a:ext cx="617400" cy="439560"/>
          </a:xfrm>
          <a:prstGeom prst="rect">
            <a:avLst/>
          </a:prstGeom>
          <a:solidFill>
            <a:srgbClr val="004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71640" y="4892760"/>
            <a:ext cx="617400" cy="438120"/>
          </a:xfrm>
          <a:prstGeom prst="rect">
            <a:avLst/>
          </a:prstGeom>
          <a:solidFill>
            <a:srgbClr val="8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6680" y="4892760"/>
            <a:ext cx="617400" cy="438120"/>
          </a:xfrm>
          <a:prstGeom prst="rect">
            <a:avLst/>
          </a:prstGeom>
          <a:solidFill>
            <a:srgbClr val="4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91080" y="4892760"/>
            <a:ext cx="617400" cy="438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05480" y="4892760"/>
            <a:ext cx="617400" cy="438120"/>
          </a:xfrm>
          <a:prstGeom prst="rect">
            <a:avLst/>
          </a:prstGeom>
          <a:solidFill>
            <a:srgbClr val="0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9880" y="4892760"/>
            <a:ext cx="617400" cy="438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34280" y="4892760"/>
            <a:ext cx="617400" cy="438120"/>
          </a:xfrm>
          <a:prstGeom prst="rect">
            <a:avLst/>
          </a:prstGeom>
          <a:solidFill>
            <a:srgbClr val="00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71640" y="5467320"/>
            <a:ext cx="617400" cy="43956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6680" y="5467320"/>
            <a:ext cx="617400" cy="439560"/>
          </a:xfrm>
          <a:prstGeom prst="rect">
            <a:avLst/>
          </a:prstGeom>
          <a:solidFill>
            <a:srgbClr val="404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91080" y="5467320"/>
            <a:ext cx="617400" cy="439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05480" y="5467320"/>
            <a:ext cx="617400" cy="439560"/>
          </a:xfrm>
          <a:prstGeom prst="rect">
            <a:avLst/>
          </a:prstGeom>
          <a:solidFill>
            <a:srgbClr val="0000c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19880" y="5467320"/>
            <a:ext cx="617400" cy="4395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34280" y="5467320"/>
            <a:ext cx="617400" cy="43956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1640" y="6043680"/>
            <a:ext cx="617400" cy="438120"/>
          </a:xfrm>
          <a:prstGeom prst="rect">
            <a:avLst/>
          </a:prstGeom>
          <a:solidFill>
            <a:srgbClr val="ff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6680" y="6043680"/>
            <a:ext cx="617400" cy="438120"/>
          </a:xfrm>
          <a:prstGeom prst="rect">
            <a:avLst/>
          </a:prstGeom>
          <a:solidFill>
            <a:srgbClr val="ff4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91080" y="6043680"/>
            <a:ext cx="617400" cy="4381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05480" y="6043680"/>
            <a:ext cx="617400" cy="438120"/>
          </a:xfrm>
          <a:prstGeom prst="rect">
            <a:avLst/>
          </a:prstGeom>
          <a:solidFill>
            <a:srgbClr val="c00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19880" y="6043680"/>
            <a:ext cx="617400" cy="438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34280" y="6043680"/>
            <a:ext cx="617400" cy="438120"/>
          </a:xfrm>
          <a:prstGeom prst="rect">
            <a:avLst/>
          </a:prstGeom>
          <a:solidFill>
            <a:srgbClr val="400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6 Colors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s that do not d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562120"/>
            <a:ext cx="623880" cy="442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97080" y="2562120"/>
            <a:ext cx="623880" cy="442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36960" y="2562120"/>
            <a:ext cx="62388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71800" y="2562120"/>
            <a:ext cx="623880" cy="442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2562120"/>
            <a:ext cx="623880" cy="442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57680" y="2562120"/>
            <a:ext cx="623880" cy="442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99360" y="2562120"/>
            <a:ext cx="623880" cy="442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562120"/>
            <a:ext cx="623880" cy="4428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57200" y="3213000"/>
            <a:ext cx="623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213000"/>
            <a:ext cx="623880" cy="444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36960" y="3213000"/>
            <a:ext cx="623880" cy="4446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71800" y="3213000"/>
            <a:ext cx="623880" cy="44460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3213000"/>
            <a:ext cx="623880" cy="4446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57680" y="3213000"/>
            <a:ext cx="623880" cy="444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99360" y="3213000"/>
            <a:ext cx="623880" cy="44460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3213000"/>
            <a:ext cx="623880" cy="4446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ray Scale Colors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Grays that di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2562120"/>
            <a:ext cx="623880" cy="442800"/>
          </a:xfrm>
          <a:prstGeom prst="rect">
            <a:avLst/>
          </a:prstGeom>
          <a:solidFill>
            <a:srgbClr val="10101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77960" y="2562120"/>
            <a:ext cx="623880" cy="44280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2562120"/>
            <a:ext cx="623880" cy="442800"/>
          </a:xfrm>
          <a:prstGeom prst="rect">
            <a:avLst/>
          </a:prstGeom>
          <a:solidFill>
            <a:srgbClr val="30303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59160" y="2562120"/>
            <a:ext cx="623880" cy="442800"/>
          </a:xfrm>
          <a:prstGeom prst="rect">
            <a:avLst/>
          </a:prstGeom>
          <a:solidFill>
            <a:srgbClr val="40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2720" y="2562120"/>
            <a:ext cx="623880" cy="442800"/>
          </a:xfrm>
          <a:prstGeom prst="rect">
            <a:avLst/>
          </a:prstGeom>
          <a:solidFill>
            <a:srgbClr val="50505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2600" y="2562120"/>
            <a:ext cx="623880" cy="442800"/>
          </a:xfrm>
          <a:prstGeom prst="rect">
            <a:avLst/>
          </a:prstGeom>
          <a:solidFill>
            <a:srgbClr val="606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3920" y="2562120"/>
            <a:ext cx="623880" cy="442800"/>
          </a:xfrm>
          <a:prstGeom prst="rect">
            <a:avLst/>
          </a:prstGeom>
          <a:solidFill>
            <a:srgbClr val="70707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29400" y="2562120"/>
            <a:ext cx="623880" cy="4428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213000"/>
            <a:ext cx="623880" cy="444600"/>
          </a:xfrm>
          <a:prstGeom prst="rect">
            <a:avLst/>
          </a:prstGeom>
          <a:solidFill>
            <a:srgbClr val="90909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63560" y="3213000"/>
            <a:ext cx="623880" cy="444600"/>
          </a:xfrm>
          <a:prstGeom prst="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79760" y="3213000"/>
            <a:ext cx="623880" cy="444600"/>
          </a:xfrm>
          <a:prstGeom prst="rect">
            <a:avLst/>
          </a:prstGeom>
          <a:solidFill>
            <a:srgbClr val="b0b0b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1080" y="3213000"/>
            <a:ext cx="623880" cy="444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0960" y="3213000"/>
            <a:ext cx="623880" cy="444600"/>
          </a:xfrm>
          <a:prstGeom prst="rect">
            <a:avLst/>
          </a:prstGeom>
          <a:solidFill>
            <a:srgbClr val="d0d0d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24520" y="3213000"/>
            <a:ext cx="623880" cy="444600"/>
          </a:xfrm>
          <a:prstGeom prst="rect">
            <a:avLst/>
          </a:prstGeom>
          <a:solidFill>
            <a:srgbClr val="e0e0e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53240" y="3213000"/>
            <a:ext cx="623880" cy="444600"/>
          </a:xfrm>
          <a:prstGeom prst="rect">
            <a:avLst/>
          </a:prstGeom>
          <a:solidFill>
            <a:srgbClr val="f0f0f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562120"/>
            <a:ext cx="623880" cy="442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91320" y="3213000"/>
            <a:ext cx="623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0000" y="2438280"/>
            <a:ext cx="622440" cy="654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4164120"/>
            <a:ext cx="622440" cy="6494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5027760"/>
            <a:ext cx="622440" cy="6444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3295800"/>
            <a:ext cx="622440" cy="654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57520" y="2438280"/>
            <a:ext cx="622440" cy="654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57520" y="4164120"/>
            <a:ext cx="622440" cy="649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7520" y="5027760"/>
            <a:ext cx="622440" cy="64440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7520" y="3295800"/>
            <a:ext cx="622440" cy="6541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14680" y="2438280"/>
            <a:ext cx="622440" cy="654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14680" y="4164120"/>
            <a:ext cx="622440" cy="6494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14680" y="5027760"/>
            <a:ext cx="622440" cy="6444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14680" y="3295800"/>
            <a:ext cx="622440" cy="654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71840" y="2438280"/>
            <a:ext cx="622440" cy="654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71840" y="4164120"/>
            <a:ext cx="622440" cy="649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71840" y="5027760"/>
            <a:ext cx="622440" cy="6444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71840" y="3295800"/>
            <a:ext cx="622440" cy="6541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2438280"/>
            <a:ext cx="620640" cy="65412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30800" y="4164120"/>
            <a:ext cx="620640" cy="64944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30800" y="5027760"/>
            <a:ext cx="620640" cy="6444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30800" y="3295800"/>
            <a:ext cx="620640" cy="6541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87960" y="2438280"/>
            <a:ext cx="622440" cy="6541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7960" y="4164120"/>
            <a:ext cx="622440" cy="64944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7960" y="5027760"/>
            <a:ext cx="622440" cy="64440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87960" y="3295800"/>
            <a:ext cx="622440" cy="6541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5120" y="2438280"/>
            <a:ext cx="622440" cy="6541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45120" y="4164120"/>
            <a:ext cx="622440" cy="64944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5120" y="5027760"/>
            <a:ext cx="622440" cy="6444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45120" y="3295800"/>
            <a:ext cx="622440" cy="6541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02280" y="2438280"/>
            <a:ext cx="622440" cy="6541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02280" y="4164120"/>
            <a:ext cx="622440" cy="64944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02280" y="5027760"/>
            <a:ext cx="622440" cy="64440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02280" y="3295800"/>
            <a:ext cx="622440" cy="65412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59800" y="2438280"/>
            <a:ext cx="622440" cy="65412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759800" y="4164120"/>
            <a:ext cx="622440" cy="64944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759800" y="5027760"/>
            <a:ext cx="622440" cy="64440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59800" y="3295800"/>
            <a:ext cx="622440" cy="65412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ill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Print Me</dc:title>
</cp:coreProperties>
</file>