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32840" cy="684540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130320"/>
            <a:ext cx="9131760" cy="6598080"/>
          </a:xfrm>
          <a:custGeom>
            <a:avLst/>
            <a:gdLst/>
            <a:ahLst/>
            <a:rect l="0" t="0" r="r" b="b"/>
            <a:pathLst>
              <a:path w="25366" h="18328">
                <a:moveTo>
                  <a:pt x="25366" y="17114"/>
                </a:moveTo>
                <a:lnTo>
                  <a:pt x="3" y="17109"/>
                </a:lnTo>
                <a:lnTo>
                  <a:pt x="3" y="17373"/>
                </a:lnTo>
                <a:lnTo>
                  <a:pt x="25366" y="17373"/>
                </a:lnTo>
                <a:lnTo>
                  <a:pt x="25366" y="17585"/>
                </a:lnTo>
                <a:lnTo>
                  <a:pt x="3" y="17589"/>
                </a:lnTo>
                <a:lnTo>
                  <a:pt x="3" y="17849"/>
                </a:lnTo>
                <a:lnTo>
                  <a:pt x="25366" y="17849"/>
                </a:lnTo>
                <a:lnTo>
                  <a:pt x="25366" y="18064"/>
                </a:lnTo>
                <a:lnTo>
                  <a:pt x="3" y="18060"/>
                </a:lnTo>
                <a:lnTo>
                  <a:pt x="3" y="18328"/>
                </a:lnTo>
                <a:lnTo>
                  <a:pt x="25366" y="18328"/>
                </a:lnTo>
                <a:lnTo>
                  <a:pt x="25366" y="0"/>
                </a:lnTo>
                <a:lnTo>
                  <a:pt x="3" y="0"/>
                </a:lnTo>
                <a:lnTo>
                  <a:pt x="3" y="268"/>
                </a:lnTo>
                <a:lnTo>
                  <a:pt x="25366" y="264"/>
                </a:lnTo>
                <a:lnTo>
                  <a:pt x="25366" y="475"/>
                </a:lnTo>
                <a:lnTo>
                  <a:pt x="3" y="475"/>
                </a:lnTo>
                <a:lnTo>
                  <a:pt x="3" y="739"/>
                </a:lnTo>
                <a:lnTo>
                  <a:pt x="25366" y="743"/>
                </a:lnTo>
                <a:lnTo>
                  <a:pt x="25366" y="950"/>
                </a:lnTo>
                <a:lnTo>
                  <a:pt x="3" y="950"/>
                </a:lnTo>
                <a:lnTo>
                  <a:pt x="3" y="1214"/>
                </a:lnTo>
                <a:lnTo>
                  <a:pt x="25366" y="1218"/>
                </a:lnTo>
                <a:lnTo>
                  <a:pt x="25366" y="1425"/>
                </a:lnTo>
                <a:lnTo>
                  <a:pt x="3" y="1425"/>
                </a:lnTo>
                <a:lnTo>
                  <a:pt x="3" y="1689"/>
                </a:lnTo>
                <a:lnTo>
                  <a:pt x="25366" y="1689"/>
                </a:lnTo>
                <a:lnTo>
                  <a:pt x="25366" y="1900"/>
                </a:lnTo>
                <a:lnTo>
                  <a:pt x="3" y="1900"/>
                </a:lnTo>
                <a:lnTo>
                  <a:pt x="3" y="2164"/>
                </a:lnTo>
                <a:lnTo>
                  <a:pt x="25366" y="2169"/>
                </a:lnTo>
                <a:lnTo>
                  <a:pt x="25366" y="2376"/>
                </a:lnTo>
                <a:lnTo>
                  <a:pt x="3" y="2376"/>
                </a:lnTo>
                <a:lnTo>
                  <a:pt x="3" y="2640"/>
                </a:lnTo>
                <a:lnTo>
                  <a:pt x="25366" y="2640"/>
                </a:lnTo>
                <a:lnTo>
                  <a:pt x="25366" y="2851"/>
                </a:lnTo>
                <a:lnTo>
                  <a:pt x="3" y="2851"/>
                </a:lnTo>
                <a:lnTo>
                  <a:pt x="3" y="3115"/>
                </a:lnTo>
                <a:lnTo>
                  <a:pt x="25366" y="3119"/>
                </a:lnTo>
                <a:lnTo>
                  <a:pt x="25366" y="3326"/>
                </a:lnTo>
                <a:lnTo>
                  <a:pt x="3" y="3326"/>
                </a:lnTo>
                <a:lnTo>
                  <a:pt x="3" y="3590"/>
                </a:lnTo>
                <a:lnTo>
                  <a:pt x="25366" y="3594"/>
                </a:lnTo>
                <a:lnTo>
                  <a:pt x="25366" y="3806"/>
                </a:lnTo>
                <a:lnTo>
                  <a:pt x="3" y="3801"/>
                </a:lnTo>
                <a:lnTo>
                  <a:pt x="3" y="4070"/>
                </a:lnTo>
                <a:lnTo>
                  <a:pt x="25366" y="4070"/>
                </a:lnTo>
                <a:lnTo>
                  <a:pt x="25366" y="4281"/>
                </a:lnTo>
                <a:lnTo>
                  <a:pt x="3" y="4276"/>
                </a:lnTo>
                <a:lnTo>
                  <a:pt x="3" y="4540"/>
                </a:lnTo>
                <a:lnTo>
                  <a:pt x="25366" y="4545"/>
                </a:lnTo>
                <a:lnTo>
                  <a:pt x="25366" y="4753"/>
                </a:lnTo>
                <a:lnTo>
                  <a:pt x="3" y="4753"/>
                </a:lnTo>
                <a:lnTo>
                  <a:pt x="3" y="5017"/>
                </a:lnTo>
                <a:lnTo>
                  <a:pt x="25366" y="5017"/>
                </a:lnTo>
                <a:lnTo>
                  <a:pt x="25366" y="5228"/>
                </a:lnTo>
                <a:lnTo>
                  <a:pt x="3" y="5228"/>
                </a:lnTo>
                <a:lnTo>
                  <a:pt x="3" y="5492"/>
                </a:lnTo>
                <a:lnTo>
                  <a:pt x="25366" y="5492"/>
                </a:lnTo>
                <a:lnTo>
                  <a:pt x="25366" y="5703"/>
                </a:lnTo>
                <a:lnTo>
                  <a:pt x="3" y="5708"/>
                </a:lnTo>
                <a:lnTo>
                  <a:pt x="3" y="5972"/>
                </a:lnTo>
                <a:lnTo>
                  <a:pt x="25366" y="5967"/>
                </a:lnTo>
                <a:lnTo>
                  <a:pt x="25366" y="6178"/>
                </a:lnTo>
                <a:lnTo>
                  <a:pt x="3" y="6178"/>
                </a:lnTo>
                <a:lnTo>
                  <a:pt x="3" y="6447"/>
                </a:lnTo>
                <a:lnTo>
                  <a:pt x="25366" y="6442"/>
                </a:lnTo>
                <a:lnTo>
                  <a:pt x="25366" y="6654"/>
                </a:lnTo>
                <a:lnTo>
                  <a:pt x="3" y="6654"/>
                </a:lnTo>
                <a:lnTo>
                  <a:pt x="3" y="6918"/>
                </a:lnTo>
                <a:lnTo>
                  <a:pt x="25366" y="6918"/>
                </a:lnTo>
                <a:lnTo>
                  <a:pt x="25366" y="7129"/>
                </a:lnTo>
                <a:lnTo>
                  <a:pt x="3" y="7129"/>
                </a:lnTo>
                <a:lnTo>
                  <a:pt x="3" y="7393"/>
                </a:lnTo>
                <a:lnTo>
                  <a:pt x="25366" y="7397"/>
                </a:lnTo>
                <a:lnTo>
                  <a:pt x="25366" y="7604"/>
                </a:lnTo>
                <a:lnTo>
                  <a:pt x="3" y="7604"/>
                </a:lnTo>
                <a:lnTo>
                  <a:pt x="3" y="7872"/>
                </a:lnTo>
                <a:lnTo>
                  <a:pt x="25366" y="7872"/>
                </a:lnTo>
                <a:lnTo>
                  <a:pt x="25366" y="8079"/>
                </a:lnTo>
                <a:lnTo>
                  <a:pt x="3" y="8079"/>
                </a:lnTo>
                <a:lnTo>
                  <a:pt x="3" y="8343"/>
                </a:lnTo>
                <a:lnTo>
                  <a:pt x="25366" y="8343"/>
                </a:lnTo>
                <a:lnTo>
                  <a:pt x="25366" y="8554"/>
                </a:lnTo>
                <a:lnTo>
                  <a:pt x="3" y="8554"/>
                </a:lnTo>
                <a:lnTo>
                  <a:pt x="3" y="8823"/>
                </a:lnTo>
                <a:lnTo>
                  <a:pt x="25366" y="8818"/>
                </a:lnTo>
                <a:lnTo>
                  <a:pt x="25366" y="9030"/>
                </a:lnTo>
                <a:lnTo>
                  <a:pt x="3" y="9030"/>
                </a:lnTo>
                <a:lnTo>
                  <a:pt x="3" y="9298"/>
                </a:lnTo>
                <a:lnTo>
                  <a:pt x="25366" y="9294"/>
                </a:lnTo>
                <a:lnTo>
                  <a:pt x="25366" y="9509"/>
                </a:lnTo>
                <a:lnTo>
                  <a:pt x="3" y="9505"/>
                </a:lnTo>
                <a:lnTo>
                  <a:pt x="3" y="9769"/>
                </a:lnTo>
                <a:lnTo>
                  <a:pt x="25366" y="9769"/>
                </a:lnTo>
                <a:lnTo>
                  <a:pt x="25366" y="9980"/>
                </a:lnTo>
                <a:lnTo>
                  <a:pt x="3" y="9980"/>
                </a:lnTo>
                <a:lnTo>
                  <a:pt x="3" y="10244"/>
                </a:lnTo>
                <a:lnTo>
                  <a:pt x="25366" y="10244"/>
                </a:lnTo>
                <a:lnTo>
                  <a:pt x="25366" y="10455"/>
                </a:lnTo>
                <a:lnTo>
                  <a:pt x="3" y="10455"/>
                </a:lnTo>
                <a:lnTo>
                  <a:pt x="3" y="10724"/>
                </a:lnTo>
                <a:lnTo>
                  <a:pt x="25366" y="10719"/>
                </a:lnTo>
                <a:lnTo>
                  <a:pt x="25366" y="10931"/>
                </a:lnTo>
                <a:lnTo>
                  <a:pt x="3" y="10931"/>
                </a:lnTo>
                <a:lnTo>
                  <a:pt x="3" y="11199"/>
                </a:lnTo>
                <a:lnTo>
                  <a:pt x="25366" y="11199"/>
                </a:lnTo>
                <a:lnTo>
                  <a:pt x="25366" y="11406"/>
                </a:lnTo>
                <a:lnTo>
                  <a:pt x="3" y="11406"/>
                </a:lnTo>
                <a:lnTo>
                  <a:pt x="3" y="11670"/>
                </a:lnTo>
                <a:lnTo>
                  <a:pt x="25366" y="11670"/>
                </a:lnTo>
                <a:lnTo>
                  <a:pt x="25366" y="11881"/>
                </a:lnTo>
                <a:lnTo>
                  <a:pt x="3" y="11881"/>
                </a:lnTo>
                <a:lnTo>
                  <a:pt x="3" y="12149"/>
                </a:lnTo>
                <a:lnTo>
                  <a:pt x="25366" y="12145"/>
                </a:lnTo>
                <a:lnTo>
                  <a:pt x="25366" y="12356"/>
                </a:lnTo>
                <a:lnTo>
                  <a:pt x="3" y="12356"/>
                </a:lnTo>
                <a:lnTo>
                  <a:pt x="3" y="12620"/>
                </a:lnTo>
                <a:lnTo>
                  <a:pt x="25366" y="12620"/>
                </a:lnTo>
                <a:lnTo>
                  <a:pt x="25366" y="12836"/>
                </a:lnTo>
                <a:lnTo>
                  <a:pt x="0" y="12836"/>
                </a:lnTo>
                <a:lnTo>
                  <a:pt x="3" y="13100"/>
                </a:lnTo>
                <a:lnTo>
                  <a:pt x="25366" y="13095"/>
                </a:lnTo>
                <a:lnTo>
                  <a:pt x="25366" y="13307"/>
                </a:lnTo>
                <a:lnTo>
                  <a:pt x="3" y="13307"/>
                </a:lnTo>
                <a:lnTo>
                  <a:pt x="3" y="13571"/>
                </a:lnTo>
                <a:lnTo>
                  <a:pt x="25366" y="13571"/>
                </a:lnTo>
                <a:lnTo>
                  <a:pt x="25366" y="13783"/>
                </a:lnTo>
                <a:lnTo>
                  <a:pt x="3" y="13783"/>
                </a:lnTo>
                <a:lnTo>
                  <a:pt x="3" y="14047"/>
                </a:lnTo>
                <a:lnTo>
                  <a:pt x="25366" y="14047"/>
                </a:lnTo>
                <a:lnTo>
                  <a:pt x="25366" y="14258"/>
                </a:lnTo>
                <a:lnTo>
                  <a:pt x="3" y="14258"/>
                </a:lnTo>
                <a:lnTo>
                  <a:pt x="3" y="14527"/>
                </a:lnTo>
                <a:lnTo>
                  <a:pt x="25366" y="14522"/>
                </a:lnTo>
                <a:lnTo>
                  <a:pt x="25366" y="14733"/>
                </a:lnTo>
                <a:lnTo>
                  <a:pt x="3" y="14733"/>
                </a:lnTo>
                <a:lnTo>
                  <a:pt x="3" y="14997"/>
                </a:lnTo>
                <a:lnTo>
                  <a:pt x="25366" y="15002"/>
                </a:lnTo>
                <a:lnTo>
                  <a:pt x="25366" y="15213"/>
                </a:lnTo>
                <a:lnTo>
                  <a:pt x="3" y="15209"/>
                </a:lnTo>
                <a:lnTo>
                  <a:pt x="3" y="15477"/>
                </a:lnTo>
                <a:lnTo>
                  <a:pt x="25366" y="15473"/>
                </a:lnTo>
                <a:lnTo>
                  <a:pt x="25366" y="15688"/>
                </a:lnTo>
                <a:lnTo>
                  <a:pt x="3" y="15688"/>
                </a:lnTo>
                <a:lnTo>
                  <a:pt x="3" y="15948"/>
                </a:lnTo>
                <a:lnTo>
                  <a:pt x="25366" y="15952"/>
                </a:lnTo>
                <a:lnTo>
                  <a:pt x="25366" y="16163"/>
                </a:lnTo>
                <a:lnTo>
                  <a:pt x="3" y="16159"/>
                </a:lnTo>
                <a:lnTo>
                  <a:pt x="3" y="16427"/>
                </a:lnTo>
                <a:lnTo>
                  <a:pt x="25366" y="16427"/>
                </a:lnTo>
                <a:lnTo>
                  <a:pt x="25366" y="16639"/>
                </a:lnTo>
                <a:lnTo>
                  <a:pt x="3" y="16639"/>
                </a:lnTo>
                <a:lnTo>
                  <a:pt x="3" y="16903"/>
                </a:lnTo>
                <a:lnTo>
                  <a:pt x="25366" y="16903"/>
                </a:lnTo>
                <a:lnTo>
                  <a:pt x="25366" y="17114"/>
                </a:lnTo>
                <a:close/>
              </a:path>
            </a:pathLst>
          </a:custGeom>
          <a:solidFill>
            <a:srgbClr val="dadad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d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lor sit amet consectetuer adipiscing elit sed di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-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onummy nibh euis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ncidunt 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oreet dol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-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gna aliqu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