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680" cy="6851880"/>
            <a:chOff x="0" y="0"/>
            <a:chExt cx="9139680" cy="685188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2840" cy="6851880"/>
              <a:chOff x="0" y="0"/>
              <a:chExt cx="9132840" cy="68518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4557600" cy="343224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9284"/>
                  </a:gs>
                </a:gsLst>
                <a:path path="rect">
                  <a:fillToRect l="0" t="0" r="10000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432240"/>
                <a:ext cx="4556160" cy="341964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9284"/>
                  </a:gs>
                </a:gsLst>
                <a:path path="rect">
                  <a:fillToRect l="0" t="100000" r="10000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575240" y="0"/>
                <a:ext cx="4557600" cy="343224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9284"/>
                  </a:gs>
                </a:gsLst>
                <a:path path="rect">
                  <a:fillToRect l="100000" t="0" r="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575240" y="3432240"/>
                <a:ext cx="4557600" cy="341964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9284"/>
                  </a:gs>
                </a:gsLst>
                <a:path path="rect">
                  <a:fillToRect l="100000" t="100000" r="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285840" y="324000"/>
              <a:ext cx="8578800" cy="621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0600" y="419040"/>
              <a:ext cx="8369280" cy="60260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6560" y="500040"/>
              <a:ext cx="8211960" cy="585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0" y="0"/>
              <a:ext cx="9139680" cy="6851880"/>
              <a:chOff x="0" y="0"/>
              <a:chExt cx="9139680" cy="685188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4106880" y="0"/>
                <a:ext cx="898920" cy="533880"/>
                <a:chOff x="4106880" y="0"/>
                <a:chExt cx="898920" cy="533880"/>
              </a:xfrm>
            </p:grpSpPr>
            <p:grpSp>
              <p:nvGrpSpPr>
                <p:cNvPr id="11" name=""/>
                <p:cNvGrpSpPr/>
                <p:nvPr/>
              </p:nvGrpSpPr>
              <p:grpSpPr>
                <a:xfrm>
                  <a:off x="4705200" y="0"/>
                  <a:ext cx="300600" cy="533880"/>
                  <a:chOff x="4705200" y="0"/>
                  <a:chExt cx="300600" cy="533880"/>
                </a:xfrm>
              </p:grpSpPr>
              <p:sp>
                <p:nvSpPr>
                  <p:cNvPr id="12" name=""/>
                  <p:cNvSpPr/>
                  <p:nvPr/>
                </p:nvSpPr>
                <p:spPr>
                  <a:xfrm>
                    <a:off x="485460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420" y="0"/>
                        </a:moveTo>
                        <a:lnTo>
                          <a:pt x="420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20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05200" y="0"/>
                    <a:ext cx="1497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16" y="1483"/>
                        </a:lnTo>
                        <a:lnTo>
                          <a:pt x="4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" name=""/>
                <p:cNvGrpSpPr/>
                <p:nvPr/>
              </p:nvGrpSpPr>
              <p:grpSpPr>
                <a:xfrm>
                  <a:off x="4406760" y="0"/>
                  <a:ext cx="299160" cy="533880"/>
                  <a:chOff x="4406760" y="0"/>
                  <a:chExt cx="299160" cy="533880"/>
                </a:xfrm>
              </p:grpSpPr>
              <p:sp>
                <p:nvSpPr>
                  <p:cNvPr id="15" name=""/>
                  <p:cNvSpPr/>
                  <p:nvPr/>
                </p:nvSpPr>
                <p:spPr>
                  <a:xfrm>
                    <a:off x="4556160" y="0"/>
                    <a:ext cx="1497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83">
                        <a:moveTo>
                          <a:pt x="416" y="0"/>
                        </a:moveTo>
                        <a:lnTo>
                          <a:pt x="416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16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4406760" y="0"/>
                    <a:ext cx="1497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16" y="1483"/>
                        </a:lnTo>
                        <a:lnTo>
                          <a:pt x="4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4106880" y="0"/>
                  <a:ext cx="300600" cy="533880"/>
                  <a:chOff x="4106880" y="0"/>
                  <a:chExt cx="300600" cy="53388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4257720" y="0"/>
                    <a:ext cx="1497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83">
                        <a:moveTo>
                          <a:pt x="416" y="0"/>
                        </a:moveTo>
                        <a:lnTo>
                          <a:pt x="416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16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410688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20" y="1483"/>
                        </a:lnTo>
                        <a:lnTo>
                          <a:pt x="4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" name=""/>
              <p:cNvGrpSpPr/>
              <p:nvPr/>
            </p:nvGrpSpPr>
            <p:grpSpPr>
              <a:xfrm>
                <a:off x="4106880" y="6330960"/>
                <a:ext cx="898920" cy="520920"/>
                <a:chOff x="4106880" y="6330960"/>
                <a:chExt cx="898920" cy="520920"/>
              </a:xfrm>
            </p:grpSpPr>
            <p:grpSp>
              <p:nvGrpSpPr>
                <p:cNvPr id="21" name=""/>
                <p:cNvGrpSpPr/>
                <p:nvPr/>
              </p:nvGrpSpPr>
              <p:grpSpPr>
                <a:xfrm>
                  <a:off x="4705200" y="6330960"/>
                  <a:ext cx="300600" cy="520920"/>
                  <a:chOff x="4705200" y="6330960"/>
                  <a:chExt cx="300600" cy="5209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4854600" y="633096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420" y="1447"/>
                        </a:moveTo>
                        <a:lnTo>
                          <a:pt x="420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20" y="1447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4705200" y="6330960"/>
                    <a:ext cx="1497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16" y="0"/>
                        </a:lnTo>
                        <a:lnTo>
                          <a:pt x="416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4406760" y="6330960"/>
                  <a:ext cx="299160" cy="520920"/>
                  <a:chOff x="4406760" y="6330960"/>
                  <a:chExt cx="299160" cy="5209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4556160" y="6330960"/>
                    <a:ext cx="1497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47">
                        <a:moveTo>
                          <a:pt x="416" y="1447"/>
                        </a:moveTo>
                        <a:lnTo>
                          <a:pt x="416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16" y="1447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4406760" y="6330960"/>
                    <a:ext cx="1497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16" y="0"/>
                        </a:lnTo>
                        <a:lnTo>
                          <a:pt x="416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4106880" y="6330960"/>
                  <a:ext cx="300600" cy="520920"/>
                  <a:chOff x="4106880" y="6330960"/>
                  <a:chExt cx="300600" cy="52092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>
                    <a:off x="4257720" y="6330960"/>
                    <a:ext cx="1497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47">
                        <a:moveTo>
                          <a:pt x="416" y="1447"/>
                        </a:moveTo>
                        <a:lnTo>
                          <a:pt x="416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16" y="1447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4106880" y="633096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20" y="0"/>
                        </a:lnTo>
                        <a:lnTo>
                          <a:pt x="420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0" y="2913120"/>
                <a:ext cx="495720" cy="1057320"/>
                <a:chOff x="0" y="2913120"/>
                <a:chExt cx="495720" cy="1057320"/>
              </a:xfrm>
            </p:grpSpPr>
            <p:grpSp>
              <p:nvGrpSpPr>
                <p:cNvPr id="31" name=""/>
                <p:cNvGrpSpPr/>
                <p:nvPr/>
              </p:nvGrpSpPr>
              <p:grpSpPr>
                <a:xfrm>
                  <a:off x="0" y="3618000"/>
                  <a:ext cx="495720" cy="352440"/>
                  <a:chOff x="0" y="3618000"/>
                  <a:chExt cx="495720" cy="35244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0" y="379404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0" y="361800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0" y="3265560"/>
                  <a:ext cx="495720" cy="352440"/>
                  <a:chOff x="0" y="3265560"/>
                  <a:chExt cx="495720" cy="35244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0" y="344160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0" y="326556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0" y="2913120"/>
                  <a:ext cx="495720" cy="352440"/>
                  <a:chOff x="0" y="2913120"/>
                  <a:chExt cx="495720" cy="35244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0" y="308916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0" y="291312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" name=""/>
              <p:cNvGrpSpPr/>
              <p:nvPr/>
            </p:nvGrpSpPr>
            <p:grpSpPr>
              <a:xfrm>
                <a:off x="8636040" y="2927520"/>
                <a:ext cx="503640" cy="1009800"/>
                <a:chOff x="8636040" y="2927520"/>
                <a:chExt cx="503640" cy="1009800"/>
              </a:xfrm>
            </p:grpSpPr>
            <p:grpSp>
              <p:nvGrpSpPr>
                <p:cNvPr id="41" name=""/>
                <p:cNvGrpSpPr/>
                <p:nvPr/>
              </p:nvGrpSpPr>
              <p:grpSpPr>
                <a:xfrm>
                  <a:off x="8636040" y="3600360"/>
                  <a:ext cx="503640" cy="336960"/>
                  <a:chOff x="8636040" y="3600360"/>
                  <a:chExt cx="503640" cy="336960"/>
                </a:xfrm>
              </p:grpSpPr>
              <p:sp>
                <p:nvSpPr>
                  <p:cNvPr id="42" name=""/>
                  <p:cNvSpPr/>
                  <p:nvPr/>
                </p:nvSpPr>
                <p:spPr>
                  <a:xfrm>
                    <a:off x="8636040" y="376884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636040" y="360036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" name=""/>
                <p:cNvGrpSpPr/>
                <p:nvPr/>
              </p:nvGrpSpPr>
              <p:grpSpPr>
                <a:xfrm>
                  <a:off x="8636040" y="3263760"/>
                  <a:ext cx="503640" cy="336960"/>
                  <a:chOff x="8636040" y="3263760"/>
                  <a:chExt cx="503640" cy="3369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8636040" y="343224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636040" y="326376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" name=""/>
                <p:cNvGrpSpPr/>
                <p:nvPr/>
              </p:nvGrpSpPr>
              <p:grpSpPr>
                <a:xfrm>
                  <a:off x="8636040" y="2927520"/>
                  <a:ext cx="503640" cy="336600"/>
                  <a:chOff x="8636040" y="2927520"/>
                  <a:chExt cx="503640" cy="33660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8636040" y="309564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8636040" y="292752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00dfc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