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45040" cy="2594160"/>
            <a:chOff x="0" y="0"/>
            <a:chExt cx="3245040" cy="2594160"/>
          </a:xfrm>
        </p:grpSpPr>
        <p:sp>
          <p:nvSpPr>
            <p:cNvPr id="1" name=""/>
            <p:cNvSpPr/>
            <p:nvPr/>
          </p:nvSpPr>
          <p:spPr>
            <a:xfrm>
              <a:off x="19080" y="101520"/>
              <a:ext cx="336960" cy="298800"/>
            </a:xfrm>
            <a:custGeom>
              <a:avLst/>
              <a:gdLst/>
              <a:ahLst/>
              <a:rect l="0" t="0" r="r" b="b"/>
              <a:pathLst>
                <a:path w="936" h="830">
                  <a:moveTo>
                    <a:pt x="848" y="785"/>
                  </a:moveTo>
                  <a:lnTo>
                    <a:pt x="848" y="768"/>
                  </a:lnTo>
                  <a:lnTo>
                    <a:pt x="866" y="759"/>
                  </a:lnTo>
                  <a:lnTo>
                    <a:pt x="883" y="750"/>
                  </a:lnTo>
                  <a:lnTo>
                    <a:pt x="901" y="741"/>
                  </a:lnTo>
                  <a:lnTo>
                    <a:pt x="919" y="733"/>
                  </a:lnTo>
                  <a:lnTo>
                    <a:pt x="928" y="715"/>
                  </a:lnTo>
                  <a:lnTo>
                    <a:pt x="936" y="688"/>
                  </a:lnTo>
                  <a:lnTo>
                    <a:pt x="936" y="671"/>
                  </a:lnTo>
                  <a:lnTo>
                    <a:pt x="928" y="636"/>
                  </a:lnTo>
                  <a:lnTo>
                    <a:pt x="928" y="618"/>
                  </a:lnTo>
                  <a:lnTo>
                    <a:pt x="919" y="600"/>
                  </a:lnTo>
                  <a:lnTo>
                    <a:pt x="910" y="583"/>
                  </a:lnTo>
                  <a:lnTo>
                    <a:pt x="892" y="565"/>
                  </a:lnTo>
                  <a:lnTo>
                    <a:pt x="875" y="556"/>
                  </a:lnTo>
                  <a:lnTo>
                    <a:pt x="866" y="538"/>
                  </a:lnTo>
                  <a:lnTo>
                    <a:pt x="839" y="521"/>
                  </a:lnTo>
                  <a:lnTo>
                    <a:pt x="831" y="503"/>
                  </a:lnTo>
                  <a:lnTo>
                    <a:pt x="813" y="486"/>
                  </a:lnTo>
                  <a:lnTo>
                    <a:pt x="804" y="468"/>
                  </a:lnTo>
                  <a:lnTo>
                    <a:pt x="795" y="450"/>
                  </a:lnTo>
                  <a:lnTo>
                    <a:pt x="778" y="424"/>
                  </a:lnTo>
                  <a:lnTo>
                    <a:pt x="769" y="405"/>
                  </a:lnTo>
                  <a:lnTo>
                    <a:pt x="751" y="379"/>
                  </a:lnTo>
                  <a:lnTo>
                    <a:pt x="742" y="361"/>
                  </a:lnTo>
                  <a:lnTo>
                    <a:pt x="742" y="317"/>
                  </a:lnTo>
                  <a:lnTo>
                    <a:pt x="734" y="299"/>
                  </a:lnTo>
                  <a:lnTo>
                    <a:pt x="725" y="282"/>
                  </a:lnTo>
                  <a:lnTo>
                    <a:pt x="707" y="264"/>
                  </a:lnTo>
                  <a:lnTo>
                    <a:pt x="697" y="246"/>
                  </a:lnTo>
                  <a:lnTo>
                    <a:pt x="680" y="238"/>
                  </a:lnTo>
                  <a:lnTo>
                    <a:pt x="671" y="220"/>
                  </a:lnTo>
                  <a:lnTo>
                    <a:pt x="653" y="211"/>
                  </a:lnTo>
                  <a:lnTo>
                    <a:pt x="627" y="185"/>
                  </a:lnTo>
                  <a:lnTo>
                    <a:pt x="609" y="167"/>
                  </a:lnTo>
                  <a:lnTo>
                    <a:pt x="600" y="149"/>
                  </a:lnTo>
                  <a:lnTo>
                    <a:pt x="556" y="105"/>
                  </a:lnTo>
                  <a:lnTo>
                    <a:pt x="547" y="88"/>
                  </a:lnTo>
                  <a:lnTo>
                    <a:pt x="521" y="70"/>
                  </a:lnTo>
                  <a:lnTo>
                    <a:pt x="503" y="61"/>
                  </a:lnTo>
                  <a:lnTo>
                    <a:pt x="477" y="35"/>
                  </a:lnTo>
                  <a:lnTo>
                    <a:pt x="459" y="26"/>
                  </a:lnTo>
                  <a:lnTo>
                    <a:pt x="450" y="8"/>
                  </a:lnTo>
                  <a:lnTo>
                    <a:pt x="415" y="0"/>
                  </a:lnTo>
                  <a:lnTo>
                    <a:pt x="397" y="0"/>
                  </a:lnTo>
                  <a:lnTo>
                    <a:pt x="362" y="0"/>
                  </a:lnTo>
                  <a:lnTo>
                    <a:pt x="344" y="0"/>
                  </a:lnTo>
                  <a:lnTo>
                    <a:pt x="327" y="0"/>
                  </a:lnTo>
                  <a:lnTo>
                    <a:pt x="309" y="0"/>
                  </a:lnTo>
                  <a:lnTo>
                    <a:pt x="292" y="0"/>
                  </a:lnTo>
                  <a:lnTo>
                    <a:pt x="283" y="17"/>
                  </a:lnTo>
                  <a:lnTo>
                    <a:pt x="265" y="26"/>
                  </a:lnTo>
                  <a:lnTo>
                    <a:pt x="247" y="35"/>
                  </a:lnTo>
                  <a:lnTo>
                    <a:pt x="229" y="44"/>
                  </a:lnTo>
                  <a:lnTo>
                    <a:pt x="220" y="61"/>
                  </a:lnTo>
                  <a:lnTo>
                    <a:pt x="202" y="70"/>
                  </a:lnTo>
                  <a:lnTo>
                    <a:pt x="185" y="79"/>
                  </a:lnTo>
                  <a:lnTo>
                    <a:pt x="176" y="97"/>
                  </a:lnTo>
                  <a:lnTo>
                    <a:pt x="158" y="105"/>
                  </a:lnTo>
                  <a:lnTo>
                    <a:pt x="141" y="123"/>
                  </a:lnTo>
                  <a:lnTo>
                    <a:pt x="114" y="149"/>
                  </a:lnTo>
                  <a:lnTo>
                    <a:pt x="97" y="158"/>
                  </a:lnTo>
                  <a:lnTo>
                    <a:pt x="88" y="176"/>
                  </a:lnTo>
                  <a:lnTo>
                    <a:pt x="70" y="194"/>
                  </a:lnTo>
                  <a:lnTo>
                    <a:pt x="61" y="211"/>
                  </a:lnTo>
                  <a:lnTo>
                    <a:pt x="52" y="229"/>
                  </a:lnTo>
                  <a:lnTo>
                    <a:pt x="35" y="238"/>
                  </a:lnTo>
                  <a:lnTo>
                    <a:pt x="26" y="255"/>
                  </a:lnTo>
                  <a:lnTo>
                    <a:pt x="17" y="273"/>
                  </a:lnTo>
                  <a:lnTo>
                    <a:pt x="17" y="291"/>
                  </a:lnTo>
                  <a:lnTo>
                    <a:pt x="8" y="308"/>
                  </a:lnTo>
                  <a:lnTo>
                    <a:pt x="8" y="326"/>
                  </a:lnTo>
                  <a:lnTo>
                    <a:pt x="0" y="352"/>
                  </a:lnTo>
                  <a:lnTo>
                    <a:pt x="0" y="370"/>
                  </a:lnTo>
                  <a:lnTo>
                    <a:pt x="0" y="396"/>
                  </a:lnTo>
                  <a:lnTo>
                    <a:pt x="8" y="414"/>
                  </a:lnTo>
                  <a:lnTo>
                    <a:pt x="17" y="433"/>
                  </a:lnTo>
                  <a:lnTo>
                    <a:pt x="26" y="450"/>
                  </a:lnTo>
                  <a:lnTo>
                    <a:pt x="44" y="459"/>
                  </a:lnTo>
                  <a:lnTo>
                    <a:pt x="61" y="486"/>
                  </a:lnTo>
                  <a:lnTo>
                    <a:pt x="61" y="503"/>
                  </a:lnTo>
                  <a:lnTo>
                    <a:pt x="70" y="521"/>
                  </a:lnTo>
                  <a:lnTo>
                    <a:pt x="88" y="530"/>
                  </a:lnTo>
                  <a:lnTo>
                    <a:pt x="97" y="547"/>
                  </a:lnTo>
                  <a:lnTo>
                    <a:pt x="114" y="565"/>
                  </a:lnTo>
                  <a:lnTo>
                    <a:pt x="149" y="591"/>
                  </a:lnTo>
                  <a:lnTo>
                    <a:pt x="167" y="600"/>
                  </a:lnTo>
                  <a:lnTo>
                    <a:pt x="185" y="609"/>
                  </a:lnTo>
                  <a:lnTo>
                    <a:pt x="202" y="618"/>
                  </a:lnTo>
                  <a:lnTo>
                    <a:pt x="220" y="627"/>
                  </a:lnTo>
                  <a:lnTo>
                    <a:pt x="247" y="644"/>
                  </a:lnTo>
                  <a:lnTo>
                    <a:pt x="265" y="653"/>
                  </a:lnTo>
                  <a:lnTo>
                    <a:pt x="300" y="662"/>
                  </a:lnTo>
                  <a:lnTo>
                    <a:pt x="318" y="662"/>
                  </a:lnTo>
                  <a:lnTo>
                    <a:pt x="336" y="671"/>
                  </a:lnTo>
                  <a:lnTo>
                    <a:pt x="353" y="680"/>
                  </a:lnTo>
                  <a:lnTo>
                    <a:pt x="371" y="697"/>
                  </a:lnTo>
                  <a:lnTo>
                    <a:pt x="389" y="706"/>
                  </a:lnTo>
                  <a:lnTo>
                    <a:pt x="424" y="724"/>
                  </a:lnTo>
                  <a:lnTo>
                    <a:pt x="441" y="733"/>
                  </a:lnTo>
                  <a:lnTo>
                    <a:pt x="459" y="733"/>
                  </a:lnTo>
                  <a:lnTo>
                    <a:pt x="477" y="741"/>
                  </a:lnTo>
                  <a:lnTo>
                    <a:pt x="503" y="750"/>
                  </a:lnTo>
                  <a:lnTo>
                    <a:pt x="521" y="750"/>
                  </a:lnTo>
                  <a:lnTo>
                    <a:pt x="538" y="759"/>
                  </a:lnTo>
                  <a:lnTo>
                    <a:pt x="574" y="759"/>
                  </a:lnTo>
                  <a:lnTo>
                    <a:pt x="591" y="759"/>
                  </a:lnTo>
                  <a:lnTo>
                    <a:pt x="609" y="759"/>
                  </a:lnTo>
                  <a:lnTo>
                    <a:pt x="644" y="768"/>
                  </a:lnTo>
                  <a:lnTo>
                    <a:pt x="662" y="777"/>
                  </a:lnTo>
                  <a:lnTo>
                    <a:pt x="671" y="794"/>
                  </a:lnTo>
                  <a:lnTo>
                    <a:pt x="680" y="812"/>
                  </a:lnTo>
                  <a:lnTo>
                    <a:pt x="697" y="812"/>
                  </a:lnTo>
                  <a:lnTo>
                    <a:pt x="716" y="821"/>
                  </a:lnTo>
                  <a:lnTo>
                    <a:pt x="742" y="821"/>
                  </a:lnTo>
                  <a:lnTo>
                    <a:pt x="760" y="830"/>
                  </a:lnTo>
                  <a:lnTo>
                    <a:pt x="778" y="830"/>
                  </a:lnTo>
                  <a:lnTo>
                    <a:pt x="804" y="830"/>
                  </a:lnTo>
                  <a:lnTo>
                    <a:pt x="822" y="821"/>
                  </a:lnTo>
                  <a:lnTo>
                    <a:pt x="848" y="803"/>
                  </a:lnTo>
                  <a:lnTo>
                    <a:pt x="848" y="78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06440" y="438120"/>
              <a:ext cx="168480" cy="149760"/>
            </a:xfrm>
            <a:custGeom>
              <a:avLst/>
              <a:gdLst/>
              <a:ahLst/>
              <a:rect l="0" t="0" r="r" b="b"/>
              <a:pathLst>
                <a:path w="468" h="416">
                  <a:moveTo>
                    <a:pt x="176" y="407"/>
                  </a:moveTo>
                  <a:lnTo>
                    <a:pt x="211" y="407"/>
                  </a:lnTo>
                  <a:lnTo>
                    <a:pt x="229" y="407"/>
                  </a:lnTo>
                  <a:lnTo>
                    <a:pt x="247" y="407"/>
                  </a:lnTo>
                  <a:lnTo>
                    <a:pt x="265" y="407"/>
                  </a:lnTo>
                  <a:lnTo>
                    <a:pt x="283" y="398"/>
                  </a:lnTo>
                  <a:lnTo>
                    <a:pt x="300" y="398"/>
                  </a:lnTo>
                  <a:lnTo>
                    <a:pt x="318" y="398"/>
                  </a:lnTo>
                  <a:lnTo>
                    <a:pt x="336" y="398"/>
                  </a:lnTo>
                  <a:lnTo>
                    <a:pt x="353" y="398"/>
                  </a:lnTo>
                  <a:lnTo>
                    <a:pt x="371" y="390"/>
                  </a:lnTo>
                  <a:lnTo>
                    <a:pt x="389" y="390"/>
                  </a:lnTo>
                  <a:lnTo>
                    <a:pt x="406" y="390"/>
                  </a:lnTo>
                  <a:lnTo>
                    <a:pt x="424" y="390"/>
                  </a:lnTo>
                  <a:lnTo>
                    <a:pt x="441" y="381"/>
                  </a:lnTo>
                  <a:lnTo>
                    <a:pt x="459" y="372"/>
                  </a:lnTo>
                  <a:lnTo>
                    <a:pt x="468" y="354"/>
                  </a:lnTo>
                  <a:lnTo>
                    <a:pt x="468" y="337"/>
                  </a:lnTo>
                  <a:lnTo>
                    <a:pt x="468" y="319"/>
                  </a:lnTo>
                  <a:lnTo>
                    <a:pt x="468" y="300"/>
                  </a:lnTo>
                  <a:lnTo>
                    <a:pt x="459" y="283"/>
                  </a:lnTo>
                  <a:lnTo>
                    <a:pt x="459" y="265"/>
                  </a:lnTo>
                  <a:lnTo>
                    <a:pt x="459" y="247"/>
                  </a:lnTo>
                  <a:lnTo>
                    <a:pt x="441" y="239"/>
                  </a:lnTo>
                  <a:lnTo>
                    <a:pt x="433" y="221"/>
                  </a:lnTo>
                  <a:lnTo>
                    <a:pt x="424" y="195"/>
                  </a:lnTo>
                  <a:lnTo>
                    <a:pt x="406" y="186"/>
                  </a:lnTo>
                  <a:lnTo>
                    <a:pt x="397" y="168"/>
                  </a:lnTo>
                  <a:lnTo>
                    <a:pt x="336" y="115"/>
                  </a:lnTo>
                  <a:lnTo>
                    <a:pt x="318" y="97"/>
                  </a:lnTo>
                  <a:lnTo>
                    <a:pt x="300" y="88"/>
                  </a:lnTo>
                  <a:lnTo>
                    <a:pt x="283" y="79"/>
                  </a:lnTo>
                  <a:lnTo>
                    <a:pt x="274" y="61"/>
                  </a:lnTo>
                  <a:lnTo>
                    <a:pt x="247" y="44"/>
                  </a:lnTo>
                  <a:lnTo>
                    <a:pt x="229" y="35"/>
                  </a:lnTo>
                  <a:lnTo>
                    <a:pt x="211" y="17"/>
                  </a:lnTo>
                  <a:lnTo>
                    <a:pt x="185" y="8"/>
                  </a:lnTo>
                  <a:lnTo>
                    <a:pt x="167" y="0"/>
                  </a:lnTo>
                  <a:lnTo>
                    <a:pt x="149" y="0"/>
                  </a:lnTo>
                  <a:lnTo>
                    <a:pt x="132" y="0"/>
                  </a:lnTo>
                  <a:lnTo>
                    <a:pt x="114" y="0"/>
                  </a:lnTo>
                  <a:lnTo>
                    <a:pt x="88" y="8"/>
                  </a:lnTo>
                  <a:lnTo>
                    <a:pt x="70" y="8"/>
                  </a:lnTo>
                  <a:lnTo>
                    <a:pt x="52" y="17"/>
                  </a:lnTo>
                  <a:lnTo>
                    <a:pt x="44" y="35"/>
                  </a:lnTo>
                  <a:lnTo>
                    <a:pt x="26" y="52"/>
                  </a:lnTo>
                  <a:lnTo>
                    <a:pt x="26" y="70"/>
                  </a:lnTo>
                  <a:lnTo>
                    <a:pt x="17" y="88"/>
                  </a:lnTo>
                  <a:lnTo>
                    <a:pt x="8" y="106"/>
                  </a:lnTo>
                  <a:lnTo>
                    <a:pt x="0" y="124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221"/>
                  </a:lnTo>
                  <a:lnTo>
                    <a:pt x="0" y="239"/>
                  </a:lnTo>
                  <a:lnTo>
                    <a:pt x="8" y="265"/>
                  </a:lnTo>
                  <a:lnTo>
                    <a:pt x="8" y="283"/>
                  </a:lnTo>
                  <a:lnTo>
                    <a:pt x="8" y="300"/>
                  </a:lnTo>
                  <a:lnTo>
                    <a:pt x="17" y="319"/>
                  </a:lnTo>
                  <a:lnTo>
                    <a:pt x="35" y="319"/>
                  </a:lnTo>
                  <a:lnTo>
                    <a:pt x="52" y="328"/>
                  </a:lnTo>
                  <a:lnTo>
                    <a:pt x="70" y="337"/>
                  </a:lnTo>
                  <a:lnTo>
                    <a:pt x="88" y="354"/>
                  </a:lnTo>
                  <a:lnTo>
                    <a:pt x="97" y="372"/>
                  </a:lnTo>
                  <a:lnTo>
                    <a:pt x="114" y="381"/>
                  </a:lnTo>
                  <a:lnTo>
                    <a:pt x="132" y="390"/>
                  </a:lnTo>
                  <a:lnTo>
                    <a:pt x="149" y="398"/>
                  </a:lnTo>
                  <a:lnTo>
                    <a:pt x="176" y="416"/>
                  </a:lnTo>
                  <a:lnTo>
                    <a:pt x="194" y="416"/>
                  </a:lnTo>
                  <a:lnTo>
                    <a:pt x="211" y="416"/>
                  </a:lnTo>
                  <a:lnTo>
                    <a:pt x="229" y="416"/>
                  </a:lnTo>
                  <a:lnTo>
                    <a:pt x="247" y="416"/>
                  </a:lnTo>
                  <a:lnTo>
                    <a:pt x="265" y="416"/>
                  </a:lnTo>
                  <a:lnTo>
                    <a:pt x="292" y="416"/>
                  </a:lnTo>
                  <a:lnTo>
                    <a:pt x="309" y="416"/>
                  </a:lnTo>
                  <a:lnTo>
                    <a:pt x="327" y="416"/>
                  </a:lnTo>
                  <a:lnTo>
                    <a:pt x="344" y="407"/>
                  </a:lnTo>
                  <a:lnTo>
                    <a:pt x="362" y="398"/>
                  </a:lnTo>
                  <a:lnTo>
                    <a:pt x="371" y="390"/>
                  </a:lnTo>
                  <a:lnTo>
                    <a:pt x="176" y="407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69800"/>
              <a:ext cx="251280" cy="178200"/>
            </a:xfrm>
            <a:custGeom>
              <a:avLst/>
              <a:gdLst/>
              <a:ahLst/>
              <a:rect l="0" t="0" r="r" b="b"/>
              <a:pathLst>
                <a:path w="698" h="495">
                  <a:moveTo>
                    <a:pt x="689" y="434"/>
                  </a:moveTo>
                  <a:lnTo>
                    <a:pt x="654" y="425"/>
                  </a:lnTo>
                  <a:lnTo>
                    <a:pt x="672" y="416"/>
                  </a:lnTo>
                  <a:lnTo>
                    <a:pt x="672" y="398"/>
                  </a:lnTo>
                  <a:lnTo>
                    <a:pt x="663" y="381"/>
                  </a:lnTo>
                  <a:lnTo>
                    <a:pt x="654" y="362"/>
                  </a:lnTo>
                  <a:lnTo>
                    <a:pt x="637" y="353"/>
                  </a:lnTo>
                  <a:lnTo>
                    <a:pt x="628" y="336"/>
                  </a:lnTo>
                  <a:lnTo>
                    <a:pt x="610" y="327"/>
                  </a:lnTo>
                  <a:lnTo>
                    <a:pt x="592" y="318"/>
                  </a:lnTo>
                  <a:lnTo>
                    <a:pt x="575" y="292"/>
                  </a:lnTo>
                  <a:lnTo>
                    <a:pt x="566" y="274"/>
                  </a:lnTo>
                  <a:lnTo>
                    <a:pt x="557" y="256"/>
                  </a:lnTo>
                  <a:lnTo>
                    <a:pt x="539" y="239"/>
                  </a:lnTo>
                  <a:lnTo>
                    <a:pt x="521" y="230"/>
                  </a:lnTo>
                  <a:lnTo>
                    <a:pt x="512" y="212"/>
                  </a:lnTo>
                  <a:lnTo>
                    <a:pt x="494" y="195"/>
                  </a:lnTo>
                  <a:lnTo>
                    <a:pt x="477" y="186"/>
                  </a:lnTo>
                  <a:lnTo>
                    <a:pt x="459" y="168"/>
                  </a:lnTo>
                  <a:lnTo>
                    <a:pt x="450" y="150"/>
                  </a:lnTo>
                  <a:lnTo>
                    <a:pt x="433" y="142"/>
                  </a:lnTo>
                  <a:lnTo>
                    <a:pt x="389" y="105"/>
                  </a:lnTo>
                  <a:lnTo>
                    <a:pt x="380" y="88"/>
                  </a:lnTo>
                  <a:lnTo>
                    <a:pt x="353" y="70"/>
                  </a:lnTo>
                  <a:lnTo>
                    <a:pt x="336" y="61"/>
                  </a:lnTo>
                  <a:lnTo>
                    <a:pt x="318" y="44"/>
                  </a:lnTo>
                  <a:lnTo>
                    <a:pt x="300" y="35"/>
                  </a:lnTo>
                  <a:lnTo>
                    <a:pt x="274" y="17"/>
                  </a:lnTo>
                  <a:lnTo>
                    <a:pt x="256" y="8"/>
                  </a:lnTo>
                  <a:lnTo>
                    <a:pt x="221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67" y="0"/>
                  </a:lnTo>
                  <a:lnTo>
                    <a:pt x="149" y="17"/>
                  </a:lnTo>
                  <a:lnTo>
                    <a:pt x="132" y="35"/>
                  </a:lnTo>
                  <a:lnTo>
                    <a:pt x="123" y="52"/>
                  </a:lnTo>
                  <a:lnTo>
                    <a:pt x="105" y="61"/>
                  </a:lnTo>
                  <a:lnTo>
                    <a:pt x="97" y="79"/>
                  </a:lnTo>
                  <a:lnTo>
                    <a:pt x="79" y="88"/>
                  </a:lnTo>
                  <a:lnTo>
                    <a:pt x="61" y="105"/>
                  </a:lnTo>
                  <a:lnTo>
                    <a:pt x="52" y="123"/>
                  </a:lnTo>
                  <a:lnTo>
                    <a:pt x="44" y="142"/>
                  </a:lnTo>
                  <a:lnTo>
                    <a:pt x="35" y="159"/>
                  </a:lnTo>
                  <a:lnTo>
                    <a:pt x="17" y="177"/>
                  </a:lnTo>
                  <a:lnTo>
                    <a:pt x="8" y="195"/>
                  </a:lnTo>
                  <a:lnTo>
                    <a:pt x="0" y="212"/>
                  </a:lnTo>
                  <a:lnTo>
                    <a:pt x="0" y="230"/>
                  </a:lnTo>
                  <a:lnTo>
                    <a:pt x="0" y="247"/>
                  </a:lnTo>
                  <a:lnTo>
                    <a:pt x="0" y="265"/>
                  </a:lnTo>
                  <a:lnTo>
                    <a:pt x="0" y="283"/>
                  </a:lnTo>
                  <a:lnTo>
                    <a:pt x="0" y="300"/>
                  </a:lnTo>
                  <a:lnTo>
                    <a:pt x="0" y="318"/>
                  </a:lnTo>
                  <a:lnTo>
                    <a:pt x="0" y="336"/>
                  </a:lnTo>
                  <a:lnTo>
                    <a:pt x="17" y="344"/>
                  </a:lnTo>
                  <a:lnTo>
                    <a:pt x="35" y="362"/>
                  </a:lnTo>
                  <a:lnTo>
                    <a:pt x="52" y="381"/>
                  </a:lnTo>
                  <a:lnTo>
                    <a:pt x="70" y="381"/>
                  </a:lnTo>
                  <a:lnTo>
                    <a:pt x="88" y="398"/>
                  </a:lnTo>
                  <a:lnTo>
                    <a:pt x="114" y="407"/>
                  </a:lnTo>
                  <a:lnTo>
                    <a:pt x="132" y="407"/>
                  </a:lnTo>
                  <a:lnTo>
                    <a:pt x="149" y="407"/>
                  </a:lnTo>
                  <a:lnTo>
                    <a:pt x="158" y="425"/>
                  </a:lnTo>
                  <a:lnTo>
                    <a:pt x="177" y="434"/>
                  </a:lnTo>
                  <a:lnTo>
                    <a:pt x="186" y="451"/>
                  </a:lnTo>
                  <a:lnTo>
                    <a:pt x="195" y="469"/>
                  </a:lnTo>
                  <a:lnTo>
                    <a:pt x="212" y="478"/>
                  </a:lnTo>
                  <a:lnTo>
                    <a:pt x="230" y="478"/>
                  </a:lnTo>
                  <a:lnTo>
                    <a:pt x="247" y="478"/>
                  </a:lnTo>
                  <a:lnTo>
                    <a:pt x="265" y="478"/>
                  </a:lnTo>
                  <a:lnTo>
                    <a:pt x="283" y="487"/>
                  </a:lnTo>
                  <a:lnTo>
                    <a:pt x="300" y="487"/>
                  </a:lnTo>
                  <a:lnTo>
                    <a:pt x="318" y="487"/>
                  </a:lnTo>
                  <a:lnTo>
                    <a:pt x="336" y="487"/>
                  </a:lnTo>
                  <a:lnTo>
                    <a:pt x="362" y="487"/>
                  </a:lnTo>
                  <a:lnTo>
                    <a:pt x="380" y="487"/>
                  </a:lnTo>
                  <a:lnTo>
                    <a:pt x="406" y="478"/>
                  </a:lnTo>
                  <a:lnTo>
                    <a:pt x="424" y="478"/>
                  </a:lnTo>
                  <a:lnTo>
                    <a:pt x="450" y="478"/>
                  </a:lnTo>
                  <a:lnTo>
                    <a:pt x="468" y="478"/>
                  </a:lnTo>
                  <a:lnTo>
                    <a:pt x="503" y="487"/>
                  </a:lnTo>
                  <a:lnTo>
                    <a:pt x="521" y="487"/>
                  </a:lnTo>
                  <a:lnTo>
                    <a:pt x="548" y="487"/>
                  </a:lnTo>
                  <a:lnTo>
                    <a:pt x="566" y="487"/>
                  </a:lnTo>
                  <a:lnTo>
                    <a:pt x="584" y="487"/>
                  </a:lnTo>
                  <a:lnTo>
                    <a:pt x="601" y="487"/>
                  </a:lnTo>
                  <a:lnTo>
                    <a:pt x="628" y="487"/>
                  </a:lnTo>
                  <a:lnTo>
                    <a:pt x="645" y="495"/>
                  </a:lnTo>
                  <a:lnTo>
                    <a:pt x="663" y="495"/>
                  </a:lnTo>
                  <a:lnTo>
                    <a:pt x="681" y="487"/>
                  </a:lnTo>
                  <a:lnTo>
                    <a:pt x="698" y="487"/>
                  </a:lnTo>
                  <a:lnTo>
                    <a:pt x="698" y="469"/>
                  </a:lnTo>
                  <a:lnTo>
                    <a:pt x="698" y="451"/>
                  </a:lnTo>
                  <a:lnTo>
                    <a:pt x="689" y="4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441360"/>
              <a:ext cx="159120" cy="136800"/>
            </a:xfrm>
            <a:custGeom>
              <a:avLst/>
              <a:gdLst/>
              <a:ahLst/>
              <a:rect l="0" t="0" r="r" b="b"/>
              <a:pathLst>
                <a:path w="442" h="380">
                  <a:moveTo>
                    <a:pt x="203" y="380"/>
                  </a:moveTo>
                  <a:lnTo>
                    <a:pt x="221" y="380"/>
                  </a:lnTo>
                  <a:lnTo>
                    <a:pt x="239" y="380"/>
                  </a:lnTo>
                  <a:lnTo>
                    <a:pt x="256" y="371"/>
                  </a:lnTo>
                  <a:lnTo>
                    <a:pt x="283" y="362"/>
                  </a:lnTo>
                  <a:lnTo>
                    <a:pt x="300" y="362"/>
                  </a:lnTo>
                  <a:lnTo>
                    <a:pt x="327" y="362"/>
                  </a:lnTo>
                  <a:lnTo>
                    <a:pt x="345" y="362"/>
                  </a:lnTo>
                  <a:lnTo>
                    <a:pt x="372" y="353"/>
                  </a:lnTo>
                  <a:lnTo>
                    <a:pt x="390" y="353"/>
                  </a:lnTo>
                  <a:lnTo>
                    <a:pt x="407" y="353"/>
                  </a:lnTo>
                  <a:lnTo>
                    <a:pt x="425" y="344"/>
                  </a:lnTo>
                  <a:lnTo>
                    <a:pt x="434" y="327"/>
                  </a:lnTo>
                  <a:lnTo>
                    <a:pt x="442" y="309"/>
                  </a:lnTo>
                  <a:lnTo>
                    <a:pt x="442" y="292"/>
                  </a:lnTo>
                  <a:lnTo>
                    <a:pt x="442" y="274"/>
                  </a:lnTo>
                  <a:lnTo>
                    <a:pt x="442" y="256"/>
                  </a:lnTo>
                  <a:lnTo>
                    <a:pt x="425" y="230"/>
                  </a:lnTo>
                  <a:lnTo>
                    <a:pt x="407" y="212"/>
                  </a:lnTo>
                  <a:lnTo>
                    <a:pt x="398" y="195"/>
                  </a:lnTo>
                  <a:lnTo>
                    <a:pt x="381" y="185"/>
                  </a:lnTo>
                  <a:lnTo>
                    <a:pt x="363" y="176"/>
                  </a:lnTo>
                  <a:lnTo>
                    <a:pt x="354" y="158"/>
                  </a:lnTo>
                  <a:lnTo>
                    <a:pt x="327" y="149"/>
                  </a:lnTo>
                  <a:lnTo>
                    <a:pt x="309" y="123"/>
                  </a:lnTo>
                  <a:lnTo>
                    <a:pt x="292" y="114"/>
                  </a:lnTo>
                  <a:lnTo>
                    <a:pt x="283" y="97"/>
                  </a:lnTo>
                  <a:lnTo>
                    <a:pt x="256" y="79"/>
                  </a:lnTo>
                  <a:lnTo>
                    <a:pt x="239" y="70"/>
                  </a:lnTo>
                  <a:lnTo>
                    <a:pt x="230" y="52"/>
                  </a:lnTo>
                  <a:lnTo>
                    <a:pt x="212" y="44"/>
                  </a:lnTo>
                  <a:lnTo>
                    <a:pt x="195" y="35"/>
                  </a:lnTo>
                  <a:lnTo>
                    <a:pt x="177" y="26"/>
                  </a:lnTo>
                  <a:lnTo>
                    <a:pt x="150" y="8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7" y="0"/>
                  </a:lnTo>
                  <a:lnTo>
                    <a:pt x="79" y="0"/>
                  </a:lnTo>
                  <a:lnTo>
                    <a:pt x="70" y="17"/>
                  </a:lnTo>
                  <a:lnTo>
                    <a:pt x="52" y="26"/>
                  </a:lnTo>
                  <a:lnTo>
                    <a:pt x="44" y="44"/>
                  </a:lnTo>
                  <a:lnTo>
                    <a:pt x="26" y="52"/>
                  </a:lnTo>
                  <a:lnTo>
                    <a:pt x="17" y="70"/>
                  </a:lnTo>
                  <a:lnTo>
                    <a:pt x="17" y="88"/>
                  </a:lnTo>
                  <a:lnTo>
                    <a:pt x="8" y="105"/>
                  </a:lnTo>
                  <a:lnTo>
                    <a:pt x="8" y="123"/>
                  </a:lnTo>
                  <a:lnTo>
                    <a:pt x="0" y="149"/>
                  </a:lnTo>
                  <a:lnTo>
                    <a:pt x="0" y="167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0" y="239"/>
                  </a:lnTo>
                  <a:lnTo>
                    <a:pt x="8" y="256"/>
                  </a:lnTo>
                  <a:lnTo>
                    <a:pt x="8" y="274"/>
                  </a:lnTo>
                  <a:lnTo>
                    <a:pt x="26" y="274"/>
                  </a:lnTo>
                  <a:lnTo>
                    <a:pt x="44" y="274"/>
                  </a:lnTo>
                  <a:lnTo>
                    <a:pt x="52" y="292"/>
                  </a:lnTo>
                  <a:lnTo>
                    <a:pt x="61" y="309"/>
                  </a:lnTo>
                  <a:lnTo>
                    <a:pt x="79" y="327"/>
                  </a:lnTo>
                  <a:lnTo>
                    <a:pt x="97" y="336"/>
                  </a:lnTo>
                  <a:lnTo>
                    <a:pt x="115" y="344"/>
                  </a:lnTo>
                  <a:lnTo>
                    <a:pt x="133" y="362"/>
                  </a:lnTo>
                  <a:lnTo>
                    <a:pt x="150" y="371"/>
                  </a:lnTo>
                  <a:lnTo>
                    <a:pt x="168" y="380"/>
                  </a:lnTo>
                  <a:lnTo>
                    <a:pt x="203" y="380"/>
                  </a:lnTo>
                  <a:lnTo>
                    <a:pt x="221" y="380"/>
                  </a:lnTo>
                  <a:lnTo>
                    <a:pt x="239" y="380"/>
                  </a:lnTo>
                  <a:lnTo>
                    <a:pt x="256" y="371"/>
                  </a:lnTo>
                  <a:lnTo>
                    <a:pt x="274" y="371"/>
                  </a:lnTo>
                  <a:lnTo>
                    <a:pt x="300" y="353"/>
                  </a:lnTo>
                  <a:lnTo>
                    <a:pt x="318" y="353"/>
                  </a:lnTo>
                  <a:lnTo>
                    <a:pt x="337" y="362"/>
                  </a:lnTo>
                  <a:lnTo>
                    <a:pt x="345" y="362"/>
                  </a:lnTo>
                  <a:lnTo>
                    <a:pt x="203" y="38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000080"/>
              <a:ext cx="101880" cy="117720"/>
            </a:xfrm>
            <a:custGeom>
              <a:avLst/>
              <a:gdLst/>
              <a:ahLst/>
              <a:rect l="0" t="0" r="r" b="b"/>
              <a:pathLst>
                <a:path w="283" h="327">
                  <a:moveTo>
                    <a:pt x="79" y="0"/>
                  </a:moveTo>
                  <a:lnTo>
                    <a:pt x="97" y="0"/>
                  </a:lnTo>
                  <a:lnTo>
                    <a:pt x="114" y="8"/>
                  </a:lnTo>
                  <a:lnTo>
                    <a:pt x="132" y="8"/>
                  </a:lnTo>
                  <a:lnTo>
                    <a:pt x="150" y="17"/>
                  </a:lnTo>
                  <a:lnTo>
                    <a:pt x="159" y="35"/>
                  </a:lnTo>
                  <a:lnTo>
                    <a:pt x="168" y="52"/>
                  </a:lnTo>
                  <a:lnTo>
                    <a:pt x="186" y="61"/>
                  </a:lnTo>
                  <a:lnTo>
                    <a:pt x="203" y="79"/>
                  </a:lnTo>
                  <a:lnTo>
                    <a:pt x="212" y="97"/>
                  </a:lnTo>
                  <a:lnTo>
                    <a:pt x="230" y="105"/>
                  </a:lnTo>
                  <a:lnTo>
                    <a:pt x="239" y="123"/>
                  </a:lnTo>
                  <a:lnTo>
                    <a:pt x="247" y="141"/>
                  </a:lnTo>
                  <a:lnTo>
                    <a:pt x="265" y="149"/>
                  </a:lnTo>
                  <a:lnTo>
                    <a:pt x="274" y="168"/>
                  </a:lnTo>
                  <a:lnTo>
                    <a:pt x="283" y="186"/>
                  </a:lnTo>
                  <a:lnTo>
                    <a:pt x="283" y="203"/>
                  </a:lnTo>
                  <a:lnTo>
                    <a:pt x="283" y="221"/>
                  </a:lnTo>
                  <a:lnTo>
                    <a:pt x="256" y="221"/>
                  </a:lnTo>
                  <a:lnTo>
                    <a:pt x="239" y="230"/>
                  </a:lnTo>
                  <a:lnTo>
                    <a:pt x="221" y="239"/>
                  </a:lnTo>
                  <a:lnTo>
                    <a:pt x="221" y="256"/>
                  </a:lnTo>
                  <a:lnTo>
                    <a:pt x="203" y="274"/>
                  </a:lnTo>
                  <a:lnTo>
                    <a:pt x="195" y="292"/>
                  </a:lnTo>
                  <a:lnTo>
                    <a:pt x="186" y="309"/>
                  </a:lnTo>
                  <a:lnTo>
                    <a:pt x="168" y="318"/>
                  </a:lnTo>
                  <a:lnTo>
                    <a:pt x="150" y="327"/>
                  </a:lnTo>
                  <a:lnTo>
                    <a:pt x="132" y="327"/>
                  </a:lnTo>
                  <a:lnTo>
                    <a:pt x="114" y="327"/>
                  </a:lnTo>
                  <a:lnTo>
                    <a:pt x="97" y="327"/>
                  </a:lnTo>
                  <a:lnTo>
                    <a:pt x="79" y="327"/>
                  </a:lnTo>
                  <a:lnTo>
                    <a:pt x="61" y="318"/>
                  </a:lnTo>
                  <a:lnTo>
                    <a:pt x="44" y="300"/>
                  </a:lnTo>
                  <a:lnTo>
                    <a:pt x="26" y="292"/>
                  </a:lnTo>
                  <a:lnTo>
                    <a:pt x="8" y="283"/>
                  </a:lnTo>
                  <a:lnTo>
                    <a:pt x="0" y="265"/>
                  </a:lnTo>
                  <a:lnTo>
                    <a:pt x="0" y="239"/>
                  </a:lnTo>
                  <a:lnTo>
                    <a:pt x="0" y="221"/>
                  </a:lnTo>
                  <a:lnTo>
                    <a:pt x="0" y="203"/>
                  </a:lnTo>
                  <a:lnTo>
                    <a:pt x="0" y="186"/>
                  </a:lnTo>
                  <a:lnTo>
                    <a:pt x="0" y="15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0" y="105"/>
                  </a:lnTo>
                  <a:lnTo>
                    <a:pt x="17" y="97"/>
                  </a:lnTo>
                  <a:lnTo>
                    <a:pt x="44" y="88"/>
                  </a:lnTo>
                  <a:lnTo>
                    <a:pt x="52" y="70"/>
                  </a:lnTo>
                  <a:lnTo>
                    <a:pt x="61" y="52"/>
                  </a:lnTo>
                  <a:lnTo>
                    <a:pt x="70" y="35"/>
                  </a:lnTo>
                  <a:lnTo>
                    <a:pt x="79" y="17"/>
                  </a:lnTo>
                  <a:lnTo>
                    <a:pt x="88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6400" y="784080"/>
              <a:ext cx="213120" cy="248040"/>
            </a:xfrm>
            <a:custGeom>
              <a:avLst/>
              <a:gdLst/>
              <a:ahLst/>
              <a:rect l="0" t="0" r="r" b="b"/>
              <a:pathLst>
                <a:path w="592" h="689">
                  <a:moveTo>
                    <a:pt x="256" y="0"/>
                  </a:moveTo>
                  <a:lnTo>
                    <a:pt x="274" y="0"/>
                  </a:lnTo>
                  <a:lnTo>
                    <a:pt x="292" y="8"/>
                  </a:lnTo>
                  <a:lnTo>
                    <a:pt x="309" y="26"/>
                  </a:lnTo>
                  <a:lnTo>
                    <a:pt x="327" y="35"/>
                  </a:lnTo>
                  <a:lnTo>
                    <a:pt x="344" y="52"/>
                  </a:lnTo>
                  <a:lnTo>
                    <a:pt x="362" y="61"/>
                  </a:lnTo>
                  <a:lnTo>
                    <a:pt x="389" y="97"/>
                  </a:lnTo>
                  <a:lnTo>
                    <a:pt x="397" y="114"/>
                  </a:lnTo>
                  <a:lnTo>
                    <a:pt x="441" y="149"/>
                  </a:lnTo>
                  <a:lnTo>
                    <a:pt x="460" y="158"/>
                  </a:lnTo>
                  <a:lnTo>
                    <a:pt x="478" y="195"/>
                  </a:lnTo>
                  <a:lnTo>
                    <a:pt x="487" y="212"/>
                  </a:lnTo>
                  <a:lnTo>
                    <a:pt x="495" y="230"/>
                  </a:lnTo>
                  <a:lnTo>
                    <a:pt x="522" y="247"/>
                  </a:lnTo>
                  <a:lnTo>
                    <a:pt x="539" y="265"/>
                  </a:lnTo>
                  <a:lnTo>
                    <a:pt x="557" y="283"/>
                  </a:lnTo>
                  <a:lnTo>
                    <a:pt x="566" y="300"/>
                  </a:lnTo>
                  <a:lnTo>
                    <a:pt x="575" y="318"/>
                  </a:lnTo>
                  <a:lnTo>
                    <a:pt x="584" y="336"/>
                  </a:lnTo>
                  <a:lnTo>
                    <a:pt x="592" y="353"/>
                  </a:lnTo>
                  <a:lnTo>
                    <a:pt x="592" y="371"/>
                  </a:lnTo>
                  <a:lnTo>
                    <a:pt x="592" y="389"/>
                  </a:lnTo>
                  <a:lnTo>
                    <a:pt x="592" y="424"/>
                  </a:lnTo>
                  <a:lnTo>
                    <a:pt x="592" y="441"/>
                  </a:lnTo>
                  <a:lnTo>
                    <a:pt x="592" y="459"/>
                  </a:lnTo>
                  <a:lnTo>
                    <a:pt x="592" y="477"/>
                  </a:lnTo>
                  <a:lnTo>
                    <a:pt x="592" y="494"/>
                  </a:lnTo>
                  <a:lnTo>
                    <a:pt x="584" y="512"/>
                  </a:lnTo>
                  <a:lnTo>
                    <a:pt x="575" y="539"/>
                  </a:lnTo>
                  <a:lnTo>
                    <a:pt x="566" y="557"/>
                  </a:lnTo>
                  <a:lnTo>
                    <a:pt x="548" y="566"/>
                  </a:lnTo>
                  <a:lnTo>
                    <a:pt x="539" y="584"/>
                  </a:lnTo>
                  <a:lnTo>
                    <a:pt x="531" y="601"/>
                  </a:lnTo>
                  <a:lnTo>
                    <a:pt x="513" y="619"/>
                  </a:lnTo>
                  <a:lnTo>
                    <a:pt x="487" y="645"/>
                  </a:lnTo>
                  <a:lnTo>
                    <a:pt x="469" y="663"/>
                  </a:lnTo>
                  <a:lnTo>
                    <a:pt x="451" y="672"/>
                  </a:lnTo>
                  <a:lnTo>
                    <a:pt x="433" y="681"/>
                  </a:lnTo>
                  <a:lnTo>
                    <a:pt x="415" y="681"/>
                  </a:lnTo>
                  <a:lnTo>
                    <a:pt x="397" y="689"/>
                  </a:lnTo>
                  <a:lnTo>
                    <a:pt x="380" y="689"/>
                  </a:lnTo>
                  <a:lnTo>
                    <a:pt x="362" y="689"/>
                  </a:lnTo>
                  <a:lnTo>
                    <a:pt x="344" y="689"/>
                  </a:lnTo>
                  <a:lnTo>
                    <a:pt x="327" y="689"/>
                  </a:lnTo>
                  <a:lnTo>
                    <a:pt x="283" y="689"/>
                  </a:lnTo>
                  <a:lnTo>
                    <a:pt x="265" y="689"/>
                  </a:lnTo>
                  <a:lnTo>
                    <a:pt x="230" y="689"/>
                  </a:lnTo>
                  <a:lnTo>
                    <a:pt x="212" y="672"/>
                  </a:lnTo>
                  <a:lnTo>
                    <a:pt x="195" y="663"/>
                  </a:lnTo>
                  <a:lnTo>
                    <a:pt x="177" y="645"/>
                  </a:lnTo>
                  <a:lnTo>
                    <a:pt x="159" y="628"/>
                  </a:lnTo>
                  <a:lnTo>
                    <a:pt x="141" y="619"/>
                  </a:lnTo>
                  <a:lnTo>
                    <a:pt x="114" y="592"/>
                  </a:lnTo>
                  <a:lnTo>
                    <a:pt x="97" y="575"/>
                  </a:lnTo>
                  <a:lnTo>
                    <a:pt x="88" y="557"/>
                  </a:lnTo>
                  <a:lnTo>
                    <a:pt x="70" y="548"/>
                  </a:lnTo>
                  <a:lnTo>
                    <a:pt x="61" y="531"/>
                  </a:lnTo>
                  <a:lnTo>
                    <a:pt x="52" y="512"/>
                  </a:lnTo>
                  <a:lnTo>
                    <a:pt x="44" y="494"/>
                  </a:lnTo>
                  <a:lnTo>
                    <a:pt x="35" y="477"/>
                  </a:lnTo>
                  <a:lnTo>
                    <a:pt x="17" y="468"/>
                  </a:lnTo>
                  <a:lnTo>
                    <a:pt x="17" y="450"/>
                  </a:lnTo>
                  <a:lnTo>
                    <a:pt x="8" y="433"/>
                  </a:lnTo>
                  <a:lnTo>
                    <a:pt x="8" y="415"/>
                  </a:lnTo>
                  <a:lnTo>
                    <a:pt x="8" y="397"/>
                  </a:lnTo>
                  <a:lnTo>
                    <a:pt x="8" y="380"/>
                  </a:lnTo>
                  <a:lnTo>
                    <a:pt x="8" y="362"/>
                  </a:lnTo>
                  <a:lnTo>
                    <a:pt x="0" y="336"/>
                  </a:lnTo>
                  <a:lnTo>
                    <a:pt x="0" y="318"/>
                  </a:lnTo>
                  <a:lnTo>
                    <a:pt x="0" y="292"/>
                  </a:lnTo>
                  <a:lnTo>
                    <a:pt x="8" y="274"/>
                  </a:lnTo>
                  <a:lnTo>
                    <a:pt x="17" y="256"/>
                  </a:lnTo>
                  <a:lnTo>
                    <a:pt x="26" y="239"/>
                  </a:lnTo>
                  <a:lnTo>
                    <a:pt x="52" y="230"/>
                  </a:lnTo>
                  <a:lnTo>
                    <a:pt x="70" y="212"/>
                  </a:lnTo>
                  <a:lnTo>
                    <a:pt x="88" y="195"/>
                  </a:lnTo>
                  <a:lnTo>
                    <a:pt x="97" y="177"/>
                  </a:lnTo>
                  <a:lnTo>
                    <a:pt x="105" y="149"/>
                  </a:lnTo>
                  <a:lnTo>
                    <a:pt x="114" y="132"/>
                  </a:lnTo>
                  <a:lnTo>
                    <a:pt x="123" y="114"/>
                  </a:lnTo>
                  <a:lnTo>
                    <a:pt x="132" y="97"/>
                  </a:lnTo>
                  <a:lnTo>
                    <a:pt x="150" y="97"/>
                  </a:lnTo>
                  <a:lnTo>
                    <a:pt x="168" y="70"/>
                  </a:lnTo>
                  <a:lnTo>
                    <a:pt x="177" y="52"/>
                  </a:lnTo>
                  <a:lnTo>
                    <a:pt x="203" y="44"/>
                  </a:lnTo>
                  <a:lnTo>
                    <a:pt x="221" y="35"/>
                  </a:lnTo>
                  <a:lnTo>
                    <a:pt x="239" y="26"/>
                  </a:lnTo>
                  <a:lnTo>
                    <a:pt x="247" y="8"/>
                  </a:lnTo>
                  <a:lnTo>
                    <a:pt x="265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6600" y="539640"/>
              <a:ext cx="44640" cy="32040"/>
            </a:xfrm>
            <a:custGeom>
              <a:avLst/>
              <a:gdLst/>
              <a:ahLst/>
              <a:rect l="0" t="0" r="r" b="b"/>
              <a:pathLst>
                <a:path w="124" h="89">
                  <a:moveTo>
                    <a:pt x="35" y="0"/>
                  </a:moveTo>
                  <a:lnTo>
                    <a:pt x="52" y="0"/>
                  </a:lnTo>
                  <a:lnTo>
                    <a:pt x="80" y="0"/>
                  </a:lnTo>
                  <a:lnTo>
                    <a:pt x="98" y="8"/>
                  </a:lnTo>
                  <a:lnTo>
                    <a:pt x="106" y="26"/>
                  </a:lnTo>
                  <a:lnTo>
                    <a:pt x="115" y="45"/>
                  </a:lnTo>
                  <a:lnTo>
                    <a:pt x="124" y="62"/>
                  </a:lnTo>
                  <a:lnTo>
                    <a:pt x="106" y="71"/>
                  </a:lnTo>
                  <a:lnTo>
                    <a:pt x="89" y="80"/>
                  </a:lnTo>
                  <a:lnTo>
                    <a:pt x="71" y="89"/>
                  </a:lnTo>
                  <a:lnTo>
                    <a:pt x="44" y="89"/>
                  </a:lnTo>
                  <a:lnTo>
                    <a:pt x="26" y="80"/>
                  </a:lnTo>
                  <a:lnTo>
                    <a:pt x="17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17" y="17"/>
                  </a:lnTo>
                  <a:lnTo>
                    <a:pt x="2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22400" y="39060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8" y="88"/>
                  </a:moveTo>
                  <a:lnTo>
                    <a:pt x="17" y="70"/>
                  </a:lnTo>
                  <a:lnTo>
                    <a:pt x="17" y="52"/>
                  </a:lnTo>
                  <a:lnTo>
                    <a:pt x="26" y="35"/>
                  </a:lnTo>
                  <a:lnTo>
                    <a:pt x="35" y="1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3" y="0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203" y="0"/>
                  </a:lnTo>
                  <a:lnTo>
                    <a:pt x="221" y="0"/>
                  </a:lnTo>
                  <a:lnTo>
                    <a:pt x="239" y="0"/>
                  </a:lnTo>
                  <a:lnTo>
                    <a:pt x="247" y="17"/>
                  </a:lnTo>
                  <a:lnTo>
                    <a:pt x="256" y="35"/>
                  </a:lnTo>
                  <a:lnTo>
                    <a:pt x="274" y="52"/>
                  </a:lnTo>
                  <a:lnTo>
                    <a:pt x="283" y="70"/>
                  </a:lnTo>
                  <a:lnTo>
                    <a:pt x="300" y="88"/>
                  </a:lnTo>
                  <a:lnTo>
                    <a:pt x="318" y="105"/>
                  </a:lnTo>
                  <a:lnTo>
                    <a:pt x="336" y="114"/>
                  </a:lnTo>
                  <a:lnTo>
                    <a:pt x="344" y="132"/>
                  </a:lnTo>
                  <a:lnTo>
                    <a:pt x="362" y="132"/>
                  </a:lnTo>
                  <a:lnTo>
                    <a:pt x="380" y="141"/>
                  </a:lnTo>
                  <a:lnTo>
                    <a:pt x="398" y="141"/>
                  </a:lnTo>
                  <a:lnTo>
                    <a:pt x="416" y="141"/>
                  </a:lnTo>
                  <a:lnTo>
                    <a:pt x="434" y="141"/>
                  </a:lnTo>
                  <a:lnTo>
                    <a:pt x="451" y="158"/>
                  </a:lnTo>
                  <a:lnTo>
                    <a:pt x="460" y="177"/>
                  </a:lnTo>
                  <a:lnTo>
                    <a:pt x="460" y="195"/>
                  </a:lnTo>
                  <a:lnTo>
                    <a:pt x="478" y="203"/>
                  </a:lnTo>
                  <a:lnTo>
                    <a:pt x="487" y="221"/>
                  </a:lnTo>
                  <a:lnTo>
                    <a:pt x="495" y="239"/>
                  </a:lnTo>
                  <a:lnTo>
                    <a:pt x="495" y="256"/>
                  </a:lnTo>
                  <a:lnTo>
                    <a:pt x="513" y="274"/>
                  </a:lnTo>
                  <a:lnTo>
                    <a:pt x="495" y="274"/>
                  </a:lnTo>
                  <a:lnTo>
                    <a:pt x="469" y="292"/>
                  </a:lnTo>
                  <a:lnTo>
                    <a:pt x="460" y="309"/>
                  </a:lnTo>
                  <a:lnTo>
                    <a:pt x="442" y="318"/>
                  </a:lnTo>
                  <a:lnTo>
                    <a:pt x="425" y="318"/>
                  </a:lnTo>
                  <a:lnTo>
                    <a:pt x="407" y="327"/>
                  </a:lnTo>
                  <a:lnTo>
                    <a:pt x="390" y="327"/>
                  </a:lnTo>
                  <a:lnTo>
                    <a:pt x="371" y="327"/>
                  </a:lnTo>
                  <a:lnTo>
                    <a:pt x="344" y="327"/>
                  </a:lnTo>
                  <a:lnTo>
                    <a:pt x="327" y="327"/>
                  </a:lnTo>
                  <a:lnTo>
                    <a:pt x="309" y="327"/>
                  </a:lnTo>
                  <a:lnTo>
                    <a:pt x="283" y="327"/>
                  </a:lnTo>
                  <a:lnTo>
                    <a:pt x="256" y="318"/>
                  </a:lnTo>
                  <a:lnTo>
                    <a:pt x="239" y="309"/>
                  </a:lnTo>
                  <a:lnTo>
                    <a:pt x="221" y="292"/>
                  </a:lnTo>
                  <a:lnTo>
                    <a:pt x="203" y="292"/>
                  </a:lnTo>
                  <a:lnTo>
                    <a:pt x="186" y="283"/>
                  </a:lnTo>
                  <a:lnTo>
                    <a:pt x="168" y="283"/>
                  </a:lnTo>
                  <a:lnTo>
                    <a:pt x="150" y="283"/>
                  </a:lnTo>
                  <a:lnTo>
                    <a:pt x="133" y="274"/>
                  </a:lnTo>
                  <a:lnTo>
                    <a:pt x="105" y="265"/>
                  </a:lnTo>
                  <a:lnTo>
                    <a:pt x="88" y="265"/>
                  </a:lnTo>
                  <a:lnTo>
                    <a:pt x="70" y="265"/>
                  </a:lnTo>
                  <a:lnTo>
                    <a:pt x="52" y="256"/>
                  </a:lnTo>
                  <a:lnTo>
                    <a:pt x="35" y="239"/>
                  </a:lnTo>
                  <a:lnTo>
                    <a:pt x="17" y="221"/>
                  </a:lnTo>
                  <a:lnTo>
                    <a:pt x="17" y="203"/>
                  </a:lnTo>
                  <a:lnTo>
                    <a:pt x="0" y="186"/>
                  </a:lnTo>
                  <a:lnTo>
                    <a:pt x="0" y="168"/>
                  </a:lnTo>
                  <a:lnTo>
                    <a:pt x="0" y="149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0" y="97"/>
                  </a:lnTo>
                  <a:lnTo>
                    <a:pt x="17" y="88"/>
                  </a:lnTo>
                  <a:lnTo>
                    <a:pt x="17" y="70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11280" y="203040"/>
              <a:ext cx="146520" cy="190800"/>
            </a:xfrm>
            <a:custGeom>
              <a:avLst/>
              <a:gdLst/>
              <a:ahLst/>
              <a:rect l="0" t="0" r="r" b="b"/>
              <a:pathLst>
                <a:path w="407" h="530">
                  <a:moveTo>
                    <a:pt x="247" y="530"/>
                  </a:moveTo>
                  <a:lnTo>
                    <a:pt x="256" y="512"/>
                  </a:lnTo>
                  <a:lnTo>
                    <a:pt x="265" y="494"/>
                  </a:lnTo>
                  <a:lnTo>
                    <a:pt x="274" y="477"/>
                  </a:lnTo>
                  <a:lnTo>
                    <a:pt x="283" y="459"/>
                  </a:lnTo>
                  <a:lnTo>
                    <a:pt x="292" y="441"/>
                  </a:lnTo>
                  <a:lnTo>
                    <a:pt x="300" y="424"/>
                  </a:lnTo>
                  <a:lnTo>
                    <a:pt x="319" y="397"/>
                  </a:lnTo>
                  <a:lnTo>
                    <a:pt x="328" y="380"/>
                  </a:lnTo>
                  <a:lnTo>
                    <a:pt x="354" y="353"/>
                  </a:lnTo>
                  <a:lnTo>
                    <a:pt x="363" y="336"/>
                  </a:lnTo>
                  <a:lnTo>
                    <a:pt x="372" y="318"/>
                  </a:lnTo>
                  <a:lnTo>
                    <a:pt x="372" y="300"/>
                  </a:lnTo>
                  <a:lnTo>
                    <a:pt x="381" y="283"/>
                  </a:lnTo>
                  <a:lnTo>
                    <a:pt x="381" y="264"/>
                  </a:lnTo>
                  <a:lnTo>
                    <a:pt x="390" y="246"/>
                  </a:lnTo>
                  <a:lnTo>
                    <a:pt x="398" y="229"/>
                  </a:lnTo>
                  <a:lnTo>
                    <a:pt x="398" y="211"/>
                  </a:lnTo>
                  <a:lnTo>
                    <a:pt x="398" y="194"/>
                  </a:lnTo>
                  <a:lnTo>
                    <a:pt x="407" y="132"/>
                  </a:lnTo>
                  <a:lnTo>
                    <a:pt x="398" y="114"/>
                  </a:lnTo>
                  <a:lnTo>
                    <a:pt x="390" y="97"/>
                  </a:lnTo>
                  <a:lnTo>
                    <a:pt x="381" y="79"/>
                  </a:lnTo>
                  <a:lnTo>
                    <a:pt x="363" y="52"/>
                  </a:lnTo>
                  <a:lnTo>
                    <a:pt x="345" y="44"/>
                  </a:lnTo>
                  <a:lnTo>
                    <a:pt x="328" y="35"/>
                  </a:lnTo>
                  <a:lnTo>
                    <a:pt x="310" y="17"/>
                  </a:lnTo>
                  <a:lnTo>
                    <a:pt x="292" y="8"/>
                  </a:lnTo>
                  <a:lnTo>
                    <a:pt x="274" y="0"/>
                  </a:lnTo>
                  <a:lnTo>
                    <a:pt x="247" y="0"/>
                  </a:lnTo>
                  <a:lnTo>
                    <a:pt x="230" y="0"/>
                  </a:lnTo>
                  <a:lnTo>
                    <a:pt x="195" y="0"/>
                  </a:lnTo>
                  <a:lnTo>
                    <a:pt x="177" y="8"/>
                  </a:lnTo>
                  <a:lnTo>
                    <a:pt x="159" y="26"/>
                  </a:lnTo>
                  <a:lnTo>
                    <a:pt x="142" y="35"/>
                  </a:lnTo>
                  <a:lnTo>
                    <a:pt x="124" y="44"/>
                  </a:lnTo>
                  <a:lnTo>
                    <a:pt x="106" y="52"/>
                  </a:lnTo>
                  <a:lnTo>
                    <a:pt x="88" y="52"/>
                  </a:lnTo>
                  <a:lnTo>
                    <a:pt x="70" y="61"/>
                  </a:lnTo>
                  <a:lnTo>
                    <a:pt x="52" y="70"/>
                  </a:lnTo>
                  <a:lnTo>
                    <a:pt x="35" y="79"/>
                  </a:lnTo>
                  <a:lnTo>
                    <a:pt x="26" y="97"/>
                  </a:lnTo>
                  <a:lnTo>
                    <a:pt x="8" y="105"/>
                  </a:lnTo>
                  <a:lnTo>
                    <a:pt x="0" y="123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0" y="176"/>
                  </a:lnTo>
                  <a:lnTo>
                    <a:pt x="0" y="194"/>
                  </a:lnTo>
                  <a:lnTo>
                    <a:pt x="0" y="211"/>
                  </a:lnTo>
                  <a:lnTo>
                    <a:pt x="8" y="229"/>
                  </a:lnTo>
                  <a:lnTo>
                    <a:pt x="8" y="246"/>
                  </a:lnTo>
                  <a:lnTo>
                    <a:pt x="17" y="264"/>
                  </a:lnTo>
                  <a:lnTo>
                    <a:pt x="26" y="283"/>
                  </a:lnTo>
                  <a:lnTo>
                    <a:pt x="35" y="300"/>
                  </a:lnTo>
                  <a:lnTo>
                    <a:pt x="61" y="327"/>
                  </a:lnTo>
                  <a:lnTo>
                    <a:pt x="79" y="336"/>
                  </a:lnTo>
                  <a:lnTo>
                    <a:pt x="88" y="353"/>
                  </a:lnTo>
                  <a:lnTo>
                    <a:pt x="106" y="362"/>
                  </a:lnTo>
                  <a:lnTo>
                    <a:pt x="124" y="371"/>
                  </a:lnTo>
                  <a:lnTo>
                    <a:pt x="124" y="389"/>
                  </a:lnTo>
                  <a:lnTo>
                    <a:pt x="133" y="415"/>
                  </a:lnTo>
                  <a:lnTo>
                    <a:pt x="133" y="433"/>
                  </a:lnTo>
                  <a:lnTo>
                    <a:pt x="150" y="459"/>
                  </a:lnTo>
                  <a:lnTo>
                    <a:pt x="159" y="477"/>
                  </a:lnTo>
                  <a:lnTo>
                    <a:pt x="177" y="486"/>
                  </a:lnTo>
                  <a:lnTo>
                    <a:pt x="186" y="503"/>
                  </a:lnTo>
                  <a:lnTo>
                    <a:pt x="195" y="521"/>
                  </a:lnTo>
                  <a:lnTo>
                    <a:pt x="212" y="530"/>
                  </a:lnTo>
                  <a:lnTo>
                    <a:pt x="230" y="530"/>
                  </a:lnTo>
                  <a:lnTo>
                    <a:pt x="247" y="53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09720" y="479520"/>
              <a:ext cx="47880" cy="54360"/>
            </a:xfrm>
            <a:custGeom>
              <a:avLst/>
              <a:gdLst/>
              <a:ahLst/>
              <a:rect l="0" t="0" r="r" b="b"/>
              <a:pathLst>
                <a:path w="133" h="151">
                  <a:moveTo>
                    <a:pt x="26" y="0"/>
                  </a:moveTo>
                  <a:lnTo>
                    <a:pt x="44" y="8"/>
                  </a:lnTo>
                  <a:lnTo>
                    <a:pt x="61" y="8"/>
                  </a:lnTo>
                  <a:lnTo>
                    <a:pt x="80" y="8"/>
                  </a:lnTo>
                  <a:lnTo>
                    <a:pt x="106" y="26"/>
                  </a:lnTo>
                  <a:lnTo>
                    <a:pt x="115" y="45"/>
                  </a:lnTo>
                  <a:lnTo>
                    <a:pt x="124" y="62"/>
                  </a:lnTo>
                  <a:lnTo>
                    <a:pt x="133" y="80"/>
                  </a:lnTo>
                  <a:lnTo>
                    <a:pt x="133" y="98"/>
                  </a:lnTo>
                  <a:lnTo>
                    <a:pt x="133" y="116"/>
                  </a:lnTo>
                  <a:lnTo>
                    <a:pt x="124" y="134"/>
                  </a:lnTo>
                  <a:lnTo>
                    <a:pt x="106" y="143"/>
                  </a:lnTo>
                  <a:lnTo>
                    <a:pt x="80" y="151"/>
                  </a:lnTo>
                  <a:lnTo>
                    <a:pt x="61" y="143"/>
                  </a:lnTo>
                  <a:lnTo>
                    <a:pt x="44" y="134"/>
                  </a:lnTo>
                  <a:lnTo>
                    <a:pt x="35" y="116"/>
                  </a:lnTo>
                  <a:lnTo>
                    <a:pt x="17" y="106"/>
                  </a:lnTo>
                  <a:lnTo>
                    <a:pt x="0" y="98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17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784520" y="0"/>
              <a:ext cx="346320" cy="371880"/>
            </a:xfrm>
            <a:custGeom>
              <a:avLst/>
              <a:gdLst/>
              <a:ahLst/>
              <a:rect l="0" t="0" r="r" b="b"/>
              <a:pathLst>
                <a:path w="962" h="1033">
                  <a:moveTo>
                    <a:pt x="326" y="1016"/>
                  </a:moveTo>
                  <a:lnTo>
                    <a:pt x="361" y="1025"/>
                  </a:lnTo>
                  <a:lnTo>
                    <a:pt x="379" y="1033"/>
                  </a:lnTo>
                  <a:lnTo>
                    <a:pt x="396" y="1033"/>
                  </a:lnTo>
                  <a:lnTo>
                    <a:pt x="414" y="1033"/>
                  </a:lnTo>
                  <a:lnTo>
                    <a:pt x="432" y="1033"/>
                  </a:lnTo>
                  <a:lnTo>
                    <a:pt x="458" y="1033"/>
                  </a:lnTo>
                  <a:lnTo>
                    <a:pt x="476" y="1025"/>
                  </a:lnTo>
                  <a:lnTo>
                    <a:pt x="494" y="1016"/>
                  </a:lnTo>
                  <a:lnTo>
                    <a:pt x="530" y="1007"/>
                  </a:lnTo>
                  <a:lnTo>
                    <a:pt x="538" y="989"/>
                  </a:lnTo>
                  <a:lnTo>
                    <a:pt x="556" y="963"/>
                  </a:lnTo>
                  <a:lnTo>
                    <a:pt x="574" y="945"/>
                  </a:lnTo>
                  <a:lnTo>
                    <a:pt x="600" y="919"/>
                  </a:lnTo>
                  <a:lnTo>
                    <a:pt x="609" y="901"/>
                  </a:lnTo>
                  <a:lnTo>
                    <a:pt x="627" y="875"/>
                  </a:lnTo>
                  <a:lnTo>
                    <a:pt x="636" y="857"/>
                  </a:lnTo>
                  <a:lnTo>
                    <a:pt x="644" y="839"/>
                  </a:lnTo>
                  <a:lnTo>
                    <a:pt x="653" y="822"/>
                  </a:lnTo>
                  <a:lnTo>
                    <a:pt x="662" y="804"/>
                  </a:lnTo>
                  <a:lnTo>
                    <a:pt x="644" y="804"/>
                  </a:lnTo>
                  <a:lnTo>
                    <a:pt x="644" y="778"/>
                  </a:lnTo>
                  <a:lnTo>
                    <a:pt x="653" y="759"/>
                  </a:lnTo>
                  <a:lnTo>
                    <a:pt x="662" y="741"/>
                  </a:lnTo>
                  <a:lnTo>
                    <a:pt x="680" y="724"/>
                  </a:lnTo>
                  <a:lnTo>
                    <a:pt x="688" y="706"/>
                  </a:lnTo>
                  <a:lnTo>
                    <a:pt x="706" y="697"/>
                  </a:lnTo>
                  <a:lnTo>
                    <a:pt x="724" y="688"/>
                  </a:lnTo>
                  <a:lnTo>
                    <a:pt x="759" y="644"/>
                  </a:lnTo>
                  <a:lnTo>
                    <a:pt x="777" y="627"/>
                  </a:lnTo>
                  <a:lnTo>
                    <a:pt x="785" y="609"/>
                  </a:lnTo>
                  <a:lnTo>
                    <a:pt x="794" y="591"/>
                  </a:lnTo>
                  <a:lnTo>
                    <a:pt x="821" y="556"/>
                  </a:lnTo>
                  <a:lnTo>
                    <a:pt x="838" y="547"/>
                  </a:lnTo>
                  <a:lnTo>
                    <a:pt x="856" y="538"/>
                  </a:lnTo>
                  <a:lnTo>
                    <a:pt x="865" y="521"/>
                  </a:lnTo>
                  <a:lnTo>
                    <a:pt x="882" y="512"/>
                  </a:lnTo>
                  <a:lnTo>
                    <a:pt x="909" y="486"/>
                  </a:lnTo>
                  <a:lnTo>
                    <a:pt x="927" y="477"/>
                  </a:lnTo>
                  <a:lnTo>
                    <a:pt x="935" y="459"/>
                  </a:lnTo>
                  <a:lnTo>
                    <a:pt x="953" y="441"/>
                  </a:lnTo>
                  <a:lnTo>
                    <a:pt x="962" y="415"/>
                  </a:lnTo>
                  <a:lnTo>
                    <a:pt x="962" y="397"/>
                  </a:lnTo>
                  <a:lnTo>
                    <a:pt x="962" y="353"/>
                  </a:lnTo>
                  <a:lnTo>
                    <a:pt x="962" y="318"/>
                  </a:lnTo>
                  <a:lnTo>
                    <a:pt x="962" y="300"/>
                  </a:lnTo>
                  <a:lnTo>
                    <a:pt x="962" y="283"/>
                  </a:lnTo>
                  <a:lnTo>
                    <a:pt x="953" y="265"/>
                  </a:lnTo>
                  <a:lnTo>
                    <a:pt x="935" y="246"/>
                  </a:lnTo>
                  <a:lnTo>
                    <a:pt x="918" y="238"/>
                  </a:lnTo>
                  <a:lnTo>
                    <a:pt x="882" y="211"/>
                  </a:lnTo>
                  <a:lnTo>
                    <a:pt x="865" y="202"/>
                  </a:lnTo>
                  <a:lnTo>
                    <a:pt x="847" y="202"/>
                  </a:lnTo>
                  <a:lnTo>
                    <a:pt x="830" y="194"/>
                  </a:lnTo>
                  <a:lnTo>
                    <a:pt x="785" y="167"/>
                  </a:lnTo>
                  <a:lnTo>
                    <a:pt x="768" y="158"/>
                  </a:lnTo>
                  <a:lnTo>
                    <a:pt x="759" y="141"/>
                  </a:lnTo>
                  <a:lnTo>
                    <a:pt x="741" y="123"/>
                  </a:lnTo>
                  <a:lnTo>
                    <a:pt x="724" y="114"/>
                  </a:lnTo>
                  <a:lnTo>
                    <a:pt x="715" y="97"/>
                  </a:lnTo>
                  <a:lnTo>
                    <a:pt x="697" y="88"/>
                  </a:lnTo>
                  <a:lnTo>
                    <a:pt x="653" y="61"/>
                  </a:lnTo>
                  <a:lnTo>
                    <a:pt x="636" y="52"/>
                  </a:lnTo>
                  <a:lnTo>
                    <a:pt x="618" y="44"/>
                  </a:lnTo>
                  <a:lnTo>
                    <a:pt x="600" y="35"/>
                  </a:lnTo>
                  <a:lnTo>
                    <a:pt x="583" y="35"/>
                  </a:lnTo>
                  <a:lnTo>
                    <a:pt x="538" y="17"/>
                  </a:lnTo>
                  <a:lnTo>
                    <a:pt x="521" y="17"/>
                  </a:lnTo>
                  <a:lnTo>
                    <a:pt x="503" y="8"/>
                  </a:lnTo>
                  <a:lnTo>
                    <a:pt x="486" y="8"/>
                  </a:lnTo>
                  <a:lnTo>
                    <a:pt x="467" y="8"/>
                  </a:lnTo>
                  <a:lnTo>
                    <a:pt x="432" y="0"/>
                  </a:lnTo>
                  <a:lnTo>
                    <a:pt x="414" y="0"/>
                  </a:lnTo>
                  <a:lnTo>
                    <a:pt x="396" y="0"/>
                  </a:lnTo>
                  <a:lnTo>
                    <a:pt x="352" y="0"/>
                  </a:lnTo>
                  <a:lnTo>
                    <a:pt x="335" y="0"/>
                  </a:lnTo>
                  <a:lnTo>
                    <a:pt x="317" y="0"/>
                  </a:lnTo>
                  <a:lnTo>
                    <a:pt x="299" y="0"/>
                  </a:lnTo>
                  <a:lnTo>
                    <a:pt x="282" y="8"/>
                  </a:lnTo>
                  <a:lnTo>
                    <a:pt x="246" y="17"/>
                  </a:lnTo>
                  <a:lnTo>
                    <a:pt x="229" y="26"/>
                  </a:lnTo>
                  <a:lnTo>
                    <a:pt x="202" y="44"/>
                  </a:lnTo>
                  <a:lnTo>
                    <a:pt x="185" y="52"/>
                  </a:lnTo>
                  <a:lnTo>
                    <a:pt x="176" y="70"/>
                  </a:lnTo>
                  <a:lnTo>
                    <a:pt x="141" y="97"/>
                  </a:lnTo>
                  <a:lnTo>
                    <a:pt x="123" y="105"/>
                  </a:lnTo>
                  <a:lnTo>
                    <a:pt x="114" y="123"/>
                  </a:lnTo>
                  <a:lnTo>
                    <a:pt x="88" y="132"/>
                  </a:lnTo>
                  <a:lnTo>
                    <a:pt x="79" y="149"/>
                  </a:lnTo>
                  <a:lnTo>
                    <a:pt x="70" y="167"/>
                  </a:lnTo>
                  <a:lnTo>
                    <a:pt x="52" y="185"/>
                  </a:lnTo>
                  <a:lnTo>
                    <a:pt x="44" y="202"/>
                  </a:lnTo>
                  <a:lnTo>
                    <a:pt x="26" y="211"/>
                  </a:lnTo>
                  <a:lnTo>
                    <a:pt x="17" y="229"/>
                  </a:lnTo>
                  <a:lnTo>
                    <a:pt x="17" y="246"/>
                  </a:lnTo>
                  <a:lnTo>
                    <a:pt x="8" y="265"/>
                  </a:lnTo>
                  <a:lnTo>
                    <a:pt x="8" y="283"/>
                  </a:lnTo>
                  <a:lnTo>
                    <a:pt x="8" y="300"/>
                  </a:lnTo>
                  <a:lnTo>
                    <a:pt x="0" y="318"/>
                  </a:lnTo>
                  <a:lnTo>
                    <a:pt x="0" y="336"/>
                  </a:lnTo>
                  <a:lnTo>
                    <a:pt x="0" y="362"/>
                  </a:lnTo>
                  <a:lnTo>
                    <a:pt x="0" y="380"/>
                  </a:lnTo>
                  <a:lnTo>
                    <a:pt x="0" y="397"/>
                  </a:lnTo>
                  <a:lnTo>
                    <a:pt x="0" y="415"/>
                  </a:lnTo>
                  <a:lnTo>
                    <a:pt x="0" y="450"/>
                  </a:lnTo>
                  <a:lnTo>
                    <a:pt x="0" y="468"/>
                  </a:lnTo>
                  <a:lnTo>
                    <a:pt x="8" y="486"/>
                  </a:lnTo>
                  <a:lnTo>
                    <a:pt x="17" y="512"/>
                  </a:lnTo>
                  <a:lnTo>
                    <a:pt x="26" y="530"/>
                  </a:lnTo>
                  <a:lnTo>
                    <a:pt x="44" y="538"/>
                  </a:lnTo>
                  <a:lnTo>
                    <a:pt x="44" y="556"/>
                  </a:lnTo>
                  <a:lnTo>
                    <a:pt x="61" y="583"/>
                  </a:lnTo>
                  <a:lnTo>
                    <a:pt x="79" y="600"/>
                  </a:lnTo>
                  <a:lnTo>
                    <a:pt x="97" y="627"/>
                  </a:lnTo>
                  <a:lnTo>
                    <a:pt x="97" y="644"/>
                  </a:lnTo>
                  <a:lnTo>
                    <a:pt x="105" y="662"/>
                  </a:lnTo>
                  <a:lnTo>
                    <a:pt x="114" y="680"/>
                  </a:lnTo>
                  <a:lnTo>
                    <a:pt x="132" y="697"/>
                  </a:lnTo>
                  <a:lnTo>
                    <a:pt x="132" y="715"/>
                  </a:lnTo>
                  <a:lnTo>
                    <a:pt x="149" y="733"/>
                  </a:lnTo>
                  <a:lnTo>
                    <a:pt x="149" y="750"/>
                  </a:lnTo>
                  <a:lnTo>
                    <a:pt x="158" y="768"/>
                  </a:lnTo>
                  <a:lnTo>
                    <a:pt x="167" y="795"/>
                  </a:lnTo>
                  <a:lnTo>
                    <a:pt x="167" y="813"/>
                  </a:lnTo>
                  <a:lnTo>
                    <a:pt x="167" y="839"/>
                  </a:lnTo>
                  <a:lnTo>
                    <a:pt x="167" y="857"/>
                  </a:lnTo>
                  <a:lnTo>
                    <a:pt x="167" y="875"/>
                  </a:lnTo>
                  <a:lnTo>
                    <a:pt x="167" y="892"/>
                  </a:lnTo>
                  <a:lnTo>
                    <a:pt x="185" y="919"/>
                  </a:lnTo>
                  <a:lnTo>
                    <a:pt x="194" y="936"/>
                  </a:lnTo>
                  <a:lnTo>
                    <a:pt x="211" y="945"/>
                  </a:lnTo>
                  <a:lnTo>
                    <a:pt x="229" y="954"/>
                  </a:lnTo>
                  <a:lnTo>
                    <a:pt x="246" y="963"/>
                  </a:lnTo>
                  <a:lnTo>
                    <a:pt x="264" y="972"/>
                  </a:lnTo>
                  <a:lnTo>
                    <a:pt x="282" y="980"/>
                  </a:lnTo>
                  <a:lnTo>
                    <a:pt x="308" y="989"/>
                  </a:lnTo>
                  <a:lnTo>
                    <a:pt x="317" y="1007"/>
                  </a:lnTo>
                  <a:lnTo>
                    <a:pt x="335" y="1016"/>
                  </a:lnTo>
                  <a:lnTo>
                    <a:pt x="352" y="1007"/>
                  </a:lnTo>
                  <a:lnTo>
                    <a:pt x="326" y="101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97120" y="355680"/>
              <a:ext cx="105120" cy="111600"/>
            </a:xfrm>
            <a:custGeom>
              <a:avLst/>
              <a:gdLst/>
              <a:ahLst/>
              <a:rect l="0" t="0" r="r" b="b"/>
              <a:pathLst>
                <a:path w="292" h="310">
                  <a:moveTo>
                    <a:pt x="168" y="310"/>
                  </a:moveTo>
                  <a:lnTo>
                    <a:pt x="195" y="310"/>
                  </a:lnTo>
                  <a:lnTo>
                    <a:pt x="212" y="301"/>
                  </a:lnTo>
                  <a:lnTo>
                    <a:pt x="221" y="284"/>
                  </a:lnTo>
                  <a:lnTo>
                    <a:pt x="239" y="275"/>
                  </a:lnTo>
                  <a:lnTo>
                    <a:pt x="247" y="257"/>
                  </a:lnTo>
                  <a:lnTo>
                    <a:pt x="265" y="248"/>
                  </a:lnTo>
                  <a:lnTo>
                    <a:pt x="274" y="230"/>
                  </a:lnTo>
                  <a:lnTo>
                    <a:pt x="274" y="212"/>
                  </a:lnTo>
                  <a:lnTo>
                    <a:pt x="283" y="195"/>
                  </a:lnTo>
                  <a:lnTo>
                    <a:pt x="283" y="177"/>
                  </a:lnTo>
                  <a:lnTo>
                    <a:pt x="283" y="159"/>
                  </a:lnTo>
                  <a:lnTo>
                    <a:pt x="292" y="142"/>
                  </a:lnTo>
                  <a:lnTo>
                    <a:pt x="292" y="124"/>
                  </a:lnTo>
                  <a:lnTo>
                    <a:pt x="292" y="106"/>
                  </a:lnTo>
                  <a:lnTo>
                    <a:pt x="292" y="89"/>
                  </a:lnTo>
                  <a:lnTo>
                    <a:pt x="265" y="70"/>
                  </a:lnTo>
                  <a:lnTo>
                    <a:pt x="256" y="52"/>
                  </a:lnTo>
                  <a:lnTo>
                    <a:pt x="239" y="52"/>
                  </a:lnTo>
                  <a:lnTo>
                    <a:pt x="221" y="35"/>
                  </a:lnTo>
                  <a:lnTo>
                    <a:pt x="203" y="26"/>
                  </a:lnTo>
                  <a:lnTo>
                    <a:pt x="186" y="17"/>
                  </a:lnTo>
                  <a:lnTo>
                    <a:pt x="159" y="8"/>
                  </a:lnTo>
                  <a:lnTo>
                    <a:pt x="141" y="0"/>
                  </a:lnTo>
                  <a:lnTo>
                    <a:pt x="114" y="0"/>
                  </a:lnTo>
                  <a:lnTo>
                    <a:pt x="97" y="0"/>
                  </a:lnTo>
                  <a:lnTo>
                    <a:pt x="52" y="0"/>
                  </a:lnTo>
                  <a:lnTo>
                    <a:pt x="35" y="17"/>
                  </a:lnTo>
                  <a:lnTo>
                    <a:pt x="17" y="26"/>
                  </a:lnTo>
                  <a:lnTo>
                    <a:pt x="8" y="44"/>
                  </a:lnTo>
                  <a:lnTo>
                    <a:pt x="0" y="61"/>
                  </a:lnTo>
                  <a:lnTo>
                    <a:pt x="0" y="80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17" y="177"/>
                  </a:lnTo>
                  <a:lnTo>
                    <a:pt x="35" y="186"/>
                  </a:lnTo>
                  <a:lnTo>
                    <a:pt x="52" y="212"/>
                  </a:lnTo>
                  <a:lnTo>
                    <a:pt x="61" y="230"/>
                  </a:lnTo>
                  <a:lnTo>
                    <a:pt x="79" y="240"/>
                  </a:lnTo>
                  <a:lnTo>
                    <a:pt x="97" y="248"/>
                  </a:lnTo>
                  <a:lnTo>
                    <a:pt x="123" y="275"/>
                  </a:lnTo>
                  <a:lnTo>
                    <a:pt x="141" y="284"/>
                  </a:lnTo>
                  <a:lnTo>
                    <a:pt x="150" y="301"/>
                  </a:lnTo>
                  <a:lnTo>
                    <a:pt x="168" y="310"/>
                  </a:lnTo>
                  <a:lnTo>
                    <a:pt x="186" y="310"/>
                  </a:lnTo>
                  <a:lnTo>
                    <a:pt x="168" y="31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43040" y="631800"/>
              <a:ext cx="60840" cy="44640"/>
            </a:xfrm>
            <a:custGeom>
              <a:avLst/>
              <a:gdLst/>
              <a:ahLst/>
              <a:rect l="0" t="0" r="r" b="b"/>
              <a:pathLst>
                <a:path w="169" h="124">
                  <a:moveTo>
                    <a:pt x="8" y="115"/>
                  </a:moveTo>
                  <a:lnTo>
                    <a:pt x="8" y="98"/>
                  </a:lnTo>
                  <a:lnTo>
                    <a:pt x="0" y="80"/>
                  </a:lnTo>
                  <a:lnTo>
                    <a:pt x="0" y="61"/>
                  </a:lnTo>
                  <a:lnTo>
                    <a:pt x="8" y="44"/>
                  </a:lnTo>
                  <a:lnTo>
                    <a:pt x="26" y="44"/>
                  </a:lnTo>
                  <a:lnTo>
                    <a:pt x="35" y="26"/>
                  </a:lnTo>
                  <a:lnTo>
                    <a:pt x="35" y="8"/>
                  </a:lnTo>
                  <a:lnTo>
                    <a:pt x="53" y="8"/>
                  </a:lnTo>
                  <a:lnTo>
                    <a:pt x="71" y="8"/>
                  </a:lnTo>
                  <a:lnTo>
                    <a:pt x="98" y="8"/>
                  </a:lnTo>
                  <a:lnTo>
                    <a:pt x="115" y="8"/>
                  </a:lnTo>
                  <a:lnTo>
                    <a:pt x="134" y="0"/>
                  </a:lnTo>
                  <a:lnTo>
                    <a:pt x="151" y="0"/>
                  </a:lnTo>
                  <a:lnTo>
                    <a:pt x="160" y="17"/>
                  </a:lnTo>
                  <a:lnTo>
                    <a:pt x="169" y="35"/>
                  </a:lnTo>
                  <a:lnTo>
                    <a:pt x="169" y="52"/>
                  </a:lnTo>
                  <a:lnTo>
                    <a:pt x="169" y="71"/>
                  </a:lnTo>
                  <a:lnTo>
                    <a:pt x="151" y="71"/>
                  </a:lnTo>
                  <a:lnTo>
                    <a:pt x="134" y="71"/>
                  </a:lnTo>
                  <a:lnTo>
                    <a:pt x="134" y="89"/>
                  </a:lnTo>
                  <a:lnTo>
                    <a:pt x="134" y="106"/>
                  </a:lnTo>
                  <a:lnTo>
                    <a:pt x="115" y="115"/>
                  </a:lnTo>
                  <a:lnTo>
                    <a:pt x="80" y="124"/>
                  </a:lnTo>
                  <a:lnTo>
                    <a:pt x="62" y="124"/>
                  </a:lnTo>
                  <a:lnTo>
                    <a:pt x="45" y="124"/>
                  </a:lnTo>
                  <a:lnTo>
                    <a:pt x="26" y="124"/>
                  </a:lnTo>
                  <a:lnTo>
                    <a:pt x="8" y="124"/>
                  </a:lnTo>
                  <a:lnTo>
                    <a:pt x="8" y="1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76640" y="711360"/>
              <a:ext cx="73440" cy="82800"/>
            </a:xfrm>
            <a:custGeom>
              <a:avLst/>
              <a:gdLst/>
              <a:ahLst/>
              <a:rect l="0" t="0" r="r" b="b"/>
              <a:pathLst>
                <a:path w="204" h="230">
                  <a:moveTo>
                    <a:pt x="8" y="221"/>
                  </a:moveTo>
                  <a:lnTo>
                    <a:pt x="26" y="221"/>
                  </a:lnTo>
                  <a:lnTo>
                    <a:pt x="44" y="221"/>
                  </a:lnTo>
                  <a:lnTo>
                    <a:pt x="62" y="221"/>
                  </a:lnTo>
                  <a:lnTo>
                    <a:pt x="89" y="212"/>
                  </a:lnTo>
                  <a:lnTo>
                    <a:pt x="106" y="212"/>
                  </a:lnTo>
                  <a:lnTo>
                    <a:pt x="133" y="212"/>
                  </a:lnTo>
                  <a:lnTo>
                    <a:pt x="150" y="212"/>
                  </a:lnTo>
                  <a:lnTo>
                    <a:pt x="160" y="195"/>
                  </a:lnTo>
                  <a:lnTo>
                    <a:pt x="169" y="177"/>
                  </a:lnTo>
                  <a:lnTo>
                    <a:pt x="187" y="159"/>
                  </a:lnTo>
                  <a:lnTo>
                    <a:pt x="204" y="142"/>
                  </a:lnTo>
                  <a:lnTo>
                    <a:pt x="204" y="124"/>
                  </a:lnTo>
                  <a:lnTo>
                    <a:pt x="204" y="105"/>
                  </a:lnTo>
                  <a:lnTo>
                    <a:pt x="196" y="88"/>
                  </a:lnTo>
                  <a:lnTo>
                    <a:pt x="178" y="52"/>
                  </a:lnTo>
                  <a:lnTo>
                    <a:pt x="178" y="35"/>
                  </a:lnTo>
                  <a:lnTo>
                    <a:pt x="178" y="17"/>
                  </a:lnTo>
                  <a:lnTo>
                    <a:pt x="178" y="0"/>
                  </a:lnTo>
                  <a:lnTo>
                    <a:pt x="150" y="0"/>
                  </a:lnTo>
                  <a:lnTo>
                    <a:pt x="124" y="8"/>
                  </a:lnTo>
                  <a:lnTo>
                    <a:pt x="124" y="26"/>
                  </a:lnTo>
                  <a:lnTo>
                    <a:pt x="106" y="35"/>
                  </a:lnTo>
                  <a:lnTo>
                    <a:pt x="89" y="35"/>
                  </a:lnTo>
                  <a:lnTo>
                    <a:pt x="80" y="52"/>
                  </a:lnTo>
                  <a:lnTo>
                    <a:pt x="80" y="70"/>
                  </a:lnTo>
                  <a:lnTo>
                    <a:pt x="80" y="88"/>
                  </a:lnTo>
                  <a:lnTo>
                    <a:pt x="80" y="105"/>
                  </a:lnTo>
                  <a:lnTo>
                    <a:pt x="80" y="133"/>
                  </a:lnTo>
                  <a:lnTo>
                    <a:pt x="71" y="150"/>
                  </a:lnTo>
                  <a:lnTo>
                    <a:pt x="44" y="159"/>
                  </a:lnTo>
                  <a:lnTo>
                    <a:pt x="26" y="168"/>
                  </a:lnTo>
                  <a:lnTo>
                    <a:pt x="8" y="177"/>
                  </a:lnTo>
                  <a:lnTo>
                    <a:pt x="0" y="195"/>
                  </a:lnTo>
                  <a:lnTo>
                    <a:pt x="0" y="212"/>
                  </a:lnTo>
                  <a:lnTo>
                    <a:pt x="0" y="230"/>
                  </a:lnTo>
                  <a:lnTo>
                    <a:pt x="8" y="22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78120" y="365040"/>
              <a:ext cx="270360" cy="149760"/>
            </a:xfrm>
            <a:custGeom>
              <a:avLst/>
              <a:gdLst/>
              <a:ahLst/>
              <a:rect l="0" t="0" r="r" b="b"/>
              <a:pathLst>
                <a:path w="751" h="416">
                  <a:moveTo>
                    <a:pt x="26" y="407"/>
                  </a:moveTo>
                  <a:lnTo>
                    <a:pt x="44" y="407"/>
                  </a:lnTo>
                  <a:lnTo>
                    <a:pt x="61" y="407"/>
                  </a:lnTo>
                  <a:lnTo>
                    <a:pt x="79" y="407"/>
                  </a:lnTo>
                  <a:lnTo>
                    <a:pt x="97" y="407"/>
                  </a:lnTo>
                  <a:lnTo>
                    <a:pt x="114" y="398"/>
                  </a:lnTo>
                  <a:lnTo>
                    <a:pt x="132" y="398"/>
                  </a:lnTo>
                  <a:lnTo>
                    <a:pt x="149" y="398"/>
                  </a:lnTo>
                  <a:lnTo>
                    <a:pt x="167" y="398"/>
                  </a:lnTo>
                  <a:lnTo>
                    <a:pt x="185" y="398"/>
                  </a:lnTo>
                  <a:lnTo>
                    <a:pt x="203" y="398"/>
                  </a:lnTo>
                  <a:lnTo>
                    <a:pt x="212" y="381"/>
                  </a:lnTo>
                  <a:lnTo>
                    <a:pt x="230" y="363"/>
                  </a:lnTo>
                  <a:lnTo>
                    <a:pt x="247" y="363"/>
                  </a:lnTo>
                  <a:lnTo>
                    <a:pt x="265" y="363"/>
                  </a:lnTo>
                  <a:lnTo>
                    <a:pt x="292" y="372"/>
                  </a:lnTo>
                  <a:lnTo>
                    <a:pt x="309" y="372"/>
                  </a:lnTo>
                  <a:lnTo>
                    <a:pt x="336" y="372"/>
                  </a:lnTo>
                  <a:lnTo>
                    <a:pt x="353" y="372"/>
                  </a:lnTo>
                  <a:lnTo>
                    <a:pt x="380" y="372"/>
                  </a:lnTo>
                  <a:lnTo>
                    <a:pt x="397" y="372"/>
                  </a:lnTo>
                  <a:lnTo>
                    <a:pt x="415" y="372"/>
                  </a:lnTo>
                  <a:lnTo>
                    <a:pt x="433" y="363"/>
                  </a:lnTo>
                  <a:lnTo>
                    <a:pt x="450" y="363"/>
                  </a:lnTo>
                  <a:lnTo>
                    <a:pt x="468" y="354"/>
                  </a:lnTo>
                  <a:lnTo>
                    <a:pt x="486" y="345"/>
                  </a:lnTo>
                  <a:lnTo>
                    <a:pt x="512" y="337"/>
                  </a:lnTo>
                  <a:lnTo>
                    <a:pt x="530" y="337"/>
                  </a:lnTo>
                  <a:lnTo>
                    <a:pt x="547" y="328"/>
                  </a:lnTo>
                  <a:lnTo>
                    <a:pt x="575" y="319"/>
                  </a:lnTo>
                  <a:lnTo>
                    <a:pt x="592" y="319"/>
                  </a:lnTo>
                  <a:lnTo>
                    <a:pt x="610" y="300"/>
                  </a:lnTo>
                  <a:lnTo>
                    <a:pt x="637" y="283"/>
                  </a:lnTo>
                  <a:lnTo>
                    <a:pt x="654" y="274"/>
                  </a:lnTo>
                  <a:lnTo>
                    <a:pt x="672" y="256"/>
                  </a:lnTo>
                  <a:lnTo>
                    <a:pt x="689" y="247"/>
                  </a:lnTo>
                  <a:lnTo>
                    <a:pt x="698" y="230"/>
                  </a:lnTo>
                  <a:lnTo>
                    <a:pt x="716" y="203"/>
                  </a:lnTo>
                  <a:lnTo>
                    <a:pt x="725" y="186"/>
                  </a:lnTo>
                  <a:lnTo>
                    <a:pt x="734" y="168"/>
                  </a:lnTo>
                  <a:lnTo>
                    <a:pt x="742" y="150"/>
                  </a:lnTo>
                  <a:lnTo>
                    <a:pt x="751" y="133"/>
                  </a:lnTo>
                  <a:lnTo>
                    <a:pt x="751" y="115"/>
                  </a:lnTo>
                  <a:lnTo>
                    <a:pt x="751" y="88"/>
                  </a:lnTo>
                  <a:lnTo>
                    <a:pt x="742" y="70"/>
                  </a:lnTo>
                  <a:lnTo>
                    <a:pt x="725" y="61"/>
                  </a:lnTo>
                  <a:lnTo>
                    <a:pt x="716" y="44"/>
                  </a:lnTo>
                  <a:lnTo>
                    <a:pt x="698" y="35"/>
                  </a:lnTo>
                  <a:lnTo>
                    <a:pt x="689" y="17"/>
                  </a:lnTo>
                  <a:lnTo>
                    <a:pt x="654" y="0"/>
                  </a:lnTo>
                  <a:lnTo>
                    <a:pt x="637" y="0"/>
                  </a:lnTo>
                  <a:lnTo>
                    <a:pt x="610" y="0"/>
                  </a:lnTo>
                  <a:lnTo>
                    <a:pt x="592" y="0"/>
                  </a:lnTo>
                  <a:lnTo>
                    <a:pt x="575" y="0"/>
                  </a:lnTo>
                  <a:lnTo>
                    <a:pt x="547" y="8"/>
                  </a:lnTo>
                  <a:lnTo>
                    <a:pt x="530" y="8"/>
                  </a:lnTo>
                  <a:lnTo>
                    <a:pt x="512" y="17"/>
                  </a:lnTo>
                  <a:lnTo>
                    <a:pt x="494" y="26"/>
                  </a:lnTo>
                  <a:lnTo>
                    <a:pt x="477" y="44"/>
                  </a:lnTo>
                  <a:lnTo>
                    <a:pt x="459" y="44"/>
                  </a:lnTo>
                  <a:lnTo>
                    <a:pt x="441" y="61"/>
                  </a:lnTo>
                  <a:lnTo>
                    <a:pt x="424" y="70"/>
                  </a:lnTo>
                  <a:lnTo>
                    <a:pt x="406" y="79"/>
                  </a:lnTo>
                  <a:lnTo>
                    <a:pt x="380" y="106"/>
                  </a:lnTo>
                  <a:lnTo>
                    <a:pt x="362" y="115"/>
                  </a:lnTo>
                  <a:lnTo>
                    <a:pt x="344" y="124"/>
                  </a:lnTo>
                  <a:lnTo>
                    <a:pt x="336" y="142"/>
                  </a:lnTo>
                  <a:lnTo>
                    <a:pt x="327" y="159"/>
                  </a:lnTo>
                  <a:lnTo>
                    <a:pt x="309" y="177"/>
                  </a:lnTo>
                  <a:lnTo>
                    <a:pt x="283" y="195"/>
                  </a:lnTo>
                  <a:lnTo>
                    <a:pt x="265" y="212"/>
                  </a:lnTo>
                  <a:lnTo>
                    <a:pt x="247" y="230"/>
                  </a:lnTo>
                  <a:lnTo>
                    <a:pt x="230" y="256"/>
                  </a:lnTo>
                  <a:lnTo>
                    <a:pt x="212" y="265"/>
                  </a:lnTo>
                  <a:lnTo>
                    <a:pt x="195" y="283"/>
                  </a:lnTo>
                  <a:lnTo>
                    <a:pt x="176" y="292"/>
                  </a:lnTo>
                  <a:lnTo>
                    <a:pt x="158" y="300"/>
                  </a:lnTo>
                  <a:lnTo>
                    <a:pt x="132" y="300"/>
                  </a:lnTo>
                  <a:lnTo>
                    <a:pt x="114" y="300"/>
                  </a:lnTo>
                  <a:lnTo>
                    <a:pt x="105" y="319"/>
                  </a:lnTo>
                  <a:lnTo>
                    <a:pt x="88" y="328"/>
                  </a:lnTo>
                  <a:lnTo>
                    <a:pt x="70" y="328"/>
                  </a:lnTo>
                  <a:lnTo>
                    <a:pt x="52" y="337"/>
                  </a:lnTo>
                  <a:lnTo>
                    <a:pt x="35" y="345"/>
                  </a:lnTo>
                  <a:lnTo>
                    <a:pt x="17" y="363"/>
                  </a:lnTo>
                  <a:lnTo>
                    <a:pt x="8" y="381"/>
                  </a:lnTo>
                  <a:lnTo>
                    <a:pt x="0" y="398"/>
                  </a:lnTo>
                  <a:lnTo>
                    <a:pt x="8" y="416"/>
                  </a:lnTo>
                  <a:lnTo>
                    <a:pt x="26" y="407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24280" y="1136520"/>
              <a:ext cx="70200" cy="44640"/>
            </a:xfrm>
            <a:custGeom>
              <a:avLst/>
              <a:gdLst/>
              <a:ahLst/>
              <a:rect l="0" t="0" r="r" b="b"/>
              <a:pathLst>
                <a:path w="195" h="124">
                  <a:moveTo>
                    <a:pt x="17" y="80"/>
                  </a:moveTo>
                  <a:lnTo>
                    <a:pt x="35" y="89"/>
                  </a:lnTo>
                  <a:lnTo>
                    <a:pt x="52" y="98"/>
                  </a:lnTo>
                  <a:lnTo>
                    <a:pt x="70" y="98"/>
                  </a:lnTo>
                  <a:lnTo>
                    <a:pt x="88" y="106"/>
                  </a:lnTo>
                  <a:lnTo>
                    <a:pt x="106" y="115"/>
                  </a:lnTo>
                  <a:lnTo>
                    <a:pt x="133" y="115"/>
                  </a:lnTo>
                  <a:lnTo>
                    <a:pt x="150" y="115"/>
                  </a:lnTo>
                  <a:lnTo>
                    <a:pt x="168" y="124"/>
                  </a:lnTo>
                  <a:lnTo>
                    <a:pt x="186" y="115"/>
                  </a:lnTo>
                  <a:lnTo>
                    <a:pt x="195" y="98"/>
                  </a:lnTo>
                  <a:lnTo>
                    <a:pt x="195" y="80"/>
                  </a:lnTo>
                  <a:lnTo>
                    <a:pt x="195" y="61"/>
                  </a:lnTo>
                  <a:lnTo>
                    <a:pt x="186" y="44"/>
                  </a:lnTo>
                  <a:lnTo>
                    <a:pt x="177" y="26"/>
                  </a:lnTo>
                  <a:lnTo>
                    <a:pt x="159" y="17"/>
                  </a:lnTo>
                  <a:lnTo>
                    <a:pt x="124" y="17"/>
                  </a:lnTo>
                  <a:lnTo>
                    <a:pt x="106" y="8"/>
                  </a:lnTo>
                  <a:lnTo>
                    <a:pt x="88" y="8"/>
                  </a:lnTo>
                  <a:lnTo>
                    <a:pt x="70" y="8"/>
                  </a:lnTo>
                  <a:lnTo>
                    <a:pt x="52" y="0"/>
                  </a:lnTo>
                  <a:lnTo>
                    <a:pt x="35" y="8"/>
                  </a:lnTo>
                  <a:lnTo>
                    <a:pt x="26" y="26"/>
                  </a:lnTo>
                  <a:lnTo>
                    <a:pt x="17" y="44"/>
                  </a:lnTo>
                  <a:lnTo>
                    <a:pt x="0" y="52"/>
                  </a:lnTo>
                  <a:lnTo>
                    <a:pt x="0" y="71"/>
                  </a:lnTo>
                  <a:lnTo>
                    <a:pt x="0" y="89"/>
                  </a:lnTo>
                  <a:lnTo>
                    <a:pt x="8" y="106"/>
                  </a:lnTo>
                  <a:lnTo>
                    <a:pt x="26" y="106"/>
                  </a:lnTo>
                  <a:lnTo>
                    <a:pt x="17" y="8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892600" y="1241280"/>
              <a:ext cx="92520" cy="70200"/>
            </a:xfrm>
            <a:custGeom>
              <a:avLst/>
              <a:gdLst/>
              <a:ahLst/>
              <a:rect l="0" t="0" r="r" b="b"/>
              <a:pathLst>
                <a:path w="257" h="195">
                  <a:moveTo>
                    <a:pt x="26" y="106"/>
                  </a:moveTo>
                  <a:lnTo>
                    <a:pt x="44" y="124"/>
                  </a:lnTo>
                  <a:lnTo>
                    <a:pt x="61" y="133"/>
                  </a:lnTo>
                  <a:lnTo>
                    <a:pt x="71" y="150"/>
                  </a:lnTo>
                  <a:lnTo>
                    <a:pt x="89" y="150"/>
                  </a:lnTo>
                  <a:lnTo>
                    <a:pt x="106" y="168"/>
                  </a:lnTo>
                  <a:lnTo>
                    <a:pt x="124" y="177"/>
                  </a:lnTo>
                  <a:lnTo>
                    <a:pt x="142" y="186"/>
                  </a:lnTo>
                  <a:lnTo>
                    <a:pt x="159" y="186"/>
                  </a:lnTo>
                  <a:lnTo>
                    <a:pt x="177" y="186"/>
                  </a:lnTo>
                  <a:lnTo>
                    <a:pt x="196" y="195"/>
                  </a:lnTo>
                  <a:lnTo>
                    <a:pt x="213" y="195"/>
                  </a:lnTo>
                  <a:lnTo>
                    <a:pt x="231" y="186"/>
                  </a:lnTo>
                  <a:lnTo>
                    <a:pt x="240" y="168"/>
                  </a:lnTo>
                  <a:lnTo>
                    <a:pt x="248" y="150"/>
                  </a:lnTo>
                  <a:lnTo>
                    <a:pt x="257" y="133"/>
                  </a:lnTo>
                  <a:lnTo>
                    <a:pt x="257" y="115"/>
                  </a:lnTo>
                  <a:lnTo>
                    <a:pt x="248" y="98"/>
                  </a:lnTo>
                  <a:lnTo>
                    <a:pt x="231" y="79"/>
                  </a:lnTo>
                  <a:lnTo>
                    <a:pt x="213" y="70"/>
                  </a:lnTo>
                  <a:lnTo>
                    <a:pt x="204" y="52"/>
                  </a:lnTo>
                  <a:lnTo>
                    <a:pt x="186" y="44"/>
                  </a:lnTo>
                  <a:lnTo>
                    <a:pt x="168" y="35"/>
                  </a:lnTo>
                  <a:lnTo>
                    <a:pt x="150" y="17"/>
                  </a:lnTo>
                  <a:lnTo>
                    <a:pt x="133" y="8"/>
                  </a:lnTo>
                  <a:lnTo>
                    <a:pt x="115" y="8"/>
                  </a:lnTo>
                  <a:lnTo>
                    <a:pt x="98" y="0"/>
                  </a:lnTo>
                  <a:lnTo>
                    <a:pt x="80" y="8"/>
                  </a:lnTo>
                  <a:lnTo>
                    <a:pt x="61" y="17"/>
                  </a:lnTo>
                  <a:lnTo>
                    <a:pt x="44" y="26"/>
                  </a:lnTo>
                  <a:lnTo>
                    <a:pt x="26" y="35"/>
                  </a:lnTo>
                  <a:lnTo>
                    <a:pt x="17" y="52"/>
                  </a:lnTo>
                  <a:lnTo>
                    <a:pt x="8" y="70"/>
                  </a:lnTo>
                  <a:lnTo>
                    <a:pt x="0" y="88"/>
                  </a:lnTo>
                  <a:lnTo>
                    <a:pt x="8" y="106"/>
                  </a:lnTo>
                  <a:lnTo>
                    <a:pt x="26" y="10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44400" y="403200"/>
              <a:ext cx="1705320" cy="1692720"/>
            </a:xfrm>
            <a:custGeom>
              <a:avLst/>
              <a:gdLst/>
              <a:ahLst/>
              <a:rect l="0" t="0" r="r" b="b"/>
              <a:pathLst>
                <a:path w="4737" h="4702">
                  <a:moveTo>
                    <a:pt x="35" y="608"/>
                  </a:moveTo>
                  <a:lnTo>
                    <a:pt x="26" y="590"/>
                  </a:lnTo>
                  <a:lnTo>
                    <a:pt x="8" y="590"/>
                  </a:lnTo>
                  <a:lnTo>
                    <a:pt x="8" y="573"/>
                  </a:lnTo>
                  <a:lnTo>
                    <a:pt x="0" y="555"/>
                  </a:lnTo>
                  <a:lnTo>
                    <a:pt x="0" y="537"/>
                  </a:lnTo>
                  <a:lnTo>
                    <a:pt x="17" y="537"/>
                  </a:lnTo>
                  <a:lnTo>
                    <a:pt x="35" y="537"/>
                  </a:lnTo>
                  <a:lnTo>
                    <a:pt x="52" y="537"/>
                  </a:lnTo>
                  <a:lnTo>
                    <a:pt x="70" y="520"/>
                  </a:lnTo>
                  <a:lnTo>
                    <a:pt x="88" y="511"/>
                  </a:lnTo>
                  <a:lnTo>
                    <a:pt x="97" y="493"/>
                  </a:lnTo>
                  <a:lnTo>
                    <a:pt x="105" y="476"/>
                  </a:lnTo>
                  <a:lnTo>
                    <a:pt x="141" y="467"/>
                  </a:lnTo>
                  <a:lnTo>
                    <a:pt x="158" y="467"/>
                  </a:lnTo>
                  <a:lnTo>
                    <a:pt x="185" y="467"/>
                  </a:lnTo>
                  <a:lnTo>
                    <a:pt x="185" y="485"/>
                  </a:lnTo>
                  <a:lnTo>
                    <a:pt x="202" y="493"/>
                  </a:lnTo>
                  <a:lnTo>
                    <a:pt x="220" y="502"/>
                  </a:lnTo>
                  <a:lnTo>
                    <a:pt x="238" y="502"/>
                  </a:lnTo>
                  <a:lnTo>
                    <a:pt x="255" y="502"/>
                  </a:lnTo>
                  <a:lnTo>
                    <a:pt x="273" y="511"/>
                  </a:lnTo>
                  <a:lnTo>
                    <a:pt x="291" y="520"/>
                  </a:lnTo>
                  <a:lnTo>
                    <a:pt x="317" y="529"/>
                  </a:lnTo>
                  <a:lnTo>
                    <a:pt x="335" y="537"/>
                  </a:lnTo>
                  <a:lnTo>
                    <a:pt x="361" y="555"/>
                  </a:lnTo>
                  <a:lnTo>
                    <a:pt x="379" y="564"/>
                  </a:lnTo>
                  <a:lnTo>
                    <a:pt x="396" y="564"/>
                  </a:lnTo>
                  <a:lnTo>
                    <a:pt x="414" y="573"/>
                  </a:lnTo>
                  <a:lnTo>
                    <a:pt x="432" y="573"/>
                  </a:lnTo>
                  <a:lnTo>
                    <a:pt x="449" y="573"/>
                  </a:lnTo>
                  <a:lnTo>
                    <a:pt x="467" y="582"/>
                  </a:lnTo>
                  <a:lnTo>
                    <a:pt x="485" y="582"/>
                  </a:lnTo>
                  <a:lnTo>
                    <a:pt x="502" y="582"/>
                  </a:lnTo>
                  <a:lnTo>
                    <a:pt x="537" y="582"/>
                  </a:lnTo>
                  <a:lnTo>
                    <a:pt x="555" y="582"/>
                  </a:lnTo>
                  <a:lnTo>
                    <a:pt x="573" y="590"/>
                  </a:lnTo>
                  <a:lnTo>
                    <a:pt x="582" y="608"/>
                  </a:lnTo>
                  <a:lnTo>
                    <a:pt x="599" y="608"/>
                  </a:lnTo>
                  <a:lnTo>
                    <a:pt x="617" y="617"/>
                  </a:lnTo>
                  <a:lnTo>
                    <a:pt x="652" y="626"/>
                  </a:lnTo>
                  <a:lnTo>
                    <a:pt x="670" y="635"/>
                  </a:lnTo>
                  <a:lnTo>
                    <a:pt x="687" y="635"/>
                  </a:lnTo>
                  <a:lnTo>
                    <a:pt x="705" y="635"/>
                  </a:lnTo>
                  <a:lnTo>
                    <a:pt x="723" y="635"/>
                  </a:lnTo>
                  <a:lnTo>
                    <a:pt x="740" y="635"/>
                  </a:lnTo>
                  <a:lnTo>
                    <a:pt x="758" y="635"/>
                  </a:lnTo>
                  <a:lnTo>
                    <a:pt x="776" y="635"/>
                  </a:lnTo>
                  <a:lnTo>
                    <a:pt x="793" y="635"/>
                  </a:lnTo>
                  <a:lnTo>
                    <a:pt x="811" y="635"/>
                  </a:lnTo>
                  <a:lnTo>
                    <a:pt x="829" y="635"/>
                  </a:lnTo>
                  <a:lnTo>
                    <a:pt x="846" y="635"/>
                  </a:lnTo>
                  <a:lnTo>
                    <a:pt x="864" y="635"/>
                  </a:lnTo>
                  <a:lnTo>
                    <a:pt x="881" y="635"/>
                  </a:lnTo>
                  <a:lnTo>
                    <a:pt x="899" y="635"/>
                  </a:lnTo>
                  <a:lnTo>
                    <a:pt x="917" y="635"/>
                  </a:lnTo>
                  <a:lnTo>
                    <a:pt x="934" y="643"/>
                  </a:lnTo>
                  <a:lnTo>
                    <a:pt x="952" y="652"/>
                  </a:lnTo>
                  <a:lnTo>
                    <a:pt x="970" y="661"/>
                  </a:lnTo>
                  <a:lnTo>
                    <a:pt x="987" y="670"/>
                  </a:lnTo>
                  <a:lnTo>
                    <a:pt x="1014" y="670"/>
                  </a:lnTo>
                  <a:lnTo>
                    <a:pt x="1031" y="670"/>
                  </a:lnTo>
                  <a:lnTo>
                    <a:pt x="1049" y="670"/>
                  </a:lnTo>
                  <a:lnTo>
                    <a:pt x="1075" y="679"/>
                  </a:lnTo>
                  <a:lnTo>
                    <a:pt x="1093" y="679"/>
                  </a:lnTo>
                  <a:lnTo>
                    <a:pt x="1120" y="679"/>
                  </a:lnTo>
                  <a:lnTo>
                    <a:pt x="1137" y="679"/>
                  </a:lnTo>
                  <a:lnTo>
                    <a:pt x="1155" y="679"/>
                  </a:lnTo>
                  <a:lnTo>
                    <a:pt x="1181" y="679"/>
                  </a:lnTo>
                  <a:lnTo>
                    <a:pt x="1199" y="679"/>
                  </a:lnTo>
                  <a:lnTo>
                    <a:pt x="1217" y="670"/>
                  </a:lnTo>
                  <a:lnTo>
                    <a:pt x="1225" y="652"/>
                  </a:lnTo>
                  <a:lnTo>
                    <a:pt x="1234" y="635"/>
                  </a:lnTo>
                  <a:lnTo>
                    <a:pt x="1261" y="635"/>
                  </a:lnTo>
                  <a:lnTo>
                    <a:pt x="1278" y="635"/>
                  </a:lnTo>
                  <a:lnTo>
                    <a:pt x="1296" y="635"/>
                  </a:lnTo>
                  <a:lnTo>
                    <a:pt x="1314" y="635"/>
                  </a:lnTo>
                  <a:lnTo>
                    <a:pt x="1331" y="635"/>
                  </a:lnTo>
                  <a:lnTo>
                    <a:pt x="1349" y="635"/>
                  </a:lnTo>
                  <a:lnTo>
                    <a:pt x="1349" y="617"/>
                  </a:lnTo>
                  <a:lnTo>
                    <a:pt x="1367" y="608"/>
                  </a:lnTo>
                  <a:lnTo>
                    <a:pt x="1384" y="608"/>
                  </a:lnTo>
                  <a:lnTo>
                    <a:pt x="1402" y="599"/>
                  </a:lnTo>
                  <a:lnTo>
                    <a:pt x="1419" y="599"/>
                  </a:lnTo>
                  <a:lnTo>
                    <a:pt x="1428" y="582"/>
                  </a:lnTo>
                  <a:lnTo>
                    <a:pt x="1437" y="564"/>
                  </a:lnTo>
                  <a:lnTo>
                    <a:pt x="1455" y="564"/>
                  </a:lnTo>
                  <a:lnTo>
                    <a:pt x="1472" y="555"/>
                  </a:lnTo>
                  <a:lnTo>
                    <a:pt x="1472" y="537"/>
                  </a:lnTo>
                  <a:lnTo>
                    <a:pt x="1481" y="520"/>
                  </a:lnTo>
                  <a:lnTo>
                    <a:pt x="1481" y="502"/>
                  </a:lnTo>
                  <a:lnTo>
                    <a:pt x="1490" y="485"/>
                  </a:lnTo>
                  <a:lnTo>
                    <a:pt x="1490" y="467"/>
                  </a:lnTo>
                  <a:lnTo>
                    <a:pt x="1490" y="432"/>
                  </a:lnTo>
                  <a:lnTo>
                    <a:pt x="1490" y="414"/>
                  </a:lnTo>
                  <a:lnTo>
                    <a:pt x="1490" y="388"/>
                  </a:lnTo>
                  <a:lnTo>
                    <a:pt x="1490" y="370"/>
                  </a:lnTo>
                  <a:lnTo>
                    <a:pt x="1499" y="352"/>
                  </a:lnTo>
                  <a:lnTo>
                    <a:pt x="1499" y="335"/>
                  </a:lnTo>
                  <a:lnTo>
                    <a:pt x="1516" y="317"/>
                  </a:lnTo>
                  <a:lnTo>
                    <a:pt x="1534" y="317"/>
                  </a:lnTo>
                  <a:lnTo>
                    <a:pt x="1552" y="308"/>
                  </a:lnTo>
                  <a:lnTo>
                    <a:pt x="1569" y="299"/>
                  </a:lnTo>
                  <a:lnTo>
                    <a:pt x="1587" y="299"/>
                  </a:lnTo>
                  <a:lnTo>
                    <a:pt x="1613" y="282"/>
                  </a:lnTo>
                  <a:lnTo>
                    <a:pt x="1631" y="282"/>
                  </a:lnTo>
                  <a:lnTo>
                    <a:pt x="1649" y="273"/>
                  </a:lnTo>
                  <a:lnTo>
                    <a:pt x="1666" y="273"/>
                  </a:lnTo>
                  <a:lnTo>
                    <a:pt x="1684" y="264"/>
                  </a:lnTo>
                  <a:lnTo>
                    <a:pt x="1702" y="264"/>
                  </a:lnTo>
                  <a:lnTo>
                    <a:pt x="1719" y="264"/>
                  </a:lnTo>
                  <a:lnTo>
                    <a:pt x="1737" y="264"/>
                  </a:lnTo>
                  <a:lnTo>
                    <a:pt x="1728" y="229"/>
                  </a:lnTo>
                  <a:lnTo>
                    <a:pt x="1755" y="238"/>
                  </a:lnTo>
                  <a:lnTo>
                    <a:pt x="1772" y="246"/>
                  </a:lnTo>
                  <a:lnTo>
                    <a:pt x="1781" y="264"/>
                  </a:lnTo>
                  <a:lnTo>
                    <a:pt x="1807" y="291"/>
                  </a:lnTo>
                  <a:lnTo>
                    <a:pt x="1834" y="308"/>
                  </a:lnTo>
                  <a:lnTo>
                    <a:pt x="1852" y="308"/>
                  </a:lnTo>
                  <a:lnTo>
                    <a:pt x="1869" y="308"/>
                  </a:lnTo>
                  <a:lnTo>
                    <a:pt x="1887" y="308"/>
                  </a:lnTo>
                  <a:lnTo>
                    <a:pt x="1905" y="308"/>
                  </a:lnTo>
                  <a:lnTo>
                    <a:pt x="1931" y="317"/>
                  </a:lnTo>
                  <a:lnTo>
                    <a:pt x="1949" y="317"/>
                  </a:lnTo>
                  <a:lnTo>
                    <a:pt x="1966" y="317"/>
                  </a:lnTo>
                  <a:lnTo>
                    <a:pt x="1993" y="317"/>
                  </a:lnTo>
                  <a:lnTo>
                    <a:pt x="2010" y="317"/>
                  </a:lnTo>
                  <a:lnTo>
                    <a:pt x="2037" y="317"/>
                  </a:lnTo>
                  <a:lnTo>
                    <a:pt x="2054" y="317"/>
                  </a:lnTo>
                  <a:lnTo>
                    <a:pt x="2072" y="317"/>
                  </a:lnTo>
                  <a:lnTo>
                    <a:pt x="2090" y="308"/>
                  </a:lnTo>
                  <a:lnTo>
                    <a:pt x="2107" y="308"/>
                  </a:lnTo>
                  <a:lnTo>
                    <a:pt x="2125" y="308"/>
                  </a:lnTo>
                  <a:lnTo>
                    <a:pt x="2143" y="308"/>
                  </a:lnTo>
                  <a:lnTo>
                    <a:pt x="2160" y="308"/>
                  </a:lnTo>
                  <a:lnTo>
                    <a:pt x="2169" y="291"/>
                  </a:lnTo>
                  <a:lnTo>
                    <a:pt x="2169" y="273"/>
                  </a:lnTo>
                  <a:lnTo>
                    <a:pt x="2187" y="273"/>
                  </a:lnTo>
                  <a:lnTo>
                    <a:pt x="2213" y="273"/>
                  </a:lnTo>
                  <a:lnTo>
                    <a:pt x="2231" y="282"/>
                  </a:lnTo>
                  <a:lnTo>
                    <a:pt x="2248" y="282"/>
                  </a:lnTo>
                  <a:lnTo>
                    <a:pt x="2266" y="282"/>
                  </a:lnTo>
                  <a:lnTo>
                    <a:pt x="2284" y="273"/>
                  </a:lnTo>
                  <a:lnTo>
                    <a:pt x="2301" y="273"/>
                  </a:lnTo>
                  <a:lnTo>
                    <a:pt x="2328" y="264"/>
                  </a:lnTo>
                  <a:lnTo>
                    <a:pt x="2345" y="255"/>
                  </a:lnTo>
                  <a:lnTo>
                    <a:pt x="2363" y="238"/>
                  </a:lnTo>
                  <a:lnTo>
                    <a:pt x="2382" y="220"/>
                  </a:lnTo>
                  <a:lnTo>
                    <a:pt x="2391" y="202"/>
                  </a:lnTo>
                  <a:lnTo>
                    <a:pt x="2408" y="202"/>
                  </a:lnTo>
                  <a:lnTo>
                    <a:pt x="2443" y="194"/>
                  </a:lnTo>
                  <a:lnTo>
                    <a:pt x="2461" y="185"/>
                  </a:lnTo>
                  <a:lnTo>
                    <a:pt x="2479" y="176"/>
                  </a:lnTo>
                  <a:lnTo>
                    <a:pt x="2488" y="158"/>
                  </a:lnTo>
                  <a:lnTo>
                    <a:pt x="2496" y="141"/>
                  </a:lnTo>
                  <a:lnTo>
                    <a:pt x="2514" y="132"/>
                  </a:lnTo>
                  <a:lnTo>
                    <a:pt x="2532" y="123"/>
                  </a:lnTo>
                  <a:lnTo>
                    <a:pt x="2541" y="105"/>
                  </a:lnTo>
                  <a:lnTo>
                    <a:pt x="2541" y="88"/>
                  </a:lnTo>
                  <a:lnTo>
                    <a:pt x="2541" y="52"/>
                  </a:lnTo>
                  <a:lnTo>
                    <a:pt x="2549" y="26"/>
                  </a:lnTo>
                  <a:lnTo>
                    <a:pt x="2558" y="8"/>
                  </a:lnTo>
                  <a:lnTo>
                    <a:pt x="2576" y="0"/>
                  </a:lnTo>
                  <a:lnTo>
                    <a:pt x="2593" y="0"/>
                  </a:lnTo>
                  <a:lnTo>
                    <a:pt x="2611" y="0"/>
                  </a:lnTo>
                  <a:lnTo>
                    <a:pt x="2638" y="0"/>
                  </a:lnTo>
                  <a:lnTo>
                    <a:pt x="2655" y="0"/>
                  </a:lnTo>
                  <a:lnTo>
                    <a:pt x="2664" y="17"/>
                  </a:lnTo>
                  <a:lnTo>
                    <a:pt x="2664" y="35"/>
                  </a:lnTo>
                  <a:lnTo>
                    <a:pt x="2673" y="52"/>
                  </a:lnTo>
                  <a:lnTo>
                    <a:pt x="2690" y="61"/>
                  </a:lnTo>
                  <a:lnTo>
                    <a:pt x="2699" y="79"/>
                  </a:lnTo>
                  <a:lnTo>
                    <a:pt x="2708" y="97"/>
                  </a:lnTo>
                  <a:lnTo>
                    <a:pt x="2717" y="114"/>
                  </a:lnTo>
                  <a:lnTo>
                    <a:pt x="2735" y="132"/>
                  </a:lnTo>
                  <a:lnTo>
                    <a:pt x="2743" y="149"/>
                  </a:lnTo>
                  <a:lnTo>
                    <a:pt x="2752" y="167"/>
                  </a:lnTo>
                  <a:lnTo>
                    <a:pt x="2761" y="185"/>
                  </a:lnTo>
                  <a:lnTo>
                    <a:pt x="2779" y="202"/>
                  </a:lnTo>
                  <a:lnTo>
                    <a:pt x="2796" y="220"/>
                  </a:lnTo>
                  <a:lnTo>
                    <a:pt x="2805" y="238"/>
                  </a:lnTo>
                  <a:lnTo>
                    <a:pt x="2814" y="255"/>
                  </a:lnTo>
                  <a:lnTo>
                    <a:pt x="2832" y="264"/>
                  </a:lnTo>
                  <a:lnTo>
                    <a:pt x="2840" y="282"/>
                  </a:lnTo>
                  <a:lnTo>
                    <a:pt x="2858" y="291"/>
                  </a:lnTo>
                  <a:lnTo>
                    <a:pt x="2876" y="299"/>
                  </a:lnTo>
                  <a:lnTo>
                    <a:pt x="2893" y="317"/>
                  </a:lnTo>
                  <a:lnTo>
                    <a:pt x="2911" y="317"/>
                  </a:lnTo>
                  <a:lnTo>
                    <a:pt x="2955" y="326"/>
                  </a:lnTo>
                  <a:lnTo>
                    <a:pt x="2973" y="326"/>
                  </a:lnTo>
                  <a:lnTo>
                    <a:pt x="2990" y="326"/>
                  </a:lnTo>
                  <a:lnTo>
                    <a:pt x="3017" y="326"/>
                  </a:lnTo>
                  <a:lnTo>
                    <a:pt x="3026" y="343"/>
                  </a:lnTo>
                  <a:lnTo>
                    <a:pt x="3043" y="361"/>
                  </a:lnTo>
                  <a:lnTo>
                    <a:pt x="3061" y="370"/>
                  </a:lnTo>
                  <a:lnTo>
                    <a:pt x="3078" y="370"/>
                  </a:lnTo>
                  <a:lnTo>
                    <a:pt x="3096" y="388"/>
                  </a:lnTo>
                  <a:lnTo>
                    <a:pt x="3114" y="396"/>
                  </a:lnTo>
                  <a:lnTo>
                    <a:pt x="3140" y="414"/>
                  </a:lnTo>
                  <a:lnTo>
                    <a:pt x="3149" y="432"/>
                  </a:lnTo>
                  <a:lnTo>
                    <a:pt x="3167" y="440"/>
                  </a:lnTo>
                  <a:lnTo>
                    <a:pt x="3184" y="440"/>
                  </a:lnTo>
                  <a:lnTo>
                    <a:pt x="3202" y="440"/>
                  </a:lnTo>
                  <a:lnTo>
                    <a:pt x="3220" y="449"/>
                  </a:lnTo>
                  <a:lnTo>
                    <a:pt x="3237" y="458"/>
                  </a:lnTo>
                  <a:lnTo>
                    <a:pt x="3246" y="476"/>
                  </a:lnTo>
                  <a:lnTo>
                    <a:pt x="3264" y="493"/>
                  </a:lnTo>
                  <a:lnTo>
                    <a:pt x="3281" y="502"/>
                  </a:lnTo>
                  <a:lnTo>
                    <a:pt x="3299" y="520"/>
                  </a:lnTo>
                  <a:lnTo>
                    <a:pt x="3317" y="529"/>
                  </a:lnTo>
                  <a:lnTo>
                    <a:pt x="3334" y="537"/>
                  </a:lnTo>
                  <a:lnTo>
                    <a:pt x="3352" y="546"/>
                  </a:lnTo>
                  <a:lnTo>
                    <a:pt x="3370" y="564"/>
                  </a:lnTo>
                  <a:lnTo>
                    <a:pt x="3387" y="573"/>
                  </a:lnTo>
                  <a:lnTo>
                    <a:pt x="3396" y="590"/>
                  </a:lnTo>
                  <a:lnTo>
                    <a:pt x="3414" y="608"/>
                  </a:lnTo>
                  <a:lnTo>
                    <a:pt x="3422" y="626"/>
                  </a:lnTo>
                  <a:lnTo>
                    <a:pt x="3449" y="643"/>
                  </a:lnTo>
                  <a:lnTo>
                    <a:pt x="3467" y="652"/>
                  </a:lnTo>
                  <a:lnTo>
                    <a:pt x="3467" y="740"/>
                  </a:lnTo>
                  <a:lnTo>
                    <a:pt x="3484" y="749"/>
                  </a:lnTo>
                  <a:lnTo>
                    <a:pt x="3502" y="758"/>
                  </a:lnTo>
                  <a:lnTo>
                    <a:pt x="3511" y="776"/>
                  </a:lnTo>
                  <a:lnTo>
                    <a:pt x="3519" y="793"/>
                  </a:lnTo>
                  <a:lnTo>
                    <a:pt x="3537" y="802"/>
                  </a:lnTo>
                  <a:lnTo>
                    <a:pt x="3546" y="820"/>
                  </a:lnTo>
                  <a:lnTo>
                    <a:pt x="3555" y="837"/>
                  </a:lnTo>
                  <a:lnTo>
                    <a:pt x="3564" y="855"/>
                  </a:lnTo>
                  <a:lnTo>
                    <a:pt x="3590" y="873"/>
                  </a:lnTo>
                  <a:lnTo>
                    <a:pt x="3599" y="890"/>
                  </a:lnTo>
                  <a:lnTo>
                    <a:pt x="3616" y="917"/>
                  </a:lnTo>
                  <a:lnTo>
                    <a:pt x="3634" y="943"/>
                  </a:lnTo>
                  <a:lnTo>
                    <a:pt x="3652" y="961"/>
                  </a:lnTo>
                  <a:lnTo>
                    <a:pt x="3669" y="978"/>
                  </a:lnTo>
                  <a:lnTo>
                    <a:pt x="3678" y="996"/>
                  </a:lnTo>
                  <a:lnTo>
                    <a:pt x="3678" y="1023"/>
                  </a:lnTo>
                  <a:lnTo>
                    <a:pt x="3696" y="1031"/>
                  </a:lnTo>
                  <a:lnTo>
                    <a:pt x="3713" y="1031"/>
                  </a:lnTo>
                  <a:lnTo>
                    <a:pt x="3731" y="1040"/>
                  </a:lnTo>
                  <a:lnTo>
                    <a:pt x="3731" y="1058"/>
                  </a:lnTo>
                  <a:lnTo>
                    <a:pt x="3749" y="1067"/>
                  </a:lnTo>
                  <a:lnTo>
                    <a:pt x="3758" y="1084"/>
                  </a:lnTo>
                  <a:lnTo>
                    <a:pt x="3775" y="1093"/>
                  </a:lnTo>
                  <a:lnTo>
                    <a:pt x="3793" y="1102"/>
                  </a:lnTo>
                  <a:lnTo>
                    <a:pt x="3802" y="1120"/>
                  </a:lnTo>
                  <a:lnTo>
                    <a:pt x="3828" y="1137"/>
                  </a:lnTo>
                  <a:lnTo>
                    <a:pt x="3837" y="1155"/>
                  </a:lnTo>
                  <a:lnTo>
                    <a:pt x="3855" y="1164"/>
                  </a:lnTo>
                  <a:lnTo>
                    <a:pt x="3855" y="1182"/>
                  </a:lnTo>
                  <a:lnTo>
                    <a:pt x="3872" y="1200"/>
                  </a:lnTo>
                  <a:lnTo>
                    <a:pt x="3881" y="1218"/>
                  </a:lnTo>
                  <a:lnTo>
                    <a:pt x="3899" y="1226"/>
                  </a:lnTo>
                  <a:lnTo>
                    <a:pt x="3916" y="1235"/>
                  </a:lnTo>
                  <a:lnTo>
                    <a:pt x="3943" y="1235"/>
                  </a:lnTo>
                  <a:lnTo>
                    <a:pt x="3960" y="1235"/>
                  </a:lnTo>
                  <a:lnTo>
                    <a:pt x="3978" y="1235"/>
                  </a:lnTo>
                  <a:lnTo>
                    <a:pt x="3996" y="1235"/>
                  </a:lnTo>
                  <a:lnTo>
                    <a:pt x="4013" y="1235"/>
                  </a:lnTo>
                  <a:lnTo>
                    <a:pt x="4031" y="1235"/>
                  </a:lnTo>
                  <a:lnTo>
                    <a:pt x="4049" y="1235"/>
                  </a:lnTo>
                  <a:lnTo>
                    <a:pt x="4066" y="1244"/>
                  </a:lnTo>
                  <a:lnTo>
                    <a:pt x="4084" y="1244"/>
                  </a:lnTo>
                  <a:lnTo>
                    <a:pt x="4110" y="1244"/>
                  </a:lnTo>
                  <a:lnTo>
                    <a:pt x="4128" y="1235"/>
                  </a:lnTo>
                  <a:lnTo>
                    <a:pt x="4146" y="1235"/>
                  </a:lnTo>
                  <a:lnTo>
                    <a:pt x="4154" y="1218"/>
                  </a:lnTo>
                  <a:lnTo>
                    <a:pt x="4181" y="1209"/>
                  </a:lnTo>
                  <a:lnTo>
                    <a:pt x="4199" y="1200"/>
                  </a:lnTo>
                  <a:lnTo>
                    <a:pt x="4216" y="1191"/>
                  </a:lnTo>
                  <a:lnTo>
                    <a:pt x="4234" y="1182"/>
                  </a:lnTo>
                  <a:lnTo>
                    <a:pt x="4251" y="1172"/>
                  </a:lnTo>
                  <a:lnTo>
                    <a:pt x="4269" y="1164"/>
                  </a:lnTo>
                  <a:lnTo>
                    <a:pt x="4287" y="1155"/>
                  </a:lnTo>
                  <a:lnTo>
                    <a:pt x="4296" y="1137"/>
                  </a:lnTo>
                  <a:lnTo>
                    <a:pt x="4313" y="1137"/>
                  </a:lnTo>
                  <a:lnTo>
                    <a:pt x="4322" y="1120"/>
                  </a:lnTo>
                  <a:lnTo>
                    <a:pt x="4348" y="1111"/>
                  </a:lnTo>
                  <a:lnTo>
                    <a:pt x="4366" y="1111"/>
                  </a:lnTo>
                  <a:lnTo>
                    <a:pt x="4384" y="1111"/>
                  </a:lnTo>
                  <a:lnTo>
                    <a:pt x="4401" y="1102"/>
                  </a:lnTo>
                  <a:lnTo>
                    <a:pt x="4410" y="1084"/>
                  </a:lnTo>
                  <a:lnTo>
                    <a:pt x="4428" y="1067"/>
                  </a:lnTo>
                  <a:lnTo>
                    <a:pt x="4446" y="1067"/>
                  </a:lnTo>
                  <a:lnTo>
                    <a:pt x="4463" y="1067"/>
                  </a:lnTo>
                  <a:lnTo>
                    <a:pt x="4481" y="1067"/>
                  </a:lnTo>
                  <a:lnTo>
                    <a:pt x="4490" y="1084"/>
                  </a:lnTo>
                  <a:lnTo>
                    <a:pt x="4472" y="1102"/>
                  </a:lnTo>
                  <a:lnTo>
                    <a:pt x="4454" y="1111"/>
                  </a:lnTo>
                  <a:lnTo>
                    <a:pt x="4446" y="1128"/>
                  </a:lnTo>
                  <a:lnTo>
                    <a:pt x="4437" y="1146"/>
                  </a:lnTo>
                  <a:lnTo>
                    <a:pt x="4419" y="1164"/>
                  </a:lnTo>
                  <a:lnTo>
                    <a:pt x="4410" y="1182"/>
                  </a:lnTo>
                  <a:lnTo>
                    <a:pt x="4401" y="1209"/>
                  </a:lnTo>
                  <a:lnTo>
                    <a:pt x="4393" y="1226"/>
                  </a:lnTo>
                  <a:lnTo>
                    <a:pt x="4366" y="1253"/>
                  </a:lnTo>
                  <a:lnTo>
                    <a:pt x="4357" y="1271"/>
                  </a:lnTo>
                  <a:lnTo>
                    <a:pt x="4340" y="1297"/>
                  </a:lnTo>
                  <a:lnTo>
                    <a:pt x="4322" y="1306"/>
                  </a:lnTo>
                  <a:lnTo>
                    <a:pt x="4287" y="1332"/>
                  </a:lnTo>
                  <a:lnTo>
                    <a:pt x="4278" y="1350"/>
                  </a:lnTo>
                  <a:lnTo>
                    <a:pt x="4260" y="1359"/>
                  </a:lnTo>
                  <a:lnTo>
                    <a:pt x="4251" y="1376"/>
                  </a:lnTo>
                  <a:lnTo>
                    <a:pt x="4234" y="1394"/>
                  </a:lnTo>
                  <a:lnTo>
                    <a:pt x="4216" y="1420"/>
                  </a:lnTo>
                  <a:lnTo>
                    <a:pt x="4207" y="1438"/>
                  </a:lnTo>
                  <a:lnTo>
                    <a:pt x="4199" y="1456"/>
                  </a:lnTo>
                  <a:lnTo>
                    <a:pt x="4199" y="1473"/>
                  </a:lnTo>
                  <a:lnTo>
                    <a:pt x="4190" y="1491"/>
                  </a:lnTo>
                  <a:lnTo>
                    <a:pt x="4190" y="1509"/>
                  </a:lnTo>
                  <a:lnTo>
                    <a:pt x="4190" y="1526"/>
                  </a:lnTo>
                  <a:lnTo>
                    <a:pt x="4190" y="1544"/>
                  </a:lnTo>
                  <a:lnTo>
                    <a:pt x="4190" y="1562"/>
                  </a:lnTo>
                  <a:lnTo>
                    <a:pt x="4154" y="1570"/>
                  </a:lnTo>
                  <a:lnTo>
                    <a:pt x="4154" y="1588"/>
                  </a:lnTo>
                  <a:lnTo>
                    <a:pt x="4154" y="1623"/>
                  </a:lnTo>
                  <a:lnTo>
                    <a:pt x="4154" y="1641"/>
                  </a:lnTo>
                  <a:lnTo>
                    <a:pt x="4146" y="1659"/>
                  </a:lnTo>
                  <a:lnTo>
                    <a:pt x="4146" y="1676"/>
                  </a:lnTo>
                  <a:lnTo>
                    <a:pt x="4146" y="1711"/>
                  </a:lnTo>
                  <a:lnTo>
                    <a:pt x="4146" y="1729"/>
                  </a:lnTo>
                  <a:lnTo>
                    <a:pt x="4146" y="1747"/>
                  </a:lnTo>
                  <a:lnTo>
                    <a:pt x="4146" y="1764"/>
                  </a:lnTo>
                  <a:lnTo>
                    <a:pt x="4146" y="1791"/>
                  </a:lnTo>
                  <a:lnTo>
                    <a:pt x="4146" y="1808"/>
                  </a:lnTo>
                  <a:lnTo>
                    <a:pt x="4146" y="1826"/>
                  </a:lnTo>
                  <a:lnTo>
                    <a:pt x="4163" y="1826"/>
                  </a:lnTo>
                  <a:lnTo>
                    <a:pt x="4190" y="1826"/>
                  </a:lnTo>
                  <a:lnTo>
                    <a:pt x="4207" y="1835"/>
                  </a:lnTo>
                  <a:lnTo>
                    <a:pt x="4225" y="1835"/>
                  </a:lnTo>
                  <a:lnTo>
                    <a:pt x="4243" y="1844"/>
                  </a:lnTo>
                  <a:lnTo>
                    <a:pt x="4260" y="1853"/>
                  </a:lnTo>
                  <a:lnTo>
                    <a:pt x="4269" y="1870"/>
                  </a:lnTo>
                  <a:lnTo>
                    <a:pt x="4296" y="1879"/>
                  </a:lnTo>
                  <a:lnTo>
                    <a:pt x="4313" y="1879"/>
                  </a:lnTo>
                  <a:lnTo>
                    <a:pt x="4331" y="1861"/>
                  </a:lnTo>
                  <a:lnTo>
                    <a:pt x="4340" y="1844"/>
                  </a:lnTo>
                  <a:lnTo>
                    <a:pt x="4348" y="1826"/>
                  </a:lnTo>
                  <a:lnTo>
                    <a:pt x="4348" y="1808"/>
                  </a:lnTo>
                  <a:lnTo>
                    <a:pt x="4348" y="1791"/>
                  </a:lnTo>
                  <a:lnTo>
                    <a:pt x="4357" y="1773"/>
                  </a:lnTo>
                  <a:lnTo>
                    <a:pt x="4375" y="1773"/>
                  </a:lnTo>
                  <a:lnTo>
                    <a:pt x="4384" y="1756"/>
                  </a:lnTo>
                  <a:lnTo>
                    <a:pt x="4401" y="1756"/>
                  </a:lnTo>
                  <a:lnTo>
                    <a:pt x="4419" y="1738"/>
                  </a:lnTo>
                  <a:lnTo>
                    <a:pt x="4437" y="1729"/>
                  </a:lnTo>
                  <a:lnTo>
                    <a:pt x="4446" y="1711"/>
                  </a:lnTo>
                  <a:lnTo>
                    <a:pt x="4463" y="1703"/>
                  </a:lnTo>
                  <a:lnTo>
                    <a:pt x="4481" y="1703"/>
                  </a:lnTo>
                  <a:lnTo>
                    <a:pt x="4498" y="1694"/>
                  </a:lnTo>
                  <a:lnTo>
                    <a:pt x="4516" y="1694"/>
                  </a:lnTo>
                  <a:lnTo>
                    <a:pt x="4534" y="1694"/>
                  </a:lnTo>
                  <a:lnTo>
                    <a:pt x="4551" y="1694"/>
                  </a:lnTo>
                  <a:lnTo>
                    <a:pt x="4569" y="1694"/>
                  </a:lnTo>
                  <a:lnTo>
                    <a:pt x="4587" y="1703"/>
                  </a:lnTo>
                  <a:lnTo>
                    <a:pt x="4613" y="1720"/>
                  </a:lnTo>
                  <a:lnTo>
                    <a:pt x="4631" y="1729"/>
                  </a:lnTo>
                  <a:lnTo>
                    <a:pt x="4657" y="1738"/>
                  </a:lnTo>
                  <a:lnTo>
                    <a:pt x="4675" y="1738"/>
                  </a:lnTo>
                  <a:lnTo>
                    <a:pt x="4684" y="1756"/>
                  </a:lnTo>
                  <a:lnTo>
                    <a:pt x="4692" y="1773"/>
                  </a:lnTo>
                  <a:lnTo>
                    <a:pt x="4701" y="1791"/>
                  </a:lnTo>
                  <a:lnTo>
                    <a:pt x="4710" y="1808"/>
                  </a:lnTo>
                  <a:lnTo>
                    <a:pt x="4719" y="1826"/>
                  </a:lnTo>
                  <a:lnTo>
                    <a:pt x="4719" y="1844"/>
                  </a:lnTo>
                  <a:lnTo>
                    <a:pt x="4728" y="1879"/>
                  </a:lnTo>
                  <a:lnTo>
                    <a:pt x="4737" y="1897"/>
                  </a:lnTo>
                  <a:lnTo>
                    <a:pt x="4737" y="1932"/>
                  </a:lnTo>
                  <a:lnTo>
                    <a:pt x="4737" y="1950"/>
                  </a:lnTo>
                  <a:lnTo>
                    <a:pt x="4728" y="1985"/>
                  </a:lnTo>
                  <a:lnTo>
                    <a:pt x="4728" y="2003"/>
                  </a:lnTo>
                  <a:lnTo>
                    <a:pt x="4719" y="2020"/>
                  </a:lnTo>
                  <a:lnTo>
                    <a:pt x="4719" y="2038"/>
                  </a:lnTo>
                  <a:lnTo>
                    <a:pt x="4719" y="2055"/>
                  </a:lnTo>
                  <a:lnTo>
                    <a:pt x="4701" y="2064"/>
                  </a:lnTo>
                  <a:lnTo>
                    <a:pt x="4684" y="2082"/>
                  </a:lnTo>
                  <a:lnTo>
                    <a:pt x="4666" y="2091"/>
                  </a:lnTo>
                  <a:lnTo>
                    <a:pt x="4648" y="2100"/>
                  </a:lnTo>
                  <a:lnTo>
                    <a:pt x="4631" y="2108"/>
                  </a:lnTo>
                  <a:lnTo>
                    <a:pt x="4604" y="2117"/>
                  </a:lnTo>
                  <a:lnTo>
                    <a:pt x="4587" y="2117"/>
                  </a:lnTo>
                  <a:lnTo>
                    <a:pt x="4569" y="2117"/>
                  </a:lnTo>
                  <a:lnTo>
                    <a:pt x="4551" y="2126"/>
                  </a:lnTo>
                  <a:lnTo>
                    <a:pt x="4534" y="2126"/>
                  </a:lnTo>
                  <a:lnTo>
                    <a:pt x="4507" y="2126"/>
                  </a:lnTo>
                  <a:lnTo>
                    <a:pt x="4490" y="2126"/>
                  </a:lnTo>
                  <a:lnTo>
                    <a:pt x="4472" y="2126"/>
                  </a:lnTo>
                  <a:lnTo>
                    <a:pt x="4454" y="2126"/>
                  </a:lnTo>
                  <a:lnTo>
                    <a:pt x="4437" y="2126"/>
                  </a:lnTo>
                  <a:lnTo>
                    <a:pt x="4428" y="2108"/>
                  </a:lnTo>
                  <a:lnTo>
                    <a:pt x="4419" y="2091"/>
                  </a:lnTo>
                  <a:lnTo>
                    <a:pt x="4401" y="2073"/>
                  </a:lnTo>
                  <a:lnTo>
                    <a:pt x="4384" y="2055"/>
                  </a:lnTo>
                  <a:lnTo>
                    <a:pt x="4366" y="2047"/>
                  </a:lnTo>
                  <a:lnTo>
                    <a:pt x="4348" y="2038"/>
                  </a:lnTo>
                  <a:lnTo>
                    <a:pt x="4340" y="2020"/>
                  </a:lnTo>
                  <a:lnTo>
                    <a:pt x="4234" y="2126"/>
                  </a:lnTo>
                  <a:lnTo>
                    <a:pt x="4234" y="2144"/>
                  </a:lnTo>
                  <a:lnTo>
                    <a:pt x="4234" y="2161"/>
                  </a:lnTo>
                  <a:lnTo>
                    <a:pt x="4243" y="2188"/>
                  </a:lnTo>
                  <a:lnTo>
                    <a:pt x="4243" y="2205"/>
                  </a:lnTo>
                  <a:lnTo>
                    <a:pt x="4234" y="2232"/>
                  </a:lnTo>
                  <a:lnTo>
                    <a:pt x="4225" y="2249"/>
                  </a:lnTo>
                  <a:lnTo>
                    <a:pt x="4216" y="2267"/>
                  </a:lnTo>
                  <a:lnTo>
                    <a:pt x="4199" y="2276"/>
                  </a:lnTo>
                  <a:lnTo>
                    <a:pt x="4190" y="2294"/>
                  </a:lnTo>
                  <a:lnTo>
                    <a:pt x="4190" y="2311"/>
                  </a:lnTo>
                  <a:lnTo>
                    <a:pt x="4190" y="2329"/>
                  </a:lnTo>
                  <a:lnTo>
                    <a:pt x="4190" y="2355"/>
                  </a:lnTo>
                  <a:lnTo>
                    <a:pt x="4190" y="2373"/>
                  </a:lnTo>
                  <a:lnTo>
                    <a:pt x="4190" y="2391"/>
                  </a:lnTo>
                  <a:lnTo>
                    <a:pt x="4190" y="2408"/>
                  </a:lnTo>
                  <a:lnTo>
                    <a:pt x="4190" y="2426"/>
                  </a:lnTo>
                  <a:lnTo>
                    <a:pt x="4190" y="2443"/>
                  </a:lnTo>
                  <a:lnTo>
                    <a:pt x="4207" y="2452"/>
                  </a:lnTo>
                  <a:lnTo>
                    <a:pt x="4225" y="2452"/>
                  </a:lnTo>
                  <a:lnTo>
                    <a:pt x="4234" y="2470"/>
                  </a:lnTo>
                  <a:lnTo>
                    <a:pt x="4234" y="2488"/>
                  </a:lnTo>
                  <a:lnTo>
                    <a:pt x="4234" y="2505"/>
                  </a:lnTo>
                  <a:lnTo>
                    <a:pt x="4234" y="2523"/>
                  </a:lnTo>
                  <a:lnTo>
                    <a:pt x="4234" y="2541"/>
                  </a:lnTo>
                  <a:lnTo>
                    <a:pt x="4234" y="2558"/>
                  </a:lnTo>
                  <a:lnTo>
                    <a:pt x="4234" y="2576"/>
                  </a:lnTo>
                  <a:lnTo>
                    <a:pt x="4234" y="2593"/>
                  </a:lnTo>
                  <a:lnTo>
                    <a:pt x="4225" y="2620"/>
                  </a:lnTo>
                  <a:lnTo>
                    <a:pt x="4225" y="2638"/>
                  </a:lnTo>
                  <a:lnTo>
                    <a:pt x="4225" y="2655"/>
                  </a:lnTo>
                  <a:lnTo>
                    <a:pt x="4234" y="2673"/>
                  </a:lnTo>
                  <a:lnTo>
                    <a:pt x="4234" y="2708"/>
                  </a:lnTo>
                  <a:lnTo>
                    <a:pt x="4199" y="2761"/>
                  </a:lnTo>
                  <a:lnTo>
                    <a:pt x="4199" y="2779"/>
                  </a:lnTo>
                  <a:lnTo>
                    <a:pt x="4190" y="2796"/>
                  </a:lnTo>
                  <a:lnTo>
                    <a:pt x="4190" y="2814"/>
                  </a:lnTo>
                  <a:lnTo>
                    <a:pt x="4181" y="2832"/>
                  </a:lnTo>
                  <a:lnTo>
                    <a:pt x="4172" y="2849"/>
                  </a:lnTo>
                  <a:lnTo>
                    <a:pt x="4154" y="2858"/>
                  </a:lnTo>
                  <a:lnTo>
                    <a:pt x="4128" y="2893"/>
                  </a:lnTo>
                  <a:lnTo>
                    <a:pt x="4119" y="2911"/>
                  </a:lnTo>
                  <a:lnTo>
                    <a:pt x="4102" y="2946"/>
                  </a:lnTo>
                  <a:lnTo>
                    <a:pt x="4102" y="2964"/>
                  </a:lnTo>
                  <a:lnTo>
                    <a:pt x="4102" y="2981"/>
                  </a:lnTo>
                  <a:lnTo>
                    <a:pt x="4102" y="2999"/>
                  </a:lnTo>
                  <a:lnTo>
                    <a:pt x="4093" y="3017"/>
                  </a:lnTo>
                  <a:lnTo>
                    <a:pt x="4093" y="3034"/>
                  </a:lnTo>
                  <a:lnTo>
                    <a:pt x="4084" y="3052"/>
                  </a:lnTo>
                  <a:lnTo>
                    <a:pt x="4075" y="3096"/>
                  </a:lnTo>
                  <a:lnTo>
                    <a:pt x="4075" y="3114"/>
                  </a:lnTo>
                  <a:lnTo>
                    <a:pt x="4075" y="3149"/>
                  </a:lnTo>
                  <a:lnTo>
                    <a:pt x="4075" y="3167"/>
                  </a:lnTo>
                  <a:lnTo>
                    <a:pt x="4084" y="3184"/>
                  </a:lnTo>
                  <a:lnTo>
                    <a:pt x="4093" y="3202"/>
                  </a:lnTo>
                  <a:lnTo>
                    <a:pt x="4110" y="3211"/>
                  </a:lnTo>
                  <a:lnTo>
                    <a:pt x="4128" y="3228"/>
                  </a:lnTo>
                  <a:lnTo>
                    <a:pt x="4128" y="3246"/>
                  </a:lnTo>
                  <a:lnTo>
                    <a:pt x="4137" y="3264"/>
                  </a:lnTo>
                  <a:lnTo>
                    <a:pt x="4137" y="3299"/>
                  </a:lnTo>
                  <a:lnTo>
                    <a:pt x="4128" y="3317"/>
                  </a:lnTo>
                  <a:lnTo>
                    <a:pt x="4119" y="3334"/>
                  </a:lnTo>
                  <a:lnTo>
                    <a:pt x="4110" y="3352"/>
                  </a:lnTo>
                  <a:lnTo>
                    <a:pt x="4110" y="3370"/>
                  </a:lnTo>
                  <a:lnTo>
                    <a:pt x="4102" y="3396"/>
                  </a:lnTo>
                  <a:lnTo>
                    <a:pt x="4102" y="3414"/>
                  </a:lnTo>
                  <a:lnTo>
                    <a:pt x="4102" y="3431"/>
                  </a:lnTo>
                  <a:lnTo>
                    <a:pt x="4093" y="3529"/>
                  </a:lnTo>
                  <a:lnTo>
                    <a:pt x="4110" y="3529"/>
                  </a:lnTo>
                  <a:lnTo>
                    <a:pt x="4128" y="3529"/>
                  </a:lnTo>
                  <a:lnTo>
                    <a:pt x="4146" y="3519"/>
                  </a:lnTo>
                  <a:lnTo>
                    <a:pt x="4146" y="3547"/>
                  </a:lnTo>
                  <a:lnTo>
                    <a:pt x="4154" y="3565"/>
                  </a:lnTo>
                  <a:lnTo>
                    <a:pt x="4163" y="3582"/>
                  </a:lnTo>
                  <a:lnTo>
                    <a:pt x="4163" y="3600"/>
                  </a:lnTo>
                  <a:lnTo>
                    <a:pt x="4163" y="3617"/>
                  </a:lnTo>
                  <a:lnTo>
                    <a:pt x="4181" y="3626"/>
                  </a:lnTo>
                  <a:lnTo>
                    <a:pt x="4199" y="3626"/>
                  </a:lnTo>
                  <a:lnTo>
                    <a:pt x="4216" y="3626"/>
                  </a:lnTo>
                  <a:lnTo>
                    <a:pt x="4234" y="3635"/>
                  </a:lnTo>
                  <a:lnTo>
                    <a:pt x="4243" y="3653"/>
                  </a:lnTo>
                  <a:lnTo>
                    <a:pt x="4260" y="3670"/>
                  </a:lnTo>
                  <a:lnTo>
                    <a:pt x="4278" y="3688"/>
                  </a:lnTo>
                  <a:lnTo>
                    <a:pt x="4287" y="3706"/>
                  </a:lnTo>
                  <a:lnTo>
                    <a:pt x="4304" y="3714"/>
                  </a:lnTo>
                  <a:lnTo>
                    <a:pt x="4313" y="3732"/>
                  </a:lnTo>
                  <a:lnTo>
                    <a:pt x="4331" y="3741"/>
                  </a:lnTo>
                  <a:lnTo>
                    <a:pt x="4340" y="3759"/>
                  </a:lnTo>
                  <a:lnTo>
                    <a:pt x="4348" y="3776"/>
                  </a:lnTo>
                  <a:lnTo>
                    <a:pt x="4357" y="3794"/>
                  </a:lnTo>
                  <a:lnTo>
                    <a:pt x="4366" y="3812"/>
                  </a:lnTo>
                  <a:lnTo>
                    <a:pt x="4366" y="3829"/>
                  </a:lnTo>
                  <a:lnTo>
                    <a:pt x="4357" y="3847"/>
                  </a:lnTo>
                  <a:lnTo>
                    <a:pt x="4340" y="3864"/>
                  </a:lnTo>
                  <a:lnTo>
                    <a:pt x="4313" y="3873"/>
                  </a:lnTo>
                  <a:lnTo>
                    <a:pt x="4296" y="3873"/>
                  </a:lnTo>
                  <a:lnTo>
                    <a:pt x="4278" y="3873"/>
                  </a:lnTo>
                  <a:lnTo>
                    <a:pt x="4260" y="3864"/>
                  </a:lnTo>
                  <a:lnTo>
                    <a:pt x="4243" y="3856"/>
                  </a:lnTo>
                  <a:lnTo>
                    <a:pt x="4225" y="3838"/>
                  </a:lnTo>
                  <a:lnTo>
                    <a:pt x="4216" y="3820"/>
                  </a:lnTo>
                  <a:lnTo>
                    <a:pt x="4199" y="3803"/>
                  </a:lnTo>
                  <a:lnTo>
                    <a:pt x="4181" y="3794"/>
                  </a:lnTo>
                  <a:lnTo>
                    <a:pt x="4172" y="3776"/>
                  </a:lnTo>
                  <a:lnTo>
                    <a:pt x="4154" y="3767"/>
                  </a:lnTo>
                  <a:lnTo>
                    <a:pt x="4137" y="3741"/>
                  </a:lnTo>
                  <a:lnTo>
                    <a:pt x="4137" y="3723"/>
                  </a:lnTo>
                  <a:lnTo>
                    <a:pt x="4128" y="3706"/>
                  </a:lnTo>
                  <a:lnTo>
                    <a:pt x="4119" y="3688"/>
                  </a:lnTo>
                  <a:lnTo>
                    <a:pt x="4110" y="3670"/>
                  </a:lnTo>
                  <a:lnTo>
                    <a:pt x="4102" y="3653"/>
                  </a:lnTo>
                  <a:lnTo>
                    <a:pt x="4084" y="3644"/>
                  </a:lnTo>
                  <a:lnTo>
                    <a:pt x="4066" y="3635"/>
                  </a:lnTo>
                  <a:lnTo>
                    <a:pt x="4049" y="3626"/>
                  </a:lnTo>
                  <a:lnTo>
                    <a:pt x="4031" y="3617"/>
                  </a:lnTo>
                  <a:lnTo>
                    <a:pt x="4022" y="3600"/>
                  </a:lnTo>
                  <a:lnTo>
                    <a:pt x="3996" y="3582"/>
                  </a:lnTo>
                  <a:lnTo>
                    <a:pt x="3978" y="3573"/>
                  </a:lnTo>
                  <a:lnTo>
                    <a:pt x="3960" y="3565"/>
                  </a:lnTo>
                  <a:lnTo>
                    <a:pt x="3916" y="3547"/>
                  </a:lnTo>
                  <a:lnTo>
                    <a:pt x="3899" y="3538"/>
                  </a:lnTo>
                  <a:lnTo>
                    <a:pt x="3881" y="3538"/>
                  </a:lnTo>
                  <a:lnTo>
                    <a:pt x="3855" y="3538"/>
                  </a:lnTo>
                  <a:lnTo>
                    <a:pt x="3837" y="3547"/>
                  </a:lnTo>
                  <a:lnTo>
                    <a:pt x="3819" y="3547"/>
                  </a:lnTo>
                  <a:lnTo>
                    <a:pt x="3802" y="3556"/>
                  </a:lnTo>
                  <a:lnTo>
                    <a:pt x="3784" y="3565"/>
                  </a:lnTo>
                  <a:lnTo>
                    <a:pt x="3766" y="3573"/>
                  </a:lnTo>
                  <a:lnTo>
                    <a:pt x="3749" y="3573"/>
                  </a:lnTo>
                  <a:lnTo>
                    <a:pt x="3731" y="3591"/>
                  </a:lnTo>
                  <a:lnTo>
                    <a:pt x="3713" y="3600"/>
                  </a:lnTo>
                  <a:lnTo>
                    <a:pt x="3696" y="3609"/>
                  </a:lnTo>
                  <a:lnTo>
                    <a:pt x="3678" y="3626"/>
                  </a:lnTo>
                  <a:lnTo>
                    <a:pt x="3661" y="3635"/>
                  </a:lnTo>
                  <a:lnTo>
                    <a:pt x="3643" y="3644"/>
                  </a:lnTo>
                  <a:lnTo>
                    <a:pt x="3625" y="3662"/>
                  </a:lnTo>
                  <a:lnTo>
                    <a:pt x="3608" y="3670"/>
                  </a:lnTo>
                  <a:lnTo>
                    <a:pt x="3590" y="3679"/>
                  </a:lnTo>
                  <a:lnTo>
                    <a:pt x="3590" y="3697"/>
                  </a:lnTo>
                  <a:lnTo>
                    <a:pt x="3555" y="3723"/>
                  </a:lnTo>
                  <a:lnTo>
                    <a:pt x="3546" y="3741"/>
                  </a:lnTo>
                  <a:lnTo>
                    <a:pt x="3528" y="3750"/>
                  </a:lnTo>
                  <a:lnTo>
                    <a:pt x="3502" y="3767"/>
                  </a:lnTo>
                  <a:lnTo>
                    <a:pt x="3484" y="3767"/>
                  </a:lnTo>
                  <a:lnTo>
                    <a:pt x="3458" y="3785"/>
                  </a:lnTo>
                  <a:lnTo>
                    <a:pt x="3449" y="3803"/>
                  </a:lnTo>
                  <a:lnTo>
                    <a:pt x="3431" y="3812"/>
                  </a:lnTo>
                  <a:lnTo>
                    <a:pt x="3414" y="3820"/>
                  </a:lnTo>
                  <a:lnTo>
                    <a:pt x="3396" y="3838"/>
                  </a:lnTo>
                  <a:lnTo>
                    <a:pt x="3387" y="3856"/>
                  </a:lnTo>
                  <a:lnTo>
                    <a:pt x="3361" y="3873"/>
                  </a:lnTo>
                  <a:lnTo>
                    <a:pt x="3343" y="3882"/>
                  </a:lnTo>
                  <a:lnTo>
                    <a:pt x="3334" y="3900"/>
                  </a:lnTo>
                  <a:lnTo>
                    <a:pt x="3334" y="3917"/>
                  </a:lnTo>
                  <a:lnTo>
                    <a:pt x="3325" y="3935"/>
                  </a:lnTo>
                  <a:lnTo>
                    <a:pt x="3325" y="3953"/>
                  </a:lnTo>
                  <a:lnTo>
                    <a:pt x="3317" y="3970"/>
                  </a:lnTo>
                  <a:lnTo>
                    <a:pt x="3290" y="3997"/>
                  </a:lnTo>
                  <a:lnTo>
                    <a:pt x="3290" y="4014"/>
                  </a:lnTo>
                  <a:lnTo>
                    <a:pt x="3290" y="4041"/>
                  </a:lnTo>
                  <a:lnTo>
                    <a:pt x="3290" y="4058"/>
                  </a:lnTo>
                  <a:lnTo>
                    <a:pt x="3290" y="4076"/>
                  </a:lnTo>
                  <a:lnTo>
                    <a:pt x="3290" y="4094"/>
                  </a:lnTo>
                  <a:lnTo>
                    <a:pt x="3290" y="4111"/>
                  </a:lnTo>
                  <a:lnTo>
                    <a:pt x="3290" y="4138"/>
                  </a:lnTo>
                  <a:lnTo>
                    <a:pt x="3299" y="4155"/>
                  </a:lnTo>
                  <a:lnTo>
                    <a:pt x="3317" y="4155"/>
                  </a:lnTo>
                  <a:lnTo>
                    <a:pt x="3334" y="4182"/>
                  </a:lnTo>
                  <a:lnTo>
                    <a:pt x="3343" y="4200"/>
                  </a:lnTo>
                  <a:lnTo>
                    <a:pt x="3352" y="4217"/>
                  </a:lnTo>
                  <a:lnTo>
                    <a:pt x="3361" y="4235"/>
                  </a:lnTo>
                  <a:lnTo>
                    <a:pt x="3378" y="4244"/>
                  </a:lnTo>
                  <a:lnTo>
                    <a:pt x="3378" y="4261"/>
                  </a:lnTo>
                  <a:lnTo>
                    <a:pt x="3396" y="4279"/>
                  </a:lnTo>
                  <a:lnTo>
                    <a:pt x="3405" y="4297"/>
                  </a:lnTo>
                  <a:lnTo>
                    <a:pt x="3414" y="4314"/>
                  </a:lnTo>
                  <a:lnTo>
                    <a:pt x="3431" y="4341"/>
                  </a:lnTo>
                  <a:lnTo>
                    <a:pt x="3440" y="4358"/>
                  </a:lnTo>
                  <a:lnTo>
                    <a:pt x="3458" y="4367"/>
                  </a:lnTo>
                  <a:lnTo>
                    <a:pt x="3475" y="4385"/>
                  </a:lnTo>
                  <a:lnTo>
                    <a:pt x="3484" y="4402"/>
                  </a:lnTo>
                  <a:lnTo>
                    <a:pt x="3502" y="4420"/>
                  </a:lnTo>
                  <a:lnTo>
                    <a:pt x="3502" y="4447"/>
                  </a:lnTo>
                  <a:lnTo>
                    <a:pt x="3502" y="4464"/>
                  </a:lnTo>
                  <a:lnTo>
                    <a:pt x="3502" y="4482"/>
                  </a:lnTo>
                  <a:lnTo>
                    <a:pt x="3502" y="4508"/>
                  </a:lnTo>
                  <a:lnTo>
                    <a:pt x="3502" y="4526"/>
                  </a:lnTo>
                  <a:lnTo>
                    <a:pt x="3502" y="4544"/>
                  </a:lnTo>
                  <a:lnTo>
                    <a:pt x="3502" y="4561"/>
                  </a:lnTo>
                  <a:lnTo>
                    <a:pt x="3493" y="4579"/>
                  </a:lnTo>
                  <a:lnTo>
                    <a:pt x="3493" y="4596"/>
                  </a:lnTo>
                  <a:lnTo>
                    <a:pt x="3493" y="4614"/>
                  </a:lnTo>
                  <a:lnTo>
                    <a:pt x="3493" y="4632"/>
                  </a:lnTo>
                  <a:lnTo>
                    <a:pt x="3493" y="4649"/>
                  </a:lnTo>
                  <a:lnTo>
                    <a:pt x="3493" y="4667"/>
                  </a:lnTo>
                  <a:lnTo>
                    <a:pt x="3475" y="4676"/>
                  </a:lnTo>
                  <a:lnTo>
                    <a:pt x="3458" y="4693"/>
                  </a:lnTo>
                  <a:lnTo>
                    <a:pt x="3440" y="4693"/>
                  </a:lnTo>
                  <a:lnTo>
                    <a:pt x="3422" y="4702"/>
                  </a:lnTo>
                  <a:lnTo>
                    <a:pt x="3405" y="4702"/>
                  </a:lnTo>
                  <a:lnTo>
                    <a:pt x="3378" y="4685"/>
                  </a:lnTo>
                  <a:lnTo>
                    <a:pt x="3361" y="4676"/>
                  </a:lnTo>
                  <a:lnTo>
                    <a:pt x="3352" y="4658"/>
                  </a:lnTo>
                  <a:lnTo>
                    <a:pt x="3334" y="4658"/>
                  </a:lnTo>
                  <a:lnTo>
                    <a:pt x="3317" y="4649"/>
                  </a:lnTo>
                  <a:lnTo>
                    <a:pt x="3308" y="4632"/>
                  </a:lnTo>
                  <a:lnTo>
                    <a:pt x="3290" y="4623"/>
                  </a:lnTo>
                  <a:lnTo>
                    <a:pt x="3273" y="4614"/>
                  </a:lnTo>
                  <a:lnTo>
                    <a:pt x="3255" y="4596"/>
                  </a:lnTo>
                  <a:lnTo>
                    <a:pt x="3237" y="4579"/>
                  </a:lnTo>
                  <a:lnTo>
                    <a:pt x="3228" y="4561"/>
                  </a:lnTo>
                  <a:lnTo>
                    <a:pt x="3220" y="4544"/>
                  </a:lnTo>
                  <a:lnTo>
                    <a:pt x="3202" y="4508"/>
                  </a:lnTo>
                  <a:lnTo>
                    <a:pt x="3202" y="4491"/>
                  </a:lnTo>
                  <a:lnTo>
                    <a:pt x="3202" y="4473"/>
                  </a:lnTo>
                  <a:lnTo>
                    <a:pt x="3193" y="4455"/>
                  </a:lnTo>
                  <a:lnTo>
                    <a:pt x="3184" y="4438"/>
                  </a:lnTo>
                  <a:lnTo>
                    <a:pt x="3176" y="4420"/>
                  </a:lnTo>
                  <a:lnTo>
                    <a:pt x="3167" y="4394"/>
                  </a:lnTo>
                  <a:lnTo>
                    <a:pt x="3158" y="4376"/>
                  </a:lnTo>
                  <a:lnTo>
                    <a:pt x="3131" y="4358"/>
                  </a:lnTo>
                  <a:lnTo>
                    <a:pt x="3114" y="4349"/>
                  </a:lnTo>
                  <a:lnTo>
                    <a:pt x="3096" y="4332"/>
                  </a:lnTo>
                  <a:lnTo>
                    <a:pt x="3061" y="4305"/>
                  </a:lnTo>
                  <a:lnTo>
                    <a:pt x="3052" y="4288"/>
                  </a:lnTo>
                  <a:lnTo>
                    <a:pt x="3034" y="4279"/>
                  </a:lnTo>
                  <a:lnTo>
                    <a:pt x="3008" y="4252"/>
                  </a:lnTo>
                  <a:lnTo>
                    <a:pt x="2990" y="4235"/>
                  </a:lnTo>
                  <a:lnTo>
                    <a:pt x="2973" y="4217"/>
                  </a:lnTo>
                  <a:lnTo>
                    <a:pt x="2955" y="4217"/>
                  </a:lnTo>
                  <a:lnTo>
                    <a:pt x="2911" y="4208"/>
                  </a:lnTo>
                  <a:lnTo>
                    <a:pt x="2893" y="4208"/>
                  </a:lnTo>
                  <a:lnTo>
                    <a:pt x="2867" y="4208"/>
                  </a:lnTo>
                  <a:lnTo>
                    <a:pt x="2840" y="4235"/>
                  </a:lnTo>
                  <a:lnTo>
                    <a:pt x="2840" y="4252"/>
                  </a:lnTo>
                  <a:lnTo>
                    <a:pt x="2823" y="4279"/>
                  </a:lnTo>
                  <a:lnTo>
                    <a:pt x="2823" y="4297"/>
                  </a:lnTo>
                  <a:lnTo>
                    <a:pt x="2823" y="4314"/>
                  </a:lnTo>
                  <a:lnTo>
                    <a:pt x="2814" y="4332"/>
                  </a:lnTo>
                  <a:lnTo>
                    <a:pt x="2646" y="4341"/>
                  </a:lnTo>
                  <a:lnTo>
                    <a:pt x="2638" y="4323"/>
                  </a:lnTo>
                  <a:lnTo>
                    <a:pt x="2638" y="4305"/>
                  </a:lnTo>
                  <a:lnTo>
                    <a:pt x="2638" y="4288"/>
                  </a:lnTo>
                  <a:lnTo>
                    <a:pt x="2629" y="4270"/>
                  </a:lnTo>
                  <a:lnTo>
                    <a:pt x="2620" y="4252"/>
                  </a:lnTo>
                  <a:lnTo>
                    <a:pt x="2602" y="4244"/>
                  </a:lnTo>
                  <a:lnTo>
                    <a:pt x="2576" y="4235"/>
                  </a:lnTo>
                  <a:lnTo>
                    <a:pt x="2558" y="4226"/>
                  </a:lnTo>
                  <a:lnTo>
                    <a:pt x="2532" y="4226"/>
                  </a:lnTo>
                  <a:lnTo>
                    <a:pt x="2514" y="4226"/>
                  </a:lnTo>
                  <a:lnTo>
                    <a:pt x="2496" y="4226"/>
                  </a:lnTo>
                  <a:lnTo>
                    <a:pt x="2479" y="4217"/>
                  </a:lnTo>
                  <a:lnTo>
                    <a:pt x="2461" y="4217"/>
                  </a:lnTo>
                  <a:lnTo>
                    <a:pt x="2443" y="4208"/>
                  </a:lnTo>
                  <a:lnTo>
                    <a:pt x="2426" y="4191"/>
                  </a:lnTo>
                  <a:lnTo>
                    <a:pt x="2408" y="4191"/>
                  </a:lnTo>
                  <a:lnTo>
                    <a:pt x="2391" y="4182"/>
                  </a:lnTo>
                  <a:lnTo>
                    <a:pt x="2373" y="4164"/>
                  </a:lnTo>
                  <a:lnTo>
                    <a:pt x="2354" y="4155"/>
                  </a:lnTo>
                  <a:lnTo>
                    <a:pt x="2337" y="4147"/>
                  </a:lnTo>
                  <a:lnTo>
                    <a:pt x="2319" y="4147"/>
                  </a:lnTo>
                  <a:lnTo>
                    <a:pt x="2301" y="4147"/>
                  </a:lnTo>
                  <a:lnTo>
                    <a:pt x="2275" y="4147"/>
                  </a:lnTo>
                  <a:lnTo>
                    <a:pt x="2257" y="4147"/>
                  </a:lnTo>
                  <a:lnTo>
                    <a:pt x="2240" y="4147"/>
                  </a:lnTo>
                  <a:lnTo>
                    <a:pt x="2204" y="4147"/>
                  </a:lnTo>
                  <a:lnTo>
                    <a:pt x="2187" y="4147"/>
                  </a:lnTo>
                  <a:lnTo>
                    <a:pt x="2169" y="4147"/>
                  </a:lnTo>
                  <a:lnTo>
                    <a:pt x="2143" y="4147"/>
                  </a:lnTo>
                  <a:lnTo>
                    <a:pt x="2125" y="4147"/>
                  </a:lnTo>
                  <a:lnTo>
                    <a:pt x="2107" y="4155"/>
                  </a:lnTo>
                  <a:lnTo>
                    <a:pt x="2090" y="4155"/>
                  </a:lnTo>
                  <a:lnTo>
                    <a:pt x="2072" y="4155"/>
                  </a:lnTo>
                  <a:lnTo>
                    <a:pt x="2054" y="4155"/>
                  </a:lnTo>
                  <a:lnTo>
                    <a:pt x="2037" y="4155"/>
                  </a:lnTo>
                  <a:lnTo>
                    <a:pt x="2019" y="4155"/>
                  </a:lnTo>
                  <a:lnTo>
                    <a:pt x="2002" y="4173"/>
                  </a:lnTo>
                  <a:lnTo>
                    <a:pt x="1984" y="4182"/>
                  </a:lnTo>
                  <a:lnTo>
                    <a:pt x="1975" y="4200"/>
                  </a:lnTo>
                  <a:lnTo>
                    <a:pt x="1966" y="4217"/>
                  </a:lnTo>
                  <a:lnTo>
                    <a:pt x="1949" y="4226"/>
                  </a:lnTo>
                  <a:lnTo>
                    <a:pt x="1940" y="4244"/>
                  </a:lnTo>
                  <a:lnTo>
                    <a:pt x="1922" y="4261"/>
                  </a:lnTo>
                  <a:lnTo>
                    <a:pt x="1922" y="4279"/>
                  </a:lnTo>
                  <a:lnTo>
                    <a:pt x="1913" y="4314"/>
                  </a:lnTo>
                  <a:lnTo>
                    <a:pt x="1913" y="4332"/>
                  </a:lnTo>
                  <a:lnTo>
                    <a:pt x="1913" y="4358"/>
                  </a:lnTo>
                  <a:lnTo>
                    <a:pt x="1913" y="4376"/>
                  </a:lnTo>
                  <a:lnTo>
                    <a:pt x="1913" y="4394"/>
                  </a:lnTo>
                  <a:lnTo>
                    <a:pt x="1913" y="4420"/>
                  </a:lnTo>
                  <a:lnTo>
                    <a:pt x="1913" y="4438"/>
                  </a:lnTo>
                  <a:lnTo>
                    <a:pt x="1913" y="4455"/>
                  </a:lnTo>
                  <a:lnTo>
                    <a:pt x="1905" y="4482"/>
                  </a:lnTo>
                  <a:lnTo>
                    <a:pt x="1896" y="4499"/>
                  </a:lnTo>
                  <a:lnTo>
                    <a:pt x="1878" y="4499"/>
                  </a:lnTo>
                  <a:lnTo>
                    <a:pt x="1860" y="4508"/>
                  </a:lnTo>
                  <a:lnTo>
                    <a:pt x="1843" y="4508"/>
                  </a:lnTo>
                  <a:lnTo>
                    <a:pt x="1825" y="4491"/>
                  </a:lnTo>
                  <a:lnTo>
                    <a:pt x="1816" y="4473"/>
                  </a:lnTo>
                  <a:lnTo>
                    <a:pt x="1799" y="4464"/>
                  </a:lnTo>
                  <a:lnTo>
                    <a:pt x="1799" y="4447"/>
                  </a:lnTo>
                  <a:lnTo>
                    <a:pt x="1799" y="4429"/>
                  </a:lnTo>
                  <a:lnTo>
                    <a:pt x="1799" y="4411"/>
                  </a:lnTo>
                  <a:lnTo>
                    <a:pt x="1799" y="4394"/>
                  </a:lnTo>
                  <a:lnTo>
                    <a:pt x="1799" y="4358"/>
                  </a:lnTo>
                  <a:lnTo>
                    <a:pt x="1790" y="4341"/>
                  </a:lnTo>
                  <a:lnTo>
                    <a:pt x="1781" y="4323"/>
                  </a:lnTo>
                  <a:lnTo>
                    <a:pt x="1772" y="4305"/>
                  </a:lnTo>
                  <a:lnTo>
                    <a:pt x="1763" y="4288"/>
                  </a:lnTo>
                  <a:lnTo>
                    <a:pt x="1763" y="4270"/>
                  </a:lnTo>
                  <a:lnTo>
                    <a:pt x="1755" y="4252"/>
                  </a:lnTo>
                  <a:lnTo>
                    <a:pt x="1746" y="4235"/>
                  </a:lnTo>
                  <a:lnTo>
                    <a:pt x="1737" y="4217"/>
                  </a:lnTo>
                  <a:lnTo>
                    <a:pt x="1719" y="4200"/>
                  </a:lnTo>
                  <a:lnTo>
                    <a:pt x="1710" y="4182"/>
                  </a:lnTo>
                  <a:lnTo>
                    <a:pt x="1693" y="4164"/>
                  </a:lnTo>
                  <a:lnTo>
                    <a:pt x="1675" y="4138"/>
                  </a:lnTo>
                  <a:lnTo>
                    <a:pt x="1666" y="4120"/>
                  </a:lnTo>
                  <a:lnTo>
                    <a:pt x="1649" y="4094"/>
                  </a:lnTo>
                  <a:lnTo>
                    <a:pt x="1631" y="4085"/>
                  </a:lnTo>
                  <a:lnTo>
                    <a:pt x="1605" y="4076"/>
                  </a:lnTo>
                  <a:lnTo>
                    <a:pt x="1596" y="4058"/>
                  </a:lnTo>
                  <a:lnTo>
                    <a:pt x="1578" y="4050"/>
                  </a:lnTo>
                  <a:lnTo>
                    <a:pt x="1561" y="4041"/>
                  </a:lnTo>
                  <a:lnTo>
                    <a:pt x="1543" y="4032"/>
                  </a:lnTo>
                  <a:lnTo>
                    <a:pt x="1525" y="4023"/>
                  </a:lnTo>
                  <a:lnTo>
                    <a:pt x="1508" y="4023"/>
                  </a:lnTo>
                  <a:lnTo>
                    <a:pt x="1490" y="4023"/>
                  </a:lnTo>
                  <a:lnTo>
                    <a:pt x="1472" y="4023"/>
                  </a:lnTo>
                  <a:lnTo>
                    <a:pt x="1455" y="4023"/>
                  </a:lnTo>
                  <a:lnTo>
                    <a:pt x="1437" y="4023"/>
                  </a:lnTo>
                  <a:lnTo>
                    <a:pt x="1419" y="4023"/>
                  </a:lnTo>
                  <a:lnTo>
                    <a:pt x="1393" y="4023"/>
                  </a:lnTo>
                  <a:lnTo>
                    <a:pt x="1375" y="4032"/>
                  </a:lnTo>
                  <a:lnTo>
                    <a:pt x="1358" y="4050"/>
                  </a:lnTo>
                  <a:lnTo>
                    <a:pt x="1331" y="4067"/>
                  </a:lnTo>
                  <a:lnTo>
                    <a:pt x="1314" y="4076"/>
                  </a:lnTo>
                  <a:lnTo>
                    <a:pt x="1296" y="4085"/>
                  </a:lnTo>
                  <a:lnTo>
                    <a:pt x="1278" y="4103"/>
                  </a:lnTo>
                  <a:lnTo>
                    <a:pt x="1261" y="4111"/>
                  </a:lnTo>
                  <a:lnTo>
                    <a:pt x="1217" y="4138"/>
                  </a:lnTo>
                  <a:lnTo>
                    <a:pt x="1181" y="4155"/>
                  </a:lnTo>
                  <a:lnTo>
                    <a:pt x="1164" y="4164"/>
                  </a:lnTo>
                  <a:lnTo>
                    <a:pt x="1155" y="4182"/>
                  </a:lnTo>
                  <a:lnTo>
                    <a:pt x="1137" y="4191"/>
                  </a:lnTo>
                  <a:lnTo>
                    <a:pt x="1128" y="4173"/>
                  </a:lnTo>
                  <a:lnTo>
                    <a:pt x="1128" y="4155"/>
                  </a:lnTo>
                  <a:lnTo>
                    <a:pt x="1128" y="4138"/>
                  </a:lnTo>
                  <a:lnTo>
                    <a:pt x="1128" y="4120"/>
                  </a:lnTo>
                  <a:lnTo>
                    <a:pt x="1128" y="4103"/>
                  </a:lnTo>
                  <a:lnTo>
                    <a:pt x="1128" y="4085"/>
                  </a:lnTo>
                  <a:lnTo>
                    <a:pt x="1137" y="4067"/>
                  </a:lnTo>
                  <a:lnTo>
                    <a:pt x="1146" y="4050"/>
                  </a:lnTo>
                  <a:lnTo>
                    <a:pt x="1164" y="4023"/>
                  </a:lnTo>
                  <a:lnTo>
                    <a:pt x="1164" y="4006"/>
                  </a:lnTo>
                  <a:lnTo>
                    <a:pt x="1164" y="3988"/>
                  </a:lnTo>
                  <a:lnTo>
                    <a:pt x="1164" y="3970"/>
                  </a:lnTo>
                  <a:lnTo>
                    <a:pt x="1164" y="3935"/>
                  </a:lnTo>
                  <a:lnTo>
                    <a:pt x="1164" y="3917"/>
                  </a:lnTo>
                  <a:lnTo>
                    <a:pt x="1164" y="3882"/>
                  </a:lnTo>
                  <a:lnTo>
                    <a:pt x="1164" y="3864"/>
                  </a:lnTo>
                  <a:lnTo>
                    <a:pt x="1164" y="3847"/>
                  </a:lnTo>
                  <a:lnTo>
                    <a:pt x="1164" y="3820"/>
                  </a:lnTo>
                  <a:lnTo>
                    <a:pt x="1164" y="3803"/>
                  </a:lnTo>
                  <a:lnTo>
                    <a:pt x="1164" y="3785"/>
                  </a:lnTo>
                  <a:lnTo>
                    <a:pt x="1164" y="3767"/>
                  </a:lnTo>
                  <a:lnTo>
                    <a:pt x="1164" y="3750"/>
                  </a:lnTo>
                  <a:lnTo>
                    <a:pt x="1164" y="3732"/>
                  </a:lnTo>
                  <a:lnTo>
                    <a:pt x="1155" y="3714"/>
                  </a:lnTo>
                  <a:lnTo>
                    <a:pt x="1146" y="3697"/>
                  </a:lnTo>
                  <a:lnTo>
                    <a:pt x="1137" y="3679"/>
                  </a:lnTo>
                  <a:lnTo>
                    <a:pt x="1128" y="3662"/>
                  </a:lnTo>
                  <a:lnTo>
                    <a:pt x="1111" y="3653"/>
                  </a:lnTo>
                  <a:lnTo>
                    <a:pt x="1093" y="3626"/>
                  </a:lnTo>
                  <a:lnTo>
                    <a:pt x="1067" y="3591"/>
                  </a:lnTo>
                  <a:lnTo>
                    <a:pt x="1058" y="3573"/>
                  </a:lnTo>
                  <a:lnTo>
                    <a:pt x="1040" y="3565"/>
                  </a:lnTo>
                  <a:lnTo>
                    <a:pt x="996" y="3519"/>
                  </a:lnTo>
                  <a:lnTo>
                    <a:pt x="987" y="3502"/>
                  </a:lnTo>
                  <a:lnTo>
                    <a:pt x="961" y="3484"/>
                  </a:lnTo>
                  <a:lnTo>
                    <a:pt x="952" y="3467"/>
                  </a:lnTo>
                  <a:lnTo>
                    <a:pt x="934" y="3458"/>
                  </a:lnTo>
                  <a:lnTo>
                    <a:pt x="908" y="3431"/>
                  </a:lnTo>
                  <a:lnTo>
                    <a:pt x="890" y="3422"/>
                  </a:lnTo>
                  <a:lnTo>
                    <a:pt x="873" y="3414"/>
                  </a:lnTo>
                  <a:lnTo>
                    <a:pt x="855" y="3396"/>
                  </a:lnTo>
                  <a:lnTo>
                    <a:pt x="837" y="3396"/>
                  </a:lnTo>
                  <a:lnTo>
                    <a:pt x="820" y="3387"/>
                  </a:lnTo>
                  <a:lnTo>
                    <a:pt x="784" y="3396"/>
                  </a:lnTo>
                  <a:lnTo>
                    <a:pt x="767" y="3405"/>
                  </a:lnTo>
                  <a:lnTo>
                    <a:pt x="767" y="3422"/>
                  </a:lnTo>
                  <a:lnTo>
                    <a:pt x="767" y="3449"/>
                  </a:lnTo>
                  <a:lnTo>
                    <a:pt x="758" y="3467"/>
                  </a:lnTo>
                  <a:lnTo>
                    <a:pt x="758" y="3484"/>
                  </a:lnTo>
                  <a:lnTo>
                    <a:pt x="749" y="3502"/>
                  </a:lnTo>
                  <a:lnTo>
                    <a:pt x="749" y="3519"/>
                  </a:lnTo>
                  <a:lnTo>
                    <a:pt x="740" y="3538"/>
                  </a:lnTo>
                  <a:lnTo>
                    <a:pt x="723" y="3556"/>
                  </a:lnTo>
                  <a:lnTo>
                    <a:pt x="723" y="3573"/>
                  </a:lnTo>
                  <a:lnTo>
                    <a:pt x="714" y="3591"/>
                  </a:lnTo>
                  <a:lnTo>
                    <a:pt x="705" y="3609"/>
                  </a:lnTo>
                  <a:lnTo>
                    <a:pt x="705" y="3635"/>
                  </a:lnTo>
                  <a:lnTo>
                    <a:pt x="696" y="3653"/>
                  </a:lnTo>
                  <a:lnTo>
                    <a:pt x="696" y="3670"/>
                  </a:lnTo>
                  <a:lnTo>
                    <a:pt x="696" y="3688"/>
                  </a:lnTo>
                  <a:lnTo>
                    <a:pt x="670" y="3723"/>
                  </a:lnTo>
                  <a:lnTo>
                    <a:pt x="652" y="3741"/>
                  </a:lnTo>
                  <a:lnTo>
                    <a:pt x="635" y="3785"/>
                  </a:lnTo>
                  <a:lnTo>
                    <a:pt x="626" y="3803"/>
                  </a:lnTo>
                  <a:lnTo>
                    <a:pt x="617" y="3820"/>
                  </a:lnTo>
                  <a:lnTo>
                    <a:pt x="608" y="3838"/>
                  </a:lnTo>
                  <a:lnTo>
                    <a:pt x="599" y="3856"/>
                  </a:lnTo>
                  <a:lnTo>
                    <a:pt x="582" y="3864"/>
                  </a:lnTo>
                  <a:lnTo>
                    <a:pt x="555" y="3882"/>
                  </a:lnTo>
                  <a:lnTo>
                    <a:pt x="546" y="3900"/>
                  </a:lnTo>
                  <a:lnTo>
                    <a:pt x="529" y="3909"/>
                  </a:lnTo>
                  <a:lnTo>
                    <a:pt x="520" y="3926"/>
                  </a:lnTo>
                  <a:lnTo>
                    <a:pt x="493" y="3935"/>
                  </a:lnTo>
                  <a:lnTo>
                    <a:pt x="476" y="3944"/>
                  </a:lnTo>
                  <a:lnTo>
                    <a:pt x="449" y="3944"/>
                  </a:lnTo>
                  <a:lnTo>
                    <a:pt x="432" y="3944"/>
                  </a:lnTo>
                  <a:lnTo>
                    <a:pt x="414" y="3944"/>
                  </a:lnTo>
                  <a:lnTo>
                    <a:pt x="388" y="3944"/>
                  </a:lnTo>
                  <a:lnTo>
                    <a:pt x="370" y="3944"/>
                  </a:lnTo>
                  <a:lnTo>
                    <a:pt x="343" y="3944"/>
                  </a:lnTo>
                  <a:lnTo>
                    <a:pt x="326" y="3935"/>
                  </a:lnTo>
                  <a:lnTo>
                    <a:pt x="308" y="3935"/>
                  </a:lnTo>
                  <a:lnTo>
                    <a:pt x="291" y="3926"/>
                  </a:lnTo>
                  <a:lnTo>
                    <a:pt x="273" y="3917"/>
                  </a:lnTo>
                  <a:lnTo>
                    <a:pt x="264" y="3900"/>
                  </a:lnTo>
                  <a:lnTo>
                    <a:pt x="246" y="3891"/>
                  </a:lnTo>
                  <a:lnTo>
                    <a:pt x="238" y="3873"/>
                  </a:lnTo>
                  <a:lnTo>
                    <a:pt x="220" y="3856"/>
                  </a:lnTo>
                  <a:lnTo>
                    <a:pt x="202" y="3838"/>
                  </a:lnTo>
                  <a:lnTo>
                    <a:pt x="194" y="3820"/>
                  </a:lnTo>
                  <a:lnTo>
                    <a:pt x="185" y="3803"/>
                  </a:lnTo>
                  <a:lnTo>
                    <a:pt x="176" y="3776"/>
                  </a:lnTo>
                  <a:lnTo>
                    <a:pt x="167" y="3759"/>
                  </a:lnTo>
                  <a:lnTo>
                    <a:pt x="167" y="3741"/>
                  </a:lnTo>
                  <a:lnTo>
                    <a:pt x="158" y="3723"/>
                  </a:lnTo>
                  <a:lnTo>
                    <a:pt x="149" y="3679"/>
                  </a:lnTo>
                  <a:lnTo>
                    <a:pt x="149" y="3662"/>
                  </a:lnTo>
                  <a:lnTo>
                    <a:pt x="149" y="3644"/>
                  </a:lnTo>
                  <a:lnTo>
                    <a:pt x="149" y="3609"/>
                  </a:lnTo>
                  <a:lnTo>
                    <a:pt x="158" y="3591"/>
                  </a:lnTo>
                  <a:lnTo>
                    <a:pt x="176" y="3573"/>
                  </a:lnTo>
                  <a:lnTo>
                    <a:pt x="194" y="3556"/>
                  </a:lnTo>
                  <a:lnTo>
                    <a:pt x="211" y="3547"/>
                  </a:lnTo>
                  <a:lnTo>
                    <a:pt x="220" y="3529"/>
                  </a:lnTo>
                  <a:lnTo>
                    <a:pt x="246" y="3511"/>
                  </a:lnTo>
                  <a:lnTo>
                    <a:pt x="255" y="3493"/>
                  </a:lnTo>
                  <a:lnTo>
                    <a:pt x="273" y="3467"/>
                  </a:lnTo>
                  <a:lnTo>
                    <a:pt x="282" y="3449"/>
                  </a:lnTo>
                  <a:lnTo>
                    <a:pt x="308" y="3431"/>
                  </a:lnTo>
                  <a:lnTo>
                    <a:pt x="317" y="3414"/>
                  </a:lnTo>
                  <a:lnTo>
                    <a:pt x="335" y="3396"/>
                  </a:lnTo>
                  <a:lnTo>
                    <a:pt x="352" y="3387"/>
                  </a:lnTo>
                  <a:lnTo>
                    <a:pt x="379" y="3370"/>
                  </a:lnTo>
                  <a:lnTo>
                    <a:pt x="396" y="3361"/>
                  </a:lnTo>
                  <a:lnTo>
                    <a:pt x="414" y="3352"/>
                  </a:lnTo>
                  <a:lnTo>
                    <a:pt x="432" y="3334"/>
                  </a:lnTo>
                  <a:lnTo>
                    <a:pt x="449" y="3325"/>
                  </a:lnTo>
                  <a:lnTo>
                    <a:pt x="467" y="3317"/>
                  </a:lnTo>
                  <a:lnTo>
                    <a:pt x="485" y="3308"/>
                  </a:lnTo>
                  <a:lnTo>
                    <a:pt x="511" y="3299"/>
                  </a:lnTo>
                  <a:lnTo>
                    <a:pt x="529" y="3290"/>
                  </a:lnTo>
                  <a:lnTo>
                    <a:pt x="546" y="3281"/>
                  </a:lnTo>
                  <a:lnTo>
                    <a:pt x="564" y="3281"/>
                  </a:lnTo>
                  <a:lnTo>
                    <a:pt x="582" y="3281"/>
                  </a:lnTo>
                  <a:lnTo>
                    <a:pt x="608" y="3281"/>
                  </a:lnTo>
                  <a:lnTo>
                    <a:pt x="626" y="3273"/>
                  </a:lnTo>
                  <a:lnTo>
                    <a:pt x="643" y="3273"/>
                  </a:lnTo>
                  <a:lnTo>
                    <a:pt x="661" y="3264"/>
                  </a:lnTo>
                  <a:lnTo>
                    <a:pt x="679" y="3264"/>
                  </a:lnTo>
                  <a:lnTo>
                    <a:pt x="696" y="3255"/>
                  </a:lnTo>
                  <a:lnTo>
                    <a:pt x="714" y="3255"/>
                  </a:lnTo>
                  <a:lnTo>
                    <a:pt x="732" y="3246"/>
                  </a:lnTo>
                  <a:lnTo>
                    <a:pt x="758" y="3220"/>
                  </a:lnTo>
                  <a:lnTo>
                    <a:pt x="767" y="3202"/>
                  </a:lnTo>
                  <a:lnTo>
                    <a:pt x="784" y="3184"/>
                  </a:lnTo>
                  <a:lnTo>
                    <a:pt x="793" y="3167"/>
                  </a:lnTo>
                  <a:lnTo>
                    <a:pt x="793" y="3149"/>
                  </a:lnTo>
                  <a:lnTo>
                    <a:pt x="793" y="3131"/>
                  </a:lnTo>
                  <a:lnTo>
                    <a:pt x="784" y="3105"/>
                  </a:lnTo>
                  <a:lnTo>
                    <a:pt x="784" y="3087"/>
                  </a:lnTo>
                  <a:lnTo>
                    <a:pt x="802" y="3061"/>
                  </a:lnTo>
                  <a:lnTo>
                    <a:pt x="811" y="3043"/>
                  </a:lnTo>
                  <a:lnTo>
                    <a:pt x="829" y="3008"/>
                  </a:lnTo>
                  <a:lnTo>
                    <a:pt x="829" y="2990"/>
                  </a:lnTo>
                  <a:lnTo>
                    <a:pt x="829" y="2973"/>
                  </a:lnTo>
                  <a:lnTo>
                    <a:pt x="829" y="2955"/>
                  </a:lnTo>
                  <a:lnTo>
                    <a:pt x="829" y="2929"/>
                  </a:lnTo>
                  <a:lnTo>
                    <a:pt x="820" y="2902"/>
                  </a:lnTo>
                  <a:lnTo>
                    <a:pt x="811" y="2876"/>
                  </a:lnTo>
                  <a:lnTo>
                    <a:pt x="802" y="2858"/>
                  </a:lnTo>
                  <a:lnTo>
                    <a:pt x="784" y="2840"/>
                  </a:lnTo>
                  <a:lnTo>
                    <a:pt x="679" y="2523"/>
                  </a:lnTo>
                  <a:lnTo>
                    <a:pt x="679" y="2488"/>
                  </a:lnTo>
                  <a:lnTo>
                    <a:pt x="679" y="2470"/>
                  </a:lnTo>
                  <a:lnTo>
                    <a:pt x="670" y="2452"/>
                  </a:lnTo>
                  <a:lnTo>
                    <a:pt x="661" y="2435"/>
                  </a:lnTo>
                  <a:lnTo>
                    <a:pt x="652" y="2417"/>
                  </a:lnTo>
                  <a:lnTo>
                    <a:pt x="652" y="2399"/>
                  </a:lnTo>
                  <a:lnTo>
                    <a:pt x="643" y="2382"/>
                  </a:lnTo>
                  <a:lnTo>
                    <a:pt x="626" y="2364"/>
                  </a:lnTo>
                  <a:lnTo>
                    <a:pt x="608" y="2329"/>
                  </a:lnTo>
                  <a:lnTo>
                    <a:pt x="599" y="2311"/>
                  </a:lnTo>
                  <a:lnTo>
                    <a:pt x="599" y="2294"/>
                  </a:lnTo>
                  <a:lnTo>
                    <a:pt x="599" y="2276"/>
                  </a:lnTo>
                  <a:lnTo>
                    <a:pt x="590" y="2241"/>
                  </a:lnTo>
                  <a:lnTo>
                    <a:pt x="582" y="2223"/>
                  </a:lnTo>
                  <a:lnTo>
                    <a:pt x="573" y="2205"/>
                  </a:lnTo>
                  <a:lnTo>
                    <a:pt x="555" y="2170"/>
                  </a:lnTo>
                  <a:lnTo>
                    <a:pt x="529" y="2152"/>
                  </a:lnTo>
                  <a:lnTo>
                    <a:pt x="529" y="2117"/>
                  </a:lnTo>
                  <a:lnTo>
                    <a:pt x="520" y="2091"/>
                  </a:lnTo>
                  <a:lnTo>
                    <a:pt x="520" y="2073"/>
                  </a:lnTo>
                  <a:lnTo>
                    <a:pt x="511" y="2038"/>
                  </a:lnTo>
                  <a:lnTo>
                    <a:pt x="511" y="1985"/>
                  </a:lnTo>
                  <a:lnTo>
                    <a:pt x="511" y="1950"/>
                  </a:lnTo>
                  <a:lnTo>
                    <a:pt x="502" y="1932"/>
                  </a:lnTo>
                  <a:lnTo>
                    <a:pt x="502" y="1914"/>
                  </a:lnTo>
                  <a:lnTo>
                    <a:pt x="502" y="1897"/>
                  </a:lnTo>
                  <a:lnTo>
                    <a:pt x="502" y="1879"/>
                  </a:lnTo>
                  <a:lnTo>
                    <a:pt x="502" y="1861"/>
                  </a:lnTo>
                  <a:lnTo>
                    <a:pt x="502" y="1817"/>
                  </a:lnTo>
                  <a:lnTo>
                    <a:pt x="520" y="1800"/>
                  </a:lnTo>
                  <a:lnTo>
                    <a:pt x="529" y="1782"/>
                  </a:lnTo>
                  <a:lnTo>
                    <a:pt x="529" y="1764"/>
                  </a:lnTo>
                  <a:lnTo>
                    <a:pt x="520" y="1747"/>
                  </a:lnTo>
                  <a:lnTo>
                    <a:pt x="511" y="1729"/>
                  </a:lnTo>
                  <a:lnTo>
                    <a:pt x="493" y="1711"/>
                  </a:lnTo>
                  <a:lnTo>
                    <a:pt x="485" y="1694"/>
                  </a:lnTo>
                  <a:lnTo>
                    <a:pt x="467" y="1676"/>
                  </a:lnTo>
                  <a:lnTo>
                    <a:pt x="449" y="1650"/>
                  </a:lnTo>
                  <a:lnTo>
                    <a:pt x="432" y="1632"/>
                  </a:lnTo>
                  <a:lnTo>
                    <a:pt x="414" y="1614"/>
                  </a:lnTo>
                  <a:lnTo>
                    <a:pt x="396" y="1597"/>
                  </a:lnTo>
                  <a:lnTo>
                    <a:pt x="379" y="1579"/>
                  </a:lnTo>
                  <a:lnTo>
                    <a:pt x="361" y="1562"/>
                  </a:lnTo>
                  <a:lnTo>
                    <a:pt x="352" y="1544"/>
                  </a:lnTo>
                  <a:lnTo>
                    <a:pt x="343" y="1526"/>
                  </a:lnTo>
                  <a:lnTo>
                    <a:pt x="335" y="1509"/>
                  </a:lnTo>
                  <a:lnTo>
                    <a:pt x="335" y="1491"/>
                  </a:lnTo>
                  <a:lnTo>
                    <a:pt x="326" y="1465"/>
                  </a:lnTo>
                  <a:lnTo>
                    <a:pt x="326" y="1447"/>
                  </a:lnTo>
                  <a:lnTo>
                    <a:pt x="326" y="1429"/>
                  </a:lnTo>
                  <a:lnTo>
                    <a:pt x="326" y="1412"/>
                  </a:lnTo>
                  <a:lnTo>
                    <a:pt x="326" y="1394"/>
                  </a:lnTo>
                  <a:lnTo>
                    <a:pt x="335" y="1376"/>
                  </a:lnTo>
                  <a:lnTo>
                    <a:pt x="352" y="1359"/>
                  </a:lnTo>
                  <a:lnTo>
                    <a:pt x="361" y="1341"/>
                  </a:lnTo>
                  <a:lnTo>
                    <a:pt x="379" y="1332"/>
                  </a:lnTo>
                  <a:lnTo>
                    <a:pt x="379" y="1315"/>
                  </a:lnTo>
                  <a:lnTo>
                    <a:pt x="396" y="1306"/>
                  </a:lnTo>
                  <a:lnTo>
                    <a:pt x="414" y="1297"/>
                  </a:lnTo>
                  <a:lnTo>
                    <a:pt x="432" y="1297"/>
                  </a:lnTo>
                  <a:lnTo>
                    <a:pt x="449" y="1297"/>
                  </a:lnTo>
                  <a:lnTo>
                    <a:pt x="467" y="1306"/>
                  </a:lnTo>
                  <a:lnTo>
                    <a:pt x="476" y="1323"/>
                  </a:lnTo>
                  <a:lnTo>
                    <a:pt x="485" y="1341"/>
                  </a:lnTo>
                  <a:lnTo>
                    <a:pt x="502" y="1341"/>
                  </a:lnTo>
                  <a:lnTo>
                    <a:pt x="520" y="1341"/>
                  </a:lnTo>
                  <a:lnTo>
                    <a:pt x="537" y="1341"/>
                  </a:lnTo>
                  <a:lnTo>
                    <a:pt x="555" y="1341"/>
                  </a:lnTo>
                  <a:lnTo>
                    <a:pt x="573" y="1323"/>
                  </a:lnTo>
                  <a:lnTo>
                    <a:pt x="573" y="1306"/>
                  </a:lnTo>
                  <a:lnTo>
                    <a:pt x="573" y="1288"/>
                  </a:lnTo>
                  <a:lnTo>
                    <a:pt x="573" y="1271"/>
                  </a:lnTo>
                  <a:lnTo>
                    <a:pt x="573" y="1253"/>
                  </a:lnTo>
                  <a:lnTo>
                    <a:pt x="555" y="1244"/>
                  </a:lnTo>
                  <a:lnTo>
                    <a:pt x="546" y="1226"/>
                  </a:lnTo>
                  <a:lnTo>
                    <a:pt x="529" y="1209"/>
                  </a:lnTo>
                  <a:lnTo>
                    <a:pt x="520" y="1191"/>
                  </a:lnTo>
                  <a:lnTo>
                    <a:pt x="511" y="1164"/>
                  </a:lnTo>
                  <a:lnTo>
                    <a:pt x="502" y="1146"/>
                  </a:lnTo>
                  <a:lnTo>
                    <a:pt x="493" y="1128"/>
                  </a:lnTo>
                  <a:lnTo>
                    <a:pt x="476" y="1111"/>
                  </a:lnTo>
                  <a:lnTo>
                    <a:pt x="458" y="1102"/>
                  </a:lnTo>
                  <a:lnTo>
                    <a:pt x="440" y="1084"/>
                  </a:lnTo>
                  <a:lnTo>
                    <a:pt x="423" y="1058"/>
                  </a:lnTo>
                  <a:lnTo>
                    <a:pt x="405" y="1049"/>
                  </a:lnTo>
                  <a:lnTo>
                    <a:pt x="396" y="1031"/>
                  </a:lnTo>
                  <a:lnTo>
                    <a:pt x="379" y="1023"/>
                  </a:lnTo>
                  <a:lnTo>
                    <a:pt x="352" y="1005"/>
                  </a:lnTo>
                  <a:lnTo>
                    <a:pt x="343" y="987"/>
                  </a:lnTo>
                  <a:lnTo>
                    <a:pt x="326" y="978"/>
                  </a:lnTo>
                  <a:lnTo>
                    <a:pt x="308" y="820"/>
                  </a:lnTo>
                  <a:lnTo>
                    <a:pt x="291" y="811"/>
                  </a:lnTo>
                  <a:lnTo>
                    <a:pt x="273" y="811"/>
                  </a:lnTo>
                  <a:lnTo>
                    <a:pt x="255" y="802"/>
                  </a:lnTo>
                  <a:lnTo>
                    <a:pt x="238" y="793"/>
                  </a:lnTo>
                  <a:lnTo>
                    <a:pt x="229" y="776"/>
                  </a:lnTo>
                  <a:lnTo>
                    <a:pt x="220" y="758"/>
                  </a:lnTo>
                  <a:lnTo>
                    <a:pt x="202" y="749"/>
                  </a:lnTo>
                  <a:lnTo>
                    <a:pt x="185" y="740"/>
                  </a:lnTo>
                  <a:lnTo>
                    <a:pt x="167" y="723"/>
                  </a:lnTo>
                  <a:lnTo>
                    <a:pt x="158" y="705"/>
                  </a:lnTo>
                  <a:lnTo>
                    <a:pt x="132" y="687"/>
                  </a:lnTo>
                  <a:lnTo>
                    <a:pt x="123" y="670"/>
                  </a:lnTo>
                  <a:lnTo>
                    <a:pt x="105" y="670"/>
                  </a:lnTo>
                  <a:lnTo>
                    <a:pt x="88" y="661"/>
                  </a:lnTo>
                  <a:lnTo>
                    <a:pt x="61" y="643"/>
                  </a:lnTo>
                  <a:lnTo>
                    <a:pt x="61" y="626"/>
                  </a:lnTo>
                  <a:lnTo>
                    <a:pt x="44" y="608"/>
                  </a:lnTo>
                  <a:lnTo>
                    <a:pt x="35" y="60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3600" y="1949400"/>
              <a:ext cx="105120" cy="114840"/>
            </a:xfrm>
            <a:custGeom>
              <a:avLst/>
              <a:gdLst/>
              <a:ahLst/>
              <a:rect l="0" t="0" r="r" b="b"/>
              <a:pathLst>
                <a:path w="292" h="319">
                  <a:moveTo>
                    <a:pt x="141" y="293"/>
                  </a:moveTo>
                  <a:lnTo>
                    <a:pt x="159" y="293"/>
                  </a:lnTo>
                  <a:lnTo>
                    <a:pt x="168" y="275"/>
                  </a:lnTo>
                  <a:lnTo>
                    <a:pt x="186" y="266"/>
                  </a:lnTo>
                  <a:lnTo>
                    <a:pt x="195" y="248"/>
                  </a:lnTo>
                  <a:lnTo>
                    <a:pt x="212" y="240"/>
                  </a:lnTo>
                  <a:lnTo>
                    <a:pt x="230" y="221"/>
                  </a:lnTo>
                  <a:lnTo>
                    <a:pt x="247" y="203"/>
                  </a:lnTo>
                  <a:lnTo>
                    <a:pt x="265" y="195"/>
                  </a:lnTo>
                  <a:lnTo>
                    <a:pt x="274" y="177"/>
                  </a:lnTo>
                  <a:lnTo>
                    <a:pt x="274" y="159"/>
                  </a:lnTo>
                  <a:lnTo>
                    <a:pt x="274" y="142"/>
                  </a:lnTo>
                  <a:lnTo>
                    <a:pt x="274" y="124"/>
                  </a:lnTo>
                  <a:lnTo>
                    <a:pt x="283" y="106"/>
                  </a:lnTo>
                  <a:lnTo>
                    <a:pt x="283" y="89"/>
                  </a:lnTo>
                  <a:lnTo>
                    <a:pt x="292" y="70"/>
                  </a:lnTo>
                  <a:lnTo>
                    <a:pt x="292" y="52"/>
                  </a:lnTo>
                  <a:lnTo>
                    <a:pt x="283" y="35"/>
                  </a:lnTo>
                  <a:lnTo>
                    <a:pt x="283" y="17"/>
                  </a:lnTo>
                  <a:lnTo>
                    <a:pt x="283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21" y="0"/>
                  </a:lnTo>
                  <a:lnTo>
                    <a:pt x="203" y="8"/>
                  </a:lnTo>
                  <a:lnTo>
                    <a:pt x="203" y="26"/>
                  </a:lnTo>
                  <a:lnTo>
                    <a:pt x="186" y="35"/>
                  </a:lnTo>
                  <a:lnTo>
                    <a:pt x="168" y="44"/>
                  </a:lnTo>
                  <a:lnTo>
                    <a:pt x="150" y="44"/>
                  </a:lnTo>
                  <a:lnTo>
                    <a:pt x="132" y="44"/>
                  </a:lnTo>
                  <a:lnTo>
                    <a:pt x="123" y="61"/>
                  </a:lnTo>
                  <a:lnTo>
                    <a:pt x="114" y="79"/>
                  </a:lnTo>
                  <a:lnTo>
                    <a:pt x="97" y="89"/>
                  </a:lnTo>
                  <a:lnTo>
                    <a:pt x="79" y="79"/>
                  </a:lnTo>
                  <a:lnTo>
                    <a:pt x="52" y="89"/>
                  </a:lnTo>
                  <a:lnTo>
                    <a:pt x="35" y="98"/>
                  </a:lnTo>
                  <a:lnTo>
                    <a:pt x="17" y="106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17" y="230"/>
                  </a:lnTo>
                  <a:lnTo>
                    <a:pt x="35" y="240"/>
                  </a:lnTo>
                  <a:lnTo>
                    <a:pt x="44" y="257"/>
                  </a:lnTo>
                  <a:lnTo>
                    <a:pt x="61" y="266"/>
                  </a:lnTo>
                  <a:lnTo>
                    <a:pt x="61" y="284"/>
                  </a:lnTo>
                  <a:lnTo>
                    <a:pt x="79" y="293"/>
                  </a:lnTo>
                  <a:lnTo>
                    <a:pt x="97" y="293"/>
                  </a:lnTo>
                  <a:lnTo>
                    <a:pt x="114" y="310"/>
                  </a:lnTo>
                  <a:lnTo>
                    <a:pt x="132" y="319"/>
                  </a:lnTo>
                  <a:lnTo>
                    <a:pt x="150" y="319"/>
                  </a:lnTo>
                  <a:lnTo>
                    <a:pt x="168" y="310"/>
                  </a:lnTo>
                  <a:lnTo>
                    <a:pt x="168" y="293"/>
                  </a:lnTo>
                  <a:lnTo>
                    <a:pt x="186" y="284"/>
                  </a:lnTo>
                  <a:lnTo>
                    <a:pt x="195" y="275"/>
                  </a:lnTo>
                  <a:lnTo>
                    <a:pt x="141" y="29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251000" y="2041560"/>
              <a:ext cx="133560" cy="254520"/>
            </a:xfrm>
            <a:custGeom>
              <a:avLst/>
              <a:gdLst/>
              <a:ahLst/>
              <a:rect l="0" t="0" r="r" b="b"/>
              <a:pathLst>
                <a:path w="371" h="707">
                  <a:moveTo>
                    <a:pt x="158" y="0"/>
                  </a:moveTo>
                  <a:lnTo>
                    <a:pt x="176" y="0"/>
                  </a:lnTo>
                  <a:lnTo>
                    <a:pt x="195" y="8"/>
                  </a:lnTo>
                  <a:lnTo>
                    <a:pt x="203" y="26"/>
                  </a:lnTo>
                  <a:lnTo>
                    <a:pt x="221" y="35"/>
                  </a:lnTo>
                  <a:lnTo>
                    <a:pt x="239" y="44"/>
                  </a:lnTo>
                  <a:lnTo>
                    <a:pt x="256" y="61"/>
                  </a:lnTo>
                  <a:lnTo>
                    <a:pt x="265" y="79"/>
                  </a:lnTo>
                  <a:lnTo>
                    <a:pt x="274" y="97"/>
                  </a:lnTo>
                  <a:lnTo>
                    <a:pt x="283" y="114"/>
                  </a:lnTo>
                  <a:lnTo>
                    <a:pt x="300" y="141"/>
                  </a:lnTo>
                  <a:lnTo>
                    <a:pt x="318" y="149"/>
                  </a:lnTo>
                  <a:lnTo>
                    <a:pt x="318" y="167"/>
                  </a:lnTo>
                  <a:lnTo>
                    <a:pt x="336" y="195"/>
                  </a:lnTo>
                  <a:lnTo>
                    <a:pt x="344" y="212"/>
                  </a:lnTo>
                  <a:lnTo>
                    <a:pt x="344" y="230"/>
                  </a:lnTo>
                  <a:lnTo>
                    <a:pt x="353" y="247"/>
                  </a:lnTo>
                  <a:lnTo>
                    <a:pt x="353" y="265"/>
                  </a:lnTo>
                  <a:lnTo>
                    <a:pt x="353" y="283"/>
                  </a:lnTo>
                  <a:lnTo>
                    <a:pt x="353" y="309"/>
                  </a:lnTo>
                  <a:lnTo>
                    <a:pt x="362" y="327"/>
                  </a:lnTo>
                  <a:lnTo>
                    <a:pt x="362" y="353"/>
                  </a:lnTo>
                  <a:lnTo>
                    <a:pt x="362" y="371"/>
                  </a:lnTo>
                  <a:lnTo>
                    <a:pt x="362" y="389"/>
                  </a:lnTo>
                  <a:lnTo>
                    <a:pt x="362" y="406"/>
                  </a:lnTo>
                  <a:lnTo>
                    <a:pt x="371" y="424"/>
                  </a:lnTo>
                  <a:lnTo>
                    <a:pt x="371" y="468"/>
                  </a:lnTo>
                  <a:lnTo>
                    <a:pt x="371" y="486"/>
                  </a:lnTo>
                  <a:lnTo>
                    <a:pt x="371" y="503"/>
                  </a:lnTo>
                  <a:lnTo>
                    <a:pt x="371" y="531"/>
                  </a:lnTo>
                  <a:lnTo>
                    <a:pt x="371" y="548"/>
                  </a:lnTo>
                  <a:lnTo>
                    <a:pt x="362" y="566"/>
                  </a:lnTo>
                  <a:lnTo>
                    <a:pt x="362" y="584"/>
                  </a:lnTo>
                  <a:lnTo>
                    <a:pt x="362" y="601"/>
                  </a:lnTo>
                  <a:lnTo>
                    <a:pt x="353" y="619"/>
                  </a:lnTo>
                  <a:lnTo>
                    <a:pt x="344" y="645"/>
                  </a:lnTo>
                  <a:lnTo>
                    <a:pt x="336" y="663"/>
                  </a:lnTo>
                  <a:lnTo>
                    <a:pt x="318" y="672"/>
                  </a:lnTo>
                  <a:lnTo>
                    <a:pt x="309" y="689"/>
                  </a:lnTo>
                  <a:lnTo>
                    <a:pt x="292" y="698"/>
                  </a:lnTo>
                  <a:lnTo>
                    <a:pt x="274" y="707"/>
                  </a:lnTo>
                  <a:lnTo>
                    <a:pt x="256" y="707"/>
                  </a:lnTo>
                  <a:lnTo>
                    <a:pt x="239" y="707"/>
                  </a:lnTo>
                  <a:lnTo>
                    <a:pt x="212" y="707"/>
                  </a:lnTo>
                  <a:lnTo>
                    <a:pt x="195" y="707"/>
                  </a:lnTo>
                  <a:lnTo>
                    <a:pt x="167" y="707"/>
                  </a:lnTo>
                  <a:lnTo>
                    <a:pt x="149" y="707"/>
                  </a:lnTo>
                  <a:lnTo>
                    <a:pt x="132" y="707"/>
                  </a:lnTo>
                  <a:lnTo>
                    <a:pt x="114" y="707"/>
                  </a:lnTo>
                  <a:lnTo>
                    <a:pt x="97" y="698"/>
                  </a:lnTo>
                  <a:lnTo>
                    <a:pt x="88" y="681"/>
                  </a:lnTo>
                  <a:lnTo>
                    <a:pt x="70" y="672"/>
                  </a:lnTo>
                  <a:lnTo>
                    <a:pt x="52" y="654"/>
                  </a:lnTo>
                  <a:lnTo>
                    <a:pt x="35" y="645"/>
                  </a:lnTo>
                  <a:lnTo>
                    <a:pt x="26" y="628"/>
                  </a:lnTo>
                  <a:lnTo>
                    <a:pt x="17" y="610"/>
                  </a:lnTo>
                  <a:lnTo>
                    <a:pt x="17" y="584"/>
                  </a:lnTo>
                  <a:lnTo>
                    <a:pt x="8" y="566"/>
                  </a:lnTo>
                  <a:lnTo>
                    <a:pt x="8" y="539"/>
                  </a:lnTo>
                  <a:lnTo>
                    <a:pt x="8" y="512"/>
                  </a:lnTo>
                  <a:lnTo>
                    <a:pt x="8" y="494"/>
                  </a:lnTo>
                  <a:lnTo>
                    <a:pt x="8" y="477"/>
                  </a:lnTo>
                  <a:lnTo>
                    <a:pt x="8" y="459"/>
                  </a:lnTo>
                  <a:lnTo>
                    <a:pt x="17" y="441"/>
                  </a:lnTo>
                  <a:lnTo>
                    <a:pt x="8" y="424"/>
                  </a:lnTo>
                  <a:lnTo>
                    <a:pt x="8" y="406"/>
                  </a:lnTo>
                  <a:lnTo>
                    <a:pt x="8" y="371"/>
                  </a:lnTo>
                  <a:lnTo>
                    <a:pt x="0" y="353"/>
                  </a:lnTo>
                  <a:lnTo>
                    <a:pt x="0" y="336"/>
                  </a:lnTo>
                  <a:lnTo>
                    <a:pt x="8" y="309"/>
                  </a:lnTo>
                  <a:lnTo>
                    <a:pt x="8" y="292"/>
                  </a:lnTo>
                  <a:lnTo>
                    <a:pt x="8" y="274"/>
                  </a:lnTo>
                  <a:lnTo>
                    <a:pt x="17" y="256"/>
                  </a:lnTo>
                  <a:lnTo>
                    <a:pt x="17" y="239"/>
                  </a:lnTo>
                  <a:lnTo>
                    <a:pt x="26" y="221"/>
                  </a:lnTo>
                  <a:lnTo>
                    <a:pt x="35" y="203"/>
                  </a:lnTo>
                  <a:lnTo>
                    <a:pt x="35" y="186"/>
                  </a:lnTo>
                  <a:lnTo>
                    <a:pt x="44" y="158"/>
                  </a:lnTo>
                  <a:lnTo>
                    <a:pt x="52" y="141"/>
                  </a:lnTo>
                  <a:lnTo>
                    <a:pt x="61" y="114"/>
                  </a:lnTo>
                  <a:lnTo>
                    <a:pt x="70" y="97"/>
                  </a:lnTo>
                  <a:lnTo>
                    <a:pt x="79" y="79"/>
                  </a:lnTo>
                  <a:lnTo>
                    <a:pt x="105" y="61"/>
                  </a:lnTo>
                  <a:lnTo>
                    <a:pt x="123" y="44"/>
                  </a:lnTo>
                  <a:lnTo>
                    <a:pt x="132" y="26"/>
                  </a:lnTo>
                  <a:lnTo>
                    <a:pt x="149" y="17"/>
                  </a:lnTo>
                  <a:lnTo>
                    <a:pt x="176" y="1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92200" y="1924200"/>
              <a:ext cx="95760" cy="114840"/>
            </a:xfrm>
            <a:custGeom>
              <a:avLst/>
              <a:gdLst/>
              <a:ahLst/>
              <a:rect l="0" t="0" r="r" b="b"/>
              <a:pathLst>
                <a:path w="266" h="319">
                  <a:moveTo>
                    <a:pt x="17" y="0"/>
                  </a:moveTo>
                  <a:lnTo>
                    <a:pt x="26" y="17"/>
                  </a:lnTo>
                  <a:lnTo>
                    <a:pt x="44" y="26"/>
                  </a:lnTo>
                  <a:lnTo>
                    <a:pt x="61" y="44"/>
                  </a:lnTo>
                  <a:lnTo>
                    <a:pt x="80" y="44"/>
                  </a:lnTo>
                  <a:lnTo>
                    <a:pt x="89" y="61"/>
                  </a:lnTo>
                  <a:lnTo>
                    <a:pt x="106" y="79"/>
                  </a:lnTo>
                  <a:lnTo>
                    <a:pt x="115" y="98"/>
                  </a:lnTo>
                  <a:lnTo>
                    <a:pt x="124" y="115"/>
                  </a:lnTo>
                  <a:lnTo>
                    <a:pt x="124" y="133"/>
                  </a:lnTo>
                  <a:lnTo>
                    <a:pt x="124" y="150"/>
                  </a:lnTo>
                  <a:lnTo>
                    <a:pt x="142" y="150"/>
                  </a:lnTo>
                  <a:lnTo>
                    <a:pt x="150" y="133"/>
                  </a:lnTo>
                  <a:lnTo>
                    <a:pt x="168" y="124"/>
                  </a:lnTo>
                  <a:lnTo>
                    <a:pt x="186" y="124"/>
                  </a:lnTo>
                  <a:lnTo>
                    <a:pt x="195" y="142"/>
                  </a:lnTo>
                  <a:lnTo>
                    <a:pt x="204" y="159"/>
                  </a:lnTo>
                  <a:lnTo>
                    <a:pt x="222" y="159"/>
                  </a:lnTo>
                  <a:lnTo>
                    <a:pt x="248" y="186"/>
                  </a:lnTo>
                  <a:lnTo>
                    <a:pt x="266" y="195"/>
                  </a:lnTo>
                  <a:lnTo>
                    <a:pt x="266" y="212"/>
                  </a:lnTo>
                  <a:lnTo>
                    <a:pt x="266" y="230"/>
                  </a:lnTo>
                  <a:lnTo>
                    <a:pt x="257" y="248"/>
                  </a:lnTo>
                  <a:lnTo>
                    <a:pt x="240" y="257"/>
                  </a:lnTo>
                  <a:lnTo>
                    <a:pt x="222" y="275"/>
                  </a:lnTo>
                  <a:lnTo>
                    <a:pt x="213" y="293"/>
                  </a:lnTo>
                  <a:lnTo>
                    <a:pt x="195" y="301"/>
                  </a:lnTo>
                  <a:lnTo>
                    <a:pt x="186" y="319"/>
                  </a:lnTo>
                  <a:lnTo>
                    <a:pt x="168" y="319"/>
                  </a:lnTo>
                  <a:lnTo>
                    <a:pt x="142" y="319"/>
                  </a:lnTo>
                  <a:lnTo>
                    <a:pt x="124" y="310"/>
                  </a:lnTo>
                  <a:lnTo>
                    <a:pt x="106" y="293"/>
                  </a:lnTo>
                  <a:lnTo>
                    <a:pt x="98" y="275"/>
                  </a:lnTo>
                  <a:lnTo>
                    <a:pt x="80" y="266"/>
                  </a:lnTo>
                  <a:lnTo>
                    <a:pt x="61" y="257"/>
                  </a:lnTo>
                  <a:lnTo>
                    <a:pt x="44" y="248"/>
                  </a:lnTo>
                  <a:lnTo>
                    <a:pt x="35" y="230"/>
                  </a:lnTo>
                  <a:lnTo>
                    <a:pt x="17" y="221"/>
                  </a:lnTo>
                  <a:lnTo>
                    <a:pt x="8" y="195"/>
                  </a:lnTo>
                  <a:lnTo>
                    <a:pt x="8" y="168"/>
                  </a:lnTo>
                  <a:lnTo>
                    <a:pt x="8" y="150"/>
                  </a:lnTo>
                  <a:lnTo>
                    <a:pt x="8" y="133"/>
                  </a:lnTo>
                  <a:lnTo>
                    <a:pt x="8" y="115"/>
                  </a:lnTo>
                  <a:lnTo>
                    <a:pt x="8" y="98"/>
                  </a:lnTo>
                  <a:lnTo>
                    <a:pt x="8" y="79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0" y="26"/>
                  </a:lnTo>
                  <a:lnTo>
                    <a:pt x="0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1920" y="2089080"/>
              <a:ext cx="95760" cy="95760"/>
            </a:xfrm>
            <a:custGeom>
              <a:avLst/>
              <a:gdLst/>
              <a:ahLst/>
              <a:rect l="0" t="0" r="r" b="b"/>
              <a:pathLst>
                <a:path w="266" h="266">
                  <a:moveTo>
                    <a:pt x="106" y="0"/>
                  </a:moveTo>
                  <a:lnTo>
                    <a:pt x="124" y="0"/>
                  </a:lnTo>
                  <a:lnTo>
                    <a:pt x="142" y="0"/>
                  </a:lnTo>
                  <a:lnTo>
                    <a:pt x="159" y="0"/>
                  </a:lnTo>
                  <a:lnTo>
                    <a:pt x="177" y="0"/>
                  </a:lnTo>
                  <a:lnTo>
                    <a:pt x="204" y="8"/>
                  </a:lnTo>
                  <a:lnTo>
                    <a:pt x="222" y="17"/>
                  </a:lnTo>
                  <a:lnTo>
                    <a:pt x="240" y="26"/>
                  </a:lnTo>
                  <a:lnTo>
                    <a:pt x="257" y="52"/>
                  </a:lnTo>
                  <a:lnTo>
                    <a:pt x="266" y="71"/>
                  </a:lnTo>
                  <a:lnTo>
                    <a:pt x="266" y="89"/>
                  </a:lnTo>
                  <a:lnTo>
                    <a:pt x="257" y="115"/>
                  </a:lnTo>
                  <a:lnTo>
                    <a:pt x="248" y="133"/>
                  </a:lnTo>
                  <a:lnTo>
                    <a:pt x="231" y="142"/>
                  </a:lnTo>
                  <a:lnTo>
                    <a:pt x="213" y="150"/>
                  </a:lnTo>
                  <a:lnTo>
                    <a:pt x="195" y="159"/>
                  </a:lnTo>
                  <a:lnTo>
                    <a:pt x="186" y="177"/>
                  </a:lnTo>
                  <a:lnTo>
                    <a:pt x="177" y="195"/>
                  </a:lnTo>
                  <a:lnTo>
                    <a:pt x="168" y="213"/>
                  </a:lnTo>
                  <a:lnTo>
                    <a:pt x="159" y="231"/>
                  </a:lnTo>
                  <a:lnTo>
                    <a:pt x="142" y="248"/>
                  </a:lnTo>
                  <a:lnTo>
                    <a:pt x="133" y="266"/>
                  </a:lnTo>
                  <a:lnTo>
                    <a:pt x="115" y="266"/>
                  </a:lnTo>
                  <a:lnTo>
                    <a:pt x="89" y="266"/>
                  </a:lnTo>
                  <a:lnTo>
                    <a:pt x="71" y="257"/>
                  </a:lnTo>
                  <a:lnTo>
                    <a:pt x="52" y="248"/>
                  </a:lnTo>
                  <a:lnTo>
                    <a:pt x="35" y="240"/>
                  </a:lnTo>
                  <a:lnTo>
                    <a:pt x="35" y="222"/>
                  </a:lnTo>
                  <a:lnTo>
                    <a:pt x="17" y="204"/>
                  </a:lnTo>
                  <a:lnTo>
                    <a:pt x="0" y="150"/>
                  </a:lnTo>
                  <a:lnTo>
                    <a:pt x="8" y="124"/>
                  </a:lnTo>
                  <a:lnTo>
                    <a:pt x="8" y="106"/>
                  </a:lnTo>
                  <a:lnTo>
                    <a:pt x="17" y="89"/>
                  </a:lnTo>
                  <a:lnTo>
                    <a:pt x="35" y="80"/>
                  </a:lnTo>
                  <a:lnTo>
                    <a:pt x="52" y="71"/>
                  </a:lnTo>
                  <a:lnTo>
                    <a:pt x="52" y="52"/>
                  </a:lnTo>
                  <a:lnTo>
                    <a:pt x="80" y="35"/>
                  </a:lnTo>
                  <a:lnTo>
                    <a:pt x="98" y="44"/>
                  </a:lnTo>
                  <a:lnTo>
                    <a:pt x="106" y="26"/>
                  </a:lnTo>
                  <a:lnTo>
                    <a:pt x="98" y="8"/>
                  </a:lnTo>
                  <a:lnTo>
                    <a:pt x="115" y="0"/>
                  </a:lnTo>
                  <a:lnTo>
                    <a:pt x="142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73080" y="1822320"/>
              <a:ext cx="73440" cy="63720"/>
            </a:xfrm>
            <a:custGeom>
              <a:avLst/>
              <a:gdLst/>
              <a:ahLst/>
              <a:rect l="0" t="0" r="r" b="b"/>
              <a:pathLst>
                <a:path w="204" h="177">
                  <a:moveTo>
                    <a:pt x="53" y="0"/>
                  </a:moveTo>
                  <a:lnTo>
                    <a:pt x="71" y="0"/>
                  </a:lnTo>
                  <a:lnTo>
                    <a:pt x="89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8"/>
                  </a:lnTo>
                  <a:lnTo>
                    <a:pt x="160" y="8"/>
                  </a:lnTo>
                  <a:lnTo>
                    <a:pt x="169" y="26"/>
                  </a:lnTo>
                  <a:lnTo>
                    <a:pt x="187" y="35"/>
                  </a:lnTo>
                  <a:lnTo>
                    <a:pt x="196" y="52"/>
                  </a:lnTo>
                  <a:lnTo>
                    <a:pt x="204" y="70"/>
                  </a:lnTo>
                  <a:lnTo>
                    <a:pt x="204" y="98"/>
                  </a:lnTo>
                  <a:lnTo>
                    <a:pt x="204" y="115"/>
                  </a:lnTo>
                  <a:lnTo>
                    <a:pt x="204" y="133"/>
                  </a:lnTo>
                  <a:lnTo>
                    <a:pt x="196" y="150"/>
                  </a:lnTo>
                  <a:lnTo>
                    <a:pt x="196" y="168"/>
                  </a:lnTo>
                  <a:lnTo>
                    <a:pt x="178" y="177"/>
                  </a:lnTo>
                  <a:lnTo>
                    <a:pt x="160" y="177"/>
                  </a:lnTo>
                  <a:lnTo>
                    <a:pt x="142" y="177"/>
                  </a:lnTo>
                  <a:lnTo>
                    <a:pt x="124" y="177"/>
                  </a:lnTo>
                  <a:lnTo>
                    <a:pt x="106" y="177"/>
                  </a:lnTo>
                  <a:lnTo>
                    <a:pt x="89" y="177"/>
                  </a:lnTo>
                  <a:lnTo>
                    <a:pt x="71" y="168"/>
                  </a:lnTo>
                  <a:lnTo>
                    <a:pt x="62" y="150"/>
                  </a:lnTo>
                  <a:lnTo>
                    <a:pt x="44" y="150"/>
                  </a:lnTo>
                  <a:lnTo>
                    <a:pt x="26" y="142"/>
                  </a:lnTo>
                  <a:lnTo>
                    <a:pt x="8" y="142"/>
                  </a:lnTo>
                  <a:lnTo>
                    <a:pt x="0" y="124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0" y="35"/>
                  </a:lnTo>
                  <a:lnTo>
                    <a:pt x="17" y="35"/>
                  </a:lnTo>
                  <a:lnTo>
                    <a:pt x="35" y="26"/>
                  </a:lnTo>
                  <a:lnTo>
                    <a:pt x="53" y="17"/>
                  </a:lnTo>
                  <a:lnTo>
                    <a:pt x="62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263680" y="1819440"/>
              <a:ext cx="111600" cy="133560"/>
            </a:xfrm>
            <a:custGeom>
              <a:avLst/>
              <a:gdLst/>
              <a:ahLst/>
              <a:rect l="0" t="0" r="r" b="b"/>
              <a:pathLst>
                <a:path w="310" h="371">
                  <a:moveTo>
                    <a:pt x="8" y="8"/>
                  </a:moveTo>
                  <a:lnTo>
                    <a:pt x="26" y="8"/>
                  </a:lnTo>
                  <a:lnTo>
                    <a:pt x="44" y="8"/>
                  </a:lnTo>
                  <a:lnTo>
                    <a:pt x="61" y="8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115" y="8"/>
                  </a:lnTo>
                  <a:lnTo>
                    <a:pt x="133" y="17"/>
                  </a:lnTo>
                  <a:lnTo>
                    <a:pt x="150" y="35"/>
                  </a:lnTo>
                  <a:lnTo>
                    <a:pt x="168" y="35"/>
                  </a:lnTo>
                  <a:lnTo>
                    <a:pt x="186" y="44"/>
                  </a:lnTo>
                  <a:lnTo>
                    <a:pt x="203" y="52"/>
                  </a:lnTo>
                  <a:lnTo>
                    <a:pt x="221" y="70"/>
                  </a:lnTo>
                  <a:lnTo>
                    <a:pt x="240" y="70"/>
                  </a:lnTo>
                  <a:lnTo>
                    <a:pt x="248" y="88"/>
                  </a:lnTo>
                  <a:lnTo>
                    <a:pt x="266" y="97"/>
                  </a:lnTo>
                  <a:lnTo>
                    <a:pt x="284" y="114"/>
                  </a:lnTo>
                  <a:lnTo>
                    <a:pt x="293" y="132"/>
                  </a:lnTo>
                  <a:lnTo>
                    <a:pt x="310" y="149"/>
                  </a:lnTo>
                  <a:lnTo>
                    <a:pt x="310" y="167"/>
                  </a:lnTo>
                  <a:lnTo>
                    <a:pt x="310" y="186"/>
                  </a:lnTo>
                  <a:lnTo>
                    <a:pt x="310" y="203"/>
                  </a:lnTo>
                  <a:lnTo>
                    <a:pt x="310" y="230"/>
                  </a:lnTo>
                  <a:lnTo>
                    <a:pt x="310" y="247"/>
                  </a:lnTo>
                  <a:lnTo>
                    <a:pt x="310" y="265"/>
                  </a:lnTo>
                  <a:lnTo>
                    <a:pt x="301" y="292"/>
                  </a:lnTo>
                  <a:lnTo>
                    <a:pt x="301" y="309"/>
                  </a:lnTo>
                  <a:lnTo>
                    <a:pt x="301" y="327"/>
                  </a:lnTo>
                  <a:lnTo>
                    <a:pt x="301" y="344"/>
                  </a:lnTo>
                  <a:lnTo>
                    <a:pt x="293" y="362"/>
                  </a:lnTo>
                  <a:lnTo>
                    <a:pt x="257" y="371"/>
                  </a:lnTo>
                  <a:lnTo>
                    <a:pt x="240" y="371"/>
                  </a:lnTo>
                  <a:lnTo>
                    <a:pt x="212" y="371"/>
                  </a:lnTo>
                  <a:lnTo>
                    <a:pt x="186" y="371"/>
                  </a:lnTo>
                  <a:lnTo>
                    <a:pt x="168" y="371"/>
                  </a:lnTo>
                  <a:lnTo>
                    <a:pt x="150" y="371"/>
                  </a:lnTo>
                  <a:lnTo>
                    <a:pt x="133" y="362"/>
                  </a:lnTo>
                  <a:lnTo>
                    <a:pt x="115" y="336"/>
                  </a:lnTo>
                  <a:lnTo>
                    <a:pt x="106" y="318"/>
                  </a:lnTo>
                  <a:lnTo>
                    <a:pt x="89" y="309"/>
                  </a:lnTo>
                  <a:lnTo>
                    <a:pt x="70" y="292"/>
                  </a:lnTo>
                  <a:lnTo>
                    <a:pt x="52" y="283"/>
                  </a:lnTo>
                  <a:lnTo>
                    <a:pt x="52" y="265"/>
                  </a:lnTo>
                  <a:lnTo>
                    <a:pt x="52" y="247"/>
                  </a:lnTo>
                  <a:lnTo>
                    <a:pt x="44" y="230"/>
                  </a:lnTo>
                  <a:lnTo>
                    <a:pt x="44" y="212"/>
                  </a:lnTo>
                  <a:lnTo>
                    <a:pt x="26" y="212"/>
                  </a:lnTo>
                  <a:lnTo>
                    <a:pt x="26" y="195"/>
                  </a:lnTo>
                  <a:lnTo>
                    <a:pt x="17" y="167"/>
                  </a:lnTo>
                  <a:lnTo>
                    <a:pt x="26" y="123"/>
                  </a:lnTo>
                  <a:lnTo>
                    <a:pt x="17" y="105"/>
                  </a:lnTo>
                  <a:lnTo>
                    <a:pt x="8" y="8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0" y="26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241720" y="2048040"/>
              <a:ext cx="92520" cy="111600"/>
            </a:xfrm>
            <a:custGeom>
              <a:avLst/>
              <a:gdLst/>
              <a:ahLst/>
              <a:rect l="0" t="0" r="r" b="b"/>
              <a:pathLst>
                <a:path w="257" h="310">
                  <a:moveTo>
                    <a:pt x="35" y="0"/>
                  </a:moveTo>
                  <a:lnTo>
                    <a:pt x="52" y="8"/>
                  </a:lnTo>
                  <a:lnTo>
                    <a:pt x="71" y="8"/>
                  </a:lnTo>
                  <a:lnTo>
                    <a:pt x="89" y="8"/>
                  </a:lnTo>
                  <a:lnTo>
                    <a:pt x="106" y="8"/>
                  </a:lnTo>
                  <a:lnTo>
                    <a:pt x="124" y="8"/>
                  </a:lnTo>
                  <a:lnTo>
                    <a:pt x="142" y="17"/>
                  </a:lnTo>
                  <a:lnTo>
                    <a:pt x="159" y="17"/>
                  </a:lnTo>
                  <a:lnTo>
                    <a:pt x="177" y="35"/>
                  </a:lnTo>
                  <a:lnTo>
                    <a:pt x="186" y="52"/>
                  </a:lnTo>
                  <a:lnTo>
                    <a:pt x="196" y="70"/>
                  </a:lnTo>
                  <a:lnTo>
                    <a:pt x="204" y="89"/>
                  </a:lnTo>
                  <a:lnTo>
                    <a:pt x="213" y="106"/>
                  </a:lnTo>
                  <a:lnTo>
                    <a:pt x="231" y="115"/>
                  </a:lnTo>
                  <a:lnTo>
                    <a:pt x="240" y="142"/>
                  </a:lnTo>
                  <a:lnTo>
                    <a:pt x="257" y="168"/>
                  </a:lnTo>
                  <a:lnTo>
                    <a:pt x="257" y="186"/>
                  </a:lnTo>
                  <a:lnTo>
                    <a:pt x="257" y="212"/>
                  </a:lnTo>
                  <a:lnTo>
                    <a:pt x="257" y="230"/>
                  </a:lnTo>
                  <a:lnTo>
                    <a:pt x="257" y="248"/>
                  </a:lnTo>
                  <a:lnTo>
                    <a:pt x="257" y="266"/>
                  </a:lnTo>
                  <a:lnTo>
                    <a:pt x="257" y="284"/>
                  </a:lnTo>
                  <a:lnTo>
                    <a:pt x="257" y="301"/>
                  </a:lnTo>
                  <a:lnTo>
                    <a:pt x="240" y="301"/>
                  </a:lnTo>
                  <a:lnTo>
                    <a:pt x="222" y="310"/>
                  </a:lnTo>
                  <a:lnTo>
                    <a:pt x="204" y="310"/>
                  </a:lnTo>
                  <a:lnTo>
                    <a:pt x="186" y="310"/>
                  </a:lnTo>
                  <a:lnTo>
                    <a:pt x="168" y="310"/>
                  </a:lnTo>
                  <a:lnTo>
                    <a:pt x="150" y="310"/>
                  </a:lnTo>
                  <a:lnTo>
                    <a:pt x="133" y="301"/>
                  </a:lnTo>
                  <a:lnTo>
                    <a:pt x="115" y="293"/>
                  </a:lnTo>
                  <a:lnTo>
                    <a:pt x="98" y="275"/>
                  </a:lnTo>
                  <a:lnTo>
                    <a:pt x="89" y="257"/>
                  </a:lnTo>
                  <a:lnTo>
                    <a:pt x="71" y="240"/>
                  </a:lnTo>
                  <a:lnTo>
                    <a:pt x="61" y="221"/>
                  </a:lnTo>
                  <a:lnTo>
                    <a:pt x="52" y="203"/>
                  </a:lnTo>
                  <a:lnTo>
                    <a:pt x="44" y="186"/>
                  </a:lnTo>
                  <a:lnTo>
                    <a:pt x="35" y="168"/>
                  </a:lnTo>
                  <a:lnTo>
                    <a:pt x="35" y="150"/>
                  </a:lnTo>
                  <a:lnTo>
                    <a:pt x="17" y="124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17" y="89"/>
                  </a:lnTo>
                  <a:lnTo>
                    <a:pt x="35" y="89"/>
                  </a:lnTo>
                  <a:lnTo>
                    <a:pt x="52" y="89"/>
                  </a:lnTo>
                  <a:lnTo>
                    <a:pt x="52" y="70"/>
                  </a:lnTo>
                  <a:lnTo>
                    <a:pt x="35" y="52"/>
                  </a:lnTo>
                  <a:lnTo>
                    <a:pt x="35" y="35"/>
                  </a:lnTo>
                  <a:lnTo>
                    <a:pt x="26" y="1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889280" y="2101680"/>
              <a:ext cx="108360" cy="194040"/>
            </a:xfrm>
            <a:custGeom>
              <a:avLst/>
              <a:gdLst/>
              <a:ahLst/>
              <a:rect l="0" t="0" r="r" b="b"/>
              <a:pathLst>
                <a:path w="301" h="539">
                  <a:moveTo>
                    <a:pt x="70" y="0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4" y="17"/>
                  </a:lnTo>
                  <a:lnTo>
                    <a:pt x="142" y="26"/>
                  </a:lnTo>
                  <a:lnTo>
                    <a:pt x="168" y="35"/>
                  </a:lnTo>
                  <a:lnTo>
                    <a:pt x="186" y="35"/>
                  </a:lnTo>
                  <a:lnTo>
                    <a:pt x="203" y="52"/>
                  </a:lnTo>
                  <a:lnTo>
                    <a:pt x="212" y="70"/>
                  </a:lnTo>
                  <a:lnTo>
                    <a:pt x="221" y="88"/>
                  </a:lnTo>
                  <a:lnTo>
                    <a:pt x="231" y="105"/>
                  </a:lnTo>
                  <a:lnTo>
                    <a:pt x="248" y="114"/>
                  </a:lnTo>
                  <a:lnTo>
                    <a:pt x="257" y="132"/>
                  </a:lnTo>
                  <a:lnTo>
                    <a:pt x="275" y="150"/>
                  </a:lnTo>
                  <a:lnTo>
                    <a:pt x="275" y="168"/>
                  </a:lnTo>
                  <a:lnTo>
                    <a:pt x="293" y="177"/>
                  </a:lnTo>
                  <a:lnTo>
                    <a:pt x="293" y="195"/>
                  </a:lnTo>
                  <a:lnTo>
                    <a:pt x="301" y="212"/>
                  </a:lnTo>
                  <a:lnTo>
                    <a:pt x="301" y="230"/>
                  </a:lnTo>
                  <a:lnTo>
                    <a:pt x="301" y="247"/>
                  </a:lnTo>
                  <a:lnTo>
                    <a:pt x="301" y="274"/>
                  </a:lnTo>
                  <a:lnTo>
                    <a:pt x="301" y="292"/>
                  </a:lnTo>
                  <a:lnTo>
                    <a:pt x="293" y="309"/>
                  </a:lnTo>
                  <a:lnTo>
                    <a:pt x="293" y="327"/>
                  </a:lnTo>
                  <a:lnTo>
                    <a:pt x="293" y="344"/>
                  </a:lnTo>
                  <a:lnTo>
                    <a:pt x="293" y="362"/>
                  </a:lnTo>
                  <a:lnTo>
                    <a:pt x="293" y="380"/>
                  </a:lnTo>
                  <a:lnTo>
                    <a:pt x="293" y="397"/>
                  </a:lnTo>
                  <a:lnTo>
                    <a:pt x="293" y="425"/>
                  </a:lnTo>
                  <a:lnTo>
                    <a:pt x="284" y="442"/>
                  </a:lnTo>
                  <a:lnTo>
                    <a:pt x="275" y="460"/>
                  </a:lnTo>
                  <a:lnTo>
                    <a:pt x="266" y="478"/>
                  </a:lnTo>
                  <a:lnTo>
                    <a:pt x="257" y="495"/>
                  </a:lnTo>
                  <a:lnTo>
                    <a:pt x="248" y="513"/>
                  </a:lnTo>
                  <a:lnTo>
                    <a:pt x="231" y="522"/>
                  </a:lnTo>
                  <a:lnTo>
                    <a:pt x="212" y="531"/>
                  </a:lnTo>
                  <a:lnTo>
                    <a:pt x="186" y="539"/>
                  </a:lnTo>
                  <a:lnTo>
                    <a:pt x="168" y="539"/>
                  </a:lnTo>
                  <a:lnTo>
                    <a:pt x="150" y="539"/>
                  </a:lnTo>
                  <a:lnTo>
                    <a:pt x="133" y="539"/>
                  </a:lnTo>
                  <a:lnTo>
                    <a:pt x="115" y="522"/>
                  </a:lnTo>
                  <a:lnTo>
                    <a:pt x="98" y="513"/>
                  </a:lnTo>
                  <a:lnTo>
                    <a:pt x="89" y="495"/>
                  </a:lnTo>
                  <a:lnTo>
                    <a:pt x="70" y="487"/>
                  </a:lnTo>
                  <a:lnTo>
                    <a:pt x="61" y="469"/>
                  </a:lnTo>
                  <a:lnTo>
                    <a:pt x="44" y="460"/>
                  </a:lnTo>
                  <a:lnTo>
                    <a:pt x="35" y="442"/>
                  </a:lnTo>
                  <a:lnTo>
                    <a:pt x="26" y="425"/>
                  </a:lnTo>
                  <a:lnTo>
                    <a:pt x="26" y="407"/>
                  </a:lnTo>
                  <a:lnTo>
                    <a:pt x="17" y="389"/>
                  </a:lnTo>
                  <a:lnTo>
                    <a:pt x="8" y="371"/>
                  </a:lnTo>
                  <a:lnTo>
                    <a:pt x="8" y="353"/>
                  </a:lnTo>
                  <a:lnTo>
                    <a:pt x="8" y="336"/>
                  </a:lnTo>
                  <a:lnTo>
                    <a:pt x="8" y="318"/>
                  </a:lnTo>
                  <a:lnTo>
                    <a:pt x="0" y="292"/>
                  </a:lnTo>
                  <a:lnTo>
                    <a:pt x="0" y="274"/>
                  </a:lnTo>
                  <a:lnTo>
                    <a:pt x="0" y="247"/>
                  </a:lnTo>
                  <a:lnTo>
                    <a:pt x="0" y="230"/>
                  </a:lnTo>
                  <a:lnTo>
                    <a:pt x="0" y="212"/>
                  </a:lnTo>
                  <a:lnTo>
                    <a:pt x="0" y="177"/>
                  </a:lnTo>
                  <a:lnTo>
                    <a:pt x="0" y="159"/>
                  </a:lnTo>
                  <a:lnTo>
                    <a:pt x="0" y="142"/>
                  </a:lnTo>
                  <a:lnTo>
                    <a:pt x="0" y="123"/>
                  </a:lnTo>
                  <a:lnTo>
                    <a:pt x="0" y="105"/>
                  </a:lnTo>
                  <a:lnTo>
                    <a:pt x="17" y="105"/>
                  </a:lnTo>
                  <a:lnTo>
                    <a:pt x="35" y="105"/>
                  </a:lnTo>
                  <a:lnTo>
                    <a:pt x="35" y="79"/>
                  </a:lnTo>
                  <a:lnTo>
                    <a:pt x="35" y="61"/>
                  </a:lnTo>
                  <a:lnTo>
                    <a:pt x="61" y="52"/>
                  </a:lnTo>
                  <a:lnTo>
                    <a:pt x="61" y="35"/>
                  </a:lnTo>
                  <a:lnTo>
                    <a:pt x="80" y="26"/>
                  </a:lnTo>
                  <a:lnTo>
                    <a:pt x="98" y="1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838160" y="2225520"/>
              <a:ext cx="38520" cy="28800"/>
            </a:xfrm>
            <a:custGeom>
              <a:avLst/>
              <a:gdLst/>
              <a:ahLst/>
              <a:rect l="0" t="0" r="r" b="b"/>
              <a:pathLst>
                <a:path w="107" h="80">
                  <a:moveTo>
                    <a:pt x="36" y="80"/>
                  </a:moveTo>
                  <a:lnTo>
                    <a:pt x="17" y="80"/>
                  </a:lnTo>
                  <a:lnTo>
                    <a:pt x="8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0" y="8"/>
                  </a:lnTo>
                  <a:lnTo>
                    <a:pt x="17" y="8"/>
                  </a:lnTo>
                  <a:lnTo>
                    <a:pt x="36" y="8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1" y="17"/>
                  </a:lnTo>
                  <a:lnTo>
                    <a:pt x="90" y="35"/>
                  </a:lnTo>
                  <a:lnTo>
                    <a:pt x="107" y="45"/>
                  </a:lnTo>
                  <a:lnTo>
                    <a:pt x="107" y="62"/>
                  </a:lnTo>
                  <a:lnTo>
                    <a:pt x="107" y="80"/>
                  </a:lnTo>
                  <a:lnTo>
                    <a:pt x="90" y="80"/>
                  </a:lnTo>
                  <a:lnTo>
                    <a:pt x="71" y="80"/>
                  </a:lnTo>
                  <a:lnTo>
                    <a:pt x="53" y="80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809720" y="2279520"/>
              <a:ext cx="117720" cy="206640"/>
            </a:xfrm>
            <a:custGeom>
              <a:avLst/>
              <a:gdLst/>
              <a:ahLst/>
              <a:rect l="0" t="0" r="r" b="b"/>
              <a:pathLst>
                <a:path w="327" h="574">
                  <a:moveTo>
                    <a:pt x="132" y="0"/>
                  </a:moveTo>
                  <a:lnTo>
                    <a:pt x="158" y="8"/>
                  </a:lnTo>
                  <a:lnTo>
                    <a:pt x="168" y="26"/>
                  </a:lnTo>
                  <a:lnTo>
                    <a:pt x="177" y="44"/>
                  </a:lnTo>
                  <a:lnTo>
                    <a:pt x="195" y="61"/>
                  </a:lnTo>
                  <a:lnTo>
                    <a:pt x="212" y="70"/>
                  </a:lnTo>
                  <a:lnTo>
                    <a:pt x="221" y="88"/>
                  </a:lnTo>
                  <a:lnTo>
                    <a:pt x="239" y="88"/>
                  </a:lnTo>
                  <a:lnTo>
                    <a:pt x="247" y="105"/>
                  </a:lnTo>
                  <a:lnTo>
                    <a:pt x="265" y="123"/>
                  </a:lnTo>
                  <a:lnTo>
                    <a:pt x="265" y="149"/>
                  </a:lnTo>
                  <a:lnTo>
                    <a:pt x="265" y="167"/>
                  </a:lnTo>
                  <a:lnTo>
                    <a:pt x="265" y="194"/>
                  </a:lnTo>
                  <a:lnTo>
                    <a:pt x="265" y="211"/>
                  </a:lnTo>
                  <a:lnTo>
                    <a:pt x="265" y="229"/>
                  </a:lnTo>
                  <a:lnTo>
                    <a:pt x="274" y="246"/>
                  </a:lnTo>
                  <a:lnTo>
                    <a:pt x="292" y="246"/>
                  </a:lnTo>
                  <a:lnTo>
                    <a:pt x="300" y="264"/>
                  </a:lnTo>
                  <a:lnTo>
                    <a:pt x="300" y="282"/>
                  </a:lnTo>
                  <a:lnTo>
                    <a:pt x="300" y="300"/>
                  </a:lnTo>
                  <a:lnTo>
                    <a:pt x="300" y="318"/>
                  </a:lnTo>
                  <a:lnTo>
                    <a:pt x="300" y="336"/>
                  </a:lnTo>
                  <a:lnTo>
                    <a:pt x="309" y="353"/>
                  </a:lnTo>
                  <a:lnTo>
                    <a:pt x="327" y="353"/>
                  </a:lnTo>
                  <a:lnTo>
                    <a:pt x="327" y="371"/>
                  </a:lnTo>
                  <a:lnTo>
                    <a:pt x="327" y="397"/>
                  </a:lnTo>
                  <a:lnTo>
                    <a:pt x="327" y="415"/>
                  </a:lnTo>
                  <a:lnTo>
                    <a:pt x="327" y="433"/>
                  </a:lnTo>
                  <a:lnTo>
                    <a:pt x="327" y="450"/>
                  </a:lnTo>
                  <a:lnTo>
                    <a:pt x="327" y="468"/>
                  </a:lnTo>
                  <a:lnTo>
                    <a:pt x="318" y="486"/>
                  </a:lnTo>
                  <a:lnTo>
                    <a:pt x="309" y="503"/>
                  </a:lnTo>
                  <a:lnTo>
                    <a:pt x="300" y="521"/>
                  </a:lnTo>
                  <a:lnTo>
                    <a:pt x="292" y="538"/>
                  </a:lnTo>
                  <a:lnTo>
                    <a:pt x="274" y="547"/>
                  </a:lnTo>
                  <a:lnTo>
                    <a:pt x="256" y="556"/>
                  </a:lnTo>
                  <a:lnTo>
                    <a:pt x="239" y="574"/>
                  </a:lnTo>
                  <a:lnTo>
                    <a:pt x="221" y="565"/>
                  </a:lnTo>
                  <a:lnTo>
                    <a:pt x="203" y="565"/>
                  </a:lnTo>
                  <a:lnTo>
                    <a:pt x="186" y="565"/>
                  </a:lnTo>
                  <a:lnTo>
                    <a:pt x="177" y="547"/>
                  </a:lnTo>
                  <a:lnTo>
                    <a:pt x="168" y="530"/>
                  </a:lnTo>
                  <a:lnTo>
                    <a:pt x="158" y="512"/>
                  </a:lnTo>
                  <a:lnTo>
                    <a:pt x="141" y="503"/>
                  </a:lnTo>
                  <a:lnTo>
                    <a:pt x="123" y="486"/>
                  </a:lnTo>
                  <a:lnTo>
                    <a:pt x="105" y="459"/>
                  </a:lnTo>
                  <a:lnTo>
                    <a:pt x="105" y="441"/>
                  </a:lnTo>
                  <a:lnTo>
                    <a:pt x="97" y="424"/>
                  </a:lnTo>
                  <a:lnTo>
                    <a:pt x="79" y="406"/>
                  </a:lnTo>
                  <a:lnTo>
                    <a:pt x="79" y="389"/>
                  </a:lnTo>
                  <a:lnTo>
                    <a:pt x="70" y="371"/>
                  </a:lnTo>
                  <a:lnTo>
                    <a:pt x="70" y="353"/>
                  </a:lnTo>
                  <a:lnTo>
                    <a:pt x="52" y="344"/>
                  </a:lnTo>
                  <a:lnTo>
                    <a:pt x="44" y="327"/>
                  </a:lnTo>
                  <a:lnTo>
                    <a:pt x="35" y="309"/>
                  </a:lnTo>
                  <a:lnTo>
                    <a:pt x="17" y="300"/>
                  </a:lnTo>
                  <a:lnTo>
                    <a:pt x="17" y="282"/>
                  </a:lnTo>
                  <a:lnTo>
                    <a:pt x="17" y="264"/>
                  </a:lnTo>
                  <a:lnTo>
                    <a:pt x="17" y="238"/>
                  </a:lnTo>
                  <a:lnTo>
                    <a:pt x="8" y="211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8" y="141"/>
                  </a:lnTo>
                  <a:lnTo>
                    <a:pt x="8" y="123"/>
                  </a:lnTo>
                  <a:lnTo>
                    <a:pt x="17" y="105"/>
                  </a:lnTo>
                  <a:lnTo>
                    <a:pt x="35" y="97"/>
                  </a:lnTo>
                  <a:lnTo>
                    <a:pt x="52" y="88"/>
                  </a:lnTo>
                  <a:lnTo>
                    <a:pt x="61" y="70"/>
                  </a:lnTo>
                  <a:lnTo>
                    <a:pt x="79" y="61"/>
                  </a:lnTo>
                  <a:lnTo>
                    <a:pt x="97" y="52"/>
                  </a:lnTo>
                  <a:lnTo>
                    <a:pt x="105" y="35"/>
                  </a:lnTo>
                  <a:lnTo>
                    <a:pt x="105" y="17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965240" y="2317680"/>
              <a:ext cx="178200" cy="276480"/>
            </a:xfrm>
            <a:custGeom>
              <a:avLst/>
              <a:gdLst/>
              <a:ahLst/>
              <a:rect l="0" t="0" r="r" b="b"/>
              <a:pathLst>
                <a:path w="495" h="768">
                  <a:moveTo>
                    <a:pt x="44" y="0"/>
                  </a:moveTo>
                  <a:lnTo>
                    <a:pt x="61" y="0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159" y="0"/>
                  </a:lnTo>
                  <a:lnTo>
                    <a:pt x="177" y="26"/>
                  </a:lnTo>
                  <a:lnTo>
                    <a:pt x="195" y="44"/>
                  </a:lnTo>
                  <a:lnTo>
                    <a:pt x="203" y="61"/>
                  </a:lnTo>
                  <a:lnTo>
                    <a:pt x="221" y="70"/>
                  </a:lnTo>
                  <a:lnTo>
                    <a:pt x="239" y="79"/>
                  </a:lnTo>
                  <a:lnTo>
                    <a:pt x="247" y="97"/>
                  </a:lnTo>
                  <a:lnTo>
                    <a:pt x="256" y="114"/>
                  </a:lnTo>
                  <a:lnTo>
                    <a:pt x="274" y="123"/>
                  </a:lnTo>
                  <a:lnTo>
                    <a:pt x="292" y="132"/>
                  </a:lnTo>
                  <a:lnTo>
                    <a:pt x="309" y="149"/>
                  </a:lnTo>
                  <a:lnTo>
                    <a:pt x="318" y="167"/>
                  </a:lnTo>
                  <a:lnTo>
                    <a:pt x="336" y="176"/>
                  </a:lnTo>
                  <a:lnTo>
                    <a:pt x="353" y="185"/>
                  </a:lnTo>
                  <a:lnTo>
                    <a:pt x="381" y="202"/>
                  </a:lnTo>
                  <a:lnTo>
                    <a:pt x="398" y="211"/>
                  </a:lnTo>
                  <a:lnTo>
                    <a:pt x="416" y="229"/>
                  </a:lnTo>
                  <a:lnTo>
                    <a:pt x="434" y="238"/>
                  </a:lnTo>
                  <a:lnTo>
                    <a:pt x="434" y="255"/>
                  </a:lnTo>
                  <a:lnTo>
                    <a:pt x="442" y="273"/>
                  </a:lnTo>
                  <a:lnTo>
                    <a:pt x="451" y="291"/>
                  </a:lnTo>
                  <a:lnTo>
                    <a:pt x="469" y="308"/>
                  </a:lnTo>
                  <a:lnTo>
                    <a:pt x="478" y="326"/>
                  </a:lnTo>
                  <a:lnTo>
                    <a:pt x="487" y="343"/>
                  </a:lnTo>
                  <a:lnTo>
                    <a:pt x="495" y="361"/>
                  </a:lnTo>
                  <a:lnTo>
                    <a:pt x="495" y="389"/>
                  </a:lnTo>
                  <a:lnTo>
                    <a:pt x="495" y="406"/>
                  </a:lnTo>
                  <a:lnTo>
                    <a:pt x="495" y="424"/>
                  </a:lnTo>
                  <a:lnTo>
                    <a:pt x="495" y="441"/>
                  </a:lnTo>
                  <a:lnTo>
                    <a:pt x="495" y="459"/>
                  </a:lnTo>
                  <a:lnTo>
                    <a:pt x="495" y="477"/>
                  </a:lnTo>
                  <a:lnTo>
                    <a:pt x="495" y="494"/>
                  </a:lnTo>
                  <a:lnTo>
                    <a:pt x="495" y="512"/>
                  </a:lnTo>
                  <a:lnTo>
                    <a:pt x="495" y="530"/>
                  </a:lnTo>
                  <a:lnTo>
                    <a:pt x="495" y="565"/>
                  </a:lnTo>
                  <a:lnTo>
                    <a:pt x="495" y="583"/>
                  </a:lnTo>
                  <a:lnTo>
                    <a:pt x="495" y="600"/>
                  </a:lnTo>
                  <a:lnTo>
                    <a:pt x="495" y="618"/>
                  </a:lnTo>
                  <a:lnTo>
                    <a:pt x="495" y="636"/>
                  </a:lnTo>
                  <a:lnTo>
                    <a:pt x="495" y="653"/>
                  </a:lnTo>
                  <a:lnTo>
                    <a:pt x="495" y="671"/>
                  </a:lnTo>
                  <a:lnTo>
                    <a:pt x="487" y="688"/>
                  </a:lnTo>
                  <a:lnTo>
                    <a:pt x="469" y="697"/>
                  </a:lnTo>
                  <a:lnTo>
                    <a:pt x="469" y="715"/>
                  </a:lnTo>
                  <a:lnTo>
                    <a:pt x="460" y="733"/>
                  </a:lnTo>
                  <a:lnTo>
                    <a:pt x="442" y="750"/>
                  </a:lnTo>
                  <a:lnTo>
                    <a:pt x="425" y="768"/>
                  </a:lnTo>
                  <a:lnTo>
                    <a:pt x="407" y="768"/>
                  </a:lnTo>
                  <a:lnTo>
                    <a:pt x="390" y="768"/>
                  </a:lnTo>
                  <a:lnTo>
                    <a:pt x="372" y="768"/>
                  </a:lnTo>
                  <a:lnTo>
                    <a:pt x="353" y="768"/>
                  </a:lnTo>
                  <a:lnTo>
                    <a:pt x="327" y="768"/>
                  </a:lnTo>
                  <a:lnTo>
                    <a:pt x="309" y="768"/>
                  </a:lnTo>
                  <a:lnTo>
                    <a:pt x="283" y="759"/>
                  </a:lnTo>
                  <a:lnTo>
                    <a:pt x="265" y="750"/>
                  </a:lnTo>
                  <a:lnTo>
                    <a:pt x="247" y="733"/>
                  </a:lnTo>
                  <a:lnTo>
                    <a:pt x="230" y="724"/>
                  </a:lnTo>
                  <a:lnTo>
                    <a:pt x="221" y="706"/>
                  </a:lnTo>
                  <a:lnTo>
                    <a:pt x="203" y="697"/>
                  </a:lnTo>
                  <a:lnTo>
                    <a:pt x="203" y="680"/>
                  </a:lnTo>
                  <a:lnTo>
                    <a:pt x="177" y="653"/>
                  </a:lnTo>
                  <a:lnTo>
                    <a:pt x="168" y="636"/>
                  </a:lnTo>
                  <a:lnTo>
                    <a:pt x="150" y="627"/>
                  </a:lnTo>
                  <a:lnTo>
                    <a:pt x="123" y="600"/>
                  </a:lnTo>
                  <a:lnTo>
                    <a:pt x="114" y="583"/>
                  </a:lnTo>
                  <a:lnTo>
                    <a:pt x="97" y="547"/>
                  </a:lnTo>
                  <a:lnTo>
                    <a:pt x="88" y="530"/>
                  </a:lnTo>
                  <a:lnTo>
                    <a:pt x="79" y="512"/>
                  </a:lnTo>
                  <a:lnTo>
                    <a:pt x="70" y="477"/>
                  </a:lnTo>
                  <a:lnTo>
                    <a:pt x="61" y="459"/>
                  </a:lnTo>
                  <a:lnTo>
                    <a:pt x="61" y="441"/>
                  </a:lnTo>
                  <a:lnTo>
                    <a:pt x="52" y="424"/>
                  </a:lnTo>
                  <a:lnTo>
                    <a:pt x="44" y="406"/>
                  </a:lnTo>
                  <a:lnTo>
                    <a:pt x="26" y="389"/>
                  </a:lnTo>
                  <a:lnTo>
                    <a:pt x="17" y="370"/>
                  </a:lnTo>
                  <a:lnTo>
                    <a:pt x="8" y="352"/>
                  </a:lnTo>
                  <a:lnTo>
                    <a:pt x="8" y="326"/>
                  </a:lnTo>
                  <a:lnTo>
                    <a:pt x="8" y="308"/>
                  </a:lnTo>
                  <a:lnTo>
                    <a:pt x="8" y="273"/>
                  </a:lnTo>
                  <a:lnTo>
                    <a:pt x="8" y="255"/>
                  </a:lnTo>
                  <a:lnTo>
                    <a:pt x="8" y="238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8" y="176"/>
                  </a:lnTo>
                  <a:lnTo>
                    <a:pt x="0" y="149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7" y="105"/>
                  </a:lnTo>
                  <a:lnTo>
                    <a:pt x="35" y="88"/>
                  </a:lnTo>
                  <a:lnTo>
                    <a:pt x="35" y="70"/>
                  </a:lnTo>
                  <a:lnTo>
                    <a:pt x="35" y="52"/>
                  </a:lnTo>
                  <a:lnTo>
                    <a:pt x="35" y="35"/>
                  </a:lnTo>
                  <a:lnTo>
                    <a:pt x="26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178080" y="31104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61" y="159"/>
                  </a:moveTo>
                  <a:lnTo>
                    <a:pt x="88" y="159"/>
                  </a:lnTo>
                  <a:lnTo>
                    <a:pt x="106" y="159"/>
                  </a:lnTo>
                  <a:lnTo>
                    <a:pt x="124" y="159"/>
                  </a:lnTo>
                  <a:lnTo>
                    <a:pt x="142" y="150"/>
                  </a:lnTo>
                  <a:lnTo>
                    <a:pt x="142" y="133"/>
                  </a:lnTo>
                  <a:lnTo>
                    <a:pt x="159" y="124"/>
                  </a:lnTo>
                  <a:lnTo>
                    <a:pt x="177" y="115"/>
                  </a:lnTo>
                  <a:lnTo>
                    <a:pt x="177" y="98"/>
                  </a:lnTo>
                  <a:lnTo>
                    <a:pt x="186" y="79"/>
                  </a:lnTo>
                  <a:lnTo>
                    <a:pt x="186" y="61"/>
                  </a:lnTo>
                  <a:lnTo>
                    <a:pt x="186" y="44"/>
                  </a:lnTo>
                  <a:lnTo>
                    <a:pt x="186" y="26"/>
                  </a:lnTo>
                  <a:lnTo>
                    <a:pt x="186" y="8"/>
                  </a:lnTo>
                  <a:lnTo>
                    <a:pt x="168" y="8"/>
                  </a:lnTo>
                  <a:lnTo>
                    <a:pt x="150" y="8"/>
                  </a:lnTo>
                  <a:lnTo>
                    <a:pt x="115" y="8"/>
                  </a:lnTo>
                  <a:lnTo>
                    <a:pt x="98" y="8"/>
                  </a:lnTo>
                  <a:lnTo>
                    <a:pt x="79" y="8"/>
                  </a:lnTo>
                  <a:lnTo>
                    <a:pt x="61" y="0"/>
                  </a:lnTo>
                  <a:lnTo>
                    <a:pt x="44" y="0"/>
                  </a:lnTo>
                  <a:lnTo>
                    <a:pt x="44" y="17"/>
                  </a:lnTo>
                  <a:lnTo>
                    <a:pt x="35" y="35"/>
                  </a:lnTo>
                  <a:lnTo>
                    <a:pt x="35" y="52"/>
                  </a:lnTo>
                  <a:lnTo>
                    <a:pt x="17" y="52"/>
                  </a:lnTo>
                  <a:lnTo>
                    <a:pt x="0" y="79"/>
                  </a:lnTo>
                  <a:lnTo>
                    <a:pt x="0" y="98"/>
                  </a:lnTo>
                  <a:lnTo>
                    <a:pt x="8" y="115"/>
                  </a:lnTo>
                  <a:lnTo>
                    <a:pt x="17" y="133"/>
                  </a:lnTo>
                  <a:lnTo>
                    <a:pt x="26" y="150"/>
                  </a:lnTo>
                  <a:lnTo>
                    <a:pt x="35" y="168"/>
                  </a:lnTo>
                  <a:lnTo>
                    <a:pt x="52" y="177"/>
                  </a:lnTo>
                  <a:lnTo>
                    <a:pt x="70" y="177"/>
                  </a:lnTo>
                  <a:lnTo>
                    <a:pt x="88" y="177"/>
                  </a:lnTo>
                  <a:lnTo>
                    <a:pt x="61" y="1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7502400" y="5524560"/>
            <a:ext cx="1620000" cy="1321200"/>
            <a:chOff x="7502400" y="5524560"/>
            <a:chExt cx="1620000" cy="1321200"/>
          </a:xfrm>
        </p:grpSpPr>
        <p:sp>
          <p:nvSpPr>
            <p:cNvPr id="32" name=""/>
            <p:cNvSpPr/>
            <p:nvPr/>
          </p:nvSpPr>
          <p:spPr>
            <a:xfrm>
              <a:off x="8429760" y="5553000"/>
              <a:ext cx="152640" cy="238320"/>
            </a:xfrm>
            <a:custGeom>
              <a:avLst/>
              <a:gdLst/>
              <a:ahLst/>
              <a:rect l="0" t="0" r="r" b="b"/>
              <a:pathLst>
                <a:path w="424" h="662">
                  <a:moveTo>
                    <a:pt x="70" y="636"/>
                  </a:moveTo>
                  <a:lnTo>
                    <a:pt x="88" y="636"/>
                  </a:lnTo>
                  <a:lnTo>
                    <a:pt x="105" y="636"/>
                  </a:lnTo>
                  <a:lnTo>
                    <a:pt x="123" y="627"/>
                  </a:lnTo>
                  <a:lnTo>
                    <a:pt x="141" y="627"/>
                  </a:lnTo>
                  <a:lnTo>
                    <a:pt x="141" y="609"/>
                  </a:lnTo>
                  <a:lnTo>
                    <a:pt x="158" y="609"/>
                  </a:lnTo>
                  <a:lnTo>
                    <a:pt x="158" y="591"/>
                  </a:lnTo>
                  <a:lnTo>
                    <a:pt x="176" y="583"/>
                  </a:lnTo>
                  <a:lnTo>
                    <a:pt x="194" y="574"/>
                  </a:lnTo>
                  <a:lnTo>
                    <a:pt x="202" y="556"/>
                  </a:lnTo>
                  <a:lnTo>
                    <a:pt x="202" y="538"/>
                  </a:lnTo>
                  <a:lnTo>
                    <a:pt x="211" y="512"/>
                  </a:lnTo>
                  <a:lnTo>
                    <a:pt x="211" y="494"/>
                  </a:lnTo>
                  <a:lnTo>
                    <a:pt x="211" y="477"/>
                  </a:lnTo>
                  <a:lnTo>
                    <a:pt x="202" y="459"/>
                  </a:lnTo>
                  <a:lnTo>
                    <a:pt x="202" y="441"/>
                  </a:lnTo>
                  <a:lnTo>
                    <a:pt x="194" y="424"/>
                  </a:lnTo>
                  <a:lnTo>
                    <a:pt x="185" y="406"/>
                  </a:lnTo>
                  <a:lnTo>
                    <a:pt x="176" y="380"/>
                  </a:lnTo>
                  <a:lnTo>
                    <a:pt x="176" y="362"/>
                  </a:lnTo>
                  <a:lnTo>
                    <a:pt x="194" y="353"/>
                  </a:lnTo>
                  <a:lnTo>
                    <a:pt x="202" y="336"/>
                  </a:lnTo>
                  <a:lnTo>
                    <a:pt x="230" y="326"/>
                  </a:lnTo>
                  <a:lnTo>
                    <a:pt x="230" y="308"/>
                  </a:lnTo>
                  <a:lnTo>
                    <a:pt x="230" y="291"/>
                  </a:lnTo>
                  <a:lnTo>
                    <a:pt x="247" y="291"/>
                  </a:lnTo>
                  <a:lnTo>
                    <a:pt x="265" y="291"/>
                  </a:lnTo>
                  <a:lnTo>
                    <a:pt x="283" y="282"/>
                  </a:lnTo>
                  <a:lnTo>
                    <a:pt x="300" y="282"/>
                  </a:lnTo>
                  <a:lnTo>
                    <a:pt x="318" y="273"/>
                  </a:lnTo>
                  <a:lnTo>
                    <a:pt x="327" y="255"/>
                  </a:lnTo>
                  <a:lnTo>
                    <a:pt x="344" y="246"/>
                  </a:lnTo>
                  <a:lnTo>
                    <a:pt x="362" y="238"/>
                  </a:lnTo>
                  <a:lnTo>
                    <a:pt x="380" y="238"/>
                  </a:lnTo>
                  <a:lnTo>
                    <a:pt x="389" y="220"/>
                  </a:lnTo>
                  <a:lnTo>
                    <a:pt x="397" y="202"/>
                  </a:lnTo>
                  <a:lnTo>
                    <a:pt x="406" y="185"/>
                  </a:lnTo>
                  <a:lnTo>
                    <a:pt x="415" y="167"/>
                  </a:lnTo>
                  <a:lnTo>
                    <a:pt x="415" y="149"/>
                  </a:lnTo>
                  <a:lnTo>
                    <a:pt x="424" y="132"/>
                  </a:lnTo>
                  <a:lnTo>
                    <a:pt x="424" y="114"/>
                  </a:lnTo>
                  <a:lnTo>
                    <a:pt x="424" y="97"/>
                  </a:lnTo>
                  <a:lnTo>
                    <a:pt x="415" y="79"/>
                  </a:lnTo>
                  <a:lnTo>
                    <a:pt x="406" y="61"/>
                  </a:lnTo>
                  <a:lnTo>
                    <a:pt x="397" y="44"/>
                  </a:lnTo>
                  <a:lnTo>
                    <a:pt x="380" y="44"/>
                  </a:lnTo>
                  <a:lnTo>
                    <a:pt x="362" y="35"/>
                  </a:lnTo>
                  <a:lnTo>
                    <a:pt x="344" y="35"/>
                  </a:lnTo>
                  <a:lnTo>
                    <a:pt x="327" y="26"/>
                  </a:lnTo>
                  <a:lnTo>
                    <a:pt x="309" y="17"/>
                  </a:lnTo>
                  <a:lnTo>
                    <a:pt x="292" y="0"/>
                  </a:lnTo>
                  <a:lnTo>
                    <a:pt x="274" y="0"/>
                  </a:lnTo>
                  <a:lnTo>
                    <a:pt x="247" y="0"/>
                  </a:lnTo>
                  <a:lnTo>
                    <a:pt x="230" y="8"/>
                  </a:lnTo>
                  <a:lnTo>
                    <a:pt x="221" y="26"/>
                  </a:lnTo>
                  <a:lnTo>
                    <a:pt x="211" y="44"/>
                  </a:lnTo>
                  <a:lnTo>
                    <a:pt x="194" y="52"/>
                  </a:lnTo>
                  <a:lnTo>
                    <a:pt x="185" y="70"/>
                  </a:lnTo>
                  <a:lnTo>
                    <a:pt x="176" y="88"/>
                  </a:lnTo>
                  <a:lnTo>
                    <a:pt x="176" y="105"/>
                  </a:lnTo>
                  <a:lnTo>
                    <a:pt x="176" y="123"/>
                  </a:lnTo>
                  <a:lnTo>
                    <a:pt x="158" y="132"/>
                  </a:lnTo>
                  <a:lnTo>
                    <a:pt x="141" y="141"/>
                  </a:lnTo>
                  <a:lnTo>
                    <a:pt x="123" y="149"/>
                  </a:lnTo>
                  <a:lnTo>
                    <a:pt x="123" y="167"/>
                  </a:lnTo>
                  <a:lnTo>
                    <a:pt x="105" y="176"/>
                  </a:lnTo>
                  <a:lnTo>
                    <a:pt x="105" y="194"/>
                  </a:lnTo>
                  <a:lnTo>
                    <a:pt x="114" y="211"/>
                  </a:lnTo>
                  <a:lnTo>
                    <a:pt x="114" y="229"/>
                  </a:lnTo>
                  <a:lnTo>
                    <a:pt x="114" y="246"/>
                  </a:lnTo>
                  <a:lnTo>
                    <a:pt x="114" y="273"/>
                  </a:lnTo>
                  <a:lnTo>
                    <a:pt x="123" y="291"/>
                  </a:lnTo>
                  <a:lnTo>
                    <a:pt x="141" y="299"/>
                  </a:lnTo>
                  <a:lnTo>
                    <a:pt x="149" y="317"/>
                  </a:lnTo>
                  <a:lnTo>
                    <a:pt x="158" y="336"/>
                  </a:lnTo>
                  <a:lnTo>
                    <a:pt x="158" y="353"/>
                  </a:lnTo>
                  <a:lnTo>
                    <a:pt x="149" y="371"/>
                  </a:lnTo>
                  <a:lnTo>
                    <a:pt x="132" y="371"/>
                  </a:lnTo>
                  <a:lnTo>
                    <a:pt x="114" y="371"/>
                  </a:lnTo>
                  <a:lnTo>
                    <a:pt x="97" y="380"/>
                  </a:lnTo>
                  <a:lnTo>
                    <a:pt x="79" y="389"/>
                  </a:lnTo>
                  <a:lnTo>
                    <a:pt x="52" y="397"/>
                  </a:lnTo>
                  <a:lnTo>
                    <a:pt x="35" y="397"/>
                  </a:lnTo>
                  <a:lnTo>
                    <a:pt x="35" y="415"/>
                  </a:lnTo>
                  <a:lnTo>
                    <a:pt x="26" y="433"/>
                  </a:lnTo>
                  <a:lnTo>
                    <a:pt x="17" y="450"/>
                  </a:lnTo>
                  <a:lnTo>
                    <a:pt x="17" y="477"/>
                  </a:lnTo>
                  <a:lnTo>
                    <a:pt x="8" y="494"/>
                  </a:lnTo>
                  <a:lnTo>
                    <a:pt x="8" y="512"/>
                  </a:lnTo>
                  <a:lnTo>
                    <a:pt x="8" y="530"/>
                  </a:lnTo>
                  <a:lnTo>
                    <a:pt x="8" y="547"/>
                  </a:lnTo>
                  <a:lnTo>
                    <a:pt x="8" y="565"/>
                  </a:lnTo>
                  <a:lnTo>
                    <a:pt x="0" y="583"/>
                  </a:lnTo>
                  <a:lnTo>
                    <a:pt x="0" y="600"/>
                  </a:lnTo>
                  <a:lnTo>
                    <a:pt x="0" y="618"/>
                  </a:lnTo>
                  <a:lnTo>
                    <a:pt x="17" y="636"/>
                  </a:lnTo>
                  <a:lnTo>
                    <a:pt x="35" y="644"/>
                  </a:lnTo>
                  <a:lnTo>
                    <a:pt x="52" y="653"/>
                  </a:lnTo>
                  <a:lnTo>
                    <a:pt x="70" y="653"/>
                  </a:lnTo>
                  <a:lnTo>
                    <a:pt x="88" y="662"/>
                  </a:lnTo>
                  <a:lnTo>
                    <a:pt x="105" y="662"/>
                  </a:lnTo>
                  <a:lnTo>
                    <a:pt x="123" y="653"/>
                  </a:lnTo>
                  <a:lnTo>
                    <a:pt x="132" y="627"/>
                  </a:lnTo>
                  <a:lnTo>
                    <a:pt x="70" y="636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94840" y="5587920"/>
              <a:ext cx="73440" cy="136800"/>
            </a:xfrm>
            <a:custGeom>
              <a:avLst/>
              <a:gdLst/>
              <a:ahLst/>
              <a:rect l="0" t="0" r="r" b="b"/>
              <a:pathLst>
                <a:path w="204" h="380">
                  <a:moveTo>
                    <a:pt x="80" y="362"/>
                  </a:moveTo>
                  <a:lnTo>
                    <a:pt x="80" y="344"/>
                  </a:lnTo>
                  <a:lnTo>
                    <a:pt x="80" y="327"/>
                  </a:lnTo>
                  <a:lnTo>
                    <a:pt x="80" y="309"/>
                  </a:lnTo>
                  <a:lnTo>
                    <a:pt x="80" y="292"/>
                  </a:lnTo>
                  <a:lnTo>
                    <a:pt x="80" y="274"/>
                  </a:lnTo>
                  <a:lnTo>
                    <a:pt x="98" y="256"/>
                  </a:lnTo>
                  <a:lnTo>
                    <a:pt x="106" y="239"/>
                  </a:lnTo>
                  <a:lnTo>
                    <a:pt x="124" y="239"/>
                  </a:lnTo>
                  <a:lnTo>
                    <a:pt x="142" y="239"/>
                  </a:lnTo>
                  <a:lnTo>
                    <a:pt x="160" y="239"/>
                  </a:lnTo>
                  <a:lnTo>
                    <a:pt x="178" y="230"/>
                  </a:lnTo>
                  <a:lnTo>
                    <a:pt x="178" y="212"/>
                  </a:lnTo>
                  <a:lnTo>
                    <a:pt x="178" y="195"/>
                  </a:lnTo>
                  <a:lnTo>
                    <a:pt x="178" y="176"/>
                  </a:lnTo>
                  <a:lnTo>
                    <a:pt x="178" y="149"/>
                  </a:lnTo>
                  <a:lnTo>
                    <a:pt x="160" y="141"/>
                  </a:lnTo>
                  <a:lnTo>
                    <a:pt x="160" y="123"/>
                  </a:lnTo>
                  <a:lnTo>
                    <a:pt x="150" y="105"/>
                  </a:lnTo>
                  <a:lnTo>
                    <a:pt x="150" y="88"/>
                  </a:lnTo>
                  <a:lnTo>
                    <a:pt x="169" y="79"/>
                  </a:lnTo>
                  <a:lnTo>
                    <a:pt x="187" y="70"/>
                  </a:lnTo>
                  <a:lnTo>
                    <a:pt x="196" y="52"/>
                  </a:lnTo>
                  <a:lnTo>
                    <a:pt x="204" y="35"/>
                  </a:lnTo>
                  <a:lnTo>
                    <a:pt x="187" y="17"/>
                  </a:lnTo>
                  <a:lnTo>
                    <a:pt x="169" y="8"/>
                  </a:lnTo>
                  <a:lnTo>
                    <a:pt x="150" y="8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80" y="17"/>
                  </a:lnTo>
                  <a:lnTo>
                    <a:pt x="71" y="35"/>
                  </a:lnTo>
                  <a:lnTo>
                    <a:pt x="62" y="52"/>
                  </a:lnTo>
                  <a:lnTo>
                    <a:pt x="62" y="70"/>
                  </a:lnTo>
                  <a:lnTo>
                    <a:pt x="71" y="88"/>
                  </a:lnTo>
                  <a:lnTo>
                    <a:pt x="62" y="105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8" y="132"/>
                  </a:lnTo>
                  <a:lnTo>
                    <a:pt x="8" y="149"/>
                  </a:lnTo>
                  <a:lnTo>
                    <a:pt x="8" y="167"/>
                  </a:lnTo>
                  <a:lnTo>
                    <a:pt x="0" y="185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0" y="239"/>
                  </a:lnTo>
                  <a:lnTo>
                    <a:pt x="0" y="256"/>
                  </a:lnTo>
                  <a:lnTo>
                    <a:pt x="0" y="274"/>
                  </a:lnTo>
                  <a:lnTo>
                    <a:pt x="17" y="274"/>
                  </a:lnTo>
                  <a:lnTo>
                    <a:pt x="35" y="283"/>
                  </a:lnTo>
                  <a:lnTo>
                    <a:pt x="53" y="292"/>
                  </a:lnTo>
                  <a:lnTo>
                    <a:pt x="53" y="309"/>
                  </a:lnTo>
                  <a:lnTo>
                    <a:pt x="53" y="327"/>
                  </a:lnTo>
                  <a:lnTo>
                    <a:pt x="53" y="344"/>
                  </a:lnTo>
                  <a:lnTo>
                    <a:pt x="44" y="362"/>
                  </a:lnTo>
                  <a:lnTo>
                    <a:pt x="44" y="380"/>
                  </a:lnTo>
                  <a:lnTo>
                    <a:pt x="62" y="380"/>
                  </a:lnTo>
                  <a:lnTo>
                    <a:pt x="80" y="380"/>
                  </a:lnTo>
                  <a:lnTo>
                    <a:pt x="80" y="362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32640" y="5880240"/>
              <a:ext cx="51120" cy="47880"/>
            </a:xfrm>
            <a:custGeom>
              <a:avLst/>
              <a:gdLst/>
              <a:ahLst/>
              <a:rect l="0" t="0" r="r" b="b"/>
              <a:pathLst>
                <a:path w="142" h="133">
                  <a:moveTo>
                    <a:pt x="17" y="124"/>
                  </a:moveTo>
                  <a:lnTo>
                    <a:pt x="35" y="124"/>
                  </a:lnTo>
                  <a:lnTo>
                    <a:pt x="52" y="133"/>
                  </a:lnTo>
                  <a:lnTo>
                    <a:pt x="80" y="133"/>
                  </a:lnTo>
                  <a:lnTo>
                    <a:pt x="98" y="133"/>
                  </a:lnTo>
                  <a:lnTo>
                    <a:pt x="115" y="133"/>
                  </a:lnTo>
                  <a:lnTo>
                    <a:pt x="133" y="115"/>
                  </a:lnTo>
                  <a:lnTo>
                    <a:pt x="133" y="89"/>
                  </a:lnTo>
                  <a:lnTo>
                    <a:pt x="142" y="71"/>
                  </a:lnTo>
                  <a:lnTo>
                    <a:pt x="142" y="52"/>
                  </a:lnTo>
                  <a:lnTo>
                    <a:pt x="142" y="35"/>
                  </a:lnTo>
                  <a:lnTo>
                    <a:pt x="133" y="17"/>
                  </a:lnTo>
                  <a:lnTo>
                    <a:pt x="115" y="8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1" y="0"/>
                  </a:lnTo>
                  <a:lnTo>
                    <a:pt x="44" y="8"/>
                  </a:lnTo>
                  <a:lnTo>
                    <a:pt x="44" y="26"/>
                  </a:lnTo>
                  <a:lnTo>
                    <a:pt x="44" y="44"/>
                  </a:lnTo>
                  <a:lnTo>
                    <a:pt x="26" y="52"/>
                  </a:lnTo>
                  <a:lnTo>
                    <a:pt x="17" y="71"/>
                  </a:lnTo>
                  <a:lnTo>
                    <a:pt x="8" y="89"/>
                  </a:lnTo>
                  <a:lnTo>
                    <a:pt x="0" y="106"/>
                  </a:lnTo>
                  <a:lnTo>
                    <a:pt x="0" y="124"/>
                  </a:lnTo>
                  <a:lnTo>
                    <a:pt x="17" y="124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13720" y="5753160"/>
              <a:ext cx="54360" cy="60840"/>
            </a:xfrm>
            <a:custGeom>
              <a:avLst/>
              <a:gdLst/>
              <a:ahLst/>
              <a:rect l="0" t="0" r="r" b="b"/>
              <a:pathLst>
                <a:path w="151" h="169">
                  <a:moveTo>
                    <a:pt x="53" y="160"/>
                  </a:moveTo>
                  <a:lnTo>
                    <a:pt x="71" y="160"/>
                  </a:lnTo>
                  <a:lnTo>
                    <a:pt x="98" y="151"/>
                  </a:lnTo>
                  <a:lnTo>
                    <a:pt x="116" y="151"/>
                  </a:lnTo>
                  <a:lnTo>
                    <a:pt x="134" y="143"/>
                  </a:lnTo>
                  <a:lnTo>
                    <a:pt x="134" y="124"/>
                  </a:lnTo>
                  <a:lnTo>
                    <a:pt x="134" y="106"/>
                  </a:lnTo>
                  <a:lnTo>
                    <a:pt x="151" y="106"/>
                  </a:lnTo>
                  <a:lnTo>
                    <a:pt x="151" y="89"/>
                  </a:lnTo>
                  <a:lnTo>
                    <a:pt x="151" y="71"/>
                  </a:lnTo>
                  <a:lnTo>
                    <a:pt x="151" y="53"/>
                  </a:lnTo>
                  <a:lnTo>
                    <a:pt x="151" y="35"/>
                  </a:lnTo>
                  <a:lnTo>
                    <a:pt x="143" y="17"/>
                  </a:lnTo>
                  <a:lnTo>
                    <a:pt x="125" y="8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8"/>
                  </a:lnTo>
                  <a:lnTo>
                    <a:pt x="35" y="26"/>
                  </a:lnTo>
                  <a:lnTo>
                    <a:pt x="26" y="45"/>
                  </a:lnTo>
                  <a:lnTo>
                    <a:pt x="26" y="62"/>
                  </a:lnTo>
                  <a:lnTo>
                    <a:pt x="26" y="80"/>
                  </a:lnTo>
                  <a:lnTo>
                    <a:pt x="8" y="89"/>
                  </a:lnTo>
                  <a:lnTo>
                    <a:pt x="0" y="106"/>
                  </a:lnTo>
                  <a:lnTo>
                    <a:pt x="8" y="124"/>
                  </a:lnTo>
                  <a:lnTo>
                    <a:pt x="26" y="143"/>
                  </a:lnTo>
                  <a:lnTo>
                    <a:pt x="45" y="151"/>
                  </a:lnTo>
                  <a:lnTo>
                    <a:pt x="53" y="169"/>
                  </a:lnTo>
                  <a:lnTo>
                    <a:pt x="53" y="16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20200" y="5857920"/>
              <a:ext cx="70200" cy="73440"/>
            </a:xfrm>
            <a:custGeom>
              <a:avLst/>
              <a:gdLst/>
              <a:ahLst/>
              <a:rect l="0" t="0" r="r" b="b"/>
              <a:pathLst>
                <a:path w="195" h="204">
                  <a:moveTo>
                    <a:pt x="26" y="187"/>
                  </a:moveTo>
                  <a:lnTo>
                    <a:pt x="52" y="178"/>
                  </a:lnTo>
                  <a:lnTo>
                    <a:pt x="70" y="178"/>
                  </a:lnTo>
                  <a:lnTo>
                    <a:pt x="88" y="187"/>
                  </a:lnTo>
                  <a:lnTo>
                    <a:pt x="106" y="187"/>
                  </a:lnTo>
                  <a:lnTo>
                    <a:pt x="124" y="187"/>
                  </a:lnTo>
                  <a:lnTo>
                    <a:pt x="142" y="178"/>
                  </a:lnTo>
                  <a:lnTo>
                    <a:pt x="150" y="160"/>
                  </a:lnTo>
                  <a:lnTo>
                    <a:pt x="168" y="160"/>
                  </a:lnTo>
                  <a:lnTo>
                    <a:pt x="186" y="150"/>
                  </a:lnTo>
                  <a:lnTo>
                    <a:pt x="195" y="133"/>
                  </a:lnTo>
                  <a:lnTo>
                    <a:pt x="195" y="115"/>
                  </a:lnTo>
                  <a:lnTo>
                    <a:pt x="195" y="89"/>
                  </a:lnTo>
                  <a:lnTo>
                    <a:pt x="195" y="71"/>
                  </a:lnTo>
                  <a:lnTo>
                    <a:pt x="195" y="53"/>
                  </a:lnTo>
                  <a:lnTo>
                    <a:pt x="195" y="35"/>
                  </a:lnTo>
                  <a:lnTo>
                    <a:pt x="186" y="17"/>
                  </a:lnTo>
                  <a:lnTo>
                    <a:pt x="168" y="8"/>
                  </a:lnTo>
                  <a:lnTo>
                    <a:pt x="150" y="0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0"/>
                  </a:lnTo>
                  <a:lnTo>
                    <a:pt x="88" y="17"/>
                  </a:lnTo>
                  <a:lnTo>
                    <a:pt x="88" y="35"/>
                  </a:lnTo>
                  <a:lnTo>
                    <a:pt x="70" y="44"/>
                  </a:lnTo>
                  <a:lnTo>
                    <a:pt x="52" y="53"/>
                  </a:lnTo>
                  <a:lnTo>
                    <a:pt x="52" y="71"/>
                  </a:lnTo>
                  <a:lnTo>
                    <a:pt x="35" y="80"/>
                  </a:lnTo>
                  <a:lnTo>
                    <a:pt x="17" y="89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8" y="169"/>
                  </a:lnTo>
                  <a:lnTo>
                    <a:pt x="8" y="187"/>
                  </a:lnTo>
                  <a:lnTo>
                    <a:pt x="8" y="204"/>
                  </a:lnTo>
                  <a:lnTo>
                    <a:pt x="26" y="187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800840" y="5680080"/>
              <a:ext cx="879840" cy="1165680"/>
            </a:xfrm>
            <a:custGeom>
              <a:avLst/>
              <a:gdLst/>
              <a:ahLst/>
              <a:rect l="0" t="0" r="r" b="b"/>
              <a:pathLst>
                <a:path w="2444" h="3238">
                  <a:moveTo>
                    <a:pt x="282" y="2073"/>
                  </a:moveTo>
                  <a:lnTo>
                    <a:pt x="273" y="2091"/>
                  </a:lnTo>
                  <a:lnTo>
                    <a:pt x="264" y="2108"/>
                  </a:lnTo>
                  <a:lnTo>
                    <a:pt x="246" y="2117"/>
                  </a:lnTo>
                  <a:lnTo>
                    <a:pt x="229" y="2108"/>
                  </a:lnTo>
                  <a:lnTo>
                    <a:pt x="229" y="2135"/>
                  </a:lnTo>
                  <a:lnTo>
                    <a:pt x="229" y="2161"/>
                  </a:lnTo>
                  <a:lnTo>
                    <a:pt x="229" y="2179"/>
                  </a:lnTo>
                  <a:lnTo>
                    <a:pt x="229" y="2197"/>
                  </a:lnTo>
                  <a:lnTo>
                    <a:pt x="220" y="2214"/>
                  </a:lnTo>
                  <a:lnTo>
                    <a:pt x="202" y="2223"/>
                  </a:lnTo>
                  <a:lnTo>
                    <a:pt x="194" y="2241"/>
                  </a:lnTo>
                  <a:lnTo>
                    <a:pt x="176" y="2249"/>
                  </a:lnTo>
                  <a:lnTo>
                    <a:pt x="158" y="2249"/>
                  </a:lnTo>
                  <a:lnTo>
                    <a:pt x="149" y="2267"/>
                  </a:lnTo>
                  <a:lnTo>
                    <a:pt x="149" y="2285"/>
                  </a:lnTo>
                  <a:lnTo>
                    <a:pt x="132" y="2285"/>
                  </a:lnTo>
                  <a:lnTo>
                    <a:pt x="105" y="2285"/>
                  </a:lnTo>
                  <a:lnTo>
                    <a:pt x="88" y="2294"/>
                  </a:lnTo>
                  <a:lnTo>
                    <a:pt x="79" y="2320"/>
                  </a:lnTo>
                  <a:lnTo>
                    <a:pt x="79" y="2338"/>
                  </a:lnTo>
                  <a:lnTo>
                    <a:pt x="79" y="2355"/>
                  </a:lnTo>
                  <a:lnTo>
                    <a:pt x="61" y="2364"/>
                  </a:lnTo>
                  <a:lnTo>
                    <a:pt x="44" y="2373"/>
                  </a:lnTo>
                  <a:lnTo>
                    <a:pt x="44" y="2391"/>
                  </a:lnTo>
                  <a:lnTo>
                    <a:pt x="26" y="2391"/>
                  </a:lnTo>
                  <a:lnTo>
                    <a:pt x="8" y="2391"/>
                  </a:lnTo>
                  <a:lnTo>
                    <a:pt x="0" y="2408"/>
                  </a:lnTo>
                  <a:lnTo>
                    <a:pt x="0" y="2426"/>
                  </a:lnTo>
                  <a:lnTo>
                    <a:pt x="0" y="2444"/>
                  </a:lnTo>
                  <a:lnTo>
                    <a:pt x="0" y="2462"/>
                  </a:lnTo>
                  <a:lnTo>
                    <a:pt x="8" y="2480"/>
                  </a:lnTo>
                  <a:lnTo>
                    <a:pt x="35" y="2480"/>
                  </a:lnTo>
                  <a:lnTo>
                    <a:pt x="52" y="2489"/>
                  </a:lnTo>
                  <a:lnTo>
                    <a:pt x="70" y="2489"/>
                  </a:lnTo>
                  <a:lnTo>
                    <a:pt x="88" y="2489"/>
                  </a:lnTo>
                  <a:lnTo>
                    <a:pt x="88" y="2471"/>
                  </a:lnTo>
                  <a:lnTo>
                    <a:pt x="88" y="2453"/>
                  </a:lnTo>
                  <a:lnTo>
                    <a:pt x="105" y="2453"/>
                  </a:lnTo>
                  <a:lnTo>
                    <a:pt x="123" y="2453"/>
                  </a:lnTo>
                  <a:lnTo>
                    <a:pt x="141" y="2444"/>
                  </a:lnTo>
                  <a:lnTo>
                    <a:pt x="158" y="2436"/>
                  </a:lnTo>
                  <a:lnTo>
                    <a:pt x="167" y="2417"/>
                  </a:lnTo>
                  <a:lnTo>
                    <a:pt x="185" y="2417"/>
                  </a:lnTo>
                  <a:lnTo>
                    <a:pt x="202" y="2417"/>
                  </a:lnTo>
                  <a:lnTo>
                    <a:pt x="220" y="2408"/>
                  </a:lnTo>
                  <a:lnTo>
                    <a:pt x="246" y="2408"/>
                  </a:lnTo>
                  <a:lnTo>
                    <a:pt x="264" y="2399"/>
                  </a:lnTo>
                  <a:lnTo>
                    <a:pt x="264" y="2373"/>
                  </a:lnTo>
                  <a:lnTo>
                    <a:pt x="291" y="2373"/>
                  </a:lnTo>
                  <a:lnTo>
                    <a:pt x="308" y="2373"/>
                  </a:lnTo>
                  <a:lnTo>
                    <a:pt x="343" y="2373"/>
                  </a:lnTo>
                  <a:lnTo>
                    <a:pt x="361" y="2373"/>
                  </a:lnTo>
                  <a:lnTo>
                    <a:pt x="388" y="2373"/>
                  </a:lnTo>
                  <a:lnTo>
                    <a:pt x="405" y="2364"/>
                  </a:lnTo>
                  <a:lnTo>
                    <a:pt x="414" y="2346"/>
                  </a:lnTo>
                  <a:lnTo>
                    <a:pt x="432" y="2338"/>
                  </a:lnTo>
                  <a:lnTo>
                    <a:pt x="449" y="2329"/>
                  </a:lnTo>
                  <a:lnTo>
                    <a:pt x="458" y="2311"/>
                  </a:lnTo>
                  <a:lnTo>
                    <a:pt x="458" y="2294"/>
                  </a:lnTo>
                  <a:lnTo>
                    <a:pt x="476" y="2302"/>
                  </a:lnTo>
                  <a:lnTo>
                    <a:pt x="493" y="2302"/>
                  </a:lnTo>
                  <a:lnTo>
                    <a:pt x="520" y="2311"/>
                  </a:lnTo>
                  <a:lnTo>
                    <a:pt x="537" y="2311"/>
                  </a:lnTo>
                  <a:lnTo>
                    <a:pt x="555" y="2311"/>
                  </a:lnTo>
                  <a:lnTo>
                    <a:pt x="564" y="2329"/>
                  </a:lnTo>
                  <a:lnTo>
                    <a:pt x="582" y="2329"/>
                  </a:lnTo>
                  <a:lnTo>
                    <a:pt x="599" y="2329"/>
                  </a:lnTo>
                  <a:lnTo>
                    <a:pt x="618" y="2338"/>
                  </a:lnTo>
                  <a:lnTo>
                    <a:pt x="636" y="2338"/>
                  </a:lnTo>
                  <a:lnTo>
                    <a:pt x="653" y="2329"/>
                  </a:lnTo>
                  <a:lnTo>
                    <a:pt x="653" y="2311"/>
                  </a:lnTo>
                  <a:lnTo>
                    <a:pt x="671" y="2311"/>
                  </a:lnTo>
                  <a:lnTo>
                    <a:pt x="680" y="2329"/>
                  </a:lnTo>
                  <a:lnTo>
                    <a:pt x="706" y="2338"/>
                  </a:lnTo>
                  <a:lnTo>
                    <a:pt x="733" y="2346"/>
                  </a:lnTo>
                  <a:lnTo>
                    <a:pt x="750" y="2346"/>
                  </a:lnTo>
                  <a:lnTo>
                    <a:pt x="777" y="2338"/>
                  </a:lnTo>
                  <a:lnTo>
                    <a:pt x="785" y="2355"/>
                  </a:lnTo>
                  <a:lnTo>
                    <a:pt x="803" y="2373"/>
                  </a:lnTo>
                  <a:lnTo>
                    <a:pt x="821" y="2373"/>
                  </a:lnTo>
                  <a:lnTo>
                    <a:pt x="830" y="2391"/>
                  </a:lnTo>
                  <a:lnTo>
                    <a:pt x="821" y="2408"/>
                  </a:lnTo>
                  <a:lnTo>
                    <a:pt x="821" y="2426"/>
                  </a:lnTo>
                  <a:lnTo>
                    <a:pt x="803" y="2426"/>
                  </a:lnTo>
                  <a:lnTo>
                    <a:pt x="785" y="2444"/>
                  </a:lnTo>
                  <a:lnTo>
                    <a:pt x="785" y="2462"/>
                  </a:lnTo>
                  <a:lnTo>
                    <a:pt x="785" y="2480"/>
                  </a:lnTo>
                  <a:lnTo>
                    <a:pt x="794" y="2497"/>
                  </a:lnTo>
                  <a:lnTo>
                    <a:pt x="777" y="2497"/>
                  </a:lnTo>
                  <a:lnTo>
                    <a:pt x="759" y="2497"/>
                  </a:lnTo>
                  <a:lnTo>
                    <a:pt x="741" y="2497"/>
                  </a:lnTo>
                  <a:lnTo>
                    <a:pt x="724" y="2506"/>
                  </a:lnTo>
                  <a:lnTo>
                    <a:pt x="715" y="2524"/>
                  </a:lnTo>
                  <a:lnTo>
                    <a:pt x="697" y="2524"/>
                  </a:lnTo>
                  <a:lnTo>
                    <a:pt x="680" y="2524"/>
                  </a:lnTo>
                  <a:lnTo>
                    <a:pt x="680" y="2506"/>
                  </a:lnTo>
                  <a:lnTo>
                    <a:pt x="662" y="2497"/>
                  </a:lnTo>
                  <a:lnTo>
                    <a:pt x="653" y="2515"/>
                  </a:lnTo>
                  <a:lnTo>
                    <a:pt x="644" y="2533"/>
                  </a:lnTo>
                  <a:lnTo>
                    <a:pt x="627" y="2533"/>
                  </a:lnTo>
                  <a:lnTo>
                    <a:pt x="599" y="2533"/>
                  </a:lnTo>
                  <a:lnTo>
                    <a:pt x="582" y="2542"/>
                  </a:lnTo>
                  <a:lnTo>
                    <a:pt x="573" y="2559"/>
                  </a:lnTo>
                  <a:lnTo>
                    <a:pt x="564" y="2577"/>
                  </a:lnTo>
                  <a:lnTo>
                    <a:pt x="564" y="2594"/>
                  </a:lnTo>
                  <a:lnTo>
                    <a:pt x="564" y="2612"/>
                  </a:lnTo>
                  <a:lnTo>
                    <a:pt x="564" y="2630"/>
                  </a:lnTo>
                  <a:lnTo>
                    <a:pt x="564" y="2647"/>
                  </a:lnTo>
                  <a:lnTo>
                    <a:pt x="582" y="2656"/>
                  </a:lnTo>
                  <a:lnTo>
                    <a:pt x="599" y="2656"/>
                  </a:lnTo>
                  <a:lnTo>
                    <a:pt x="608" y="2674"/>
                  </a:lnTo>
                  <a:lnTo>
                    <a:pt x="618" y="2691"/>
                  </a:lnTo>
                  <a:lnTo>
                    <a:pt x="636" y="2691"/>
                  </a:lnTo>
                  <a:lnTo>
                    <a:pt x="662" y="2700"/>
                  </a:lnTo>
                  <a:lnTo>
                    <a:pt x="680" y="2700"/>
                  </a:lnTo>
                  <a:lnTo>
                    <a:pt x="706" y="2700"/>
                  </a:lnTo>
                  <a:lnTo>
                    <a:pt x="715" y="2683"/>
                  </a:lnTo>
                  <a:lnTo>
                    <a:pt x="733" y="2683"/>
                  </a:lnTo>
                  <a:lnTo>
                    <a:pt x="741" y="2665"/>
                  </a:lnTo>
                  <a:lnTo>
                    <a:pt x="750" y="2647"/>
                  </a:lnTo>
                  <a:lnTo>
                    <a:pt x="759" y="2630"/>
                  </a:lnTo>
                  <a:lnTo>
                    <a:pt x="777" y="2630"/>
                  </a:lnTo>
                  <a:lnTo>
                    <a:pt x="794" y="2630"/>
                  </a:lnTo>
                  <a:lnTo>
                    <a:pt x="812" y="2630"/>
                  </a:lnTo>
                  <a:lnTo>
                    <a:pt x="830" y="2612"/>
                  </a:lnTo>
                  <a:lnTo>
                    <a:pt x="830" y="2594"/>
                  </a:lnTo>
                  <a:lnTo>
                    <a:pt x="830" y="2577"/>
                  </a:lnTo>
                  <a:lnTo>
                    <a:pt x="847" y="2559"/>
                  </a:lnTo>
                  <a:lnTo>
                    <a:pt x="847" y="2542"/>
                  </a:lnTo>
                  <a:lnTo>
                    <a:pt x="865" y="2533"/>
                  </a:lnTo>
                  <a:lnTo>
                    <a:pt x="874" y="2515"/>
                  </a:lnTo>
                  <a:lnTo>
                    <a:pt x="891" y="2506"/>
                  </a:lnTo>
                  <a:lnTo>
                    <a:pt x="909" y="2506"/>
                  </a:lnTo>
                  <a:lnTo>
                    <a:pt x="927" y="2506"/>
                  </a:lnTo>
                  <a:lnTo>
                    <a:pt x="944" y="2506"/>
                  </a:lnTo>
                  <a:lnTo>
                    <a:pt x="962" y="2506"/>
                  </a:lnTo>
                  <a:lnTo>
                    <a:pt x="979" y="2506"/>
                  </a:lnTo>
                  <a:lnTo>
                    <a:pt x="997" y="2506"/>
                  </a:lnTo>
                  <a:lnTo>
                    <a:pt x="1015" y="2506"/>
                  </a:lnTo>
                  <a:lnTo>
                    <a:pt x="1032" y="2506"/>
                  </a:lnTo>
                  <a:lnTo>
                    <a:pt x="1059" y="2506"/>
                  </a:lnTo>
                  <a:lnTo>
                    <a:pt x="1076" y="2506"/>
                  </a:lnTo>
                  <a:lnTo>
                    <a:pt x="1094" y="2506"/>
                  </a:lnTo>
                  <a:lnTo>
                    <a:pt x="1112" y="2506"/>
                  </a:lnTo>
                  <a:lnTo>
                    <a:pt x="1129" y="2506"/>
                  </a:lnTo>
                  <a:lnTo>
                    <a:pt x="1147" y="2506"/>
                  </a:lnTo>
                  <a:lnTo>
                    <a:pt x="1165" y="2506"/>
                  </a:lnTo>
                  <a:lnTo>
                    <a:pt x="1182" y="2506"/>
                  </a:lnTo>
                  <a:lnTo>
                    <a:pt x="1191" y="2524"/>
                  </a:lnTo>
                  <a:lnTo>
                    <a:pt x="1209" y="2533"/>
                  </a:lnTo>
                  <a:lnTo>
                    <a:pt x="1226" y="2550"/>
                  </a:lnTo>
                  <a:lnTo>
                    <a:pt x="1244" y="2550"/>
                  </a:lnTo>
                  <a:lnTo>
                    <a:pt x="1262" y="2559"/>
                  </a:lnTo>
                  <a:lnTo>
                    <a:pt x="1279" y="2568"/>
                  </a:lnTo>
                  <a:lnTo>
                    <a:pt x="1297" y="2586"/>
                  </a:lnTo>
                  <a:lnTo>
                    <a:pt x="1315" y="2594"/>
                  </a:lnTo>
                  <a:lnTo>
                    <a:pt x="1315" y="2612"/>
                  </a:lnTo>
                  <a:lnTo>
                    <a:pt x="1315" y="2630"/>
                  </a:lnTo>
                  <a:lnTo>
                    <a:pt x="1315" y="2647"/>
                  </a:lnTo>
                  <a:lnTo>
                    <a:pt x="1332" y="2656"/>
                  </a:lnTo>
                  <a:lnTo>
                    <a:pt x="1350" y="2665"/>
                  </a:lnTo>
                  <a:lnTo>
                    <a:pt x="1332" y="2674"/>
                  </a:lnTo>
                  <a:lnTo>
                    <a:pt x="1315" y="2691"/>
                  </a:lnTo>
                  <a:lnTo>
                    <a:pt x="1315" y="2718"/>
                  </a:lnTo>
                  <a:lnTo>
                    <a:pt x="1315" y="2736"/>
                  </a:lnTo>
                  <a:lnTo>
                    <a:pt x="1315" y="2753"/>
                  </a:lnTo>
                  <a:lnTo>
                    <a:pt x="1297" y="2753"/>
                  </a:lnTo>
                  <a:lnTo>
                    <a:pt x="1279" y="2753"/>
                  </a:lnTo>
                  <a:lnTo>
                    <a:pt x="1279" y="2771"/>
                  </a:lnTo>
                  <a:lnTo>
                    <a:pt x="1271" y="2788"/>
                  </a:lnTo>
                  <a:lnTo>
                    <a:pt x="1271" y="2815"/>
                  </a:lnTo>
                  <a:lnTo>
                    <a:pt x="1271" y="2841"/>
                  </a:lnTo>
                  <a:lnTo>
                    <a:pt x="1271" y="2859"/>
                  </a:lnTo>
                  <a:lnTo>
                    <a:pt x="1271" y="2877"/>
                  </a:lnTo>
                  <a:lnTo>
                    <a:pt x="1271" y="2894"/>
                  </a:lnTo>
                  <a:lnTo>
                    <a:pt x="1288" y="2903"/>
                  </a:lnTo>
                  <a:lnTo>
                    <a:pt x="1315" y="2903"/>
                  </a:lnTo>
                  <a:lnTo>
                    <a:pt x="1315" y="2921"/>
                  </a:lnTo>
                  <a:lnTo>
                    <a:pt x="1332" y="2930"/>
                  </a:lnTo>
                  <a:lnTo>
                    <a:pt x="1359" y="2930"/>
                  </a:lnTo>
                  <a:lnTo>
                    <a:pt x="1376" y="2930"/>
                  </a:lnTo>
                  <a:lnTo>
                    <a:pt x="1394" y="2938"/>
                  </a:lnTo>
                  <a:lnTo>
                    <a:pt x="1412" y="2938"/>
                  </a:lnTo>
                  <a:lnTo>
                    <a:pt x="1429" y="2938"/>
                  </a:lnTo>
                  <a:lnTo>
                    <a:pt x="1447" y="2930"/>
                  </a:lnTo>
                  <a:lnTo>
                    <a:pt x="1456" y="2912"/>
                  </a:lnTo>
                  <a:lnTo>
                    <a:pt x="1456" y="2894"/>
                  </a:lnTo>
                  <a:lnTo>
                    <a:pt x="1447" y="2877"/>
                  </a:lnTo>
                  <a:lnTo>
                    <a:pt x="1447" y="2859"/>
                  </a:lnTo>
                  <a:lnTo>
                    <a:pt x="1456" y="2833"/>
                  </a:lnTo>
                  <a:lnTo>
                    <a:pt x="1456" y="2815"/>
                  </a:lnTo>
                  <a:lnTo>
                    <a:pt x="1456" y="2797"/>
                  </a:lnTo>
                  <a:lnTo>
                    <a:pt x="1456" y="2771"/>
                  </a:lnTo>
                  <a:lnTo>
                    <a:pt x="1456" y="2753"/>
                  </a:lnTo>
                  <a:lnTo>
                    <a:pt x="1438" y="2744"/>
                  </a:lnTo>
                  <a:lnTo>
                    <a:pt x="1438" y="2727"/>
                  </a:lnTo>
                  <a:lnTo>
                    <a:pt x="1438" y="2709"/>
                  </a:lnTo>
                  <a:lnTo>
                    <a:pt x="1429" y="2691"/>
                  </a:lnTo>
                  <a:lnTo>
                    <a:pt x="1429" y="2674"/>
                  </a:lnTo>
                  <a:lnTo>
                    <a:pt x="1429" y="2656"/>
                  </a:lnTo>
                  <a:lnTo>
                    <a:pt x="1429" y="2639"/>
                  </a:lnTo>
                  <a:lnTo>
                    <a:pt x="1429" y="2621"/>
                  </a:lnTo>
                  <a:lnTo>
                    <a:pt x="1429" y="2594"/>
                  </a:lnTo>
                  <a:lnTo>
                    <a:pt x="1438" y="2577"/>
                  </a:lnTo>
                  <a:lnTo>
                    <a:pt x="1456" y="2568"/>
                  </a:lnTo>
                  <a:lnTo>
                    <a:pt x="1473" y="2550"/>
                  </a:lnTo>
                  <a:lnTo>
                    <a:pt x="1500" y="2542"/>
                  </a:lnTo>
                  <a:lnTo>
                    <a:pt x="1517" y="2533"/>
                  </a:lnTo>
                  <a:lnTo>
                    <a:pt x="1535" y="2524"/>
                  </a:lnTo>
                  <a:lnTo>
                    <a:pt x="1553" y="2515"/>
                  </a:lnTo>
                  <a:lnTo>
                    <a:pt x="1570" y="2497"/>
                  </a:lnTo>
                  <a:lnTo>
                    <a:pt x="1588" y="2489"/>
                  </a:lnTo>
                  <a:lnTo>
                    <a:pt x="1614" y="2480"/>
                  </a:lnTo>
                  <a:lnTo>
                    <a:pt x="1632" y="2471"/>
                  </a:lnTo>
                  <a:lnTo>
                    <a:pt x="1650" y="2462"/>
                  </a:lnTo>
                  <a:lnTo>
                    <a:pt x="1667" y="2462"/>
                  </a:lnTo>
                  <a:lnTo>
                    <a:pt x="1659" y="2480"/>
                  </a:lnTo>
                  <a:lnTo>
                    <a:pt x="1659" y="2497"/>
                  </a:lnTo>
                  <a:lnTo>
                    <a:pt x="1667" y="2515"/>
                  </a:lnTo>
                  <a:lnTo>
                    <a:pt x="1667" y="2533"/>
                  </a:lnTo>
                  <a:lnTo>
                    <a:pt x="1667" y="2550"/>
                  </a:lnTo>
                  <a:lnTo>
                    <a:pt x="1667" y="2568"/>
                  </a:lnTo>
                  <a:lnTo>
                    <a:pt x="1667" y="2586"/>
                  </a:lnTo>
                  <a:lnTo>
                    <a:pt x="1676" y="2603"/>
                  </a:lnTo>
                  <a:lnTo>
                    <a:pt x="1676" y="2621"/>
                  </a:lnTo>
                  <a:lnTo>
                    <a:pt x="1650" y="2639"/>
                  </a:lnTo>
                  <a:lnTo>
                    <a:pt x="1650" y="2656"/>
                  </a:lnTo>
                  <a:lnTo>
                    <a:pt x="1659" y="2674"/>
                  </a:lnTo>
                  <a:lnTo>
                    <a:pt x="1659" y="2691"/>
                  </a:lnTo>
                  <a:lnTo>
                    <a:pt x="1659" y="2709"/>
                  </a:lnTo>
                  <a:lnTo>
                    <a:pt x="1659" y="2727"/>
                  </a:lnTo>
                  <a:lnTo>
                    <a:pt x="1694" y="2736"/>
                  </a:lnTo>
                  <a:lnTo>
                    <a:pt x="1711" y="2736"/>
                  </a:lnTo>
                  <a:lnTo>
                    <a:pt x="1729" y="2736"/>
                  </a:lnTo>
                  <a:lnTo>
                    <a:pt x="1729" y="2753"/>
                  </a:lnTo>
                  <a:lnTo>
                    <a:pt x="1729" y="2771"/>
                  </a:lnTo>
                  <a:lnTo>
                    <a:pt x="1711" y="2771"/>
                  </a:lnTo>
                  <a:lnTo>
                    <a:pt x="1694" y="2780"/>
                  </a:lnTo>
                  <a:lnTo>
                    <a:pt x="1685" y="2806"/>
                  </a:lnTo>
                  <a:lnTo>
                    <a:pt x="1685" y="2833"/>
                  </a:lnTo>
                  <a:lnTo>
                    <a:pt x="1685" y="2850"/>
                  </a:lnTo>
                  <a:lnTo>
                    <a:pt x="1685" y="2868"/>
                  </a:lnTo>
                  <a:lnTo>
                    <a:pt x="1659" y="2868"/>
                  </a:lnTo>
                  <a:lnTo>
                    <a:pt x="1650" y="2885"/>
                  </a:lnTo>
                  <a:lnTo>
                    <a:pt x="1650" y="2903"/>
                  </a:lnTo>
                  <a:lnTo>
                    <a:pt x="1650" y="2921"/>
                  </a:lnTo>
                  <a:lnTo>
                    <a:pt x="1650" y="2938"/>
                  </a:lnTo>
                  <a:lnTo>
                    <a:pt x="1650" y="2956"/>
                  </a:lnTo>
                  <a:lnTo>
                    <a:pt x="1650" y="2974"/>
                  </a:lnTo>
                  <a:lnTo>
                    <a:pt x="1632" y="2974"/>
                  </a:lnTo>
                  <a:lnTo>
                    <a:pt x="1614" y="2982"/>
                  </a:lnTo>
                  <a:lnTo>
                    <a:pt x="1606" y="3009"/>
                  </a:lnTo>
                  <a:lnTo>
                    <a:pt x="1614" y="3035"/>
                  </a:lnTo>
                  <a:lnTo>
                    <a:pt x="1614" y="3053"/>
                  </a:lnTo>
                  <a:lnTo>
                    <a:pt x="1614" y="3071"/>
                  </a:lnTo>
                  <a:lnTo>
                    <a:pt x="1614" y="3088"/>
                  </a:lnTo>
                  <a:lnTo>
                    <a:pt x="1623" y="3115"/>
                  </a:lnTo>
                  <a:lnTo>
                    <a:pt x="1632" y="3141"/>
                  </a:lnTo>
                  <a:lnTo>
                    <a:pt x="1650" y="3150"/>
                  </a:lnTo>
                  <a:lnTo>
                    <a:pt x="1667" y="3159"/>
                  </a:lnTo>
                  <a:lnTo>
                    <a:pt x="1685" y="3168"/>
                  </a:lnTo>
                  <a:lnTo>
                    <a:pt x="1703" y="3177"/>
                  </a:lnTo>
                  <a:lnTo>
                    <a:pt x="1720" y="3177"/>
                  </a:lnTo>
                  <a:lnTo>
                    <a:pt x="1738" y="3185"/>
                  </a:lnTo>
                  <a:lnTo>
                    <a:pt x="1756" y="3194"/>
                  </a:lnTo>
                  <a:lnTo>
                    <a:pt x="1773" y="3203"/>
                  </a:lnTo>
                  <a:lnTo>
                    <a:pt x="1791" y="3212"/>
                  </a:lnTo>
                  <a:lnTo>
                    <a:pt x="1808" y="3221"/>
                  </a:lnTo>
                  <a:lnTo>
                    <a:pt x="1826" y="3221"/>
                  </a:lnTo>
                  <a:lnTo>
                    <a:pt x="1845" y="3229"/>
                  </a:lnTo>
                  <a:lnTo>
                    <a:pt x="1862" y="3238"/>
                  </a:lnTo>
                  <a:lnTo>
                    <a:pt x="1880" y="3238"/>
                  </a:lnTo>
                  <a:lnTo>
                    <a:pt x="1898" y="3238"/>
                  </a:lnTo>
                  <a:lnTo>
                    <a:pt x="1924" y="3238"/>
                  </a:lnTo>
                  <a:lnTo>
                    <a:pt x="1942" y="3221"/>
                  </a:lnTo>
                  <a:lnTo>
                    <a:pt x="1951" y="3203"/>
                  </a:lnTo>
                  <a:lnTo>
                    <a:pt x="1968" y="3203"/>
                  </a:lnTo>
                  <a:lnTo>
                    <a:pt x="1986" y="3203"/>
                  </a:lnTo>
                  <a:lnTo>
                    <a:pt x="2004" y="3203"/>
                  </a:lnTo>
                  <a:lnTo>
                    <a:pt x="2021" y="3194"/>
                  </a:lnTo>
                  <a:lnTo>
                    <a:pt x="2039" y="3185"/>
                  </a:lnTo>
                  <a:lnTo>
                    <a:pt x="2048" y="3168"/>
                  </a:lnTo>
                  <a:lnTo>
                    <a:pt x="2065" y="3168"/>
                  </a:lnTo>
                  <a:lnTo>
                    <a:pt x="2083" y="3159"/>
                  </a:lnTo>
                  <a:lnTo>
                    <a:pt x="2092" y="3141"/>
                  </a:lnTo>
                  <a:lnTo>
                    <a:pt x="2101" y="3124"/>
                  </a:lnTo>
                  <a:lnTo>
                    <a:pt x="2101" y="3097"/>
                  </a:lnTo>
                  <a:lnTo>
                    <a:pt x="2109" y="3079"/>
                  </a:lnTo>
                  <a:lnTo>
                    <a:pt x="2109" y="3062"/>
                  </a:lnTo>
                  <a:lnTo>
                    <a:pt x="2118" y="3044"/>
                  </a:lnTo>
                  <a:lnTo>
                    <a:pt x="2127" y="3027"/>
                  </a:lnTo>
                  <a:lnTo>
                    <a:pt x="2118" y="3009"/>
                  </a:lnTo>
                  <a:lnTo>
                    <a:pt x="2109" y="2991"/>
                  </a:lnTo>
                  <a:lnTo>
                    <a:pt x="2118" y="2974"/>
                  </a:lnTo>
                  <a:lnTo>
                    <a:pt x="2109" y="2956"/>
                  </a:lnTo>
                  <a:lnTo>
                    <a:pt x="2101" y="2938"/>
                  </a:lnTo>
                  <a:lnTo>
                    <a:pt x="2083" y="2912"/>
                  </a:lnTo>
                  <a:lnTo>
                    <a:pt x="2065" y="2903"/>
                  </a:lnTo>
                  <a:lnTo>
                    <a:pt x="2056" y="2885"/>
                  </a:lnTo>
                  <a:lnTo>
                    <a:pt x="2039" y="2877"/>
                  </a:lnTo>
                  <a:lnTo>
                    <a:pt x="2021" y="2850"/>
                  </a:lnTo>
                  <a:lnTo>
                    <a:pt x="2012" y="2833"/>
                  </a:lnTo>
                  <a:lnTo>
                    <a:pt x="2004" y="2815"/>
                  </a:lnTo>
                  <a:lnTo>
                    <a:pt x="2004" y="2797"/>
                  </a:lnTo>
                  <a:lnTo>
                    <a:pt x="1986" y="2788"/>
                  </a:lnTo>
                  <a:lnTo>
                    <a:pt x="1977" y="2771"/>
                  </a:lnTo>
                  <a:lnTo>
                    <a:pt x="1959" y="2762"/>
                  </a:lnTo>
                  <a:lnTo>
                    <a:pt x="1977" y="2753"/>
                  </a:lnTo>
                  <a:lnTo>
                    <a:pt x="1986" y="2727"/>
                  </a:lnTo>
                  <a:lnTo>
                    <a:pt x="1968" y="2718"/>
                  </a:lnTo>
                  <a:lnTo>
                    <a:pt x="1951" y="2709"/>
                  </a:lnTo>
                  <a:lnTo>
                    <a:pt x="1942" y="2727"/>
                  </a:lnTo>
                  <a:lnTo>
                    <a:pt x="1933" y="2744"/>
                  </a:lnTo>
                  <a:lnTo>
                    <a:pt x="1915" y="2736"/>
                  </a:lnTo>
                  <a:lnTo>
                    <a:pt x="1915" y="2718"/>
                  </a:lnTo>
                  <a:lnTo>
                    <a:pt x="1915" y="2700"/>
                  </a:lnTo>
                  <a:lnTo>
                    <a:pt x="1907" y="2683"/>
                  </a:lnTo>
                  <a:lnTo>
                    <a:pt x="1889" y="2674"/>
                  </a:lnTo>
                  <a:lnTo>
                    <a:pt x="1871" y="2665"/>
                  </a:lnTo>
                  <a:lnTo>
                    <a:pt x="1854" y="2665"/>
                  </a:lnTo>
                  <a:lnTo>
                    <a:pt x="1826" y="2665"/>
                  </a:lnTo>
                  <a:lnTo>
                    <a:pt x="1808" y="2665"/>
                  </a:lnTo>
                  <a:lnTo>
                    <a:pt x="1791" y="2665"/>
                  </a:lnTo>
                  <a:lnTo>
                    <a:pt x="1773" y="2665"/>
                  </a:lnTo>
                  <a:lnTo>
                    <a:pt x="1773" y="2647"/>
                  </a:lnTo>
                  <a:lnTo>
                    <a:pt x="1756" y="2647"/>
                  </a:lnTo>
                  <a:lnTo>
                    <a:pt x="1747" y="2621"/>
                  </a:lnTo>
                  <a:lnTo>
                    <a:pt x="1747" y="2603"/>
                  </a:lnTo>
                  <a:lnTo>
                    <a:pt x="1738" y="2586"/>
                  </a:lnTo>
                  <a:lnTo>
                    <a:pt x="1756" y="2603"/>
                  </a:lnTo>
                  <a:lnTo>
                    <a:pt x="1773" y="2612"/>
                  </a:lnTo>
                  <a:lnTo>
                    <a:pt x="1791" y="2621"/>
                  </a:lnTo>
                  <a:lnTo>
                    <a:pt x="1800" y="2603"/>
                  </a:lnTo>
                  <a:lnTo>
                    <a:pt x="1808" y="2586"/>
                  </a:lnTo>
                  <a:lnTo>
                    <a:pt x="1800" y="2568"/>
                  </a:lnTo>
                  <a:lnTo>
                    <a:pt x="1782" y="2559"/>
                  </a:lnTo>
                  <a:lnTo>
                    <a:pt x="1764" y="2550"/>
                  </a:lnTo>
                  <a:lnTo>
                    <a:pt x="1756" y="2533"/>
                  </a:lnTo>
                  <a:lnTo>
                    <a:pt x="1738" y="2533"/>
                  </a:lnTo>
                  <a:lnTo>
                    <a:pt x="1720" y="2542"/>
                  </a:lnTo>
                  <a:lnTo>
                    <a:pt x="1720" y="2559"/>
                  </a:lnTo>
                  <a:lnTo>
                    <a:pt x="1703" y="2568"/>
                  </a:lnTo>
                  <a:lnTo>
                    <a:pt x="1685" y="2550"/>
                  </a:lnTo>
                  <a:lnTo>
                    <a:pt x="1694" y="2533"/>
                  </a:lnTo>
                  <a:lnTo>
                    <a:pt x="1703" y="2515"/>
                  </a:lnTo>
                  <a:lnTo>
                    <a:pt x="1711" y="2497"/>
                  </a:lnTo>
                  <a:lnTo>
                    <a:pt x="1703" y="2480"/>
                  </a:lnTo>
                  <a:lnTo>
                    <a:pt x="1694" y="2462"/>
                  </a:lnTo>
                  <a:lnTo>
                    <a:pt x="1694" y="2444"/>
                  </a:lnTo>
                  <a:lnTo>
                    <a:pt x="1703" y="2426"/>
                  </a:lnTo>
                  <a:lnTo>
                    <a:pt x="1703" y="2408"/>
                  </a:lnTo>
                  <a:lnTo>
                    <a:pt x="1703" y="2391"/>
                  </a:lnTo>
                  <a:lnTo>
                    <a:pt x="1711" y="2373"/>
                  </a:lnTo>
                  <a:lnTo>
                    <a:pt x="1729" y="2364"/>
                  </a:lnTo>
                  <a:lnTo>
                    <a:pt x="1747" y="2355"/>
                  </a:lnTo>
                  <a:lnTo>
                    <a:pt x="1764" y="2355"/>
                  </a:lnTo>
                  <a:lnTo>
                    <a:pt x="1782" y="2338"/>
                  </a:lnTo>
                  <a:lnTo>
                    <a:pt x="1800" y="2329"/>
                  </a:lnTo>
                  <a:lnTo>
                    <a:pt x="1808" y="2311"/>
                  </a:lnTo>
                  <a:lnTo>
                    <a:pt x="1817" y="2294"/>
                  </a:lnTo>
                  <a:lnTo>
                    <a:pt x="1836" y="2285"/>
                  </a:lnTo>
                  <a:lnTo>
                    <a:pt x="1836" y="2267"/>
                  </a:lnTo>
                  <a:lnTo>
                    <a:pt x="1826" y="2249"/>
                  </a:lnTo>
                  <a:lnTo>
                    <a:pt x="1826" y="2232"/>
                  </a:lnTo>
                  <a:lnTo>
                    <a:pt x="1871" y="2223"/>
                  </a:lnTo>
                  <a:lnTo>
                    <a:pt x="1889" y="2223"/>
                  </a:lnTo>
                  <a:lnTo>
                    <a:pt x="1907" y="2205"/>
                  </a:lnTo>
                  <a:lnTo>
                    <a:pt x="1924" y="2188"/>
                  </a:lnTo>
                  <a:lnTo>
                    <a:pt x="1933" y="2170"/>
                  </a:lnTo>
                  <a:lnTo>
                    <a:pt x="1951" y="2161"/>
                  </a:lnTo>
                  <a:lnTo>
                    <a:pt x="1968" y="2144"/>
                  </a:lnTo>
                  <a:lnTo>
                    <a:pt x="1977" y="2126"/>
                  </a:lnTo>
                  <a:lnTo>
                    <a:pt x="1986" y="2108"/>
                  </a:lnTo>
                  <a:lnTo>
                    <a:pt x="2030" y="2055"/>
                  </a:lnTo>
                  <a:lnTo>
                    <a:pt x="2021" y="2073"/>
                  </a:lnTo>
                  <a:lnTo>
                    <a:pt x="2039" y="2073"/>
                  </a:lnTo>
                  <a:lnTo>
                    <a:pt x="2056" y="2073"/>
                  </a:lnTo>
                  <a:lnTo>
                    <a:pt x="2074" y="2064"/>
                  </a:lnTo>
                  <a:lnTo>
                    <a:pt x="2092" y="2055"/>
                  </a:lnTo>
                  <a:lnTo>
                    <a:pt x="2118" y="2055"/>
                  </a:lnTo>
                  <a:lnTo>
                    <a:pt x="2136" y="2055"/>
                  </a:lnTo>
                  <a:lnTo>
                    <a:pt x="2153" y="2055"/>
                  </a:lnTo>
                  <a:lnTo>
                    <a:pt x="2171" y="2055"/>
                  </a:lnTo>
                  <a:lnTo>
                    <a:pt x="2189" y="2055"/>
                  </a:lnTo>
                  <a:lnTo>
                    <a:pt x="2206" y="2064"/>
                  </a:lnTo>
                  <a:lnTo>
                    <a:pt x="2224" y="2082"/>
                  </a:lnTo>
                  <a:lnTo>
                    <a:pt x="2224" y="2100"/>
                  </a:lnTo>
                  <a:lnTo>
                    <a:pt x="2242" y="2108"/>
                  </a:lnTo>
                  <a:lnTo>
                    <a:pt x="2259" y="2117"/>
                  </a:lnTo>
                  <a:lnTo>
                    <a:pt x="2268" y="2100"/>
                  </a:lnTo>
                  <a:lnTo>
                    <a:pt x="2259" y="2082"/>
                  </a:lnTo>
                  <a:lnTo>
                    <a:pt x="2250" y="2064"/>
                  </a:lnTo>
                  <a:lnTo>
                    <a:pt x="2233" y="2055"/>
                  </a:lnTo>
                  <a:lnTo>
                    <a:pt x="2224" y="2038"/>
                  </a:lnTo>
                  <a:lnTo>
                    <a:pt x="2233" y="2020"/>
                  </a:lnTo>
                  <a:lnTo>
                    <a:pt x="2233" y="1994"/>
                  </a:lnTo>
                  <a:lnTo>
                    <a:pt x="2233" y="1976"/>
                  </a:lnTo>
                  <a:lnTo>
                    <a:pt x="2224" y="1958"/>
                  </a:lnTo>
                  <a:lnTo>
                    <a:pt x="2206" y="1950"/>
                  </a:lnTo>
                  <a:lnTo>
                    <a:pt x="2189" y="1932"/>
                  </a:lnTo>
                  <a:lnTo>
                    <a:pt x="2171" y="1923"/>
                  </a:lnTo>
                  <a:lnTo>
                    <a:pt x="2171" y="1906"/>
                  </a:lnTo>
                  <a:lnTo>
                    <a:pt x="2162" y="1888"/>
                  </a:lnTo>
                  <a:lnTo>
                    <a:pt x="2162" y="1870"/>
                  </a:lnTo>
                  <a:lnTo>
                    <a:pt x="2162" y="1853"/>
                  </a:lnTo>
                  <a:lnTo>
                    <a:pt x="2171" y="1835"/>
                  </a:lnTo>
                  <a:lnTo>
                    <a:pt x="2171" y="1817"/>
                  </a:lnTo>
                  <a:lnTo>
                    <a:pt x="2171" y="1800"/>
                  </a:lnTo>
                  <a:lnTo>
                    <a:pt x="2171" y="1782"/>
                  </a:lnTo>
                  <a:lnTo>
                    <a:pt x="2171" y="1764"/>
                  </a:lnTo>
                  <a:lnTo>
                    <a:pt x="2171" y="1747"/>
                  </a:lnTo>
                  <a:lnTo>
                    <a:pt x="2171" y="1729"/>
                  </a:lnTo>
                  <a:lnTo>
                    <a:pt x="2189" y="1711"/>
                  </a:lnTo>
                  <a:lnTo>
                    <a:pt x="2206" y="1711"/>
                  </a:lnTo>
                  <a:lnTo>
                    <a:pt x="2224" y="1703"/>
                  </a:lnTo>
                  <a:lnTo>
                    <a:pt x="2250" y="1703"/>
                  </a:lnTo>
                  <a:lnTo>
                    <a:pt x="2259" y="1720"/>
                  </a:lnTo>
                  <a:lnTo>
                    <a:pt x="2268" y="1738"/>
                  </a:lnTo>
                  <a:lnTo>
                    <a:pt x="2268" y="1756"/>
                  </a:lnTo>
                  <a:lnTo>
                    <a:pt x="2268" y="1782"/>
                  </a:lnTo>
                  <a:lnTo>
                    <a:pt x="2277" y="1800"/>
                  </a:lnTo>
                  <a:lnTo>
                    <a:pt x="2295" y="1808"/>
                  </a:lnTo>
                  <a:lnTo>
                    <a:pt x="2312" y="1808"/>
                  </a:lnTo>
                  <a:lnTo>
                    <a:pt x="2330" y="1808"/>
                  </a:lnTo>
                  <a:lnTo>
                    <a:pt x="2347" y="1808"/>
                  </a:lnTo>
                  <a:lnTo>
                    <a:pt x="2365" y="1800"/>
                  </a:lnTo>
                  <a:lnTo>
                    <a:pt x="2392" y="1800"/>
                  </a:lnTo>
                  <a:lnTo>
                    <a:pt x="2427" y="1791"/>
                  </a:lnTo>
                  <a:lnTo>
                    <a:pt x="2427" y="1764"/>
                  </a:lnTo>
                  <a:lnTo>
                    <a:pt x="2427" y="1747"/>
                  </a:lnTo>
                  <a:lnTo>
                    <a:pt x="2444" y="1738"/>
                  </a:lnTo>
                  <a:lnTo>
                    <a:pt x="2444" y="1720"/>
                  </a:lnTo>
                  <a:lnTo>
                    <a:pt x="2444" y="1703"/>
                  </a:lnTo>
                  <a:lnTo>
                    <a:pt x="2444" y="1685"/>
                  </a:lnTo>
                  <a:lnTo>
                    <a:pt x="2444" y="1667"/>
                  </a:lnTo>
                  <a:lnTo>
                    <a:pt x="2444" y="1650"/>
                  </a:lnTo>
                  <a:lnTo>
                    <a:pt x="2444" y="1632"/>
                  </a:lnTo>
                  <a:lnTo>
                    <a:pt x="2436" y="1614"/>
                  </a:lnTo>
                  <a:lnTo>
                    <a:pt x="2418" y="1614"/>
                  </a:lnTo>
                  <a:lnTo>
                    <a:pt x="2409" y="1597"/>
                  </a:lnTo>
                  <a:lnTo>
                    <a:pt x="2383" y="1588"/>
                  </a:lnTo>
                  <a:lnTo>
                    <a:pt x="2365" y="1579"/>
                  </a:lnTo>
                  <a:lnTo>
                    <a:pt x="2347" y="1579"/>
                  </a:lnTo>
                  <a:lnTo>
                    <a:pt x="2321" y="1579"/>
                  </a:lnTo>
                  <a:lnTo>
                    <a:pt x="2303" y="1579"/>
                  </a:lnTo>
                  <a:lnTo>
                    <a:pt x="2303" y="1597"/>
                  </a:lnTo>
                  <a:lnTo>
                    <a:pt x="2295" y="1614"/>
                  </a:lnTo>
                  <a:lnTo>
                    <a:pt x="2277" y="1623"/>
                  </a:lnTo>
                  <a:lnTo>
                    <a:pt x="2259" y="1623"/>
                  </a:lnTo>
                  <a:lnTo>
                    <a:pt x="2242" y="1614"/>
                  </a:lnTo>
                  <a:lnTo>
                    <a:pt x="2224" y="1597"/>
                  </a:lnTo>
                  <a:lnTo>
                    <a:pt x="2224" y="1579"/>
                  </a:lnTo>
                  <a:lnTo>
                    <a:pt x="2215" y="1562"/>
                  </a:lnTo>
                  <a:lnTo>
                    <a:pt x="2206" y="1535"/>
                  </a:lnTo>
                  <a:lnTo>
                    <a:pt x="2198" y="1517"/>
                  </a:lnTo>
                  <a:lnTo>
                    <a:pt x="2189" y="1500"/>
                  </a:lnTo>
                  <a:lnTo>
                    <a:pt x="2180" y="1482"/>
                  </a:lnTo>
                  <a:lnTo>
                    <a:pt x="2180" y="1465"/>
                  </a:lnTo>
                  <a:lnTo>
                    <a:pt x="2198" y="1447"/>
                  </a:lnTo>
                  <a:lnTo>
                    <a:pt x="2198" y="1429"/>
                  </a:lnTo>
                  <a:lnTo>
                    <a:pt x="2198" y="1412"/>
                  </a:lnTo>
                  <a:lnTo>
                    <a:pt x="2198" y="1394"/>
                  </a:lnTo>
                  <a:lnTo>
                    <a:pt x="2198" y="1368"/>
                  </a:lnTo>
                  <a:lnTo>
                    <a:pt x="2198" y="1350"/>
                  </a:lnTo>
                  <a:lnTo>
                    <a:pt x="2198" y="1332"/>
                  </a:lnTo>
                  <a:lnTo>
                    <a:pt x="2198" y="1315"/>
                  </a:lnTo>
                  <a:lnTo>
                    <a:pt x="2198" y="1297"/>
                  </a:lnTo>
                  <a:lnTo>
                    <a:pt x="2189" y="1279"/>
                  </a:lnTo>
                  <a:lnTo>
                    <a:pt x="2180" y="1262"/>
                  </a:lnTo>
                  <a:lnTo>
                    <a:pt x="2171" y="1244"/>
                  </a:lnTo>
                  <a:lnTo>
                    <a:pt x="2171" y="1226"/>
                  </a:lnTo>
                  <a:lnTo>
                    <a:pt x="2171" y="1209"/>
                  </a:lnTo>
                  <a:lnTo>
                    <a:pt x="2153" y="1200"/>
                  </a:lnTo>
                  <a:lnTo>
                    <a:pt x="2136" y="1191"/>
                  </a:lnTo>
                  <a:lnTo>
                    <a:pt x="2127" y="1173"/>
                  </a:lnTo>
                  <a:lnTo>
                    <a:pt x="2127" y="1156"/>
                  </a:lnTo>
                  <a:lnTo>
                    <a:pt x="2127" y="1138"/>
                  </a:lnTo>
                  <a:lnTo>
                    <a:pt x="2127" y="1103"/>
                  </a:lnTo>
                  <a:lnTo>
                    <a:pt x="2118" y="1085"/>
                  </a:lnTo>
                  <a:lnTo>
                    <a:pt x="2127" y="1068"/>
                  </a:lnTo>
                  <a:lnTo>
                    <a:pt x="2127" y="1050"/>
                  </a:lnTo>
                  <a:lnTo>
                    <a:pt x="2127" y="1032"/>
                  </a:lnTo>
                  <a:lnTo>
                    <a:pt x="2127" y="1015"/>
                  </a:lnTo>
                  <a:lnTo>
                    <a:pt x="2127" y="997"/>
                  </a:lnTo>
                  <a:lnTo>
                    <a:pt x="2127" y="979"/>
                  </a:lnTo>
                  <a:lnTo>
                    <a:pt x="2136" y="962"/>
                  </a:lnTo>
                  <a:lnTo>
                    <a:pt x="2136" y="935"/>
                  </a:lnTo>
                  <a:lnTo>
                    <a:pt x="2136" y="918"/>
                  </a:lnTo>
                  <a:lnTo>
                    <a:pt x="2127" y="900"/>
                  </a:lnTo>
                  <a:lnTo>
                    <a:pt x="2127" y="882"/>
                  </a:lnTo>
                  <a:lnTo>
                    <a:pt x="2145" y="865"/>
                  </a:lnTo>
                  <a:lnTo>
                    <a:pt x="2162" y="856"/>
                  </a:lnTo>
                  <a:lnTo>
                    <a:pt x="2180" y="856"/>
                  </a:lnTo>
                  <a:lnTo>
                    <a:pt x="2198" y="847"/>
                  </a:lnTo>
                  <a:lnTo>
                    <a:pt x="2224" y="830"/>
                  </a:lnTo>
                  <a:lnTo>
                    <a:pt x="2233" y="812"/>
                  </a:lnTo>
                  <a:lnTo>
                    <a:pt x="2250" y="812"/>
                  </a:lnTo>
                  <a:lnTo>
                    <a:pt x="2268" y="802"/>
                  </a:lnTo>
                  <a:lnTo>
                    <a:pt x="2286" y="793"/>
                  </a:lnTo>
                  <a:lnTo>
                    <a:pt x="2286" y="776"/>
                  </a:lnTo>
                  <a:lnTo>
                    <a:pt x="2286" y="758"/>
                  </a:lnTo>
                  <a:lnTo>
                    <a:pt x="2277" y="740"/>
                  </a:lnTo>
                  <a:lnTo>
                    <a:pt x="2259" y="732"/>
                  </a:lnTo>
                  <a:lnTo>
                    <a:pt x="2233" y="714"/>
                  </a:lnTo>
                  <a:lnTo>
                    <a:pt x="2215" y="705"/>
                  </a:lnTo>
                  <a:lnTo>
                    <a:pt x="2198" y="705"/>
                  </a:lnTo>
                  <a:lnTo>
                    <a:pt x="2180" y="705"/>
                  </a:lnTo>
                  <a:lnTo>
                    <a:pt x="2162" y="714"/>
                  </a:lnTo>
                  <a:lnTo>
                    <a:pt x="2145" y="723"/>
                  </a:lnTo>
                  <a:lnTo>
                    <a:pt x="2127" y="740"/>
                  </a:lnTo>
                  <a:lnTo>
                    <a:pt x="2109" y="749"/>
                  </a:lnTo>
                  <a:lnTo>
                    <a:pt x="2109" y="767"/>
                  </a:lnTo>
                  <a:lnTo>
                    <a:pt x="2109" y="784"/>
                  </a:lnTo>
                  <a:lnTo>
                    <a:pt x="2109" y="802"/>
                  </a:lnTo>
                  <a:lnTo>
                    <a:pt x="2092" y="812"/>
                  </a:lnTo>
                  <a:lnTo>
                    <a:pt x="2074" y="812"/>
                  </a:lnTo>
                  <a:lnTo>
                    <a:pt x="2074" y="830"/>
                  </a:lnTo>
                  <a:lnTo>
                    <a:pt x="2074" y="847"/>
                  </a:lnTo>
                  <a:lnTo>
                    <a:pt x="2065" y="865"/>
                  </a:lnTo>
                  <a:lnTo>
                    <a:pt x="2048" y="874"/>
                  </a:lnTo>
                  <a:lnTo>
                    <a:pt x="2030" y="900"/>
                  </a:lnTo>
                  <a:lnTo>
                    <a:pt x="2021" y="882"/>
                  </a:lnTo>
                  <a:lnTo>
                    <a:pt x="2004" y="874"/>
                  </a:lnTo>
                  <a:lnTo>
                    <a:pt x="1986" y="865"/>
                  </a:lnTo>
                  <a:lnTo>
                    <a:pt x="1968" y="856"/>
                  </a:lnTo>
                  <a:lnTo>
                    <a:pt x="1951" y="856"/>
                  </a:lnTo>
                  <a:lnTo>
                    <a:pt x="1933" y="847"/>
                  </a:lnTo>
                  <a:lnTo>
                    <a:pt x="1915" y="830"/>
                  </a:lnTo>
                  <a:lnTo>
                    <a:pt x="1898" y="821"/>
                  </a:lnTo>
                  <a:lnTo>
                    <a:pt x="1889" y="802"/>
                  </a:lnTo>
                  <a:lnTo>
                    <a:pt x="1871" y="784"/>
                  </a:lnTo>
                  <a:lnTo>
                    <a:pt x="1854" y="776"/>
                  </a:lnTo>
                  <a:lnTo>
                    <a:pt x="1836" y="767"/>
                  </a:lnTo>
                  <a:lnTo>
                    <a:pt x="1826" y="749"/>
                  </a:lnTo>
                  <a:lnTo>
                    <a:pt x="1808" y="749"/>
                  </a:lnTo>
                  <a:lnTo>
                    <a:pt x="1800" y="732"/>
                  </a:lnTo>
                  <a:lnTo>
                    <a:pt x="1782" y="732"/>
                  </a:lnTo>
                  <a:lnTo>
                    <a:pt x="1773" y="714"/>
                  </a:lnTo>
                  <a:lnTo>
                    <a:pt x="1764" y="696"/>
                  </a:lnTo>
                  <a:lnTo>
                    <a:pt x="1756" y="679"/>
                  </a:lnTo>
                  <a:lnTo>
                    <a:pt x="1738" y="670"/>
                  </a:lnTo>
                  <a:lnTo>
                    <a:pt x="1729" y="652"/>
                  </a:lnTo>
                  <a:lnTo>
                    <a:pt x="1711" y="643"/>
                  </a:lnTo>
                  <a:lnTo>
                    <a:pt x="1703" y="626"/>
                  </a:lnTo>
                  <a:lnTo>
                    <a:pt x="1711" y="608"/>
                  </a:lnTo>
                  <a:lnTo>
                    <a:pt x="1729" y="590"/>
                  </a:lnTo>
                  <a:lnTo>
                    <a:pt x="1738" y="573"/>
                  </a:lnTo>
                  <a:lnTo>
                    <a:pt x="1738" y="555"/>
                  </a:lnTo>
                  <a:lnTo>
                    <a:pt x="1747" y="537"/>
                  </a:lnTo>
                  <a:lnTo>
                    <a:pt x="1764" y="529"/>
                  </a:lnTo>
                  <a:lnTo>
                    <a:pt x="1782" y="511"/>
                  </a:lnTo>
                  <a:lnTo>
                    <a:pt x="1791" y="493"/>
                  </a:lnTo>
                  <a:lnTo>
                    <a:pt x="1800" y="476"/>
                  </a:lnTo>
                  <a:lnTo>
                    <a:pt x="1800" y="458"/>
                  </a:lnTo>
                  <a:lnTo>
                    <a:pt x="1791" y="432"/>
                  </a:lnTo>
                  <a:lnTo>
                    <a:pt x="1773" y="414"/>
                  </a:lnTo>
                  <a:lnTo>
                    <a:pt x="1773" y="396"/>
                  </a:lnTo>
                  <a:lnTo>
                    <a:pt x="1782" y="379"/>
                  </a:lnTo>
                  <a:lnTo>
                    <a:pt x="1773" y="361"/>
                  </a:lnTo>
                  <a:lnTo>
                    <a:pt x="1773" y="343"/>
                  </a:lnTo>
                  <a:lnTo>
                    <a:pt x="1773" y="326"/>
                  </a:lnTo>
                  <a:lnTo>
                    <a:pt x="1756" y="317"/>
                  </a:lnTo>
                  <a:lnTo>
                    <a:pt x="1738" y="317"/>
                  </a:lnTo>
                  <a:lnTo>
                    <a:pt x="1711" y="317"/>
                  </a:lnTo>
                  <a:lnTo>
                    <a:pt x="1694" y="317"/>
                  </a:lnTo>
                  <a:lnTo>
                    <a:pt x="1676" y="317"/>
                  </a:lnTo>
                  <a:lnTo>
                    <a:pt x="1659" y="326"/>
                  </a:lnTo>
                  <a:lnTo>
                    <a:pt x="1650" y="343"/>
                  </a:lnTo>
                  <a:lnTo>
                    <a:pt x="1650" y="361"/>
                  </a:lnTo>
                  <a:lnTo>
                    <a:pt x="1650" y="379"/>
                  </a:lnTo>
                  <a:lnTo>
                    <a:pt x="1641" y="396"/>
                  </a:lnTo>
                  <a:lnTo>
                    <a:pt x="1623" y="405"/>
                  </a:lnTo>
                  <a:lnTo>
                    <a:pt x="1623" y="423"/>
                  </a:lnTo>
                  <a:lnTo>
                    <a:pt x="1614" y="440"/>
                  </a:lnTo>
                  <a:lnTo>
                    <a:pt x="1614" y="458"/>
                  </a:lnTo>
                  <a:lnTo>
                    <a:pt x="1614" y="476"/>
                  </a:lnTo>
                  <a:lnTo>
                    <a:pt x="1606" y="493"/>
                  </a:lnTo>
                  <a:lnTo>
                    <a:pt x="1588" y="493"/>
                  </a:lnTo>
                  <a:lnTo>
                    <a:pt x="1570" y="493"/>
                  </a:lnTo>
                  <a:lnTo>
                    <a:pt x="1553" y="502"/>
                  </a:lnTo>
                  <a:lnTo>
                    <a:pt x="1535" y="502"/>
                  </a:lnTo>
                  <a:lnTo>
                    <a:pt x="1517" y="520"/>
                  </a:lnTo>
                  <a:lnTo>
                    <a:pt x="1500" y="529"/>
                  </a:lnTo>
                  <a:lnTo>
                    <a:pt x="1482" y="529"/>
                  </a:lnTo>
                  <a:lnTo>
                    <a:pt x="1482" y="511"/>
                  </a:lnTo>
                  <a:lnTo>
                    <a:pt x="1473" y="493"/>
                  </a:lnTo>
                  <a:lnTo>
                    <a:pt x="1465" y="476"/>
                  </a:lnTo>
                  <a:lnTo>
                    <a:pt x="1447" y="458"/>
                  </a:lnTo>
                  <a:lnTo>
                    <a:pt x="1420" y="449"/>
                  </a:lnTo>
                  <a:lnTo>
                    <a:pt x="1403" y="440"/>
                  </a:lnTo>
                  <a:lnTo>
                    <a:pt x="1385" y="414"/>
                  </a:lnTo>
                  <a:lnTo>
                    <a:pt x="1385" y="396"/>
                  </a:lnTo>
                  <a:lnTo>
                    <a:pt x="1385" y="379"/>
                  </a:lnTo>
                  <a:lnTo>
                    <a:pt x="1376" y="361"/>
                  </a:lnTo>
                  <a:lnTo>
                    <a:pt x="1368" y="335"/>
                  </a:lnTo>
                  <a:lnTo>
                    <a:pt x="1368" y="299"/>
                  </a:lnTo>
                  <a:lnTo>
                    <a:pt x="1368" y="282"/>
                  </a:lnTo>
                  <a:lnTo>
                    <a:pt x="1368" y="255"/>
                  </a:lnTo>
                  <a:lnTo>
                    <a:pt x="1359" y="238"/>
                  </a:lnTo>
                  <a:lnTo>
                    <a:pt x="1341" y="229"/>
                  </a:lnTo>
                  <a:lnTo>
                    <a:pt x="1315" y="220"/>
                  </a:lnTo>
                  <a:lnTo>
                    <a:pt x="1288" y="220"/>
                  </a:lnTo>
                  <a:lnTo>
                    <a:pt x="1271" y="220"/>
                  </a:lnTo>
                  <a:lnTo>
                    <a:pt x="1253" y="220"/>
                  </a:lnTo>
                  <a:lnTo>
                    <a:pt x="1235" y="220"/>
                  </a:lnTo>
                  <a:lnTo>
                    <a:pt x="1226" y="238"/>
                  </a:lnTo>
                  <a:lnTo>
                    <a:pt x="1226" y="255"/>
                  </a:lnTo>
                  <a:lnTo>
                    <a:pt x="1235" y="282"/>
                  </a:lnTo>
                  <a:lnTo>
                    <a:pt x="1244" y="299"/>
                  </a:lnTo>
                  <a:lnTo>
                    <a:pt x="1262" y="308"/>
                  </a:lnTo>
                  <a:lnTo>
                    <a:pt x="1271" y="335"/>
                  </a:lnTo>
                  <a:lnTo>
                    <a:pt x="1271" y="352"/>
                  </a:lnTo>
                  <a:lnTo>
                    <a:pt x="1271" y="370"/>
                  </a:lnTo>
                  <a:lnTo>
                    <a:pt x="1271" y="388"/>
                  </a:lnTo>
                  <a:lnTo>
                    <a:pt x="1271" y="405"/>
                  </a:lnTo>
                  <a:lnTo>
                    <a:pt x="1235" y="396"/>
                  </a:lnTo>
                  <a:lnTo>
                    <a:pt x="1226" y="414"/>
                  </a:lnTo>
                  <a:lnTo>
                    <a:pt x="1235" y="432"/>
                  </a:lnTo>
                  <a:lnTo>
                    <a:pt x="1244" y="449"/>
                  </a:lnTo>
                  <a:lnTo>
                    <a:pt x="1253" y="485"/>
                  </a:lnTo>
                  <a:lnTo>
                    <a:pt x="1253" y="502"/>
                  </a:lnTo>
                  <a:lnTo>
                    <a:pt x="1253" y="520"/>
                  </a:lnTo>
                  <a:lnTo>
                    <a:pt x="1253" y="537"/>
                  </a:lnTo>
                  <a:lnTo>
                    <a:pt x="1244" y="555"/>
                  </a:lnTo>
                  <a:lnTo>
                    <a:pt x="1226" y="564"/>
                  </a:lnTo>
                  <a:lnTo>
                    <a:pt x="1218" y="582"/>
                  </a:lnTo>
                  <a:lnTo>
                    <a:pt x="1209" y="599"/>
                  </a:lnTo>
                  <a:lnTo>
                    <a:pt x="1191" y="599"/>
                  </a:lnTo>
                  <a:lnTo>
                    <a:pt x="1173" y="599"/>
                  </a:lnTo>
                  <a:lnTo>
                    <a:pt x="1156" y="599"/>
                  </a:lnTo>
                  <a:lnTo>
                    <a:pt x="1147" y="582"/>
                  </a:lnTo>
                  <a:lnTo>
                    <a:pt x="1147" y="564"/>
                  </a:lnTo>
                  <a:lnTo>
                    <a:pt x="1129" y="555"/>
                  </a:lnTo>
                  <a:lnTo>
                    <a:pt x="1112" y="555"/>
                  </a:lnTo>
                  <a:lnTo>
                    <a:pt x="1094" y="546"/>
                  </a:lnTo>
                  <a:lnTo>
                    <a:pt x="1076" y="546"/>
                  </a:lnTo>
                  <a:lnTo>
                    <a:pt x="1059" y="537"/>
                  </a:lnTo>
                  <a:lnTo>
                    <a:pt x="1050" y="520"/>
                  </a:lnTo>
                  <a:lnTo>
                    <a:pt x="1041" y="502"/>
                  </a:lnTo>
                  <a:lnTo>
                    <a:pt x="1032" y="485"/>
                  </a:lnTo>
                  <a:lnTo>
                    <a:pt x="1015" y="485"/>
                  </a:lnTo>
                  <a:lnTo>
                    <a:pt x="1015" y="467"/>
                  </a:lnTo>
                  <a:lnTo>
                    <a:pt x="1041" y="458"/>
                  </a:lnTo>
                  <a:lnTo>
                    <a:pt x="1041" y="440"/>
                  </a:lnTo>
                  <a:lnTo>
                    <a:pt x="1041" y="423"/>
                  </a:lnTo>
                  <a:lnTo>
                    <a:pt x="1041" y="405"/>
                  </a:lnTo>
                  <a:lnTo>
                    <a:pt x="1041" y="388"/>
                  </a:lnTo>
                  <a:lnTo>
                    <a:pt x="1032" y="370"/>
                  </a:lnTo>
                  <a:lnTo>
                    <a:pt x="1015" y="370"/>
                  </a:lnTo>
                  <a:lnTo>
                    <a:pt x="1015" y="352"/>
                  </a:lnTo>
                  <a:lnTo>
                    <a:pt x="1006" y="335"/>
                  </a:lnTo>
                  <a:lnTo>
                    <a:pt x="997" y="317"/>
                  </a:lnTo>
                  <a:lnTo>
                    <a:pt x="1015" y="299"/>
                  </a:lnTo>
                  <a:lnTo>
                    <a:pt x="1015" y="282"/>
                  </a:lnTo>
                  <a:lnTo>
                    <a:pt x="1015" y="264"/>
                  </a:lnTo>
                  <a:lnTo>
                    <a:pt x="1032" y="255"/>
                  </a:lnTo>
                  <a:lnTo>
                    <a:pt x="1050" y="255"/>
                  </a:lnTo>
                  <a:lnTo>
                    <a:pt x="1068" y="246"/>
                  </a:lnTo>
                  <a:lnTo>
                    <a:pt x="1085" y="238"/>
                  </a:lnTo>
                  <a:lnTo>
                    <a:pt x="1103" y="229"/>
                  </a:lnTo>
                  <a:lnTo>
                    <a:pt x="1121" y="211"/>
                  </a:lnTo>
                  <a:lnTo>
                    <a:pt x="1112" y="194"/>
                  </a:lnTo>
                  <a:lnTo>
                    <a:pt x="1094" y="185"/>
                  </a:lnTo>
                  <a:lnTo>
                    <a:pt x="1085" y="167"/>
                  </a:lnTo>
                  <a:lnTo>
                    <a:pt x="1085" y="149"/>
                  </a:lnTo>
                  <a:lnTo>
                    <a:pt x="1085" y="132"/>
                  </a:lnTo>
                  <a:lnTo>
                    <a:pt x="1094" y="114"/>
                  </a:lnTo>
                  <a:lnTo>
                    <a:pt x="1112" y="105"/>
                  </a:lnTo>
                  <a:lnTo>
                    <a:pt x="1112" y="88"/>
                  </a:lnTo>
                  <a:lnTo>
                    <a:pt x="1094" y="70"/>
                  </a:lnTo>
                  <a:lnTo>
                    <a:pt x="1085" y="52"/>
                  </a:lnTo>
                  <a:lnTo>
                    <a:pt x="1085" y="35"/>
                  </a:lnTo>
                  <a:lnTo>
                    <a:pt x="1076" y="17"/>
                  </a:lnTo>
                  <a:lnTo>
                    <a:pt x="1059" y="0"/>
                  </a:lnTo>
                  <a:lnTo>
                    <a:pt x="1041" y="0"/>
                  </a:lnTo>
                  <a:lnTo>
                    <a:pt x="1032" y="17"/>
                  </a:lnTo>
                  <a:lnTo>
                    <a:pt x="1015" y="35"/>
                  </a:lnTo>
                  <a:lnTo>
                    <a:pt x="988" y="44"/>
                  </a:lnTo>
                  <a:lnTo>
                    <a:pt x="971" y="35"/>
                  </a:lnTo>
                  <a:lnTo>
                    <a:pt x="953" y="26"/>
                  </a:lnTo>
                  <a:lnTo>
                    <a:pt x="935" y="26"/>
                  </a:lnTo>
                  <a:lnTo>
                    <a:pt x="909" y="17"/>
                  </a:lnTo>
                  <a:lnTo>
                    <a:pt x="891" y="26"/>
                  </a:lnTo>
                  <a:lnTo>
                    <a:pt x="891" y="44"/>
                  </a:lnTo>
                  <a:lnTo>
                    <a:pt x="882" y="61"/>
                  </a:lnTo>
                  <a:lnTo>
                    <a:pt x="891" y="79"/>
                  </a:lnTo>
                  <a:lnTo>
                    <a:pt x="909" y="88"/>
                  </a:lnTo>
                  <a:lnTo>
                    <a:pt x="918" y="114"/>
                  </a:lnTo>
                  <a:lnTo>
                    <a:pt x="918" y="132"/>
                  </a:lnTo>
                  <a:lnTo>
                    <a:pt x="918" y="149"/>
                  </a:lnTo>
                  <a:lnTo>
                    <a:pt x="909" y="167"/>
                  </a:lnTo>
                  <a:lnTo>
                    <a:pt x="891" y="176"/>
                  </a:lnTo>
                  <a:lnTo>
                    <a:pt x="882" y="194"/>
                  </a:lnTo>
                  <a:lnTo>
                    <a:pt x="882" y="211"/>
                  </a:lnTo>
                  <a:lnTo>
                    <a:pt x="891" y="229"/>
                  </a:lnTo>
                  <a:lnTo>
                    <a:pt x="900" y="246"/>
                  </a:lnTo>
                  <a:lnTo>
                    <a:pt x="918" y="264"/>
                  </a:lnTo>
                  <a:lnTo>
                    <a:pt x="918" y="299"/>
                  </a:lnTo>
                  <a:lnTo>
                    <a:pt x="918" y="317"/>
                  </a:lnTo>
                  <a:lnTo>
                    <a:pt x="918" y="335"/>
                  </a:lnTo>
                  <a:lnTo>
                    <a:pt x="918" y="361"/>
                  </a:lnTo>
                  <a:lnTo>
                    <a:pt x="918" y="379"/>
                  </a:lnTo>
                  <a:lnTo>
                    <a:pt x="935" y="388"/>
                  </a:lnTo>
                  <a:lnTo>
                    <a:pt x="944" y="405"/>
                  </a:lnTo>
                  <a:lnTo>
                    <a:pt x="953" y="423"/>
                  </a:lnTo>
                  <a:lnTo>
                    <a:pt x="953" y="440"/>
                  </a:lnTo>
                  <a:lnTo>
                    <a:pt x="953" y="458"/>
                  </a:lnTo>
                  <a:lnTo>
                    <a:pt x="944" y="476"/>
                  </a:lnTo>
                  <a:lnTo>
                    <a:pt x="927" y="502"/>
                  </a:lnTo>
                  <a:lnTo>
                    <a:pt x="918" y="520"/>
                  </a:lnTo>
                  <a:lnTo>
                    <a:pt x="918" y="537"/>
                  </a:lnTo>
                  <a:lnTo>
                    <a:pt x="909" y="555"/>
                  </a:lnTo>
                  <a:lnTo>
                    <a:pt x="891" y="564"/>
                  </a:lnTo>
                  <a:lnTo>
                    <a:pt x="891" y="582"/>
                  </a:lnTo>
                  <a:lnTo>
                    <a:pt x="891" y="608"/>
                  </a:lnTo>
                  <a:lnTo>
                    <a:pt x="891" y="626"/>
                  </a:lnTo>
                  <a:lnTo>
                    <a:pt x="882" y="643"/>
                  </a:lnTo>
                  <a:lnTo>
                    <a:pt x="865" y="652"/>
                  </a:lnTo>
                  <a:lnTo>
                    <a:pt x="847" y="652"/>
                  </a:lnTo>
                  <a:lnTo>
                    <a:pt x="830" y="652"/>
                  </a:lnTo>
                  <a:lnTo>
                    <a:pt x="812" y="652"/>
                  </a:lnTo>
                  <a:lnTo>
                    <a:pt x="794" y="643"/>
                  </a:lnTo>
                  <a:lnTo>
                    <a:pt x="777" y="643"/>
                  </a:lnTo>
                  <a:lnTo>
                    <a:pt x="759" y="635"/>
                  </a:lnTo>
                  <a:lnTo>
                    <a:pt x="741" y="626"/>
                  </a:lnTo>
                  <a:lnTo>
                    <a:pt x="733" y="608"/>
                  </a:lnTo>
                  <a:lnTo>
                    <a:pt x="715" y="590"/>
                  </a:lnTo>
                  <a:lnTo>
                    <a:pt x="697" y="582"/>
                  </a:lnTo>
                  <a:lnTo>
                    <a:pt x="680" y="564"/>
                  </a:lnTo>
                  <a:lnTo>
                    <a:pt x="671" y="546"/>
                  </a:lnTo>
                  <a:lnTo>
                    <a:pt x="653" y="537"/>
                  </a:lnTo>
                  <a:lnTo>
                    <a:pt x="662" y="520"/>
                  </a:lnTo>
                  <a:lnTo>
                    <a:pt x="680" y="520"/>
                  </a:lnTo>
                  <a:lnTo>
                    <a:pt x="688" y="493"/>
                  </a:lnTo>
                  <a:lnTo>
                    <a:pt x="697" y="476"/>
                  </a:lnTo>
                  <a:lnTo>
                    <a:pt x="706" y="458"/>
                  </a:lnTo>
                  <a:lnTo>
                    <a:pt x="706" y="440"/>
                  </a:lnTo>
                  <a:lnTo>
                    <a:pt x="697" y="423"/>
                  </a:lnTo>
                  <a:lnTo>
                    <a:pt x="680" y="396"/>
                  </a:lnTo>
                  <a:lnTo>
                    <a:pt x="680" y="379"/>
                  </a:lnTo>
                  <a:lnTo>
                    <a:pt x="662" y="361"/>
                  </a:lnTo>
                  <a:lnTo>
                    <a:pt x="644" y="361"/>
                  </a:lnTo>
                  <a:lnTo>
                    <a:pt x="627" y="352"/>
                  </a:lnTo>
                  <a:lnTo>
                    <a:pt x="608" y="352"/>
                  </a:lnTo>
                  <a:lnTo>
                    <a:pt x="590" y="352"/>
                  </a:lnTo>
                  <a:lnTo>
                    <a:pt x="573" y="352"/>
                  </a:lnTo>
                  <a:lnTo>
                    <a:pt x="564" y="370"/>
                  </a:lnTo>
                  <a:lnTo>
                    <a:pt x="546" y="379"/>
                  </a:lnTo>
                  <a:lnTo>
                    <a:pt x="546" y="405"/>
                  </a:lnTo>
                  <a:lnTo>
                    <a:pt x="537" y="432"/>
                  </a:lnTo>
                  <a:lnTo>
                    <a:pt x="529" y="449"/>
                  </a:lnTo>
                  <a:lnTo>
                    <a:pt x="537" y="467"/>
                  </a:lnTo>
                  <a:lnTo>
                    <a:pt x="546" y="485"/>
                  </a:lnTo>
                  <a:lnTo>
                    <a:pt x="564" y="485"/>
                  </a:lnTo>
                  <a:lnTo>
                    <a:pt x="582" y="493"/>
                  </a:lnTo>
                  <a:lnTo>
                    <a:pt x="599" y="511"/>
                  </a:lnTo>
                  <a:lnTo>
                    <a:pt x="608" y="529"/>
                  </a:lnTo>
                  <a:lnTo>
                    <a:pt x="608" y="546"/>
                  </a:lnTo>
                  <a:lnTo>
                    <a:pt x="608" y="564"/>
                  </a:lnTo>
                  <a:lnTo>
                    <a:pt x="599" y="582"/>
                  </a:lnTo>
                  <a:lnTo>
                    <a:pt x="599" y="599"/>
                  </a:lnTo>
                  <a:lnTo>
                    <a:pt x="599" y="617"/>
                  </a:lnTo>
                  <a:lnTo>
                    <a:pt x="618" y="635"/>
                  </a:lnTo>
                  <a:lnTo>
                    <a:pt x="636" y="652"/>
                  </a:lnTo>
                  <a:lnTo>
                    <a:pt x="653" y="670"/>
                  </a:lnTo>
                  <a:lnTo>
                    <a:pt x="653" y="687"/>
                  </a:lnTo>
                  <a:lnTo>
                    <a:pt x="627" y="705"/>
                  </a:lnTo>
                  <a:lnTo>
                    <a:pt x="627" y="723"/>
                  </a:lnTo>
                  <a:lnTo>
                    <a:pt x="627" y="740"/>
                  </a:lnTo>
                  <a:lnTo>
                    <a:pt x="636" y="758"/>
                  </a:lnTo>
                  <a:lnTo>
                    <a:pt x="636" y="776"/>
                  </a:lnTo>
                  <a:lnTo>
                    <a:pt x="618" y="784"/>
                  </a:lnTo>
                  <a:lnTo>
                    <a:pt x="599" y="793"/>
                  </a:lnTo>
                  <a:lnTo>
                    <a:pt x="582" y="802"/>
                  </a:lnTo>
                  <a:lnTo>
                    <a:pt x="573" y="821"/>
                  </a:lnTo>
                  <a:lnTo>
                    <a:pt x="573" y="838"/>
                  </a:lnTo>
                  <a:lnTo>
                    <a:pt x="573" y="856"/>
                  </a:lnTo>
                  <a:lnTo>
                    <a:pt x="564" y="874"/>
                  </a:lnTo>
                  <a:lnTo>
                    <a:pt x="546" y="882"/>
                  </a:lnTo>
                  <a:lnTo>
                    <a:pt x="546" y="900"/>
                  </a:lnTo>
                  <a:lnTo>
                    <a:pt x="537" y="927"/>
                  </a:lnTo>
                  <a:lnTo>
                    <a:pt x="537" y="944"/>
                  </a:lnTo>
                  <a:lnTo>
                    <a:pt x="502" y="944"/>
                  </a:lnTo>
                  <a:lnTo>
                    <a:pt x="485" y="944"/>
                  </a:lnTo>
                  <a:lnTo>
                    <a:pt x="467" y="944"/>
                  </a:lnTo>
                  <a:lnTo>
                    <a:pt x="449" y="944"/>
                  </a:lnTo>
                  <a:lnTo>
                    <a:pt x="440" y="927"/>
                  </a:lnTo>
                  <a:lnTo>
                    <a:pt x="423" y="909"/>
                  </a:lnTo>
                  <a:lnTo>
                    <a:pt x="405" y="891"/>
                  </a:lnTo>
                  <a:lnTo>
                    <a:pt x="405" y="874"/>
                  </a:lnTo>
                  <a:lnTo>
                    <a:pt x="414" y="856"/>
                  </a:lnTo>
                  <a:lnTo>
                    <a:pt x="414" y="838"/>
                  </a:lnTo>
                  <a:lnTo>
                    <a:pt x="414" y="821"/>
                  </a:lnTo>
                  <a:lnTo>
                    <a:pt x="414" y="802"/>
                  </a:lnTo>
                  <a:lnTo>
                    <a:pt x="405" y="784"/>
                  </a:lnTo>
                  <a:lnTo>
                    <a:pt x="388" y="758"/>
                  </a:lnTo>
                  <a:lnTo>
                    <a:pt x="379" y="740"/>
                  </a:lnTo>
                  <a:lnTo>
                    <a:pt x="352" y="723"/>
                  </a:lnTo>
                  <a:lnTo>
                    <a:pt x="343" y="705"/>
                  </a:lnTo>
                  <a:lnTo>
                    <a:pt x="308" y="670"/>
                  </a:lnTo>
                  <a:lnTo>
                    <a:pt x="291" y="661"/>
                  </a:lnTo>
                  <a:lnTo>
                    <a:pt x="273" y="652"/>
                  </a:lnTo>
                  <a:lnTo>
                    <a:pt x="255" y="652"/>
                  </a:lnTo>
                  <a:lnTo>
                    <a:pt x="238" y="652"/>
                  </a:lnTo>
                  <a:lnTo>
                    <a:pt x="220" y="661"/>
                  </a:lnTo>
                  <a:lnTo>
                    <a:pt x="202" y="670"/>
                  </a:lnTo>
                  <a:lnTo>
                    <a:pt x="185" y="670"/>
                  </a:lnTo>
                  <a:lnTo>
                    <a:pt x="176" y="696"/>
                  </a:lnTo>
                  <a:lnTo>
                    <a:pt x="176" y="714"/>
                  </a:lnTo>
                  <a:lnTo>
                    <a:pt x="167" y="732"/>
                  </a:lnTo>
                  <a:lnTo>
                    <a:pt x="167" y="749"/>
                  </a:lnTo>
                  <a:lnTo>
                    <a:pt x="167" y="767"/>
                  </a:lnTo>
                  <a:lnTo>
                    <a:pt x="167" y="784"/>
                  </a:lnTo>
                  <a:lnTo>
                    <a:pt x="167" y="802"/>
                  </a:lnTo>
                  <a:lnTo>
                    <a:pt x="176" y="821"/>
                  </a:lnTo>
                  <a:lnTo>
                    <a:pt x="176" y="838"/>
                  </a:lnTo>
                  <a:lnTo>
                    <a:pt x="176" y="856"/>
                  </a:lnTo>
                  <a:lnTo>
                    <a:pt x="176" y="891"/>
                  </a:lnTo>
                  <a:lnTo>
                    <a:pt x="176" y="909"/>
                  </a:lnTo>
                  <a:lnTo>
                    <a:pt x="176" y="927"/>
                  </a:lnTo>
                  <a:lnTo>
                    <a:pt x="176" y="944"/>
                  </a:lnTo>
                  <a:lnTo>
                    <a:pt x="194" y="953"/>
                  </a:lnTo>
                  <a:lnTo>
                    <a:pt x="211" y="962"/>
                  </a:lnTo>
                  <a:lnTo>
                    <a:pt x="238" y="979"/>
                  </a:lnTo>
                  <a:lnTo>
                    <a:pt x="255" y="979"/>
                  </a:lnTo>
                  <a:lnTo>
                    <a:pt x="273" y="988"/>
                  </a:lnTo>
                  <a:lnTo>
                    <a:pt x="291" y="997"/>
                  </a:lnTo>
                  <a:lnTo>
                    <a:pt x="308" y="997"/>
                  </a:lnTo>
                  <a:lnTo>
                    <a:pt x="326" y="997"/>
                  </a:lnTo>
                  <a:lnTo>
                    <a:pt x="352" y="1006"/>
                  </a:lnTo>
                  <a:lnTo>
                    <a:pt x="370" y="1015"/>
                  </a:lnTo>
                  <a:lnTo>
                    <a:pt x="396" y="1024"/>
                  </a:lnTo>
                  <a:lnTo>
                    <a:pt x="414" y="1050"/>
                  </a:lnTo>
                  <a:lnTo>
                    <a:pt x="423" y="1068"/>
                  </a:lnTo>
                  <a:lnTo>
                    <a:pt x="423" y="1085"/>
                  </a:lnTo>
                  <a:lnTo>
                    <a:pt x="432" y="1103"/>
                  </a:lnTo>
                  <a:lnTo>
                    <a:pt x="440" y="1121"/>
                  </a:lnTo>
                  <a:lnTo>
                    <a:pt x="449" y="1138"/>
                  </a:lnTo>
                  <a:lnTo>
                    <a:pt x="467" y="1147"/>
                  </a:lnTo>
                  <a:lnTo>
                    <a:pt x="467" y="1165"/>
                  </a:lnTo>
                  <a:lnTo>
                    <a:pt x="467" y="1182"/>
                  </a:lnTo>
                  <a:lnTo>
                    <a:pt x="467" y="1200"/>
                  </a:lnTo>
                  <a:lnTo>
                    <a:pt x="467" y="1218"/>
                  </a:lnTo>
                  <a:lnTo>
                    <a:pt x="458" y="1235"/>
                  </a:lnTo>
                  <a:lnTo>
                    <a:pt x="440" y="1253"/>
                  </a:lnTo>
                  <a:lnTo>
                    <a:pt x="440" y="1279"/>
                  </a:lnTo>
                  <a:lnTo>
                    <a:pt x="432" y="1297"/>
                  </a:lnTo>
                  <a:lnTo>
                    <a:pt x="432" y="1315"/>
                  </a:lnTo>
                  <a:lnTo>
                    <a:pt x="423" y="1332"/>
                  </a:lnTo>
                  <a:lnTo>
                    <a:pt x="405" y="1341"/>
                  </a:lnTo>
                  <a:lnTo>
                    <a:pt x="370" y="1376"/>
                  </a:lnTo>
                  <a:lnTo>
                    <a:pt x="361" y="1394"/>
                  </a:lnTo>
                  <a:lnTo>
                    <a:pt x="361" y="1420"/>
                  </a:lnTo>
                  <a:lnTo>
                    <a:pt x="361" y="1438"/>
                  </a:lnTo>
                  <a:lnTo>
                    <a:pt x="352" y="1456"/>
                  </a:lnTo>
                  <a:lnTo>
                    <a:pt x="343" y="1473"/>
                  </a:lnTo>
                  <a:lnTo>
                    <a:pt x="343" y="1491"/>
                  </a:lnTo>
                  <a:lnTo>
                    <a:pt x="361" y="1509"/>
                  </a:lnTo>
                  <a:lnTo>
                    <a:pt x="361" y="1526"/>
                  </a:lnTo>
                  <a:lnTo>
                    <a:pt x="352" y="1544"/>
                  </a:lnTo>
                  <a:lnTo>
                    <a:pt x="335" y="1562"/>
                  </a:lnTo>
                  <a:lnTo>
                    <a:pt x="326" y="1579"/>
                  </a:lnTo>
                  <a:lnTo>
                    <a:pt x="326" y="1597"/>
                  </a:lnTo>
                  <a:lnTo>
                    <a:pt x="326" y="1614"/>
                  </a:lnTo>
                  <a:lnTo>
                    <a:pt x="326" y="1632"/>
                  </a:lnTo>
                  <a:lnTo>
                    <a:pt x="317" y="1650"/>
                  </a:lnTo>
                  <a:lnTo>
                    <a:pt x="317" y="1667"/>
                  </a:lnTo>
                  <a:lnTo>
                    <a:pt x="317" y="1694"/>
                  </a:lnTo>
                  <a:lnTo>
                    <a:pt x="317" y="1720"/>
                  </a:lnTo>
                  <a:lnTo>
                    <a:pt x="317" y="1738"/>
                  </a:lnTo>
                  <a:lnTo>
                    <a:pt x="335" y="1747"/>
                  </a:lnTo>
                  <a:lnTo>
                    <a:pt x="352" y="1756"/>
                  </a:lnTo>
                  <a:lnTo>
                    <a:pt x="352" y="1773"/>
                  </a:lnTo>
                  <a:lnTo>
                    <a:pt x="343" y="1791"/>
                  </a:lnTo>
                  <a:lnTo>
                    <a:pt x="343" y="1808"/>
                  </a:lnTo>
                  <a:lnTo>
                    <a:pt x="308" y="1808"/>
                  </a:lnTo>
                  <a:lnTo>
                    <a:pt x="291" y="1817"/>
                  </a:lnTo>
                  <a:lnTo>
                    <a:pt x="273" y="1844"/>
                  </a:lnTo>
                  <a:lnTo>
                    <a:pt x="264" y="1861"/>
                  </a:lnTo>
                  <a:lnTo>
                    <a:pt x="255" y="1879"/>
                  </a:lnTo>
                  <a:lnTo>
                    <a:pt x="238" y="1897"/>
                  </a:lnTo>
                  <a:lnTo>
                    <a:pt x="220" y="1906"/>
                  </a:lnTo>
                  <a:lnTo>
                    <a:pt x="211" y="1923"/>
                  </a:lnTo>
                  <a:lnTo>
                    <a:pt x="211" y="1941"/>
                  </a:lnTo>
                  <a:lnTo>
                    <a:pt x="220" y="1958"/>
                  </a:lnTo>
                  <a:lnTo>
                    <a:pt x="220" y="1976"/>
                  </a:lnTo>
                  <a:lnTo>
                    <a:pt x="220" y="1994"/>
                  </a:lnTo>
                  <a:lnTo>
                    <a:pt x="229" y="2011"/>
                  </a:lnTo>
                  <a:lnTo>
                    <a:pt x="246" y="2020"/>
                  </a:lnTo>
                  <a:lnTo>
                    <a:pt x="264" y="2020"/>
                  </a:lnTo>
                  <a:lnTo>
                    <a:pt x="299" y="2029"/>
                  </a:lnTo>
                  <a:lnTo>
                    <a:pt x="317" y="2011"/>
                  </a:lnTo>
                  <a:lnTo>
                    <a:pt x="326" y="2047"/>
                  </a:lnTo>
                  <a:lnTo>
                    <a:pt x="326" y="2064"/>
                  </a:lnTo>
                  <a:lnTo>
                    <a:pt x="326" y="2082"/>
                  </a:lnTo>
                  <a:lnTo>
                    <a:pt x="308" y="2082"/>
                  </a:lnTo>
                  <a:lnTo>
                    <a:pt x="299" y="2064"/>
                  </a:lnTo>
                  <a:lnTo>
                    <a:pt x="282" y="2064"/>
                  </a:lnTo>
                  <a:lnTo>
                    <a:pt x="264" y="2064"/>
                  </a:lnTo>
                  <a:lnTo>
                    <a:pt x="255" y="2082"/>
                  </a:lnTo>
                  <a:lnTo>
                    <a:pt x="246" y="2100"/>
                  </a:lnTo>
                  <a:lnTo>
                    <a:pt x="246" y="2117"/>
                  </a:lnTo>
                  <a:lnTo>
                    <a:pt x="229" y="2117"/>
                  </a:lnTo>
                  <a:lnTo>
                    <a:pt x="282" y="207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763040" y="6321600"/>
              <a:ext cx="108360" cy="124200"/>
            </a:xfrm>
            <a:custGeom>
              <a:avLst/>
              <a:gdLst/>
              <a:ahLst/>
              <a:rect l="0" t="0" r="r" b="b"/>
              <a:pathLst>
                <a:path w="301" h="345">
                  <a:moveTo>
                    <a:pt x="142" y="328"/>
                  </a:moveTo>
                  <a:lnTo>
                    <a:pt x="150" y="310"/>
                  </a:lnTo>
                  <a:lnTo>
                    <a:pt x="159" y="293"/>
                  </a:lnTo>
                  <a:lnTo>
                    <a:pt x="177" y="293"/>
                  </a:lnTo>
                  <a:lnTo>
                    <a:pt x="195" y="284"/>
                  </a:lnTo>
                  <a:lnTo>
                    <a:pt x="195" y="266"/>
                  </a:lnTo>
                  <a:lnTo>
                    <a:pt x="212" y="266"/>
                  </a:lnTo>
                  <a:lnTo>
                    <a:pt x="231" y="256"/>
                  </a:lnTo>
                  <a:lnTo>
                    <a:pt x="231" y="239"/>
                  </a:lnTo>
                  <a:lnTo>
                    <a:pt x="248" y="230"/>
                  </a:lnTo>
                  <a:lnTo>
                    <a:pt x="257" y="212"/>
                  </a:lnTo>
                  <a:lnTo>
                    <a:pt x="266" y="195"/>
                  </a:lnTo>
                  <a:lnTo>
                    <a:pt x="266" y="177"/>
                  </a:lnTo>
                  <a:lnTo>
                    <a:pt x="266" y="159"/>
                  </a:lnTo>
                  <a:lnTo>
                    <a:pt x="284" y="159"/>
                  </a:lnTo>
                  <a:lnTo>
                    <a:pt x="301" y="150"/>
                  </a:lnTo>
                  <a:lnTo>
                    <a:pt x="301" y="133"/>
                  </a:lnTo>
                  <a:lnTo>
                    <a:pt x="284" y="124"/>
                  </a:lnTo>
                  <a:lnTo>
                    <a:pt x="275" y="106"/>
                  </a:lnTo>
                  <a:lnTo>
                    <a:pt x="266" y="89"/>
                  </a:lnTo>
                  <a:lnTo>
                    <a:pt x="257" y="70"/>
                  </a:lnTo>
                  <a:lnTo>
                    <a:pt x="257" y="52"/>
                  </a:lnTo>
                  <a:lnTo>
                    <a:pt x="248" y="35"/>
                  </a:lnTo>
                  <a:lnTo>
                    <a:pt x="231" y="26"/>
                  </a:lnTo>
                  <a:lnTo>
                    <a:pt x="221" y="8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59" y="0"/>
                  </a:ln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80" y="17"/>
                  </a:lnTo>
                  <a:lnTo>
                    <a:pt x="70" y="35"/>
                  </a:lnTo>
                  <a:lnTo>
                    <a:pt x="61" y="52"/>
                  </a:lnTo>
                  <a:lnTo>
                    <a:pt x="44" y="52"/>
                  </a:lnTo>
                  <a:lnTo>
                    <a:pt x="44" y="70"/>
                  </a:lnTo>
                  <a:lnTo>
                    <a:pt x="44" y="89"/>
                  </a:lnTo>
                  <a:lnTo>
                    <a:pt x="35" y="115"/>
                  </a:lnTo>
                  <a:lnTo>
                    <a:pt x="17" y="115"/>
                  </a:lnTo>
                  <a:lnTo>
                    <a:pt x="0" y="133"/>
                  </a:lnTo>
                  <a:lnTo>
                    <a:pt x="8" y="159"/>
                  </a:lnTo>
                  <a:lnTo>
                    <a:pt x="8" y="177"/>
                  </a:lnTo>
                  <a:lnTo>
                    <a:pt x="17" y="195"/>
                  </a:lnTo>
                  <a:lnTo>
                    <a:pt x="35" y="203"/>
                  </a:lnTo>
                  <a:lnTo>
                    <a:pt x="52" y="203"/>
                  </a:lnTo>
                  <a:lnTo>
                    <a:pt x="52" y="221"/>
                  </a:lnTo>
                  <a:lnTo>
                    <a:pt x="52" y="239"/>
                  </a:lnTo>
                  <a:lnTo>
                    <a:pt x="52" y="256"/>
                  </a:lnTo>
                  <a:lnTo>
                    <a:pt x="70" y="266"/>
                  </a:lnTo>
                  <a:lnTo>
                    <a:pt x="70" y="284"/>
                  </a:lnTo>
                  <a:lnTo>
                    <a:pt x="70" y="301"/>
                  </a:lnTo>
                  <a:lnTo>
                    <a:pt x="89" y="310"/>
                  </a:lnTo>
                  <a:lnTo>
                    <a:pt x="106" y="319"/>
                  </a:lnTo>
                  <a:lnTo>
                    <a:pt x="124" y="337"/>
                  </a:lnTo>
                  <a:lnTo>
                    <a:pt x="142" y="345"/>
                  </a:lnTo>
                  <a:lnTo>
                    <a:pt x="159" y="345"/>
                  </a:lnTo>
                  <a:lnTo>
                    <a:pt x="168" y="328"/>
                  </a:lnTo>
                  <a:lnTo>
                    <a:pt x="177" y="310"/>
                  </a:lnTo>
                  <a:lnTo>
                    <a:pt x="186" y="293"/>
                  </a:lnTo>
                  <a:lnTo>
                    <a:pt x="203" y="293"/>
                  </a:lnTo>
                  <a:lnTo>
                    <a:pt x="212" y="275"/>
                  </a:lnTo>
                  <a:lnTo>
                    <a:pt x="142" y="328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686720" y="6270480"/>
              <a:ext cx="60840" cy="70200"/>
            </a:xfrm>
            <a:custGeom>
              <a:avLst/>
              <a:gdLst/>
              <a:ahLst/>
              <a:rect l="0" t="0" r="r" b="b"/>
              <a:pathLst>
                <a:path w="169" h="195">
                  <a:moveTo>
                    <a:pt x="80" y="195"/>
                  </a:moveTo>
                  <a:lnTo>
                    <a:pt x="80" y="177"/>
                  </a:lnTo>
                  <a:lnTo>
                    <a:pt x="89" y="159"/>
                  </a:lnTo>
                  <a:lnTo>
                    <a:pt x="106" y="159"/>
                  </a:lnTo>
                  <a:lnTo>
                    <a:pt x="115" y="142"/>
                  </a:lnTo>
                  <a:lnTo>
                    <a:pt x="134" y="133"/>
                  </a:lnTo>
                  <a:lnTo>
                    <a:pt x="151" y="124"/>
                  </a:lnTo>
                  <a:lnTo>
                    <a:pt x="169" y="106"/>
                  </a:lnTo>
                  <a:lnTo>
                    <a:pt x="169" y="88"/>
                  </a:lnTo>
                  <a:lnTo>
                    <a:pt x="169" y="70"/>
                  </a:lnTo>
                  <a:lnTo>
                    <a:pt x="160" y="52"/>
                  </a:lnTo>
                  <a:lnTo>
                    <a:pt x="151" y="35"/>
                  </a:lnTo>
                  <a:lnTo>
                    <a:pt x="134" y="26"/>
                  </a:lnTo>
                  <a:lnTo>
                    <a:pt x="115" y="17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8" y="79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26" y="168"/>
                  </a:lnTo>
                  <a:lnTo>
                    <a:pt x="45" y="159"/>
                  </a:lnTo>
                  <a:lnTo>
                    <a:pt x="45" y="177"/>
                  </a:lnTo>
                  <a:lnTo>
                    <a:pt x="62" y="186"/>
                  </a:lnTo>
                  <a:lnTo>
                    <a:pt x="80" y="195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699320" y="6534000"/>
              <a:ext cx="95760" cy="86040"/>
            </a:xfrm>
            <a:custGeom>
              <a:avLst/>
              <a:gdLst/>
              <a:ahLst/>
              <a:rect l="0" t="0" r="r" b="b"/>
              <a:pathLst>
                <a:path w="266" h="239">
                  <a:moveTo>
                    <a:pt x="266" y="17"/>
                  </a:moveTo>
                  <a:lnTo>
                    <a:pt x="266" y="35"/>
                  </a:lnTo>
                  <a:lnTo>
                    <a:pt x="266" y="52"/>
                  </a:lnTo>
                  <a:lnTo>
                    <a:pt x="257" y="70"/>
                  </a:lnTo>
                  <a:lnTo>
                    <a:pt x="248" y="88"/>
                  </a:lnTo>
                  <a:lnTo>
                    <a:pt x="231" y="97"/>
                  </a:lnTo>
                  <a:lnTo>
                    <a:pt x="231" y="114"/>
                  </a:lnTo>
                  <a:lnTo>
                    <a:pt x="231" y="133"/>
                  </a:lnTo>
                  <a:lnTo>
                    <a:pt x="231" y="150"/>
                  </a:lnTo>
                  <a:lnTo>
                    <a:pt x="231" y="168"/>
                  </a:lnTo>
                  <a:lnTo>
                    <a:pt x="213" y="168"/>
                  </a:lnTo>
                  <a:lnTo>
                    <a:pt x="195" y="168"/>
                  </a:lnTo>
                  <a:lnTo>
                    <a:pt x="186" y="186"/>
                  </a:lnTo>
                  <a:lnTo>
                    <a:pt x="186" y="203"/>
                  </a:lnTo>
                  <a:lnTo>
                    <a:pt x="159" y="203"/>
                  </a:lnTo>
                  <a:lnTo>
                    <a:pt x="142" y="203"/>
                  </a:lnTo>
                  <a:lnTo>
                    <a:pt x="133" y="221"/>
                  </a:lnTo>
                  <a:lnTo>
                    <a:pt x="124" y="239"/>
                  </a:lnTo>
                  <a:lnTo>
                    <a:pt x="106" y="239"/>
                  </a:lnTo>
                  <a:lnTo>
                    <a:pt x="89" y="239"/>
                  </a:lnTo>
                  <a:lnTo>
                    <a:pt x="61" y="230"/>
                  </a:lnTo>
                  <a:lnTo>
                    <a:pt x="44" y="221"/>
                  </a:lnTo>
                  <a:lnTo>
                    <a:pt x="35" y="203"/>
                  </a:lnTo>
                  <a:lnTo>
                    <a:pt x="17" y="195"/>
                  </a:lnTo>
                  <a:lnTo>
                    <a:pt x="8" y="177"/>
                  </a:lnTo>
                  <a:lnTo>
                    <a:pt x="8" y="159"/>
                  </a:lnTo>
                  <a:lnTo>
                    <a:pt x="0" y="142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0"/>
                  </a:lnTo>
                  <a:lnTo>
                    <a:pt x="17" y="70"/>
                  </a:lnTo>
                  <a:lnTo>
                    <a:pt x="17" y="52"/>
                  </a:lnTo>
                  <a:lnTo>
                    <a:pt x="35" y="52"/>
                  </a:lnTo>
                  <a:lnTo>
                    <a:pt x="44" y="35"/>
                  </a:lnTo>
                  <a:lnTo>
                    <a:pt x="61" y="26"/>
                  </a:lnTo>
                  <a:lnTo>
                    <a:pt x="80" y="17"/>
                  </a:lnTo>
                  <a:lnTo>
                    <a:pt x="98" y="17"/>
                  </a:lnTo>
                  <a:lnTo>
                    <a:pt x="115" y="8"/>
                  </a:lnTo>
                  <a:lnTo>
                    <a:pt x="133" y="8"/>
                  </a:lnTo>
                  <a:lnTo>
                    <a:pt x="150" y="8"/>
                  </a:lnTo>
                  <a:lnTo>
                    <a:pt x="168" y="8"/>
                  </a:lnTo>
                  <a:lnTo>
                    <a:pt x="186" y="8"/>
                  </a:lnTo>
                  <a:lnTo>
                    <a:pt x="213" y="0"/>
                  </a:lnTo>
                  <a:lnTo>
                    <a:pt x="231" y="0"/>
                  </a:lnTo>
                  <a:lnTo>
                    <a:pt x="248" y="0"/>
                  </a:lnTo>
                  <a:lnTo>
                    <a:pt x="266" y="8"/>
                  </a:lnTo>
                  <a:lnTo>
                    <a:pt x="266" y="17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47120" y="5524560"/>
              <a:ext cx="19440" cy="22680"/>
            </a:xfrm>
            <a:custGeom>
              <a:avLst/>
              <a:gdLst/>
              <a:ahLst/>
              <a:rect l="0" t="0" r="r" b="b"/>
              <a:pathLst>
                <a:path w="54" h="63">
                  <a:moveTo>
                    <a:pt x="18" y="54"/>
                  </a:moveTo>
                  <a:lnTo>
                    <a:pt x="36" y="54"/>
                  </a:lnTo>
                  <a:lnTo>
                    <a:pt x="54" y="54"/>
                  </a:lnTo>
                  <a:lnTo>
                    <a:pt x="54" y="36"/>
                  </a:lnTo>
                  <a:lnTo>
                    <a:pt x="54" y="18"/>
                  </a:lnTo>
                  <a:lnTo>
                    <a:pt x="27" y="0"/>
                  </a:lnTo>
                  <a:lnTo>
                    <a:pt x="18" y="18"/>
                  </a:lnTo>
                  <a:lnTo>
                    <a:pt x="0" y="27"/>
                  </a:lnTo>
                  <a:lnTo>
                    <a:pt x="0" y="45"/>
                  </a:lnTo>
                  <a:lnTo>
                    <a:pt x="8" y="63"/>
                  </a:lnTo>
                  <a:lnTo>
                    <a:pt x="27" y="63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943840" y="61880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80" y="45"/>
                  </a:moveTo>
                  <a:lnTo>
                    <a:pt x="71" y="63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0"/>
                  </a:lnTo>
                  <a:lnTo>
                    <a:pt x="26" y="0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80" y="8"/>
                  </a:lnTo>
                  <a:lnTo>
                    <a:pt x="99" y="8"/>
                  </a:lnTo>
                  <a:lnTo>
                    <a:pt x="116" y="8"/>
                  </a:lnTo>
                  <a:lnTo>
                    <a:pt x="116" y="27"/>
                  </a:lnTo>
                  <a:lnTo>
                    <a:pt x="99" y="36"/>
                  </a:lnTo>
                  <a:lnTo>
                    <a:pt x="80" y="45"/>
                  </a:lnTo>
                  <a:lnTo>
                    <a:pt x="71" y="63"/>
                  </a:lnTo>
                  <a:lnTo>
                    <a:pt x="80" y="45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53560" y="6235560"/>
              <a:ext cx="47880" cy="32040"/>
            </a:xfrm>
            <a:custGeom>
              <a:avLst/>
              <a:gdLst/>
              <a:ahLst/>
              <a:rect l="0" t="0" r="r" b="b"/>
              <a:pathLst>
                <a:path w="133" h="89">
                  <a:moveTo>
                    <a:pt x="8" y="80"/>
                  </a:moveTo>
                  <a:lnTo>
                    <a:pt x="26" y="80"/>
                  </a:lnTo>
                  <a:lnTo>
                    <a:pt x="44" y="89"/>
                  </a:lnTo>
                  <a:lnTo>
                    <a:pt x="61" y="89"/>
                  </a:lnTo>
                  <a:lnTo>
                    <a:pt x="80" y="89"/>
                  </a:lnTo>
                  <a:lnTo>
                    <a:pt x="98" y="80"/>
                  </a:lnTo>
                  <a:lnTo>
                    <a:pt x="115" y="80"/>
                  </a:lnTo>
                  <a:lnTo>
                    <a:pt x="133" y="62"/>
                  </a:lnTo>
                  <a:lnTo>
                    <a:pt x="133" y="45"/>
                  </a:lnTo>
                  <a:lnTo>
                    <a:pt x="124" y="26"/>
                  </a:lnTo>
                  <a:lnTo>
                    <a:pt x="124" y="8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2" y="0"/>
                  </a:lnTo>
                  <a:lnTo>
                    <a:pt x="44" y="17"/>
                  </a:lnTo>
                  <a:lnTo>
                    <a:pt x="44" y="35"/>
                  </a:lnTo>
                  <a:lnTo>
                    <a:pt x="26" y="35"/>
                  </a:lnTo>
                  <a:lnTo>
                    <a:pt x="8" y="35"/>
                  </a:lnTo>
                  <a:lnTo>
                    <a:pt x="8" y="53"/>
                  </a:lnTo>
                  <a:lnTo>
                    <a:pt x="0" y="71"/>
                  </a:lnTo>
                  <a:lnTo>
                    <a:pt x="8" y="8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02400" y="6502320"/>
              <a:ext cx="127440" cy="92520"/>
            </a:xfrm>
            <a:custGeom>
              <a:avLst/>
              <a:gdLst/>
              <a:ahLst/>
              <a:rect l="0" t="0" r="r" b="b"/>
              <a:pathLst>
                <a:path w="354" h="257">
                  <a:moveTo>
                    <a:pt x="354" y="0"/>
                  </a:moveTo>
                  <a:lnTo>
                    <a:pt x="354" y="17"/>
                  </a:lnTo>
                  <a:lnTo>
                    <a:pt x="354" y="35"/>
                  </a:lnTo>
                  <a:lnTo>
                    <a:pt x="354" y="52"/>
                  </a:lnTo>
                  <a:lnTo>
                    <a:pt x="345" y="71"/>
                  </a:lnTo>
                  <a:lnTo>
                    <a:pt x="328" y="80"/>
                  </a:lnTo>
                  <a:lnTo>
                    <a:pt x="310" y="89"/>
                  </a:lnTo>
                  <a:lnTo>
                    <a:pt x="301" y="106"/>
                  </a:lnTo>
                  <a:lnTo>
                    <a:pt x="284" y="115"/>
                  </a:lnTo>
                  <a:lnTo>
                    <a:pt x="275" y="133"/>
                  </a:lnTo>
                  <a:lnTo>
                    <a:pt x="256" y="142"/>
                  </a:lnTo>
                  <a:lnTo>
                    <a:pt x="247" y="159"/>
                  </a:lnTo>
                  <a:lnTo>
                    <a:pt x="230" y="168"/>
                  </a:lnTo>
                  <a:lnTo>
                    <a:pt x="221" y="186"/>
                  </a:lnTo>
                  <a:lnTo>
                    <a:pt x="203" y="196"/>
                  </a:lnTo>
                  <a:lnTo>
                    <a:pt x="186" y="222"/>
                  </a:lnTo>
                  <a:lnTo>
                    <a:pt x="186" y="240"/>
                  </a:lnTo>
                  <a:lnTo>
                    <a:pt x="168" y="248"/>
                  </a:lnTo>
                  <a:lnTo>
                    <a:pt x="150" y="257"/>
                  </a:lnTo>
                  <a:lnTo>
                    <a:pt x="133" y="257"/>
                  </a:lnTo>
                  <a:lnTo>
                    <a:pt x="106" y="257"/>
                  </a:lnTo>
                  <a:lnTo>
                    <a:pt x="89" y="257"/>
                  </a:lnTo>
                  <a:lnTo>
                    <a:pt x="70" y="257"/>
                  </a:lnTo>
                  <a:lnTo>
                    <a:pt x="52" y="257"/>
                  </a:lnTo>
                  <a:lnTo>
                    <a:pt x="35" y="257"/>
                  </a:lnTo>
                  <a:lnTo>
                    <a:pt x="26" y="240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0" y="177"/>
                  </a:lnTo>
                  <a:lnTo>
                    <a:pt x="0" y="159"/>
                  </a:lnTo>
                  <a:lnTo>
                    <a:pt x="0" y="142"/>
                  </a:lnTo>
                  <a:lnTo>
                    <a:pt x="8" y="124"/>
                  </a:lnTo>
                  <a:lnTo>
                    <a:pt x="8" y="106"/>
                  </a:lnTo>
                  <a:lnTo>
                    <a:pt x="8" y="89"/>
                  </a:lnTo>
                  <a:lnTo>
                    <a:pt x="8" y="71"/>
                  </a:lnTo>
                  <a:lnTo>
                    <a:pt x="17" y="52"/>
                  </a:lnTo>
                  <a:lnTo>
                    <a:pt x="35" y="52"/>
                  </a:lnTo>
                  <a:lnTo>
                    <a:pt x="52" y="52"/>
                  </a:lnTo>
                  <a:lnTo>
                    <a:pt x="61" y="35"/>
                  </a:lnTo>
                  <a:lnTo>
                    <a:pt x="79" y="35"/>
                  </a:lnTo>
                  <a:lnTo>
                    <a:pt x="98" y="26"/>
                  </a:lnTo>
                  <a:lnTo>
                    <a:pt x="115" y="17"/>
                  </a:lnTo>
                  <a:lnTo>
                    <a:pt x="133" y="0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203" y="0"/>
                  </a:lnTo>
                  <a:lnTo>
                    <a:pt x="221" y="0"/>
                  </a:lnTo>
                  <a:lnTo>
                    <a:pt x="239" y="0"/>
                  </a:lnTo>
                  <a:lnTo>
                    <a:pt x="256" y="0"/>
                  </a:lnTo>
                  <a:lnTo>
                    <a:pt x="275" y="0"/>
                  </a:lnTo>
                  <a:lnTo>
                    <a:pt x="293" y="0"/>
                  </a:lnTo>
                  <a:lnTo>
                    <a:pt x="310" y="0"/>
                  </a:lnTo>
                  <a:lnTo>
                    <a:pt x="328" y="0"/>
                  </a:lnTo>
                  <a:lnTo>
                    <a:pt x="345" y="0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12120" y="6626160"/>
              <a:ext cx="168480" cy="155880"/>
            </a:xfrm>
            <a:custGeom>
              <a:avLst/>
              <a:gdLst/>
              <a:ahLst/>
              <a:rect l="0" t="0" r="r" b="b"/>
              <a:pathLst>
                <a:path w="468" h="433">
                  <a:moveTo>
                    <a:pt x="450" y="8"/>
                  </a:moveTo>
                  <a:lnTo>
                    <a:pt x="468" y="35"/>
                  </a:lnTo>
                  <a:lnTo>
                    <a:pt x="468" y="52"/>
                  </a:lnTo>
                  <a:lnTo>
                    <a:pt x="468" y="70"/>
                  </a:lnTo>
                  <a:lnTo>
                    <a:pt x="468" y="88"/>
                  </a:lnTo>
                  <a:lnTo>
                    <a:pt x="468" y="105"/>
                  </a:lnTo>
                  <a:lnTo>
                    <a:pt x="459" y="123"/>
                  </a:lnTo>
                  <a:lnTo>
                    <a:pt x="459" y="141"/>
                  </a:lnTo>
                  <a:lnTo>
                    <a:pt x="450" y="158"/>
                  </a:lnTo>
                  <a:lnTo>
                    <a:pt x="441" y="176"/>
                  </a:lnTo>
                  <a:lnTo>
                    <a:pt x="424" y="176"/>
                  </a:lnTo>
                  <a:lnTo>
                    <a:pt x="406" y="185"/>
                  </a:lnTo>
                  <a:lnTo>
                    <a:pt x="397" y="202"/>
                  </a:lnTo>
                  <a:lnTo>
                    <a:pt x="397" y="221"/>
                  </a:lnTo>
                  <a:lnTo>
                    <a:pt x="389" y="239"/>
                  </a:lnTo>
                  <a:lnTo>
                    <a:pt x="389" y="256"/>
                  </a:lnTo>
                  <a:lnTo>
                    <a:pt x="380" y="274"/>
                  </a:lnTo>
                  <a:lnTo>
                    <a:pt x="371" y="292"/>
                  </a:lnTo>
                  <a:lnTo>
                    <a:pt x="362" y="309"/>
                  </a:lnTo>
                  <a:lnTo>
                    <a:pt x="353" y="327"/>
                  </a:lnTo>
                  <a:lnTo>
                    <a:pt x="344" y="344"/>
                  </a:lnTo>
                  <a:lnTo>
                    <a:pt x="327" y="362"/>
                  </a:lnTo>
                  <a:lnTo>
                    <a:pt x="300" y="380"/>
                  </a:lnTo>
                  <a:lnTo>
                    <a:pt x="283" y="397"/>
                  </a:lnTo>
                  <a:lnTo>
                    <a:pt x="274" y="415"/>
                  </a:lnTo>
                  <a:lnTo>
                    <a:pt x="256" y="424"/>
                  </a:lnTo>
                  <a:lnTo>
                    <a:pt x="239" y="433"/>
                  </a:lnTo>
                  <a:lnTo>
                    <a:pt x="220" y="433"/>
                  </a:lnTo>
                  <a:lnTo>
                    <a:pt x="202" y="433"/>
                  </a:lnTo>
                  <a:lnTo>
                    <a:pt x="185" y="433"/>
                  </a:lnTo>
                  <a:lnTo>
                    <a:pt x="167" y="433"/>
                  </a:lnTo>
                  <a:lnTo>
                    <a:pt x="149" y="433"/>
                  </a:lnTo>
                  <a:lnTo>
                    <a:pt x="132" y="433"/>
                  </a:lnTo>
                  <a:lnTo>
                    <a:pt x="114" y="424"/>
                  </a:lnTo>
                  <a:lnTo>
                    <a:pt x="97" y="415"/>
                  </a:lnTo>
                  <a:lnTo>
                    <a:pt x="79" y="406"/>
                  </a:lnTo>
                  <a:lnTo>
                    <a:pt x="61" y="389"/>
                  </a:lnTo>
                  <a:lnTo>
                    <a:pt x="52" y="371"/>
                  </a:lnTo>
                  <a:lnTo>
                    <a:pt x="35" y="353"/>
                  </a:lnTo>
                  <a:lnTo>
                    <a:pt x="26" y="336"/>
                  </a:lnTo>
                  <a:lnTo>
                    <a:pt x="8" y="318"/>
                  </a:lnTo>
                  <a:lnTo>
                    <a:pt x="8" y="300"/>
                  </a:lnTo>
                  <a:lnTo>
                    <a:pt x="8" y="283"/>
                  </a:lnTo>
                  <a:lnTo>
                    <a:pt x="8" y="265"/>
                  </a:lnTo>
                  <a:lnTo>
                    <a:pt x="0" y="247"/>
                  </a:lnTo>
                  <a:lnTo>
                    <a:pt x="0" y="230"/>
                  </a:lnTo>
                  <a:lnTo>
                    <a:pt x="8" y="211"/>
                  </a:lnTo>
                  <a:lnTo>
                    <a:pt x="8" y="194"/>
                  </a:lnTo>
                  <a:lnTo>
                    <a:pt x="17" y="176"/>
                  </a:lnTo>
                  <a:lnTo>
                    <a:pt x="35" y="167"/>
                  </a:lnTo>
                  <a:lnTo>
                    <a:pt x="52" y="158"/>
                  </a:lnTo>
                  <a:lnTo>
                    <a:pt x="70" y="149"/>
                  </a:lnTo>
                  <a:lnTo>
                    <a:pt x="88" y="132"/>
                  </a:lnTo>
                  <a:lnTo>
                    <a:pt x="105" y="123"/>
                  </a:lnTo>
                  <a:lnTo>
                    <a:pt x="123" y="105"/>
                  </a:lnTo>
                  <a:lnTo>
                    <a:pt x="141" y="105"/>
                  </a:lnTo>
                  <a:lnTo>
                    <a:pt x="158" y="97"/>
                  </a:lnTo>
                  <a:lnTo>
                    <a:pt x="167" y="79"/>
                  </a:lnTo>
                  <a:lnTo>
                    <a:pt x="185" y="79"/>
                  </a:lnTo>
                  <a:lnTo>
                    <a:pt x="202" y="79"/>
                  </a:lnTo>
                  <a:lnTo>
                    <a:pt x="211" y="61"/>
                  </a:lnTo>
                  <a:lnTo>
                    <a:pt x="220" y="44"/>
                  </a:lnTo>
                  <a:lnTo>
                    <a:pt x="239" y="44"/>
                  </a:lnTo>
                  <a:lnTo>
                    <a:pt x="256" y="44"/>
                  </a:lnTo>
                  <a:lnTo>
                    <a:pt x="274" y="44"/>
                  </a:lnTo>
                  <a:lnTo>
                    <a:pt x="292" y="44"/>
                  </a:lnTo>
                  <a:lnTo>
                    <a:pt x="309" y="44"/>
                  </a:lnTo>
                  <a:lnTo>
                    <a:pt x="318" y="26"/>
                  </a:lnTo>
                  <a:lnTo>
                    <a:pt x="336" y="8"/>
                  </a:lnTo>
                  <a:lnTo>
                    <a:pt x="353" y="8"/>
                  </a:lnTo>
                  <a:lnTo>
                    <a:pt x="371" y="8"/>
                  </a:lnTo>
                  <a:lnTo>
                    <a:pt x="389" y="8"/>
                  </a:lnTo>
                  <a:lnTo>
                    <a:pt x="406" y="0"/>
                  </a:lnTo>
                  <a:lnTo>
                    <a:pt x="424" y="0"/>
                  </a:lnTo>
                  <a:lnTo>
                    <a:pt x="441" y="0"/>
                  </a:lnTo>
                  <a:lnTo>
                    <a:pt x="450" y="8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632800" y="6438960"/>
              <a:ext cx="47880" cy="41760"/>
            </a:xfrm>
            <a:custGeom>
              <a:avLst/>
              <a:gdLst/>
              <a:ahLst/>
              <a:rect l="0" t="0" r="r" b="b"/>
              <a:pathLst>
                <a:path w="133" h="116">
                  <a:moveTo>
                    <a:pt x="17" y="0"/>
                  </a:moveTo>
                  <a:lnTo>
                    <a:pt x="35" y="0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106" y="0"/>
                  </a:lnTo>
                  <a:lnTo>
                    <a:pt x="124" y="8"/>
                  </a:lnTo>
                  <a:lnTo>
                    <a:pt x="133" y="26"/>
                  </a:lnTo>
                  <a:lnTo>
                    <a:pt x="133" y="45"/>
                  </a:lnTo>
                  <a:lnTo>
                    <a:pt x="133" y="62"/>
                  </a:lnTo>
                  <a:lnTo>
                    <a:pt x="133" y="80"/>
                  </a:lnTo>
                  <a:lnTo>
                    <a:pt x="124" y="99"/>
                  </a:lnTo>
                  <a:lnTo>
                    <a:pt x="106" y="116"/>
                  </a:lnTo>
                  <a:lnTo>
                    <a:pt x="89" y="116"/>
                  </a:lnTo>
                  <a:lnTo>
                    <a:pt x="71" y="116"/>
                  </a:lnTo>
                  <a:lnTo>
                    <a:pt x="52" y="107"/>
                  </a:lnTo>
                  <a:lnTo>
                    <a:pt x="52" y="90"/>
                  </a:lnTo>
                  <a:lnTo>
                    <a:pt x="44" y="71"/>
                  </a:lnTo>
                  <a:lnTo>
                    <a:pt x="26" y="62"/>
                  </a:lnTo>
                  <a:lnTo>
                    <a:pt x="17" y="4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66000" y="6489720"/>
              <a:ext cx="38520" cy="28800"/>
            </a:xfrm>
            <a:custGeom>
              <a:avLst/>
              <a:gdLst/>
              <a:ahLst/>
              <a:rect l="0" t="0" r="r" b="b"/>
              <a:pathLst>
                <a:path w="107" h="80">
                  <a:moveTo>
                    <a:pt x="8" y="0"/>
                  </a:moveTo>
                  <a:lnTo>
                    <a:pt x="26" y="0"/>
                  </a:lnTo>
                  <a:lnTo>
                    <a:pt x="45" y="0"/>
                  </a:lnTo>
                  <a:lnTo>
                    <a:pt x="71" y="8"/>
                  </a:lnTo>
                  <a:lnTo>
                    <a:pt x="81" y="26"/>
                  </a:lnTo>
                  <a:lnTo>
                    <a:pt x="99" y="35"/>
                  </a:lnTo>
                  <a:lnTo>
                    <a:pt x="107" y="53"/>
                  </a:lnTo>
                  <a:lnTo>
                    <a:pt x="107" y="71"/>
                  </a:lnTo>
                  <a:lnTo>
                    <a:pt x="81" y="80"/>
                  </a:lnTo>
                  <a:lnTo>
                    <a:pt x="62" y="80"/>
                  </a:lnTo>
                  <a:lnTo>
                    <a:pt x="45" y="80"/>
                  </a:lnTo>
                  <a:lnTo>
                    <a:pt x="26" y="80"/>
                  </a:lnTo>
                  <a:lnTo>
                    <a:pt x="8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080640" y="6645240"/>
              <a:ext cx="41760" cy="38520"/>
            </a:xfrm>
            <a:custGeom>
              <a:avLst/>
              <a:gdLst/>
              <a:ahLst/>
              <a:rect l="0" t="0" r="r" b="b"/>
              <a:pathLst>
                <a:path w="116" h="107">
                  <a:moveTo>
                    <a:pt x="45" y="107"/>
                  </a:moveTo>
                  <a:lnTo>
                    <a:pt x="62" y="107"/>
                  </a:lnTo>
                  <a:lnTo>
                    <a:pt x="80" y="107"/>
                  </a:lnTo>
                  <a:lnTo>
                    <a:pt x="99" y="107"/>
                  </a:lnTo>
                  <a:lnTo>
                    <a:pt x="116" y="99"/>
                  </a:lnTo>
                  <a:lnTo>
                    <a:pt x="116" y="81"/>
                  </a:lnTo>
                  <a:lnTo>
                    <a:pt x="116" y="62"/>
                  </a:lnTo>
                  <a:lnTo>
                    <a:pt x="116" y="45"/>
                  </a:lnTo>
                  <a:lnTo>
                    <a:pt x="116" y="26"/>
                  </a:lnTo>
                  <a:lnTo>
                    <a:pt x="107" y="8"/>
                  </a:lnTo>
                  <a:lnTo>
                    <a:pt x="90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53" y="17"/>
                  </a:lnTo>
                  <a:lnTo>
                    <a:pt x="36" y="26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53"/>
                  </a:lnTo>
                  <a:lnTo>
                    <a:pt x="0" y="71"/>
                  </a:lnTo>
                  <a:lnTo>
                    <a:pt x="17" y="71"/>
                  </a:lnTo>
                  <a:lnTo>
                    <a:pt x="36" y="71"/>
                  </a:lnTo>
                  <a:lnTo>
                    <a:pt x="36" y="90"/>
                  </a:lnTo>
                  <a:lnTo>
                    <a:pt x="36" y="107"/>
                  </a:lnTo>
                  <a:lnTo>
                    <a:pt x="45" y="107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93080" y="6578640"/>
              <a:ext cx="130680" cy="79560"/>
            </a:xfrm>
            <a:custGeom>
              <a:avLst/>
              <a:gdLst/>
              <a:ahLst/>
              <a:rect l="0" t="0" r="r" b="b"/>
              <a:pathLst>
                <a:path w="363" h="221">
                  <a:moveTo>
                    <a:pt x="0" y="0"/>
                  </a:moveTo>
                  <a:lnTo>
                    <a:pt x="17" y="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59" y="0"/>
                  </a:lnTo>
                  <a:lnTo>
                    <a:pt x="177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21" y="17"/>
                  </a:lnTo>
                  <a:lnTo>
                    <a:pt x="239" y="26"/>
                  </a:lnTo>
                  <a:lnTo>
                    <a:pt x="256" y="35"/>
                  </a:lnTo>
                  <a:lnTo>
                    <a:pt x="275" y="44"/>
                  </a:lnTo>
                  <a:lnTo>
                    <a:pt x="293" y="61"/>
                  </a:lnTo>
                  <a:lnTo>
                    <a:pt x="319" y="70"/>
                  </a:lnTo>
                  <a:lnTo>
                    <a:pt x="337" y="70"/>
                  </a:lnTo>
                  <a:lnTo>
                    <a:pt x="354" y="70"/>
                  </a:lnTo>
                  <a:lnTo>
                    <a:pt x="363" y="97"/>
                  </a:lnTo>
                  <a:lnTo>
                    <a:pt x="363" y="115"/>
                  </a:lnTo>
                  <a:lnTo>
                    <a:pt x="354" y="133"/>
                  </a:lnTo>
                  <a:lnTo>
                    <a:pt x="354" y="150"/>
                  </a:lnTo>
                  <a:lnTo>
                    <a:pt x="354" y="168"/>
                  </a:lnTo>
                  <a:lnTo>
                    <a:pt x="354" y="186"/>
                  </a:lnTo>
                  <a:lnTo>
                    <a:pt x="354" y="212"/>
                  </a:lnTo>
                  <a:lnTo>
                    <a:pt x="301" y="221"/>
                  </a:lnTo>
                  <a:lnTo>
                    <a:pt x="284" y="221"/>
                  </a:lnTo>
                  <a:lnTo>
                    <a:pt x="265" y="212"/>
                  </a:lnTo>
                  <a:lnTo>
                    <a:pt x="247" y="203"/>
                  </a:lnTo>
                  <a:lnTo>
                    <a:pt x="230" y="195"/>
                  </a:lnTo>
                  <a:lnTo>
                    <a:pt x="212" y="186"/>
                  </a:lnTo>
                  <a:lnTo>
                    <a:pt x="195" y="186"/>
                  </a:lnTo>
                  <a:lnTo>
                    <a:pt x="177" y="177"/>
                  </a:lnTo>
                  <a:lnTo>
                    <a:pt x="159" y="159"/>
                  </a:lnTo>
                  <a:lnTo>
                    <a:pt x="142" y="142"/>
                  </a:lnTo>
                  <a:lnTo>
                    <a:pt x="133" y="124"/>
                  </a:lnTo>
                  <a:lnTo>
                    <a:pt x="115" y="115"/>
                  </a:lnTo>
                  <a:lnTo>
                    <a:pt x="88" y="105"/>
                  </a:lnTo>
                  <a:lnTo>
                    <a:pt x="70" y="97"/>
                  </a:lnTo>
                  <a:lnTo>
                    <a:pt x="52" y="88"/>
                  </a:lnTo>
                  <a:lnTo>
                    <a:pt x="44" y="70"/>
                  </a:lnTo>
                  <a:lnTo>
                    <a:pt x="26" y="61"/>
                  </a:lnTo>
                  <a:lnTo>
                    <a:pt x="8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9051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