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80" y="6480"/>
            <a:ext cx="9131400" cy="684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4400"/>
            <a:ext cx="9131400" cy="6831000"/>
            <a:chOff x="0" y="14400"/>
            <a:chExt cx="9131400" cy="6831000"/>
          </a:xfrm>
        </p:grpSpPr>
        <p:sp>
          <p:nvSpPr>
            <p:cNvPr id="2" name=""/>
            <p:cNvSpPr/>
            <p:nvPr/>
          </p:nvSpPr>
          <p:spPr>
            <a:xfrm>
              <a:off x="228600" y="609480"/>
              <a:ext cx="8686800" cy="5638680"/>
            </a:xfrm>
            <a:prstGeom prst="rect">
              <a:avLst/>
            </a:prstGeom>
            <a:solidFill>
              <a:srgbClr val="e4e4e4"/>
            </a:solidFill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373800"/>
              <a:ext cx="9131400" cy="471600"/>
              <a:chOff x="0" y="6373800"/>
              <a:chExt cx="9131400" cy="471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6377040"/>
                <a:ext cx="4572000" cy="468360"/>
              </a:xfrm>
              <a:prstGeom prst="rect">
                <a:avLst/>
              </a:prstGeom>
              <a:gradFill rotWithShape="0">
                <a:gsLst>
                  <a:gs pos="0">
                    <a:srgbClr val="919191"/>
                  </a:gs>
                  <a:gs pos="100000">
                    <a:srgbClr val="e9e9e9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572000" y="6373800"/>
                <a:ext cx="4559400" cy="471600"/>
              </a:xfrm>
              <a:prstGeom prst="rect">
                <a:avLst/>
              </a:prstGeom>
              <a:gradFill rotWithShape="0">
                <a:gsLst>
                  <a:gs pos="0">
                    <a:srgbClr val="e9e9e9"/>
                  </a:gs>
                  <a:gs pos="100000">
                    <a:srgbClr val="919191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14400" y="14400"/>
              <a:ext cx="9117000" cy="466560"/>
              <a:chOff x="14400" y="14400"/>
              <a:chExt cx="9117000" cy="466560"/>
            </a:xfrm>
          </p:grpSpPr>
          <p:sp>
            <p:nvSpPr>
              <p:cNvPr id="7" name=""/>
              <p:cNvSpPr/>
              <p:nvPr/>
            </p:nvSpPr>
            <p:spPr>
              <a:xfrm>
                <a:off x="4572000" y="14400"/>
                <a:ext cx="4559400" cy="466560"/>
              </a:xfrm>
              <a:prstGeom prst="rect">
                <a:avLst/>
              </a:prstGeom>
              <a:gradFill rotWithShape="0">
                <a:gsLst>
                  <a:gs pos="0">
                    <a:srgbClr val="e9e9e9"/>
                  </a:gs>
                  <a:gs pos="100000">
                    <a:srgbClr val="919191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4400" y="14400"/>
                <a:ext cx="4557600" cy="453960"/>
              </a:xfrm>
              <a:prstGeom prst="rect">
                <a:avLst/>
              </a:prstGeom>
              <a:gradFill rotWithShape="0">
                <a:gsLst>
                  <a:gs pos="0">
                    <a:srgbClr val="919191"/>
                  </a:gs>
                  <a:gs pos="100000">
                    <a:srgbClr val="e9e9e9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5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208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