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386000"/>
            <a:ext cx="8364600" cy="290520"/>
            <a:chOff x="0" y="1386000"/>
            <a:chExt cx="8364600" cy="290520"/>
          </a:xfrm>
        </p:grpSpPr>
        <p:grpSp>
          <p:nvGrpSpPr>
            <p:cNvPr id="1" name=""/>
            <p:cNvGrpSpPr/>
            <p:nvPr/>
          </p:nvGrpSpPr>
          <p:grpSpPr>
            <a:xfrm>
              <a:off x="8169120" y="1386000"/>
              <a:ext cx="195480" cy="289080"/>
              <a:chOff x="8169120" y="1386000"/>
              <a:chExt cx="195480" cy="289080"/>
            </a:xfrm>
          </p:grpSpPr>
          <p:sp>
            <p:nvSpPr>
              <p:cNvPr id="2" name=""/>
              <p:cNvSpPr/>
              <p:nvPr/>
            </p:nvSpPr>
            <p:spPr>
              <a:xfrm>
                <a:off x="8318520" y="1386000"/>
                <a:ext cx="46080" cy="289080"/>
              </a:xfrm>
              <a:prstGeom prst="rect">
                <a:avLst/>
              </a:prstGeom>
              <a:solidFill>
                <a:srgbClr val="c0c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169120" y="1386000"/>
                <a:ext cx="93600" cy="289080"/>
              </a:xfrm>
              <a:prstGeom prst="rect">
                <a:avLst/>
              </a:prstGeom>
              <a:solidFill>
                <a:srgbClr val="c0c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677000" y="1386000"/>
              <a:ext cx="417600" cy="289080"/>
              <a:chOff x="7677000" y="1386000"/>
              <a:chExt cx="417600" cy="289080"/>
            </a:xfrm>
          </p:grpSpPr>
          <p:sp>
            <p:nvSpPr>
              <p:cNvPr id="5" name=""/>
              <p:cNvSpPr/>
              <p:nvPr/>
            </p:nvSpPr>
            <p:spPr>
              <a:xfrm>
                <a:off x="7947000" y="1386000"/>
                <a:ext cx="147600" cy="289080"/>
              </a:xfrm>
              <a:prstGeom prst="rect">
                <a:avLst/>
              </a:prstGeom>
              <a:solidFill>
                <a:srgbClr val="808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77000" y="1386000"/>
                <a:ext cx="201600" cy="289080"/>
              </a:xfrm>
              <a:prstGeom prst="rect">
                <a:avLst/>
              </a:prstGeom>
              <a:solidFill>
                <a:srgbClr val="808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996240" y="1386000"/>
              <a:ext cx="612720" cy="289080"/>
              <a:chOff x="6996240" y="1386000"/>
              <a:chExt cx="612720" cy="289080"/>
            </a:xfrm>
          </p:grpSpPr>
          <p:sp>
            <p:nvSpPr>
              <p:cNvPr id="8" name=""/>
              <p:cNvSpPr/>
              <p:nvPr/>
            </p:nvSpPr>
            <p:spPr>
              <a:xfrm>
                <a:off x="7364520" y="1386000"/>
                <a:ext cx="244440" cy="289080"/>
              </a:xfrm>
              <a:prstGeom prst="rect">
                <a:avLst/>
              </a:prstGeom>
              <a:solidFill>
                <a:srgbClr val="404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996240" y="1386000"/>
                <a:ext cx="299880" cy="289080"/>
              </a:xfrm>
              <a:prstGeom prst="rect">
                <a:avLst/>
              </a:prstGeom>
              <a:solidFill>
                <a:srgbClr val="404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5041800" y="1386000"/>
              <a:ext cx="1886040" cy="290520"/>
              <a:chOff x="5041800" y="1386000"/>
              <a:chExt cx="1886040" cy="290520"/>
            </a:xfrm>
          </p:grpSpPr>
          <p:sp>
            <p:nvSpPr>
              <p:cNvPr id="11" name=""/>
              <p:cNvSpPr/>
              <p:nvPr/>
            </p:nvSpPr>
            <p:spPr>
              <a:xfrm>
                <a:off x="6581880" y="1386000"/>
                <a:ext cx="345960" cy="289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119640" y="1386000"/>
                <a:ext cx="395280" cy="289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603760" y="1386000"/>
                <a:ext cx="449280" cy="290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041800" y="1386000"/>
                <a:ext cx="496800" cy="289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0" y="1386000"/>
              <a:ext cx="4978440" cy="289080"/>
              <a:chOff x="0" y="1386000"/>
              <a:chExt cx="4978440" cy="289080"/>
            </a:xfrm>
          </p:grpSpPr>
          <p:sp>
            <p:nvSpPr>
              <p:cNvPr id="16" name=""/>
              <p:cNvSpPr/>
              <p:nvPr/>
            </p:nvSpPr>
            <p:spPr>
              <a:xfrm>
                <a:off x="4432320" y="1386000"/>
                <a:ext cx="546120" cy="289080"/>
              </a:xfrm>
              <a:prstGeom prst="rect">
                <a:avLst/>
              </a:prstGeom>
              <a:solidFill>
                <a:srgbClr val="0000e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1386000"/>
                <a:ext cx="4365720" cy="289080"/>
              </a:xfrm>
              <a:prstGeom prst="rect">
                <a:avLst/>
              </a:prstGeom>
              <a:solidFill>
                <a:srgbClr val="0000e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0e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7320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