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44000" cy="2638800"/>
            <a:chOff x="0" y="4206960"/>
            <a:chExt cx="9144000" cy="2638800"/>
          </a:xfrm>
        </p:grpSpPr>
        <p:sp>
          <p:nvSpPr>
            <p:cNvPr id="1" name=""/>
            <p:cNvSpPr/>
            <p:nvPr/>
          </p:nvSpPr>
          <p:spPr>
            <a:xfrm>
              <a:off x="0" y="6200640"/>
              <a:ext cx="9144000" cy="644400"/>
            </a:xfrm>
            <a:prstGeom prst="rect">
              <a:avLst/>
            </a:prstGeom>
            <a:gradFill rotWithShape="0">
              <a:gsLst>
                <a:gs pos="0">
                  <a:srgbClr val="0b37af"/>
                </a:gs>
                <a:gs pos="50000">
                  <a:srgbClr val="114ffb"/>
                </a:gs>
                <a:gs pos="100000">
                  <a:srgbClr val="0b37a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5320" cy="2626200"/>
              <a:chOff x="0" y="4206960"/>
              <a:chExt cx="1705320" cy="262620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4520" cy="1757880"/>
              </a:xfrm>
              <a:custGeom>
                <a:avLst/>
                <a:gdLst/>
                <a:ahLst/>
                <a:rect l="0" t="0" r="r" b="b"/>
                <a:pathLst>
                  <a:path w="707" h="4883">
                    <a:moveTo>
                      <a:pt x="0" y="432"/>
                    </a:moveTo>
                    <a:lnTo>
                      <a:pt x="106" y="2123"/>
                    </a:lnTo>
                    <a:lnTo>
                      <a:pt x="213" y="3483"/>
                    </a:lnTo>
                    <a:lnTo>
                      <a:pt x="286" y="4490"/>
                    </a:lnTo>
                    <a:lnTo>
                      <a:pt x="263" y="4883"/>
                    </a:lnTo>
                    <a:lnTo>
                      <a:pt x="416" y="4883"/>
                    </a:lnTo>
                    <a:lnTo>
                      <a:pt x="466" y="4301"/>
                    </a:lnTo>
                    <a:lnTo>
                      <a:pt x="494" y="3420"/>
                    </a:lnTo>
                    <a:lnTo>
                      <a:pt x="550" y="2595"/>
                    </a:lnTo>
                    <a:lnTo>
                      <a:pt x="578" y="1974"/>
                    </a:lnTo>
                    <a:lnTo>
                      <a:pt x="638" y="1069"/>
                    </a:lnTo>
                    <a:lnTo>
                      <a:pt x="707" y="290"/>
                    </a:lnTo>
                    <a:lnTo>
                      <a:pt x="661" y="94"/>
                    </a:lnTo>
                    <a:lnTo>
                      <a:pt x="587" y="0"/>
                    </a:lnTo>
                    <a:lnTo>
                      <a:pt x="503" y="959"/>
                    </a:lnTo>
                    <a:lnTo>
                      <a:pt x="434" y="1769"/>
                    </a:lnTo>
                    <a:lnTo>
                      <a:pt x="406" y="2406"/>
                    </a:lnTo>
                    <a:lnTo>
                      <a:pt x="383" y="3074"/>
                    </a:lnTo>
                    <a:lnTo>
                      <a:pt x="323" y="3743"/>
                    </a:lnTo>
                    <a:lnTo>
                      <a:pt x="240" y="2579"/>
                    </a:lnTo>
                    <a:lnTo>
                      <a:pt x="142" y="1478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8240" cy="986040"/>
              </a:xfrm>
              <a:custGeom>
                <a:avLst/>
                <a:gdLst/>
                <a:ahLst/>
                <a:rect l="0" t="0" r="r" b="b"/>
                <a:pathLst>
                  <a:path w="1134" h="2739">
                    <a:moveTo>
                      <a:pt x="0" y="1274"/>
                    </a:moveTo>
                    <a:lnTo>
                      <a:pt x="96" y="1830"/>
                    </a:lnTo>
                    <a:lnTo>
                      <a:pt x="192" y="2278"/>
                    </a:lnTo>
                    <a:lnTo>
                      <a:pt x="255" y="2609"/>
                    </a:lnTo>
                    <a:lnTo>
                      <a:pt x="235" y="2739"/>
                    </a:lnTo>
                    <a:lnTo>
                      <a:pt x="375" y="2739"/>
                    </a:lnTo>
                    <a:lnTo>
                      <a:pt x="418" y="2548"/>
                    </a:lnTo>
                    <a:lnTo>
                      <a:pt x="438" y="2257"/>
                    </a:lnTo>
                    <a:lnTo>
                      <a:pt x="491" y="1986"/>
                    </a:lnTo>
                    <a:lnTo>
                      <a:pt x="515" y="1782"/>
                    </a:lnTo>
                    <a:lnTo>
                      <a:pt x="569" y="1485"/>
                    </a:lnTo>
                    <a:lnTo>
                      <a:pt x="632" y="1228"/>
                    </a:lnTo>
                    <a:lnTo>
                      <a:pt x="685" y="1003"/>
                    </a:lnTo>
                    <a:lnTo>
                      <a:pt x="738" y="761"/>
                    </a:lnTo>
                    <a:lnTo>
                      <a:pt x="825" y="521"/>
                    </a:lnTo>
                    <a:lnTo>
                      <a:pt x="921" y="319"/>
                    </a:lnTo>
                    <a:lnTo>
                      <a:pt x="1081" y="121"/>
                    </a:lnTo>
                    <a:lnTo>
                      <a:pt x="1134" y="46"/>
                    </a:lnTo>
                    <a:lnTo>
                      <a:pt x="1067" y="0"/>
                    </a:lnTo>
                    <a:lnTo>
                      <a:pt x="964" y="79"/>
                    </a:lnTo>
                    <a:lnTo>
                      <a:pt x="825" y="262"/>
                    </a:lnTo>
                    <a:lnTo>
                      <a:pt x="718" y="450"/>
                    </a:lnTo>
                    <a:lnTo>
                      <a:pt x="632" y="645"/>
                    </a:lnTo>
                    <a:lnTo>
                      <a:pt x="579" y="895"/>
                    </a:lnTo>
                    <a:lnTo>
                      <a:pt x="525" y="1131"/>
                    </a:lnTo>
                    <a:lnTo>
                      <a:pt x="448" y="1452"/>
                    </a:lnTo>
                    <a:lnTo>
                      <a:pt x="385" y="1715"/>
                    </a:lnTo>
                    <a:lnTo>
                      <a:pt x="362" y="1925"/>
                    </a:lnTo>
                    <a:lnTo>
                      <a:pt x="342" y="2142"/>
                    </a:lnTo>
                    <a:lnTo>
                      <a:pt x="289" y="2365"/>
                    </a:lnTo>
                    <a:lnTo>
                      <a:pt x="212" y="1980"/>
                    </a:lnTo>
                    <a:lnTo>
                      <a:pt x="126" y="1620"/>
                    </a:lnTo>
                    <a:lnTo>
                      <a:pt x="0" y="1274"/>
                    </a:lnTo>
                    <a:close/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5680" cy="1101960"/>
              </a:xfrm>
              <a:custGeom>
                <a:avLst/>
                <a:gdLst/>
                <a:ahLst/>
                <a:rect l="0" t="0" r="r" b="b"/>
                <a:pathLst>
                  <a:path w="2488" h="3061">
                    <a:moveTo>
                      <a:pt x="1171" y="747"/>
                    </a:moveTo>
                    <a:lnTo>
                      <a:pt x="1124" y="800"/>
                    </a:lnTo>
                    <a:lnTo>
                      <a:pt x="1085" y="852"/>
                    </a:lnTo>
                    <a:lnTo>
                      <a:pt x="1050" y="904"/>
                    </a:lnTo>
                    <a:lnTo>
                      <a:pt x="1011" y="966"/>
                    </a:lnTo>
                    <a:lnTo>
                      <a:pt x="980" y="1019"/>
                    </a:lnTo>
                    <a:lnTo>
                      <a:pt x="963" y="1071"/>
                    </a:lnTo>
                    <a:lnTo>
                      <a:pt x="941" y="1117"/>
                    </a:lnTo>
                    <a:lnTo>
                      <a:pt x="1006" y="1087"/>
                    </a:lnTo>
                    <a:lnTo>
                      <a:pt x="1089" y="1061"/>
                    </a:lnTo>
                    <a:lnTo>
                      <a:pt x="1176" y="1032"/>
                    </a:lnTo>
                    <a:lnTo>
                      <a:pt x="1268" y="1002"/>
                    </a:lnTo>
                    <a:lnTo>
                      <a:pt x="1359" y="973"/>
                    </a:lnTo>
                    <a:lnTo>
                      <a:pt x="1450" y="940"/>
                    </a:lnTo>
                    <a:lnTo>
                      <a:pt x="1533" y="898"/>
                    </a:lnTo>
                    <a:lnTo>
                      <a:pt x="1646" y="845"/>
                    </a:lnTo>
                    <a:lnTo>
                      <a:pt x="1728" y="793"/>
                    </a:lnTo>
                    <a:lnTo>
                      <a:pt x="1841" y="738"/>
                    </a:lnTo>
                    <a:lnTo>
                      <a:pt x="1915" y="698"/>
                    </a:lnTo>
                    <a:lnTo>
                      <a:pt x="1988" y="640"/>
                    </a:lnTo>
                    <a:lnTo>
                      <a:pt x="2049" y="591"/>
                    </a:lnTo>
                    <a:lnTo>
                      <a:pt x="2106" y="522"/>
                    </a:lnTo>
                    <a:lnTo>
                      <a:pt x="2140" y="463"/>
                    </a:lnTo>
                    <a:lnTo>
                      <a:pt x="2166" y="404"/>
                    </a:lnTo>
                    <a:lnTo>
                      <a:pt x="2188" y="362"/>
                    </a:lnTo>
                    <a:lnTo>
                      <a:pt x="2192" y="408"/>
                    </a:lnTo>
                    <a:lnTo>
                      <a:pt x="2192" y="440"/>
                    </a:lnTo>
                    <a:lnTo>
                      <a:pt x="2175" y="486"/>
                    </a:lnTo>
                    <a:lnTo>
                      <a:pt x="2136" y="535"/>
                    </a:lnTo>
                    <a:lnTo>
                      <a:pt x="2075" y="604"/>
                    </a:lnTo>
                    <a:lnTo>
                      <a:pt x="2036" y="656"/>
                    </a:lnTo>
                    <a:lnTo>
                      <a:pt x="1975" y="692"/>
                    </a:lnTo>
                    <a:lnTo>
                      <a:pt x="1902" y="741"/>
                    </a:lnTo>
                    <a:lnTo>
                      <a:pt x="1810" y="800"/>
                    </a:lnTo>
                    <a:lnTo>
                      <a:pt x="1724" y="855"/>
                    </a:lnTo>
                    <a:lnTo>
                      <a:pt x="1633" y="911"/>
                    </a:lnTo>
                    <a:lnTo>
                      <a:pt x="1572" y="963"/>
                    </a:lnTo>
                    <a:lnTo>
                      <a:pt x="1498" y="1012"/>
                    </a:lnTo>
                    <a:lnTo>
                      <a:pt x="1420" y="1051"/>
                    </a:lnTo>
                    <a:lnTo>
                      <a:pt x="1342" y="1087"/>
                    </a:lnTo>
                    <a:lnTo>
                      <a:pt x="1259" y="1130"/>
                    </a:lnTo>
                    <a:lnTo>
                      <a:pt x="1176" y="1162"/>
                    </a:lnTo>
                    <a:lnTo>
                      <a:pt x="1111" y="1195"/>
                    </a:lnTo>
                    <a:lnTo>
                      <a:pt x="1024" y="1231"/>
                    </a:lnTo>
                    <a:lnTo>
                      <a:pt x="967" y="1250"/>
                    </a:lnTo>
                    <a:lnTo>
                      <a:pt x="937" y="1267"/>
                    </a:lnTo>
                    <a:lnTo>
                      <a:pt x="967" y="1299"/>
                    </a:lnTo>
                    <a:lnTo>
                      <a:pt x="998" y="1335"/>
                    </a:lnTo>
                    <a:lnTo>
                      <a:pt x="1041" y="1384"/>
                    </a:lnTo>
                    <a:lnTo>
                      <a:pt x="1119" y="1397"/>
                    </a:lnTo>
                    <a:lnTo>
                      <a:pt x="1176" y="1404"/>
                    </a:lnTo>
                    <a:lnTo>
                      <a:pt x="1272" y="1414"/>
                    </a:lnTo>
                    <a:lnTo>
                      <a:pt x="1359" y="1420"/>
                    </a:lnTo>
                    <a:lnTo>
                      <a:pt x="1359" y="1420"/>
                    </a:lnTo>
                    <a:lnTo>
                      <a:pt x="1459" y="1420"/>
                    </a:lnTo>
                    <a:lnTo>
                      <a:pt x="1554" y="1427"/>
                    </a:lnTo>
                    <a:lnTo>
                      <a:pt x="1650" y="1433"/>
                    </a:lnTo>
                    <a:lnTo>
                      <a:pt x="1737" y="1446"/>
                    </a:lnTo>
                    <a:lnTo>
                      <a:pt x="1815" y="1456"/>
                    </a:lnTo>
                    <a:lnTo>
                      <a:pt x="1897" y="1473"/>
                    </a:lnTo>
                    <a:lnTo>
                      <a:pt x="1958" y="1489"/>
                    </a:lnTo>
                    <a:lnTo>
                      <a:pt x="2023" y="1515"/>
                    </a:lnTo>
                    <a:lnTo>
                      <a:pt x="2080" y="1545"/>
                    </a:lnTo>
                    <a:lnTo>
                      <a:pt x="2158" y="1572"/>
                    </a:lnTo>
                    <a:lnTo>
                      <a:pt x="2245" y="1604"/>
                    </a:lnTo>
                    <a:lnTo>
                      <a:pt x="2336" y="1637"/>
                    </a:lnTo>
                    <a:lnTo>
                      <a:pt x="2409" y="1660"/>
                    </a:lnTo>
                    <a:lnTo>
                      <a:pt x="2488" y="1683"/>
                    </a:lnTo>
                    <a:lnTo>
                      <a:pt x="2427" y="1692"/>
                    </a:lnTo>
                    <a:lnTo>
                      <a:pt x="2366" y="1689"/>
                    </a:lnTo>
                    <a:lnTo>
                      <a:pt x="2292" y="1676"/>
                    </a:lnTo>
                    <a:lnTo>
                      <a:pt x="2223" y="1656"/>
                    </a:lnTo>
                    <a:lnTo>
                      <a:pt x="2123" y="1634"/>
                    </a:lnTo>
                    <a:lnTo>
                      <a:pt x="2062" y="1617"/>
                    </a:lnTo>
                    <a:lnTo>
                      <a:pt x="2001" y="1604"/>
                    </a:lnTo>
                    <a:lnTo>
                      <a:pt x="1923" y="1591"/>
                    </a:lnTo>
                    <a:lnTo>
                      <a:pt x="1837" y="1585"/>
                    </a:lnTo>
                    <a:lnTo>
                      <a:pt x="1732" y="1575"/>
                    </a:lnTo>
                    <a:lnTo>
                      <a:pt x="1633" y="1565"/>
                    </a:lnTo>
                    <a:lnTo>
                      <a:pt x="1524" y="1562"/>
                    </a:lnTo>
                    <a:lnTo>
                      <a:pt x="1433" y="1562"/>
                    </a:lnTo>
                    <a:lnTo>
                      <a:pt x="1337" y="1558"/>
                    </a:lnTo>
                    <a:lnTo>
                      <a:pt x="1264" y="1552"/>
                    </a:lnTo>
                    <a:lnTo>
                      <a:pt x="1171" y="1549"/>
                    </a:lnTo>
                    <a:lnTo>
                      <a:pt x="1076" y="1532"/>
                    </a:lnTo>
                    <a:lnTo>
                      <a:pt x="967" y="1512"/>
                    </a:lnTo>
                    <a:lnTo>
                      <a:pt x="868" y="1492"/>
                    </a:lnTo>
                    <a:lnTo>
                      <a:pt x="755" y="1476"/>
                    </a:lnTo>
                    <a:lnTo>
                      <a:pt x="789" y="1532"/>
                    </a:lnTo>
                    <a:lnTo>
                      <a:pt x="833" y="1601"/>
                    </a:lnTo>
                    <a:lnTo>
                      <a:pt x="876" y="1689"/>
                    </a:lnTo>
                    <a:lnTo>
                      <a:pt x="889" y="1758"/>
                    </a:lnTo>
                    <a:lnTo>
                      <a:pt x="894" y="1833"/>
                    </a:lnTo>
                    <a:lnTo>
                      <a:pt x="889" y="1892"/>
                    </a:lnTo>
                    <a:lnTo>
                      <a:pt x="881" y="1954"/>
                    </a:lnTo>
                    <a:lnTo>
                      <a:pt x="872" y="2039"/>
                    </a:lnTo>
                    <a:lnTo>
                      <a:pt x="863" y="2146"/>
                    </a:lnTo>
                    <a:lnTo>
                      <a:pt x="868" y="2241"/>
                    </a:lnTo>
                    <a:lnTo>
                      <a:pt x="872" y="2336"/>
                    </a:lnTo>
                    <a:lnTo>
                      <a:pt x="872" y="2411"/>
                    </a:lnTo>
                    <a:lnTo>
                      <a:pt x="863" y="2489"/>
                    </a:lnTo>
                    <a:lnTo>
                      <a:pt x="837" y="2561"/>
                    </a:lnTo>
                    <a:lnTo>
                      <a:pt x="802" y="2656"/>
                    </a:lnTo>
                    <a:lnTo>
                      <a:pt x="772" y="2721"/>
                    </a:lnTo>
                    <a:lnTo>
                      <a:pt x="733" y="2780"/>
                    </a:lnTo>
                    <a:lnTo>
                      <a:pt x="685" y="2855"/>
                    </a:lnTo>
                    <a:lnTo>
                      <a:pt x="651" y="2898"/>
                    </a:lnTo>
                    <a:lnTo>
                      <a:pt x="585" y="2956"/>
                    </a:lnTo>
                    <a:lnTo>
                      <a:pt x="503" y="3005"/>
                    </a:lnTo>
                    <a:lnTo>
                      <a:pt x="434" y="3061"/>
                    </a:lnTo>
                    <a:lnTo>
                      <a:pt x="425" y="2999"/>
                    </a:lnTo>
                    <a:lnTo>
                      <a:pt x="434" y="2924"/>
                    </a:lnTo>
                    <a:lnTo>
                      <a:pt x="447" y="2845"/>
                    </a:lnTo>
                    <a:lnTo>
                      <a:pt x="455" y="2773"/>
                    </a:lnTo>
                    <a:lnTo>
                      <a:pt x="477" y="2721"/>
                    </a:lnTo>
                    <a:lnTo>
                      <a:pt x="499" y="2649"/>
                    </a:lnTo>
                    <a:lnTo>
                      <a:pt x="533" y="2574"/>
                    </a:lnTo>
                    <a:lnTo>
                      <a:pt x="551" y="2512"/>
                    </a:lnTo>
                    <a:lnTo>
                      <a:pt x="555" y="2457"/>
                    </a:lnTo>
                    <a:lnTo>
                      <a:pt x="572" y="2352"/>
                    </a:lnTo>
                    <a:lnTo>
                      <a:pt x="585" y="2241"/>
                    </a:lnTo>
                    <a:lnTo>
                      <a:pt x="598" y="2143"/>
                    </a:lnTo>
                    <a:lnTo>
                      <a:pt x="612" y="2045"/>
                    </a:lnTo>
                    <a:lnTo>
                      <a:pt x="629" y="1944"/>
                    </a:lnTo>
                    <a:lnTo>
                      <a:pt x="633" y="1875"/>
                    </a:lnTo>
                    <a:lnTo>
                      <a:pt x="633" y="1816"/>
                    </a:lnTo>
                    <a:lnTo>
                      <a:pt x="638" y="1745"/>
                    </a:lnTo>
                    <a:lnTo>
                      <a:pt x="633" y="1669"/>
                    </a:lnTo>
                    <a:lnTo>
                      <a:pt x="625" y="1624"/>
                    </a:lnTo>
                    <a:lnTo>
                      <a:pt x="603" y="1558"/>
                    </a:lnTo>
                    <a:lnTo>
                      <a:pt x="585" y="1473"/>
                    </a:lnTo>
                    <a:lnTo>
                      <a:pt x="551" y="1536"/>
                    </a:lnTo>
                    <a:lnTo>
                      <a:pt x="512" y="1601"/>
                    </a:lnTo>
                    <a:lnTo>
                      <a:pt x="477" y="1666"/>
                    </a:lnTo>
                    <a:lnTo>
                      <a:pt x="455" y="1741"/>
                    </a:lnTo>
                    <a:lnTo>
                      <a:pt x="434" y="1823"/>
                    </a:lnTo>
                    <a:lnTo>
                      <a:pt x="412" y="1885"/>
                    </a:lnTo>
                    <a:lnTo>
                      <a:pt x="403" y="1960"/>
                    </a:lnTo>
                    <a:lnTo>
                      <a:pt x="386" y="2048"/>
                    </a:lnTo>
                    <a:lnTo>
                      <a:pt x="373" y="2143"/>
                    </a:lnTo>
                    <a:lnTo>
                      <a:pt x="360" y="2225"/>
                    </a:lnTo>
                    <a:lnTo>
                      <a:pt x="347" y="2319"/>
                    </a:lnTo>
                    <a:lnTo>
                      <a:pt x="338" y="2395"/>
                    </a:lnTo>
                    <a:lnTo>
                      <a:pt x="316" y="2479"/>
                    </a:lnTo>
                    <a:lnTo>
                      <a:pt x="303" y="2558"/>
                    </a:lnTo>
                    <a:lnTo>
                      <a:pt x="286" y="2613"/>
                    </a:lnTo>
                    <a:lnTo>
                      <a:pt x="247" y="2672"/>
                    </a:lnTo>
                    <a:lnTo>
                      <a:pt x="204" y="2738"/>
                    </a:lnTo>
                    <a:lnTo>
                      <a:pt x="151" y="2800"/>
                    </a:lnTo>
                    <a:lnTo>
                      <a:pt x="95" y="2862"/>
                    </a:lnTo>
                    <a:lnTo>
                      <a:pt x="52" y="2894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548"/>
                    </a:lnTo>
                    <a:lnTo>
                      <a:pt x="21" y="2548"/>
                    </a:lnTo>
                    <a:lnTo>
                      <a:pt x="47" y="2486"/>
                    </a:lnTo>
                    <a:lnTo>
                      <a:pt x="91" y="2408"/>
                    </a:lnTo>
                    <a:lnTo>
                      <a:pt x="125" y="2336"/>
                    </a:lnTo>
                    <a:lnTo>
                      <a:pt x="164" y="2257"/>
                    </a:lnTo>
                    <a:lnTo>
                      <a:pt x="199" y="2186"/>
                    </a:lnTo>
                    <a:lnTo>
                      <a:pt x="238" y="2107"/>
                    </a:lnTo>
                    <a:lnTo>
                      <a:pt x="264" y="2035"/>
                    </a:lnTo>
                    <a:lnTo>
                      <a:pt x="295" y="1957"/>
                    </a:lnTo>
                    <a:lnTo>
                      <a:pt x="325" y="1885"/>
                    </a:lnTo>
                    <a:lnTo>
                      <a:pt x="338" y="1830"/>
                    </a:lnTo>
                    <a:lnTo>
                      <a:pt x="364" y="1774"/>
                    </a:lnTo>
                    <a:lnTo>
                      <a:pt x="386" y="1702"/>
                    </a:lnTo>
                    <a:lnTo>
                      <a:pt x="412" y="1650"/>
                    </a:lnTo>
                    <a:lnTo>
                      <a:pt x="399" y="1607"/>
                    </a:lnTo>
                    <a:lnTo>
                      <a:pt x="390" y="1552"/>
                    </a:lnTo>
                    <a:lnTo>
                      <a:pt x="394" y="1508"/>
                    </a:lnTo>
                    <a:lnTo>
                      <a:pt x="408" y="1456"/>
                    </a:lnTo>
                    <a:lnTo>
                      <a:pt x="338" y="1446"/>
                    </a:lnTo>
                    <a:lnTo>
                      <a:pt x="251" y="1430"/>
                    </a:lnTo>
                    <a:lnTo>
                      <a:pt x="177" y="1466"/>
                    </a:lnTo>
                    <a:lnTo>
                      <a:pt x="104" y="1499"/>
                    </a:lnTo>
                    <a:lnTo>
                      <a:pt x="30" y="1532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47" y="1293"/>
                    </a:lnTo>
                    <a:lnTo>
                      <a:pt x="125" y="1263"/>
                    </a:lnTo>
                    <a:lnTo>
                      <a:pt x="147" y="1228"/>
                    </a:lnTo>
                    <a:lnTo>
                      <a:pt x="164" y="1188"/>
                    </a:lnTo>
                    <a:lnTo>
                      <a:pt x="182" y="1152"/>
                    </a:lnTo>
                    <a:lnTo>
                      <a:pt x="177" y="1139"/>
                    </a:lnTo>
                    <a:lnTo>
                      <a:pt x="125" y="1090"/>
                    </a:lnTo>
                    <a:lnTo>
                      <a:pt x="56" y="1035"/>
                    </a:lnTo>
                    <a:lnTo>
                      <a:pt x="0" y="983"/>
                    </a:lnTo>
                    <a:lnTo>
                      <a:pt x="21" y="979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13" y="809"/>
                    </a:lnTo>
                    <a:lnTo>
                      <a:pt x="104" y="868"/>
                    </a:lnTo>
                    <a:lnTo>
                      <a:pt x="182" y="921"/>
                    </a:lnTo>
                    <a:lnTo>
                      <a:pt x="230" y="963"/>
                    </a:lnTo>
                    <a:lnTo>
                      <a:pt x="269" y="1009"/>
                    </a:lnTo>
                    <a:lnTo>
                      <a:pt x="329" y="1074"/>
                    </a:lnTo>
                    <a:lnTo>
                      <a:pt x="381" y="1130"/>
                    </a:lnTo>
                    <a:lnTo>
                      <a:pt x="434" y="1179"/>
                    </a:lnTo>
                    <a:lnTo>
                      <a:pt x="499" y="1237"/>
                    </a:lnTo>
                    <a:lnTo>
                      <a:pt x="525" y="1218"/>
                    </a:lnTo>
                    <a:lnTo>
                      <a:pt x="555" y="1169"/>
                    </a:lnTo>
                    <a:lnTo>
                      <a:pt x="585" y="1130"/>
                    </a:lnTo>
                    <a:lnTo>
                      <a:pt x="568" y="1090"/>
                    </a:lnTo>
                    <a:lnTo>
                      <a:pt x="525" y="1028"/>
                    </a:lnTo>
                    <a:lnTo>
                      <a:pt x="481" y="966"/>
                    </a:lnTo>
                    <a:lnTo>
                      <a:pt x="434" y="907"/>
                    </a:lnTo>
                    <a:lnTo>
                      <a:pt x="381" y="855"/>
                    </a:lnTo>
                    <a:lnTo>
                      <a:pt x="299" y="787"/>
                    </a:lnTo>
                    <a:lnTo>
                      <a:pt x="230" y="715"/>
                    </a:lnTo>
                    <a:lnTo>
                      <a:pt x="169" y="663"/>
                    </a:lnTo>
                    <a:lnTo>
                      <a:pt x="112" y="610"/>
                    </a:lnTo>
                    <a:lnTo>
                      <a:pt x="56" y="555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352"/>
                    </a:lnTo>
                    <a:lnTo>
                      <a:pt x="21" y="421"/>
                    </a:lnTo>
                    <a:lnTo>
                      <a:pt x="21" y="378"/>
                    </a:lnTo>
                    <a:lnTo>
                      <a:pt x="43" y="434"/>
                    </a:lnTo>
                    <a:lnTo>
                      <a:pt x="108" y="496"/>
                    </a:lnTo>
                    <a:lnTo>
                      <a:pt x="164" y="555"/>
                    </a:lnTo>
                    <a:lnTo>
                      <a:pt x="238" y="633"/>
                    </a:lnTo>
                    <a:lnTo>
                      <a:pt x="286" y="682"/>
                    </a:lnTo>
                    <a:lnTo>
                      <a:pt x="347" y="751"/>
                    </a:lnTo>
                    <a:lnTo>
                      <a:pt x="403" y="836"/>
                    </a:lnTo>
                    <a:lnTo>
                      <a:pt x="460" y="904"/>
                    </a:lnTo>
                    <a:lnTo>
                      <a:pt x="507" y="976"/>
                    </a:lnTo>
                    <a:lnTo>
                      <a:pt x="577" y="1090"/>
                    </a:lnTo>
                    <a:lnTo>
                      <a:pt x="603" y="1152"/>
                    </a:lnTo>
                    <a:lnTo>
                      <a:pt x="620" y="1188"/>
                    </a:lnTo>
                    <a:lnTo>
                      <a:pt x="655" y="1130"/>
                    </a:lnTo>
                    <a:lnTo>
                      <a:pt x="707" y="1061"/>
                    </a:lnTo>
                    <a:lnTo>
                      <a:pt x="759" y="996"/>
                    </a:lnTo>
                    <a:lnTo>
                      <a:pt x="802" y="930"/>
                    </a:lnTo>
                    <a:lnTo>
                      <a:pt x="846" y="868"/>
                    </a:lnTo>
                    <a:lnTo>
                      <a:pt x="889" y="809"/>
                    </a:lnTo>
                    <a:lnTo>
                      <a:pt x="937" y="757"/>
                    </a:lnTo>
                    <a:lnTo>
                      <a:pt x="1002" y="685"/>
                    </a:lnTo>
                    <a:lnTo>
                      <a:pt x="1067" y="617"/>
                    </a:lnTo>
                    <a:lnTo>
                      <a:pt x="1128" y="538"/>
                    </a:lnTo>
                    <a:lnTo>
                      <a:pt x="1193" y="457"/>
                    </a:lnTo>
                    <a:lnTo>
                      <a:pt x="1246" y="391"/>
                    </a:lnTo>
                    <a:lnTo>
                      <a:pt x="1307" y="313"/>
                    </a:lnTo>
                    <a:lnTo>
                      <a:pt x="1355" y="261"/>
                    </a:lnTo>
                    <a:lnTo>
                      <a:pt x="1415" y="209"/>
                    </a:lnTo>
                    <a:lnTo>
                      <a:pt x="1468" y="166"/>
                    </a:lnTo>
                    <a:lnTo>
                      <a:pt x="1511" y="117"/>
                    </a:lnTo>
                    <a:lnTo>
                      <a:pt x="1559" y="52"/>
                    </a:lnTo>
                    <a:lnTo>
                      <a:pt x="1598" y="0"/>
                    </a:lnTo>
                    <a:lnTo>
                      <a:pt x="1589" y="42"/>
                    </a:lnTo>
                    <a:lnTo>
                      <a:pt x="1580" y="104"/>
                    </a:lnTo>
                    <a:lnTo>
                      <a:pt x="1567" y="173"/>
                    </a:lnTo>
                    <a:lnTo>
                      <a:pt x="1537" y="231"/>
                    </a:lnTo>
                    <a:lnTo>
                      <a:pt x="1498" y="290"/>
                    </a:lnTo>
                    <a:lnTo>
                      <a:pt x="1442" y="375"/>
                    </a:lnTo>
                    <a:lnTo>
                      <a:pt x="1398" y="447"/>
                    </a:lnTo>
                    <a:lnTo>
                      <a:pt x="1346" y="532"/>
                    </a:lnTo>
                    <a:lnTo>
                      <a:pt x="1290" y="604"/>
                    </a:lnTo>
                    <a:lnTo>
                      <a:pt x="1224" y="685"/>
                    </a:lnTo>
                    <a:lnTo>
                      <a:pt x="1171" y="747"/>
                    </a:lnTo>
                    <a:close/>
                  </a:path>
                </a:pathLst>
              </a:custGeom>
              <a:solidFill>
                <a:srgbClr val="00a10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29000" cy="1042200"/>
                <a:chOff x="76320" y="5460840"/>
                <a:chExt cx="1629000" cy="10422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5280" cy="970200"/>
                </a:xfrm>
                <a:custGeom>
                  <a:avLst/>
                  <a:gdLst/>
                  <a:ahLst/>
                  <a:rect l="0" t="0" r="r" b="b"/>
                  <a:pathLst>
                    <a:path w="4098" h="2695">
                      <a:moveTo>
                        <a:pt x="1294" y="687"/>
                      </a:moveTo>
                      <a:lnTo>
                        <a:pt x="1325" y="621"/>
                      </a:lnTo>
                      <a:lnTo>
                        <a:pt x="1371" y="545"/>
                      </a:lnTo>
                      <a:lnTo>
                        <a:pt x="1430" y="473"/>
                      </a:lnTo>
                      <a:lnTo>
                        <a:pt x="1496" y="404"/>
                      </a:lnTo>
                      <a:lnTo>
                        <a:pt x="1561" y="338"/>
                      </a:lnTo>
                      <a:lnTo>
                        <a:pt x="1611" y="289"/>
                      </a:lnTo>
                      <a:lnTo>
                        <a:pt x="1663" y="248"/>
                      </a:lnTo>
                      <a:lnTo>
                        <a:pt x="1726" y="209"/>
                      </a:lnTo>
                      <a:lnTo>
                        <a:pt x="1778" y="172"/>
                      </a:lnTo>
                      <a:lnTo>
                        <a:pt x="1831" y="142"/>
                      </a:lnTo>
                      <a:lnTo>
                        <a:pt x="1893" y="112"/>
                      </a:lnTo>
                      <a:lnTo>
                        <a:pt x="1949" y="89"/>
                      </a:lnTo>
                      <a:lnTo>
                        <a:pt x="2005" y="71"/>
                      </a:lnTo>
                      <a:lnTo>
                        <a:pt x="2077" y="55"/>
                      </a:lnTo>
                      <a:lnTo>
                        <a:pt x="2154" y="43"/>
                      </a:lnTo>
                      <a:lnTo>
                        <a:pt x="2217" y="32"/>
                      </a:lnTo>
                      <a:lnTo>
                        <a:pt x="2288" y="25"/>
                      </a:lnTo>
                      <a:lnTo>
                        <a:pt x="2360" y="20"/>
                      </a:lnTo>
                      <a:lnTo>
                        <a:pt x="2434" y="16"/>
                      </a:lnTo>
                      <a:lnTo>
                        <a:pt x="2527" y="9"/>
                      </a:lnTo>
                      <a:lnTo>
                        <a:pt x="2599" y="16"/>
                      </a:lnTo>
                      <a:lnTo>
                        <a:pt x="2664" y="20"/>
                      </a:lnTo>
                      <a:lnTo>
                        <a:pt x="2730" y="23"/>
                      </a:lnTo>
                      <a:lnTo>
                        <a:pt x="2792" y="16"/>
                      </a:lnTo>
                      <a:lnTo>
                        <a:pt x="2866" y="9"/>
                      </a:lnTo>
                      <a:lnTo>
                        <a:pt x="2938" y="0"/>
                      </a:lnTo>
                      <a:lnTo>
                        <a:pt x="2904" y="18"/>
                      </a:lnTo>
                      <a:lnTo>
                        <a:pt x="2866" y="34"/>
                      </a:lnTo>
                      <a:lnTo>
                        <a:pt x="2838" y="57"/>
                      </a:lnTo>
                      <a:lnTo>
                        <a:pt x="2810" y="85"/>
                      </a:lnTo>
                      <a:lnTo>
                        <a:pt x="2754" y="82"/>
                      </a:lnTo>
                      <a:lnTo>
                        <a:pt x="2695" y="87"/>
                      </a:lnTo>
                      <a:lnTo>
                        <a:pt x="2649" y="96"/>
                      </a:lnTo>
                      <a:lnTo>
                        <a:pt x="2596" y="108"/>
                      </a:lnTo>
                      <a:lnTo>
                        <a:pt x="2546" y="117"/>
                      </a:lnTo>
                      <a:lnTo>
                        <a:pt x="2490" y="128"/>
                      </a:lnTo>
                      <a:lnTo>
                        <a:pt x="2434" y="142"/>
                      </a:lnTo>
                      <a:lnTo>
                        <a:pt x="2375" y="156"/>
                      </a:lnTo>
                      <a:lnTo>
                        <a:pt x="2316" y="172"/>
                      </a:lnTo>
                      <a:lnTo>
                        <a:pt x="2260" y="188"/>
                      </a:lnTo>
                      <a:lnTo>
                        <a:pt x="2207" y="209"/>
                      </a:lnTo>
                      <a:lnTo>
                        <a:pt x="2139" y="232"/>
                      </a:lnTo>
                      <a:lnTo>
                        <a:pt x="2077" y="260"/>
                      </a:lnTo>
                      <a:lnTo>
                        <a:pt x="2012" y="292"/>
                      </a:lnTo>
                      <a:lnTo>
                        <a:pt x="1949" y="326"/>
                      </a:lnTo>
                      <a:lnTo>
                        <a:pt x="1878" y="377"/>
                      </a:lnTo>
                      <a:lnTo>
                        <a:pt x="1822" y="437"/>
                      </a:lnTo>
                      <a:lnTo>
                        <a:pt x="1763" y="510"/>
                      </a:lnTo>
                      <a:lnTo>
                        <a:pt x="1698" y="607"/>
                      </a:lnTo>
                      <a:lnTo>
                        <a:pt x="1635" y="715"/>
                      </a:lnTo>
                      <a:lnTo>
                        <a:pt x="1561" y="844"/>
                      </a:lnTo>
                      <a:lnTo>
                        <a:pt x="1685" y="791"/>
                      </a:lnTo>
                      <a:lnTo>
                        <a:pt x="1791" y="743"/>
                      </a:lnTo>
                      <a:lnTo>
                        <a:pt x="1934" y="683"/>
                      </a:lnTo>
                      <a:lnTo>
                        <a:pt x="2077" y="623"/>
                      </a:lnTo>
                      <a:lnTo>
                        <a:pt x="2139" y="607"/>
                      </a:lnTo>
                      <a:lnTo>
                        <a:pt x="2204" y="586"/>
                      </a:lnTo>
                      <a:lnTo>
                        <a:pt x="2276" y="572"/>
                      </a:lnTo>
                      <a:lnTo>
                        <a:pt x="2357" y="556"/>
                      </a:lnTo>
                      <a:lnTo>
                        <a:pt x="2437" y="543"/>
                      </a:lnTo>
                      <a:lnTo>
                        <a:pt x="2512" y="536"/>
                      </a:lnTo>
                      <a:lnTo>
                        <a:pt x="2574" y="531"/>
                      </a:lnTo>
                      <a:lnTo>
                        <a:pt x="2667" y="524"/>
                      </a:lnTo>
                      <a:lnTo>
                        <a:pt x="2751" y="529"/>
                      </a:lnTo>
                      <a:lnTo>
                        <a:pt x="2820" y="533"/>
                      </a:lnTo>
                      <a:lnTo>
                        <a:pt x="2907" y="540"/>
                      </a:lnTo>
                      <a:lnTo>
                        <a:pt x="2987" y="547"/>
                      </a:lnTo>
                      <a:lnTo>
                        <a:pt x="3065" y="552"/>
                      </a:lnTo>
                      <a:lnTo>
                        <a:pt x="3147" y="561"/>
                      </a:lnTo>
                      <a:lnTo>
                        <a:pt x="3225" y="566"/>
                      </a:lnTo>
                      <a:lnTo>
                        <a:pt x="3309" y="572"/>
                      </a:lnTo>
                      <a:lnTo>
                        <a:pt x="3393" y="579"/>
                      </a:lnTo>
                      <a:lnTo>
                        <a:pt x="3470" y="586"/>
                      </a:lnTo>
                      <a:lnTo>
                        <a:pt x="3567" y="595"/>
                      </a:lnTo>
                      <a:lnTo>
                        <a:pt x="3660" y="602"/>
                      </a:lnTo>
                      <a:lnTo>
                        <a:pt x="3750" y="614"/>
                      </a:lnTo>
                      <a:lnTo>
                        <a:pt x="3893" y="630"/>
                      </a:lnTo>
                      <a:lnTo>
                        <a:pt x="3940" y="628"/>
                      </a:lnTo>
                      <a:lnTo>
                        <a:pt x="3974" y="630"/>
                      </a:lnTo>
                      <a:lnTo>
                        <a:pt x="4020" y="641"/>
                      </a:lnTo>
                      <a:lnTo>
                        <a:pt x="4098" y="664"/>
                      </a:lnTo>
                      <a:lnTo>
                        <a:pt x="3961" y="644"/>
                      </a:lnTo>
                      <a:lnTo>
                        <a:pt x="3899" y="635"/>
                      </a:lnTo>
                      <a:lnTo>
                        <a:pt x="3840" y="635"/>
                      </a:lnTo>
                      <a:lnTo>
                        <a:pt x="3716" y="641"/>
                      </a:lnTo>
                      <a:lnTo>
                        <a:pt x="3629" y="646"/>
                      </a:lnTo>
                      <a:lnTo>
                        <a:pt x="3520" y="651"/>
                      </a:lnTo>
                      <a:lnTo>
                        <a:pt x="3430" y="653"/>
                      </a:lnTo>
                      <a:lnTo>
                        <a:pt x="3340" y="655"/>
                      </a:lnTo>
                      <a:lnTo>
                        <a:pt x="3256" y="662"/>
                      </a:lnTo>
                      <a:lnTo>
                        <a:pt x="3178" y="653"/>
                      </a:lnTo>
                      <a:lnTo>
                        <a:pt x="3082" y="648"/>
                      </a:lnTo>
                      <a:lnTo>
                        <a:pt x="2987" y="653"/>
                      </a:lnTo>
                      <a:lnTo>
                        <a:pt x="2900" y="660"/>
                      </a:lnTo>
                      <a:lnTo>
                        <a:pt x="2823" y="664"/>
                      </a:lnTo>
                      <a:lnTo>
                        <a:pt x="2736" y="669"/>
                      </a:lnTo>
                      <a:lnTo>
                        <a:pt x="2667" y="671"/>
                      </a:lnTo>
                      <a:lnTo>
                        <a:pt x="2583" y="676"/>
                      </a:lnTo>
                      <a:lnTo>
                        <a:pt x="2512" y="687"/>
                      </a:lnTo>
                      <a:lnTo>
                        <a:pt x="2444" y="699"/>
                      </a:lnTo>
                      <a:lnTo>
                        <a:pt x="2375" y="713"/>
                      </a:lnTo>
                      <a:lnTo>
                        <a:pt x="2301" y="729"/>
                      </a:lnTo>
                      <a:lnTo>
                        <a:pt x="2226" y="745"/>
                      </a:lnTo>
                      <a:lnTo>
                        <a:pt x="2145" y="763"/>
                      </a:lnTo>
                      <a:lnTo>
                        <a:pt x="2077" y="777"/>
                      </a:lnTo>
                      <a:lnTo>
                        <a:pt x="1949" y="805"/>
                      </a:lnTo>
                      <a:lnTo>
                        <a:pt x="1875" y="819"/>
                      </a:lnTo>
                      <a:lnTo>
                        <a:pt x="1763" y="860"/>
                      </a:lnTo>
                      <a:lnTo>
                        <a:pt x="1611" y="911"/>
                      </a:lnTo>
                      <a:lnTo>
                        <a:pt x="1772" y="924"/>
                      </a:lnTo>
                      <a:lnTo>
                        <a:pt x="1952" y="934"/>
                      </a:lnTo>
                      <a:lnTo>
                        <a:pt x="1990" y="941"/>
                      </a:lnTo>
                      <a:lnTo>
                        <a:pt x="2077" y="980"/>
                      </a:lnTo>
                      <a:lnTo>
                        <a:pt x="2133" y="1000"/>
                      </a:lnTo>
                      <a:lnTo>
                        <a:pt x="2186" y="1023"/>
                      </a:lnTo>
                      <a:lnTo>
                        <a:pt x="2198" y="1037"/>
                      </a:lnTo>
                      <a:lnTo>
                        <a:pt x="2229" y="1083"/>
                      </a:lnTo>
                      <a:lnTo>
                        <a:pt x="2288" y="1159"/>
                      </a:lnTo>
                      <a:lnTo>
                        <a:pt x="2223" y="1129"/>
                      </a:lnTo>
                      <a:lnTo>
                        <a:pt x="2145" y="1088"/>
                      </a:lnTo>
                      <a:lnTo>
                        <a:pt x="2077" y="1069"/>
                      </a:lnTo>
                      <a:lnTo>
                        <a:pt x="1952" y="1044"/>
                      </a:lnTo>
                      <a:lnTo>
                        <a:pt x="1862" y="1023"/>
                      </a:lnTo>
                      <a:lnTo>
                        <a:pt x="1772" y="1000"/>
                      </a:lnTo>
                      <a:lnTo>
                        <a:pt x="1719" y="987"/>
                      </a:lnTo>
                      <a:lnTo>
                        <a:pt x="1614" y="1000"/>
                      </a:lnTo>
                      <a:lnTo>
                        <a:pt x="1545" y="1010"/>
                      </a:lnTo>
                      <a:lnTo>
                        <a:pt x="1455" y="1023"/>
                      </a:lnTo>
                      <a:lnTo>
                        <a:pt x="1502" y="1037"/>
                      </a:lnTo>
                      <a:lnTo>
                        <a:pt x="1552" y="1051"/>
                      </a:lnTo>
                      <a:lnTo>
                        <a:pt x="1617" y="1074"/>
                      </a:lnTo>
                      <a:lnTo>
                        <a:pt x="1698" y="1072"/>
                      </a:lnTo>
                      <a:lnTo>
                        <a:pt x="1825" y="1076"/>
                      </a:lnTo>
                      <a:lnTo>
                        <a:pt x="1903" y="1090"/>
                      </a:lnTo>
                      <a:lnTo>
                        <a:pt x="2005" y="1111"/>
                      </a:lnTo>
                      <a:lnTo>
                        <a:pt x="2077" y="1132"/>
                      </a:lnTo>
                      <a:lnTo>
                        <a:pt x="2164" y="1150"/>
                      </a:lnTo>
                      <a:lnTo>
                        <a:pt x="2263" y="1173"/>
                      </a:lnTo>
                      <a:lnTo>
                        <a:pt x="2350" y="1194"/>
                      </a:lnTo>
                      <a:lnTo>
                        <a:pt x="2428" y="1203"/>
                      </a:lnTo>
                      <a:lnTo>
                        <a:pt x="2493" y="1214"/>
                      </a:lnTo>
                      <a:lnTo>
                        <a:pt x="2555" y="1230"/>
                      </a:lnTo>
                      <a:lnTo>
                        <a:pt x="2633" y="1249"/>
                      </a:lnTo>
                      <a:lnTo>
                        <a:pt x="2717" y="1279"/>
                      </a:lnTo>
                      <a:lnTo>
                        <a:pt x="2795" y="1311"/>
                      </a:lnTo>
                      <a:lnTo>
                        <a:pt x="2832" y="1334"/>
                      </a:lnTo>
                      <a:lnTo>
                        <a:pt x="2885" y="1388"/>
                      </a:lnTo>
                      <a:lnTo>
                        <a:pt x="2953" y="1452"/>
                      </a:lnTo>
                      <a:lnTo>
                        <a:pt x="3000" y="1503"/>
                      </a:lnTo>
                      <a:lnTo>
                        <a:pt x="3047" y="1563"/>
                      </a:lnTo>
                      <a:lnTo>
                        <a:pt x="3094" y="1618"/>
                      </a:lnTo>
                      <a:lnTo>
                        <a:pt x="3138" y="1678"/>
                      </a:lnTo>
                      <a:lnTo>
                        <a:pt x="3178" y="1728"/>
                      </a:lnTo>
                      <a:lnTo>
                        <a:pt x="3225" y="1788"/>
                      </a:lnTo>
                      <a:lnTo>
                        <a:pt x="3278" y="1857"/>
                      </a:lnTo>
                      <a:lnTo>
                        <a:pt x="3327" y="1924"/>
                      </a:lnTo>
                      <a:lnTo>
                        <a:pt x="3377" y="1979"/>
                      </a:lnTo>
                      <a:lnTo>
                        <a:pt x="3439" y="2044"/>
                      </a:lnTo>
                      <a:lnTo>
                        <a:pt x="3355" y="1991"/>
                      </a:lnTo>
                      <a:lnTo>
                        <a:pt x="3299" y="1959"/>
                      </a:lnTo>
                      <a:lnTo>
                        <a:pt x="3222" y="1915"/>
                      </a:lnTo>
                      <a:lnTo>
                        <a:pt x="3147" y="1869"/>
                      </a:lnTo>
                      <a:lnTo>
                        <a:pt x="3085" y="1827"/>
                      </a:lnTo>
                      <a:lnTo>
                        <a:pt x="3022" y="1791"/>
                      </a:lnTo>
                      <a:lnTo>
                        <a:pt x="2966" y="1761"/>
                      </a:lnTo>
                      <a:lnTo>
                        <a:pt x="2907" y="1728"/>
                      </a:lnTo>
                      <a:lnTo>
                        <a:pt x="2841" y="1694"/>
                      </a:lnTo>
                      <a:lnTo>
                        <a:pt x="2779" y="1662"/>
                      </a:lnTo>
                      <a:lnTo>
                        <a:pt x="2723" y="1630"/>
                      </a:lnTo>
                      <a:lnTo>
                        <a:pt x="2652" y="1586"/>
                      </a:lnTo>
                      <a:lnTo>
                        <a:pt x="2574" y="1542"/>
                      </a:lnTo>
                      <a:lnTo>
                        <a:pt x="2500" y="1494"/>
                      </a:lnTo>
                      <a:lnTo>
                        <a:pt x="2428" y="1452"/>
                      </a:lnTo>
                      <a:lnTo>
                        <a:pt x="2360" y="1418"/>
                      </a:lnTo>
                      <a:lnTo>
                        <a:pt x="2294" y="1381"/>
                      </a:lnTo>
                      <a:lnTo>
                        <a:pt x="2214" y="1349"/>
                      </a:lnTo>
                      <a:lnTo>
                        <a:pt x="2145" y="1325"/>
                      </a:lnTo>
                      <a:lnTo>
                        <a:pt x="2077" y="1304"/>
                      </a:lnTo>
                      <a:lnTo>
                        <a:pt x="1977" y="1281"/>
                      </a:lnTo>
                      <a:lnTo>
                        <a:pt x="1884" y="1260"/>
                      </a:lnTo>
                      <a:lnTo>
                        <a:pt x="1816" y="1244"/>
                      </a:lnTo>
                      <a:lnTo>
                        <a:pt x="1741" y="1226"/>
                      </a:lnTo>
                      <a:lnTo>
                        <a:pt x="1635" y="1182"/>
                      </a:lnTo>
                      <a:lnTo>
                        <a:pt x="1530" y="1143"/>
                      </a:lnTo>
                      <a:lnTo>
                        <a:pt x="1691" y="1230"/>
                      </a:lnTo>
                      <a:lnTo>
                        <a:pt x="1707" y="1249"/>
                      </a:lnTo>
                      <a:lnTo>
                        <a:pt x="1741" y="1286"/>
                      </a:lnTo>
                      <a:lnTo>
                        <a:pt x="1782" y="1332"/>
                      </a:lnTo>
                      <a:lnTo>
                        <a:pt x="1828" y="1390"/>
                      </a:lnTo>
                      <a:lnTo>
                        <a:pt x="1878" y="1443"/>
                      </a:lnTo>
                      <a:lnTo>
                        <a:pt x="1928" y="1501"/>
                      </a:lnTo>
                      <a:lnTo>
                        <a:pt x="1987" y="1563"/>
                      </a:lnTo>
                      <a:lnTo>
                        <a:pt x="2030" y="1613"/>
                      </a:lnTo>
                      <a:lnTo>
                        <a:pt x="2077" y="1664"/>
                      </a:lnTo>
                      <a:lnTo>
                        <a:pt x="2123" y="1722"/>
                      </a:lnTo>
                      <a:lnTo>
                        <a:pt x="2179" y="1795"/>
                      </a:lnTo>
                      <a:lnTo>
                        <a:pt x="2226" y="1855"/>
                      </a:lnTo>
                      <a:lnTo>
                        <a:pt x="2266" y="1903"/>
                      </a:lnTo>
                      <a:lnTo>
                        <a:pt x="2301" y="1963"/>
                      </a:lnTo>
                      <a:lnTo>
                        <a:pt x="2338" y="2018"/>
                      </a:lnTo>
                      <a:lnTo>
                        <a:pt x="2360" y="2076"/>
                      </a:lnTo>
                      <a:lnTo>
                        <a:pt x="2378" y="2117"/>
                      </a:lnTo>
                      <a:lnTo>
                        <a:pt x="2391" y="2177"/>
                      </a:lnTo>
                      <a:lnTo>
                        <a:pt x="2400" y="2255"/>
                      </a:lnTo>
                      <a:lnTo>
                        <a:pt x="2409" y="2329"/>
                      </a:lnTo>
                      <a:lnTo>
                        <a:pt x="2425" y="2410"/>
                      </a:lnTo>
                      <a:lnTo>
                        <a:pt x="2437" y="2479"/>
                      </a:lnTo>
                      <a:lnTo>
                        <a:pt x="2447" y="2557"/>
                      </a:lnTo>
                      <a:lnTo>
                        <a:pt x="2381" y="2479"/>
                      </a:lnTo>
                      <a:lnTo>
                        <a:pt x="2335" y="2430"/>
                      </a:lnTo>
                      <a:lnTo>
                        <a:pt x="2288" y="2377"/>
                      </a:lnTo>
                      <a:lnTo>
                        <a:pt x="2257" y="2334"/>
                      </a:lnTo>
                      <a:lnTo>
                        <a:pt x="2226" y="2278"/>
                      </a:lnTo>
                      <a:lnTo>
                        <a:pt x="2204" y="2219"/>
                      </a:lnTo>
                      <a:lnTo>
                        <a:pt x="2170" y="2147"/>
                      </a:lnTo>
                      <a:lnTo>
                        <a:pt x="2136" y="2083"/>
                      </a:lnTo>
                      <a:lnTo>
                        <a:pt x="2099" y="2011"/>
                      </a:lnTo>
                      <a:lnTo>
                        <a:pt x="2067" y="1949"/>
                      </a:lnTo>
                      <a:lnTo>
                        <a:pt x="2030" y="1887"/>
                      </a:lnTo>
                      <a:lnTo>
                        <a:pt x="1987" y="1834"/>
                      </a:lnTo>
                      <a:lnTo>
                        <a:pt x="1946" y="1786"/>
                      </a:lnTo>
                      <a:lnTo>
                        <a:pt x="1893" y="1731"/>
                      </a:lnTo>
                      <a:lnTo>
                        <a:pt x="1831" y="1673"/>
                      </a:lnTo>
                      <a:lnTo>
                        <a:pt x="1788" y="1630"/>
                      </a:lnTo>
                      <a:lnTo>
                        <a:pt x="1738" y="1579"/>
                      </a:lnTo>
                      <a:lnTo>
                        <a:pt x="1729" y="1535"/>
                      </a:lnTo>
                      <a:lnTo>
                        <a:pt x="1694" y="1468"/>
                      </a:lnTo>
                      <a:lnTo>
                        <a:pt x="1660" y="1416"/>
                      </a:lnTo>
                      <a:lnTo>
                        <a:pt x="1632" y="1358"/>
                      </a:lnTo>
                      <a:lnTo>
                        <a:pt x="1611" y="1336"/>
                      </a:lnTo>
                      <a:lnTo>
                        <a:pt x="1548" y="1281"/>
                      </a:lnTo>
                      <a:lnTo>
                        <a:pt x="1508" y="1228"/>
                      </a:lnTo>
                      <a:lnTo>
                        <a:pt x="1468" y="1180"/>
                      </a:lnTo>
                      <a:lnTo>
                        <a:pt x="1427" y="1132"/>
                      </a:lnTo>
                      <a:lnTo>
                        <a:pt x="1353" y="1161"/>
                      </a:lnTo>
                      <a:lnTo>
                        <a:pt x="1284" y="1198"/>
                      </a:lnTo>
                      <a:lnTo>
                        <a:pt x="1210" y="1253"/>
                      </a:lnTo>
                      <a:lnTo>
                        <a:pt x="1132" y="1300"/>
                      </a:lnTo>
                      <a:lnTo>
                        <a:pt x="1076" y="1346"/>
                      </a:lnTo>
                      <a:lnTo>
                        <a:pt x="1029" y="1399"/>
                      </a:lnTo>
                      <a:lnTo>
                        <a:pt x="972" y="1464"/>
                      </a:lnTo>
                      <a:lnTo>
                        <a:pt x="910" y="1542"/>
                      </a:lnTo>
                      <a:lnTo>
                        <a:pt x="857" y="1604"/>
                      </a:lnTo>
                      <a:lnTo>
                        <a:pt x="798" y="1682"/>
                      </a:lnTo>
                      <a:lnTo>
                        <a:pt x="752" y="1749"/>
                      </a:lnTo>
                      <a:lnTo>
                        <a:pt x="708" y="1811"/>
                      </a:lnTo>
                      <a:lnTo>
                        <a:pt x="665" y="1876"/>
                      </a:lnTo>
                      <a:lnTo>
                        <a:pt x="627" y="1940"/>
                      </a:lnTo>
                      <a:lnTo>
                        <a:pt x="581" y="2011"/>
                      </a:lnTo>
                      <a:lnTo>
                        <a:pt x="540" y="2081"/>
                      </a:lnTo>
                      <a:lnTo>
                        <a:pt x="478" y="2161"/>
                      </a:lnTo>
                      <a:lnTo>
                        <a:pt x="425" y="2239"/>
                      </a:lnTo>
                      <a:lnTo>
                        <a:pt x="363" y="2324"/>
                      </a:lnTo>
                      <a:lnTo>
                        <a:pt x="310" y="2398"/>
                      </a:lnTo>
                      <a:lnTo>
                        <a:pt x="270" y="2442"/>
                      </a:lnTo>
                      <a:lnTo>
                        <a:pt x="223" y="2492"/>
                      </a:lnTo>
                      <a:lnTo>
                        <a:pt x="177" y="2541"/>
                      </a:lnTo>
                      <a:lnTo>
                        <a:pt x="124" y="2589"/>
                      </a:lnTo>
                      <a:lnTo>
                        <a:pt x="68" y="2635"/>
                      </a:lnTo>
                      <a:lnTo>
                        <a:pt x="0" y="2695"/>
                      </a:lnTo>
                      <a:lnTo>
                        <a:pt x="24" y="2621"/>
                      </a:lnTo>
                      <a:lnTo>
                        <a:pt x="46" y="2564"/>
                      </a:lnTo>
                      <a:lnTo>
                        <a:pt x="83" y="2497"/>
                      </a:lnTo>
                      <a:lnTo>
                        <a:pt x="124" y="2442"/>
                      </a:lnTo>
                      <a:lnTo>
                        <a:pt x="189" y="2361"/>
                      </a:lnTo>
                      <a:lnTo>
                        <a:pt x="254" y="2274"/>
                      </a:lnTo>
                      <a:lnTo>
                        <a:pt x="329" y="2177"/>
                      </a:lnTo>
                      <a:lnTo>
                        <a:pt x="388" y="2097"/>
                      </a:lnTo>
                      <a:lnTo>
                        <a:pt x="447" y="2021"/>
                      </a:lnTo>
                      <a:lnTo>
                        <a:pt x="506" y="1949"/>
                      </a:lnTo>
                      <a:lnTo>
                        <a:pt x="550" y="1890"/>
                      </a:lnTo>
                      <a:lnTo>
                        <a:pt x="602" y="1827"/>
                      </a:lnTo>
                      <a:lnTo>
                        <a:pt x="649" y="1777"/>
                      </a:lnTo>
                      <a:lnTo>
                        <a:pt x="708" y="1712"/>
                      </a:lnTo>
                      <a:lnTo>
                        <a:pt x="767" y="1646"/>
                      </a:lnTo>
                      <a:lnTo>
                        <a:pt x="826" y="1579"/>
                      </a:lnTo>
                      <a:lnTo>
                        <a:pt x="888" y="1508"/>
                      </a:lnTo>
                      <a:lnTo>
                        <a:pt x="938" y="1445"/>
                      </a:lnTo>
                      <a:lnTo>
                        <a:pt x="985" y="1386"/>
                      </a:lnTo>
                      <a:lnTo>
                        <a:pt x="1026" y="1327"/>
                      </a:lnTo>
                      <a:lnTo>
                        <a:pt x="1048" y="1283"/>
                      </a:lnTo>
                      <a:lnTo>
                        <a:pt x="1073" y="1240"/>
                      </a:lnTo>
                      <a:lnTo>
                        <a:pt x="1101" y="1194"/>
                      </a:lnTo>
                      <a:lnTo>
                        <a:pt x="1144" y="1150"/>
                      </a:lnTo>
                      <a:lnTo>
                        <a:pt x="1203" y="1092"/>
                      </a:lnTo>
                      <a:lnTo>
                        <a:pt x="1253" y="1037"/>
                      </a:lnTo>
                      <a:lnTo>
                        <a:pt x="1300" y="996"/>
                      </a:lnTo>
                      <a:lnTo>
                        <a:pt x="1340" y="950"/>
                      </a:lnTo>
                      <a:lnTo>
                        <a:pt x="1325" y="904"/>
                      </a:lnTo>
                      <a:lnTo>
                        <a:pt x="1303" y="839"/>
                      </a:lnTo>
                      <a:lnTo>
                        <a:pt x="1188" y="807"/>
                      </a:lnTo>
                      <a:lnTo>
                        <a:pt x="1064" y="733"/>
                      </a:lnTo>
                      <a:lnTo>
                        <a:pt x="932" y="660"/>
                      </a:lnTo>
                      <a:lnTo>
                        <a:pt x="860" y="621"/>
                      </a:lnTo>
                      <a:lnTo>
                        <a:pt x="801" y="591"/>
                      </a:lnTo>
                      <a:lnTo>
                        <a:pt x="699" y="556"/>
                      </a:lnTo>
                      <a:lnTo>
                        <a:pt x="599" y="524"/>
                      </a:lnTo>
                      <a:lnTo>
                        <a:pt x="491" y="496"/>
                      </a:lnTo>
                      <a:lnTo>
                        <a:pt x="410" y="476"/>
                      </a:lnTo>
                      <a:lnTo>
                        <a:pt x="313" y="446"/>
                      </a:lnTo>
                      <a:lnTo>
                        <a:pt x="230" y="423"/>
                      </a:lnTo>
                      <a:lnTo>
                        <a:pt x="146" y="409"/>
                      </a:lnTo>
                      <a:lnTo>
                        <a:pt x="74" y="393"/>
                      </a:lnTo>
                      <a:lnTo>
                        <a:pt x="139" y="386"/>
                      </a:lnTo>
                      <a:lnTo>
                        <a:pt x="192" y="379"/>
                      </a:lnTo>
                      <a:lnTo>
                        <a:pt x="233" y="375"/>
                      </a:lnTo>
                      <a:lnTo>
                        <a:pt x="279" y="370"/>
                      </a:lnTo>
                      <a:lnTo>
                        <a:pt x="323" y="372"/>
                      </a:lnTo>
                      <a:lnTo>
                        <a:pt x="422" y="409"/>
                      </a:lnTo>
                      <a:lnTo>
                        <a:pt x="503" y="444"/>
                      </a:lnTo>
                      <a:lnTo>
                        <a:pt x="590" y="485"/>
                      </a:lnTo>
                      <a:lnTo>
                        <a:pt x="677" y="524"/>
                      </a:lnTo>
                      <a:lnTo>
                        <a:pt x="783" y="570"/>
                      </a:lnTo>
                      <a:lnTo>
                        <a:pt x="873" y="614"/>
                      </a:lnTo>
                      <a:lnTo>
                        <a:pt x="948" y="644"/>
                      </a:lnTo>
                      <a:lnTo>
                        <a:pt x="1076" y="697"/>
                      </a:lnTo>
                      <a:lnTo>
                        <a:pt x="1144" y="717"/>
                      </a:lnTo>
                      <a:lnTo>
                        <a:pt x="1194" y="708"/>
                      </a:lnTo>
                      <a:lnTo>
                        <a:pt x="1244" y="699"/>
                      </a:lnTo>
                      <a:lnTo>
                        <a:pt x="1294" y="687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0680" cy="545040"/>
                </a:xfrm>
                <a:custGeom>
                  <a:avLst/>
                  <a:gdLst/>
                  <a:ahLst/>
                  <a:rect l="0" t="0" r="r" b="b"/>
                  <a:pathLst>
                    <a:path w="363" h="1514">
                      <a:moveTo>
                        <a:pt x="198" y="0"/>
                      </a:moveTo>
                      <a:lnTo>
                        <a:pt x="241" y="73"/>
                      </a:lnTo>
                      <a:lnTo>
                        <a:pt x="271" y="121"/>
                      </a:lnTo>
                      <a:lnTo>
                        <a:pt x="330" y="192"/>
                      </a:lnTo>
                      <a:lnTo>
                        <a:pt x="345" y="258"/>
                      </a:lnTo>
                      <a:lnTo>
                        <a:pt x="357" y="343"/>
                      </a:lnTo>
                      <a:lnTo>
                        <a:pt x="360" y="447"/>
                      </a:lnTo>
                      <a:lnTo>
                        <a:pt x="363" y="513"/>
                      </a:lnTo>
                      <a:lnTo>
                        <a:pt x="360" y="591"/>
                      </a:lnTo>
                      <a:lnTo>
                        <a:pt x="345" y="685"/>
                      </a:lnTo>
                      <a:lnTo>
                        <a:pt x="333" y="767"/>
                      </a:lnTo>
                      <a:lnTo>
                        <a:pt x="305" y="895"/>
                      </a:lnTo>
                      <a:lnTo>
                        <a:pt x="281" y="962"/>
                      </a:lnTo>
                      <a:lnTo>
                        <a:pt x="234" y="1044"/>
                      </a:lnTo>
                      <a:lnTo>
                        <a:pt x="174" y="1141"/>
                      </a:lnTo>
                      <a:lnTo>
                        <a:pt x="122" y="1226"/>
                      </a:lnTo>
                      <a:lnTo>
                        <a:pt x="72" y="1308"/>
                      </a:lnTo>
                      <a:lnTo>
                        <a:pt x="33" y="1377"/>
                      </a:lnTo>
                      <a:lnTo>
                        <a:pt x="0" y="1514"/>
                      </a:lnTo>
                      <a:lnTo>
                        <a:pt x="18" y="1377"/>
                      </a:lnTo>
                      <a:lnTo>
                        <a:pt x="30" y="1281"/>
                      </a:lnTo>
                      <a:lnTo>
                        <a:pt x="39" y="1191"/>
                      </a:lnTo>
                      <a:lnTo>
                        <a:pt x="48" y="1097"/>
                      </a:lnTo>
                      <a:lnTo>
                        <a:pt x="69" y="982"/>
                      </a:lnTo>
                      <a:lnTo>
                        <a:pt x="98" y="897"/>
                      </a:lnTo>
                      <a:lnTo>
                        <a:pt x="122" y="811"/>
                      </a:lnTo>
                      <a:lnTo>
                        <a:pt x="149" y="735"/>
                      </a:lnTo>
                      <a:lnTo>
                        <a:pt x="174" y="655"/>
                      </a:lnTo>
                      <a:lnTo>
                        <a:pt x="198" y="568"/>
                      </a:lnTo>
                      <a:lnTo>
                        <a:pt x="213" y="486"/>
                      </a:lnTo>
                      <a:lnTo>
                        <a:pt x="222" y="417"/>
                      </a:lnTo>
                      <a:lnTo>
                        <a:pt x="228" y="331"/>
                      </a:lnTo>
                      <a:lnTo>
                        <a:pt x="228" y="240"/>
                      </a:lnTo>
                      <a:lnTo>
                        <a:pt x="231" y="121"/>
                      </a:lnTo>
                      <a:lnTo>
                        <a:pt x="216" y="70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8160" cy="138600"/>
                </a:xfrm>
                <a:custGeom>
                  <a:avLst/>
                  <a:gdLst/>
                  <a:ahLst/>
                  <a:rect l="0" t="0" r="r" b="b"/>
                  <a:pathLst>
                    <a:path w="1606" h="385">
                      <a:moveTo>
                        <a:pt x="1606" y="385"/>
                      </a:moveTo>
                      <a:lnTo>
                        <a:pt x="1578" y="321"/>
                      </a:lnTo>
                      <a:lnTo>
                        <a:pt x="1544" y="260"/>
                      </a:lnTo>
                      <a:lnTo>
                        <a:pt x="1512" y="249"/>
                      </a:lnTo>
                      <a:lnTo>
                        <a:pt x="1450" y="229"/>
                      </a:lnTo>
                      <a:lnTo>
                        <a:pt x="1388" y="218"/>
                      </a:lnTo>
                      <a:lnTo>
                        <a:pt x="1326" y="229"/>
                      </a:lnTo>
                      <a:lnTo>
                        <a:pt x="1255" y="240"/>
                      </a:lnTo>
                      <a:lnTo>
                        <a:pt x="1168" y="211"/>
                      </a:lnTo>
                      <a:lnTo>
                        <a:pt x="1056" y="178"/>
                      </a:lnTo>
                      <a:lnTo>
                        <a:pt x="954" y="147"/>
                      </a:lnTo>
                      <a:lnTo>
                        <a:pt x="879" y="129"/>
                      </a:lnTo>
                      <a:lnTo>
                        <a:pt x="757" y="98"/>
                      </a:lnTo>
                      <a:lnTo>
                        <a:pt x="639" y="64"/>
                      </a:lnTo>
                      <a:lnTo>
                        <a:pt x="521" y="37"/>
                      </a:lnTo>
                      <a:lnTo>
                        <a:pt x="403" y="13"/>
                      </a:lnTo>
                      <a:lnTo>
                        <a:pt x="270" y="6"/>
                      </a:lnTo>
                      <a:lnTo>
                        <a:pt x="152" y="0"/>
                      </a:lnTo>
                      <a:lnTo>
                        <a:pt x="117" y="11"/>
                      </a:lnTo>
                      <a:lnTo>
                        <a:pt x="71" y="33"/>
                      </a:lnTo>
                      <a:lnTo>
                        <a:pt x="31" y="59"/>
                      </a:lnTo>
                      <a:lnTo>
                        <a:pt x="0" y="86"/>
                      </a:lnTo>
                      <a:lnTo>
                        <a:pt x="52" y="90"/>
                      </a:lnTo>
                      <a:lnTo>
                        <a:pt x="117" y="95"/>
                      </a:lnTo>
                      <a:lnTo>
                        <a:pt x="180" y="98"/>
                      </a:lnTo>
                      <a:lnTo>
                        <a:pt x="223" y="93"/>
                      </a:lnTo>
                      <a:lnTo>
                        <a:pt x="285" y="90"/>
                      </a:lnTo>
                      <a:lnTo>
                        <a:pt x="369" y="86"/>
                      </a:lnTo>
                      <a:lnTo>
                        <a:pt x="484" y="90"/>
                      </a:lnTo>
                      <a:lnTo>
                        <a:pt x="583" y="98"/>
                      </a:lnTo>
                      <a:lnTo>
                        <a:pt x="676" y="114"/>
                      </a:lnTo>
                      <a:lnTo>
                        <a:pt x="769" y="125"/>
                      </a:lnTo>
                      <a:lnTo>
                        <a:pt x="867" y="134"/>
                      </a:lnTo>
                      <a:lnTo>
                        <a:pt x="944" y="156"/>
                      </a:lnTo>
                      <a:lnTo>
                        <a:pt x="1025" y="185"/>
                      </a:lnTo>
                      <a:lnTo>
                        <a:pt x="1100" y="216"/>
                      </a:lnTo>
                      <a:lnTo>
                        <a:pt x="1183" y="247"/>
                      </a:lnTo>
                      <a:lnTo>
                        <a:pt x="1221" y="251"/>
                      </a:lnTo>
                      <a:lnTo>
                        <a:pt x="1264" y="249"/>
                      </a:lnTo>
                      <a:lnTo>
                        <a:pt x="1323" y="271"/>
                      </a:lnTo>
                      <a:lnTo>
                        <a:pt x="1385" y="294"/>
                      </a:lnTo>
                      <a:lnTo>
                        <a:pt x="1444" y="321"/>
                      </a:lnTo>
                      <a:lnTo>
                        <a:pt x="1528" y="352"/>
                      </a:lnTo>
                      <a:lnTo>
                        <a:pt x="1578" y="370"/>
                      </a:lnTo>
                      <a:lnTo>
                        <a:pt x="1606" y="385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598680" cy="57600"/>
                </a:xfrm>
                <a:custGeom>
                  <a:avLst/>
                  <a:gdLst/>
                  <a:ahLst/>
                  <a:rect l="0" t="0" r="r" b="b"/>
                  <a:pathLst>
                    <a:path w="1663" h="160">
                      <a:moveTo>
                        <a:pt x="1663" y="160"/>
                      </a:moveTo>
                      <a:lnTo>
                        <a:pt x="1623" y="146"/>
                      </a:lnTo>
                      <a:lnTo>
                        <a:pt x="1576" y="129"/>
                      </a:lnTo>
                      <a:lnTo>
                        <a:pt x="1521" y="111"/>
                      </a:lnTo>
                      <a:lnTo>
                        <a:pt x="1474" y="97"/>
                      </a:lnTo>
                      <a:lnTo>
                        <a:pt x="1413" y="78"/>
                      </a:lnTo>
                      <a:lnTo>
                        <a:pt x="1339" y="51"/>
                      </a:lnTo>
                      <a:lnTo>
                        <a:pt x="1274" y="25"/>
                      </a:lnTo>
                      <a:lnTo>
                        <a:pt x="1212" y="22"/>
                      </a:lnTo>
                      <a:lnTo>
                        <a:pt x="1144" y="31"/>
                      </a:lnTo>
                      <a:lnTo>
                        <a:pt x="1045" y="44"/>
                      </a:lnTo>
                      <a:lnTo>
                        <a:pt x="1005" y="42"/>
                      </a:lnTo>
                      <a:lnTo>
                        <a:pt x="881" y="27"/>
                      </a:lnTo>
                      <a:lnTo>
                        <a:pt x="744" y="12"/>
                      </a:lnTo>
                      <a:lnTo>
                        <a:pt x="655" y="4"/>
                      </a:lnTo>
                      <a:lnTo>
                        <a:pt x="540" y="0"/>
                      </a:lnTo>
                      <a:lnTo>
                        <a:pt x="417" y="6"/>
                      </a:lnTo>
                      <a:lnTo>
                        <a:pt x="346" y="12"/>
                      </a:lnTo>
                      <a:lnTo>
                        <a:pt x="256" y="20"/>
                      </a:lnTo>
                      <a:lnTo>
                        <a:pt x="176" y="27"/>
                      </a:lnTo>
                      <a:lnTo>
                        <a:pt x="92" y="35"/>
                      </a:lnTo>
                      <a:lnTo>
                        <a:pt x="83" y="69"/>
                      </a:lnTo>
                      <a:lnTo>
                        <a:pt x="64" y="94"/>
                      </a:lnTo>
                      <a:lnTo>
                        <a:pt x="40" y="121"/>
                      </a:lnTo>
                      <a:lnTo>
                        <a:pt x="0" y="141"/>
                      </a:lnTo>
                      <a:lnTo>
                        <a:pt x="67" y="129"/>
                      </a:lnTo>
                      <a:lnTo>
                        <a:pt x="145" y="115"/>
                      </a:lnTo>
                      <a:lnTo>
                        <a:pt x="210" y="103"/>
                      </a:lnTo>
                      <a:lnTo>
                        <a:pt x="281" y="92"/>
                      </a:lnTo>
                      <a:lnTo>
                        <a:pt x="355" y="86"/>
                      </a:lnTo>
                      <a:lnTo>
                        <a:pt x="475" y="80"/>
                      </a:lnTo>
                      <a:lnTo>
                        <a:pt x="605" y="72"/>
                      </a:lnTo>
                      <a:lnTo>
                        <a:pt x="750" y="65"/>
                      </a:lnTo>
                      <a:lnTo>
                        <a:pt x="894" y="57"/>
                      </a:lnTo>
                      <a:lnTo>
                        <a:pt x="1029" y="51"/>
                      </a:lnTo>
                      <a:lnTo>
                        <a:pt x="1144" y="63"/>
                      </a:lnTo>
                      <a:lnTo>
                        <a:pt x="1224" y="78"/>
                      </a:lnTo>
                      <a:lnTo>
                        <a:pt x="1311" y="97"/>
                      </a:lnTo>
                      <a:lnTo>
                        <a:pt x="1403" y="115"/>
                      </a:lnTo>
                      <a:lnTo>
                        <a:pt x="1502" y="139"/>
                      </a:lnTo>
                      <a:lnTo>
                        <a:pt x="1580" y="150"/>
                      </a:lnTo>
                      <a:lnTo>
                        <a:pt x="1663" y="160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3080" cy="1057680"/>
              </a:xfrm>
              <a:custGeom>
                <a:avLst/>
                <a:gdLst/>
                <a:ahLst/>
                <a:rect l="0" t="0" r="r" b="b"/>
                <a:pathLst>
                  <a:path w="2453" h="2938">
                    <a:moveTo>
                      <a:pt x="602" y="1143"/>
                    </a:moveTo>
                    <a:lnTo>
                      <a:pt x="647" y="1185"/>
                    </a:lnTo>
                    <a:lnTo>
                      <a:pt x="687" y="1217"/>
                    </a:lnTo>
                    <a:lnTo>
                      <a:pt x="728" y="1245"/>
                    </a:lnTo>
                    <a:lnTo>
                      <a:pt x="778" y="1281"/>
                    </a:lnTo>
                    <a:lnTo>
                      <a:pt x="819" y="1306"/>
                    </a:lnTo>
                    <a:lnTo>
                      <a:pt x="861" y="1324"/>
                    </a:lnTo>
                    <a:lnTo>
                      <a:pt x="896" y="1345"/>
                    </a:lnTo>
                    <a:lnTo>
                      <a:pt x="874" y="1281"/>
                    </a:lnTo>
                    <a:lnTo>
                      <a:pt x="854" y="1214"/>
                    </a:lnTo>
                    <a:lnTo>
                      <a:pt x="829" y="1136"/>
                    </a:lnTo>
                    <a:lnTo>
                      <a:pt x="805" y="1057"/>
                    </a:lnTo>
                    <a:lnTo>
                      <a:pt x="783" y="983"/>
                    </a:lnTo>
                    <a:lnTo>
                      <a:pt x="758" y="905"/>
                    </a:lnTo>
                    <a:lnTo>
                      <a:pt x="721" y="827"/>
                    </a:lnTo>
                    <a:lnTo>
                      <a:pt x="679" y="738"/>
                    </a:lnTo>
                    <a:lnTo>
                      <a:pt x="642" y="659"/>
                    </a:lnTo>
                    <a:lnTo>
                      <a:pt x="595" y="563"/>
                    </a:lnTo>
                    <a:lnTo>
                      <a:pt x="563" y="500"/>
                    </a:lnTo>
                    <a:lnTo>
                      <a:pt x="513" y="439"/>
                    </a:lnTo>
                    <a:lnTo>
                      <a:pt x="474" y="383"/>
                    </a:lnTo>
                    <a:lnTo>
                      <a:pt x="420" y="336"/>
                    </a:lnTo>
                    <a:lnTo>
                      <a:pt x="373" y="301"/>
                    </a:lnTo>
                    <a:lnTo>
                      <a:pt x="327" y="276"/>
                    </a:lnTo>
                    <a:lnTo>
                      <a:pt x="295" y="262"/>
                    </a:lnTo>
                    <a:lnTo>
                      <a:pt x="329" y="255"/>
                    </a:lnTo>
                    <a:lnTo>
                      <a:pt x="354" y="258"/>
                    </a:lnTo>
                    <a:lnTo>
                      <a:pt x="391" y="269"/>
                    </a:lnTo>
                    <a:lnTo>
                      <a:pt x="432" y="308"/>
                    </a:lnTo>
                    <a:lnTo>
                      <a:pt x="486" y="358"/>
                    </a:lnTo>
                    <a:lnTo>
                      <a:pt x="526" y="397"/>
                    </a:lnTo>
                    <a:lnTo>
                      <a:pt x="555" y="443"/>
                    </a:lnTo>
                    <a:lnTo>
                      <a:pt x="597" y="510"/>
                    </a:lnTo>
                    <a:lnTo>
                      <a:pt x="647" y="588"/>
                    </a:lnTo>
                    <a:lnTo>
                      <a:pt x="687" y="663"/>
                    </a:lnTo>
                    <a:lnTo>
                      <a:pt x="733" y="742"/>
                    </a:lnTo>
                    <a:lnTo>
                      <a:pt x="773" y="799"/>
                    </a:lnTo>
                    <a:lnTo>
                      <a:pt x="814" y="862"/>
                    </a:lnTo>
                    <a:lnTo>
                      <a:pt x="849" y="926"/>
                    </a:lnTo>
                    <a:lnTo>
                      <a:pt x="874" y="994"/>
                    </a:lnTo>
                    <a:lnTo>
                      <a:pt x="905" y="1068"/>
                    </a:lnTo>
                    <a:lnTo>
                      <a:pt x="935" y="1136"/>
                    </a:lnTo>
                    <a:lnTo>
                      <a:pt x="962" y="1196"/>
                    </a:lnTo>
                    <a:lnTo>
                      <a:pt x="989" y="1270"/>
                    </a:lnTo>
                    <a:lnTo>
                      <a:pt x="1004" y="1324"/>
                    </a:lnTo>
                    <a:lnTo>
                      <a:pt x="1016" y="1348"/>
                    </a:lnTo>
                    <a:lnTo>
                      <a:pt x="1043" y="1324"/>
                    </a:lnTo>
                    <a:lnTo>
                      <a:pt x="1073" y="1292"/>
                    </a:lnTo>
                    <a:lnTo>
                      <a:pt x="1110" y="1253"/>
                    </a:lnTo>
                    <a:lnTo>
                      <a:pt x="1119" y="1189"/>
                    </a:lnTo>
                    <a:lnTo>
                      <a:pt x="1127" y="1136"/>
                    </a:lnTo>
                    <a:lnTo>
                      <a:pt x="1137" y="1054"/>
                    </a:lnTo>
                    <a:lnTo>
                      <a:pt x="1142" y="983"/>
                    </a:lnTo>
                    <a:lnTo>
                      <a:pt x="1139" y="983"/>
                    </a:lnTo>
                    <a:lnTo>
                      <a:pt x="1142" y="898"/>
                    </a:lnTo>
                    <a:lnTo>
                      <a:pt x="1146" y="813"/>
                    </a:lnTo>
                    <a:lnTo>
                      <a:pt x="1151" y="727"/>
                    </a:lnTo>
                    <a:lnTo>
                      <a:pt x="1161" y="652"/>
                    </a:lnTo>
                    <a:lnTo>
                      <a:pt x="1169" y="588"/>
                    </a:lnTo>
                    <a:lnTo>
                      <a:pt x="1183" y="514"/>
                    </a:lnTo>
                    <a:lnTo>
                      <a:pt x="1198" y="461"/>
                    </a:lnTo>
                    <a:lnTo>
                      <a:pt x="1215" y="400"/>
                    </a:lnTo>
                    <a:lnTo>
                      <a:pt x="1240" y="354"/>
                    </a:lnTo>
                    <a:lnTo>
                      <a:pt x="1260" y="290"/>
                    </a:lnTo>
                    <a:lnTo>
                      <a:pt x="1287" y="209"/>
                    </a:lnTo>
                    <a:lnTo>
                      <a:pt x="1314" y="131"/>
                    </a:lnTo>
                    <a:lnTo>
                      <a:pt x="1328" y="63"/>
                    </a:lnTo>
                    <a:lnTo>
                      <a:pt x="1351" y="0"/>
                    </a:lnTo>
                    <a:lnTo>
                      <a:pt x="1358" y="49"/>
                    </a:lnTo>
                    <a:lnTo>
                      <a:pt x="1356" y="102"/>
                    </a:lnTo>
                    <a:lnTo>
                      <a:pt x="1346" y="166"/>
                    </a:lnTo>
                    <a:lnTo>
                      <a:pt x="1328" y="227"/>
                    </a:lnTo>
                    <a:lnTo>
                      <a:pt x="1311" y="315"/>
                    </a:lnTo>
                    <a:lnTo>
                      <a:pt x="1296" y="368"/>
                    </a:lnTo>
                    <a:lnTo>
                      <a:pt x="1287" y="422"/>
                    </a:lnTo>
                    <a:lnTo>
                      <a:pt x="1277" y="489"/>
                    </a:lnTo>
                    <a:lnTo>
                      <a:pt x="1272" y="567"/>
                    </a:lnTo>
                    <a:lnTo>
                      <a:pt x="1265" y="656"/>
                    </a:lnTo>
                    <a:lnTo>
                      <a:pt x="1257" y="745"/>
                    </a:lnTo>
                    <a:lnTo>
                      <a:pt x="1255" y="841"/>
                    </a:lnTo>
                    <a:lnTo>
                      <a:pt x="1252" y="916"/>
                    </a:lnTo>
                    <a:lnTo>
                      <a:pt x="1250" y="997"/>
                    </a:lnTo>
                    <a:lnTo>
                      <a:pt x="1245" y="1061"/>
                    </a:lnTo>
                    <a:lnTo>
                      <a:pt x="1242" y="1143"/>
                    </a:lnTo>
                    <a:lnTo>
                      <a:pt x="1230" y="1221"/>
                    </a:lnTo>
                    <a:lnTo>
                      <a:pt x="1213" y="1324"/>
                    </a:lnTo>
                    <a:lnTo>
                      <a:pt x="1198" y="1409"/>
                    </a:lnTo>
                    <a:lnTo>
                      <a:pt x="1183" y="1504"/>
                    </a:lnTo>
                    <a:lnTo>
                      <a:pt x="1230" y="1472"/>
                    </a:lnTo>
                    <a:lnTo>
                      <a:pt x="1284" y="1441"/>
                    </a:lnTo>
                    <a:lnTo>
                      <a:pt x="1356" y="1402"/>
                    </a:lnTo>
                    <a:lnTo>
                      <a:pt x="1412" y="1391"/>
                    </a:lnTo>
                    <a:lnTo>
                      <a:pt x="1474" y="1387"/>
                    </a:lnTo>
                    <a:lnTo>
                      <a:pt x="1518" y="1391"/>
                    </a:lnTo>
                    <a:lnTo>
                      <a:pt x="1565" y="1398"/>
                    </a:lnTo>
                    <a:lnTo>
                      <a:pt x="1636" y="1405"/>
                    </a:lnTo>
                    <a:lnTo>
                      <a:pt x="1724" y="1412"/>
                    </a:lnTo>
                    <a:lnTo>
                      <a:pt x="1798" y="1409"/>
                    </a:lnTo>
                    <a:lnTo>
                      <a:pt x="1875" y="1405"/>
                    </a:lnTo>
                    <a:lnTo>
                      <a:pt x="1937" y="1409"/>
                    </a:lnTo>
                    <a:lnTo>
                      <a:pt x="1998" y="1412"/>
                    </a:lnTo>
                    <a:lnTo>
                      <a:pt x="2055" y="1437"/>
                    </a:lnTo>
                    <a:lnTo>
                      <a:pt x="2129" y="1465"/>
                    </a:lnTo>
                    <a:lnTo>
                      <a:pt x="2180" y="1494"/>
                    </a:lnTo>
                    <a:lnTo>
                      <a:pt x="2230" y="1526"/>
                    </a:lnTo>
                    <a:lnTo>
                      <a:pt x="2291" y="1568"/>
                    </a:lnTo>
                    <a:lnTo>
                      <a:pt x="2323" y="1597"/>
                    </a:lnTo>
                    <a:lnTo>
                      <a:pt x="2370" y="1657"/>
                    </a:lnTo>
                    <a:lnTo>
                      <a:pt x="2409" y="1724"/>
                    </a:lnTo>
                    <a:lnTo>
                      <a:pt x="2453" y="1792"/>
                    </a:lnTo>
                    <a:lnTo>
                      <a:pt x="2404" y="1795"/>
                    </a:lnTo>
                    <a:lnTo>
                      <a:pt x="2345" y="1788"/>
                    </a:lnTo>
                    <a:lnTo>
                      <a:pt x="2281" y="1770"/>
                    </a:lnTo>
                    <a:lnTo>
                      <a:pt x="2225" y="1767"/>
                    </a:lnTo>
                    <a:lnTo>
                      <a:pt x="2180" y="1749"/>
                    </a:lnTo>
                    <a:lnTo>
                      <a:pt x="2124" y="1724"/>
                    </a:lnTo>
                    <a:lnTo>
                      <a:pt x="2065" y="1703"/>
                    </a:lnTo>
                    <a:lnTo>
                      <a:pt x="2016" y="1682"/>
                    </a:lnTo>
                    <a:lnTo>
                      <a:pt x="1974" y="1678"/>
                    </a:lnTo>
                    <a:lnTo>
                      <a:pt x="1888" y="1664"/>
                    </a:lnTo>
                    <a:lnTo>
                      <a:pt x="1798" y="1657"/>
                    </a:lnTo>
                    <a:lnTo>
                      <a:pt x="1722" y="1643"/>
                    </a:lnTo>
                    <a:lnTo>
                      <a:pt x="1638" y="1629"/>
                    </a:lnTo>
                    <a:lnTo>
                      <a:pt x="1562" y="1618"/>
                    </a:lnTo>
                    <a:lnTo>
                      <a:pt x="1503" y="1614"/>
                    </a:lnTo>
                    <a:lnTo>
                      <a:pt x="1459" y="1611"/>
                    </a:lnTo>
                    <a:lnTo>
                      <a:pt x="1400" y="1607"/>
                    </a:lnTo>
                    <a:lnTo>
                      <a:pt x="1341" y="1614"/>
                    </a:lnTo>
                    <a:lnTo>
                      <a:pt x="1301" y="1618"/>
                    </a:lnTo>
                    <a:lnTo>
                      <a:pt x="1250" y="1639"/>
                    </a:lnTo>
                    <a:lnTo>
                      <a:pt x="1181" y="1653"/>
                    </a:lnTo>
                    <a:lnTo>
                      <a:pt x="1233" y="1682"/>
                    </a:lnTo>
                    <a:lnTo>
                      <a:pt x="1287" y="1717"/>
                    </a:lnTo>
                    <a:lnTo>
                      <a:pt x="1338" y="1749"/>
                    </a:lnTo>
                    <a:lnTo>
                      <a:pt x="1395" y="1767"/>
                    </a:lnTo>
                    <a:lnTo>
                      <a:pt x="1461" y="1792"/>
                    </a:lnTo>
                    <a:lnTo>
                      <a:pt x="1513" y="1806"/>
                    </a:lnTo>
                    <a:lnTo>
                      <a:pt x="1572" y="1809"/>
                    </a:lnTo>
                    <a:lnTo>
                      <a:pt x="1641" y="1827"/>
                    </a:lnTo>
                    <a:lnTo>
                      <a:pt x="1722" y="1841"/>
                    </a:lnTo>
                    <a:lnTo>
                      <a:pt x="1788" y="1852"/>
                    </a:lnTo>
                    <a:lnTo>
                      <a:pt x="1863" y="1859"/>
                    </a:lnTo>
                    <a:lnTo>
                      <a:pt x="1922" y="1870"/>
                    </a:lnTo>
                    <a:lnTo>
                      <a:pt x="1989" y="1884"/>
                    </a:lnTo>
                    <a:lnTo>
                      <a:pt x="2052" y="1898"/>
                    </a:lnTo>
                    <a:lnTo>
                      <a:pt x="2094" y="1916"/>
                    </a:lnTo>
                    <a:lnTo>
                      <a:pt x="2146" y="1948"/>
                    </a:lnTo>
                    <a:lnTo>
                      <a:pt x="2195" y="1983"/>
                    </a:lnTo>
                    <a:lnTo>
                      <a:pt x="2244" y="2029"/>
                    </a:lnTo>
                    <a:lnTo>
                      <a:pt x="2293" y="2083"/>
                    </a:lnTo>
                    <a:lnTo>
                      <a:pt x="2323" y="2118"/>
                    </a:lnTo>
                    <a:lnTo>
                      <a:pt x="2345" y="2171"/>
                    </a:lnTo>
                    <a:lnTo>
                      <a:pt x="2367" y="2233"/>
                    </a:lnTo>
                    <a:lnTo>
                      <a:pt x="2394" y="2293"/>
                    </a:lnTo>
                    <a:lnTo>
                      <a:pt x="2416" y="2342"/>
                    </a:lnTo>
                    <a:lnTo>
                      <a:pt x="2367" y="2314"/>
                    </a:lnTo>
                    <a:lnTo>
                      <a:pt x="2298" y="2282"/>
                    </a:lnTo>
                    <a:lnTo>
                      <a:pt x="2244" y="2254"/>
                    </a:lnTo>
                    <a:lnTo>
                      <a:pt x="2183" y="2218"/>
                    </a:lnTo>
                    <a:lnTo>
                      <a:pt x="2116" y="2185"/>
                    </a:lnTo>
                    <a:lnTo>
                      <a:pt x="2060" y="2157"/>
                    </a:lnTo>
                    <a:lnTo>
                      <a:pt x="1996" y="2122"/>
                    </a:lnTo>
                    <a:lnTo>
                      <a:pt x="1934" y="2083"/>
                    </a:lnTo>
                    <a:lnTo>
                      <a:pt x="1875" y="2054"/>
                    </a:lnTo>
                    <a:lnTo>
                      <a:pt x="1810" y="2019"/>
                    </a:lnTo>
                    <a:lnTo>
                      <a:pt x="1754" y="1990"/>
                    </a:lnTo>
                    <a:lnTo>
                      <a:pt x="1692" y="1958"/>
                    </a:lnTo>
                    <a:lnTo>
                      <a:pt x="1633" y="1930"/>
                    </a:lnTo>
                    <a:lnTo>
                      <a:pt x="1569" y="1905"/>
                    </a:lnTo>
                    <a:lnTo>
                      <a:pt x="1513" y="1880"/>
                    </a:lnTo>
                    <a:lnTo>
                      <a:pt x="1469" y="1870"/>
                    </a:lnTo>
                    <a:lnTo>
                      <a:pt x="1422" y="1848"/>
                    </a:lnTo>
                    <a:lnTo>
                      <a:pt x="1365" y="1827"/>
                    </a:lnTo>
                    <a:lnTo>
                      <a:pt x="1324" y="1806"/>
                    </a:lnTo>
                    <a:lnTo>
                      <a:pt x="1289" y="1813"/>
                    </a:lnTo>
                    <a:lnTo>
                      <a:pt x="1245" y="1824"/>
                    </a:lnTo>
                    <a:lnTo>
                      <a:pt x="1210" y="1820"/>
                    </a:lnTo>
                    <a:lnTo>
                      <a:pt x="1169" y="1809"/>
                    </a:lnTo>
                    <a:lnTo>
                      <a:pt x="1164" y="1870"/>
                    </a:lnTo>
                    <a:lnTo>
                      <a:pt x="1149" y="1944"/>
                    </a:lnTo>
                    <a:lnTo>
                      <a:pt x="1178" y="2008"/>
                    </a:lnTo>
                    <a:lnTo>
                      <a:pt x="1203" y="2072"/>
                    </a:lnTo>
                    <a:lnTo>
                      <a:pt x="1230" y="2136"/>
                    </a:lnTo>
                    <a:lnTo>
                      <a:pt x="1252" y="2211"/>
                    </a:lnTo>
                    <a:lnTo>
                      <a:pt x="1277" y="2286"/>
                    </a:lnTo>
                    <a:lnTo>
                      <a:pt x="1309" y="2382"/>
                    </a:lnTo>
                    <a:lnTo>
                      <a:pt x="1321" y="2456"/>
                    </a:lnTo>
                    <a:lnTo>
                      <a:pt x="1341" y="2530"/>
                    </a:lnTo>
                    <a:lnTo>
                      <a:pt x="1356" y="2605"/>
                    </a:lnTo>
                    <a:lnTo>
                      <a:pt x="1375" y="2697"/>
                    </a:lnTo>
                    <a:lnTo>
                      <a:pt x="1397" y="2796"/>
                    </a:lnTo>
                    <a:lnTo>
                      <a:pt x="1417" y="2938"/>
                    </a:lnTo>
                    <a:lnTo>
                      <a:pt x="1235" y="2938"/>
                    </a:lnTo>
                    <a:lnTo>
                      <a:pt x="1213" y="2818"/>
                    </a:lnTo>
                    <a:lnTo>
                      <a:pt x="1198" y="2729"/>
                    </a:lnTo>
                    <a:lnTo>
                      <a:pt x="1174" y="2619"/>
                    </a:lnTo>
                    <a:lnTo>
                      <a:pt x="1154" y="2516"/>
                    </a:lnTo>
                    <a:lnTo>
                      <a:pt x="1134" y="2431"/>
                    </a:lnTo>
                    <a:lnTo>
                      <a:pt x="1119" y="2353"/>
                    </a:lnTo>
                    <a:lnTo>
                      <a:pt x="1097" y="2286"/>
                    </a:lnTo>
                    <a:lnTo>
                      <a:pt x="1068" y="2200"/>
                    </a:lnTo>
                    <a:lnTo>
                      <a:pt x="1038" y="2122"/>
                    </a:lnTo>
                    <a:lnTo>
                      <a:pt x="1014" y="2054"/>
                    </a:lnTo>
                    <a:lnTo>
                      <a:pt x="987" y="2033"/>
                    </a:lnTo>
                    <a:lnTo>
                      <a:pt x="955" y="2019"/>
                    </a:lnTo>
                    <a:lnTo>
                      <a:pt x="928" y="2005"/>
                    </a:lnTo>
                    <a:lnTo>
                      <a:pt x="913" y="2012"/>
                    </a:lnTo>
                    <a:lnTo>
                      <a:pt x="876" y="2054"/>
                    </a:lnTo>
                    <a:lnTo>
                      <a:pt x="832" y="2114"/>
                    </a:lnTo>
                    <a:lnTo>
                      <a:pt x="790" y="2164"/>
                    </a:lnTo>
                    <a:lnTo>
                      <a:pt x="755" y="2211"/>
                    </a:lnTo>
                    <a:lnTo>
                      <a:pt x="719" y="2272"/>
                    </a:lnTo>
                    <a:lnTo>
                      <a:pt x="687" y="2314"/>
                    </a:lnTo>
                    <a:lnTo>
                      <a:pt x="647" y="2374"/>
                    </a:lnTo>
                    <a:lnTo>
                      <a:pt x="609" y="2442"/>
                    </a:lnTo>
                    <a:lnTo>
                      <a:pt x="577" y="2506"/>
                    </a:lnTo>
                    <a:lnTo>
                      <a:pt x="543" y="2577"/>
                    </a:lnTo>
                    <a:lnTo>
                      <a:pt x="504" y="2658"/>
                    </a:lnTo>
                    <a:lnTo>
                      <a:pt x="467" y="2747"/>
                    </a:lnTo>
                    <a:lnTo>
                      <a:pt x="420" y="2836"/>
                    </a:lnTo>
                    <a:lnTo>
                      <a:pt x="437" y="2726"/>
                    </a:lnTo>
                    <a:lnTo>
                      <a:pt x="447" y="2651"/>
                    </a:lnTo>
                    <a:lnTo>
                      <a:pt x="459" y="2566"/>
                    </a:lnTo>
                    <a:lnTo>
                      <a:pt x="469" y="2516"/>
                    </a:lnTo>
                    <a:lnTo>
                      <a:pt x="484" y="2474"/>
                    </a:lnTo>
                    <a:lnTo>
                      <a:pt x="513" y="2403"/>
                    </a:lnTo>
                    <a:lnTo>
                      <a:pt x="541" y="2332"/>
                    </a:lnTo>
                    <a:lnTo>
                      <a:pt x="560" y="2279"/>
                    </a:lnTo>
                    <a:lnTo>
                      <a:pt x="607" y="2211"/>
                    </a:lnTo>
                    <a:lnTo>
                      <a:pt x="652" y="2150"/>
                    </a:lnTo>
                    <a:lnTo>
                      <a:pt x="699" y="2072"/>
                    </a:lnTo>
                    <a:lnTo>
                      <a:pt x="738" y="2005"/>
                    </a:lnTo>
                    <a:lnTo>
                      <a:pt x="773" y="1962"/>
                    </a:lnTo>
                    <a:lnTo>
                      <a:pt x="812" y="1926"/>
                    </a:lnTo>
                    <a:lnTo>
                      <a:pt x="861" y="1877"/>
                    </a:lnTo>
                    <a:lnTo>
                      <a:pt x="905" y="1831"/>
                    </a:lnTo>
                    <a:lnTo>
                      <a:pt x="947" y="1788"/>
                    </a:lnTo>
                    <a:lnTo>
                      <a:pt x="994" y="1724"/>
                    </a:lnTo>
                    <a:lnTo>
                      <a:pt x="977" y="1707"/>
                    </a:lnTo>
                    <a:lnTo>
                      <a:pt x="940" y="1678"/>
                    </a:lnTo>
                    <a:lnTo>
                      <a:pt x="908" y="1657"/>
                    </a:lnTo>
                    <a:lnTo>
                      <a:pt x="876" y="1668"/>
                    </a:lnTo>
                    <a:lnTo>
                      <a:pt x="827" y="1707"/>
                    </a:lnTo>
                    <a:lnTo>
                      <a:pt x="778" y="1746"/>
                    </a:lnTo>
                    <a:lnTo>
                      <a:pt x="731" y="1788"/>
                    </a:lnTo>
                    <a:lnTo>
                      <a:pt x="687" y="1831"/>
                    </a:lnTo>
                    <a:lnTo>
                      <a:pt x="635" y="1902"/>
                    </a:lnTo>
                    <a:lnTo>
                      <a:pt x="577" y="1966"/>
                    </a:lnTo>
                    <a:lnTo>
                      <a:pt x="531" y="2015"/>
                    </a:lnTo>
                    <a:lnTo>
                      <a:pt x="491" y="2061"/>
                    </a:lnTo>
                    <a:lnTo>
                      <a:pt x="445" y="2114"/>
                    </a:lnTo>
                    <a:lnTo>
                      <a:pt x="398" y="2178"/>
                    </a:lnTo>
                    <a:lnTo>
                      <a:pt x="361" y="2243"/>
                    </a:lnTo>
                    <a:lnTo>
                      <a:pt x="314" y="2311"/>
                    </a:lnTo>
                    <a:lnTo>
                      <a:pt x="270" y="2374"/>
                    </a:lnTo>
                    <a:lnTo>
                      <a:pt x="228" y="2449"/>
                    </a:lnTo>
                    <a:lnTo>
                      <a:pt x="172" y="2534"/>
                    </a:lnTo>
                    <a:lnTo>
                      <a:pt x="199" y="2424"/>
                    </a:lnTo>
                    <a:lnTo>
                      <a:pt x="216" y="2342"/>
                    </a:lnTo>
                    <a:lnTo>
                      <a:pt x="233" y="2275"/>
                    </a:lnTo>
                    <a:lnTo>
                      <a:pt x="240" y="2254"/>
                    </a:lnTo>
                    <a:lnTo>
                      <a:pt x="268" y="2218"/>
                    </a:lnTo>
                    <a:lnTo>
                      <a:pt x="307" y="2171"/>
                    </a:lnTo>
                    <a:lnTo>
                      <a:pt x="351" y="2125"/>
                    </a:lnTo>
                    <a:lnTo>
                      <a:pt x="400" y="2068"/>
                    </a:lnTo>
                    <a:lnTo>
                      <a:pt x="447" y="2019"/>
                    </a:lnTo>
                    <a:lnTo>
                      <a:pt x="511" y="1958"/>
                    </a:lnTo>
                    <a:lnTo>
                      <a:pt x="550" y="1916"/>
                    </a:lnTo>
                    <a:lnTo>
                      <a:pt x="607" y="1863"/>
                    </a:lnTo>
                    <a:lnTo>
                      <a:pt x="674" y="1809"/>
                    </a:lnTo>
                    <a:lnTo>
                      <a:pt x="728" y="1763"/>
                    </a:lnTo>
                    <a:lnTo>
                      <a:pt x="785" y="1721"/>
                    </a:lnTo>
                    <a:lnTo>
                      <a:pt x="876" y="1660"/>
                    </a:lnTo>
                    <a:lnTo>
                      <a:pt x="925" y="1639"/>
                    </a:lnTo>
                    <a:lnTo>
                      <a:pt x="955" y="1621"/>
                    </a:lnTo>
                    <a:lnTo>
                      <a:pt x="905" y="1593"/>
                    </a:lnTo>
                    <a:lnTo>
                      <a:pt x="854" y="1547"/>
                    </a:lnTo>
                    <a:lnTo>
                      <a:pt x="800" y="1501"/>
                    </a:lnTo>
                    <a:lnTo>
                      <a:pt x="748" y="1462"/>
                    </a:lnTo>
                    <a:lnTo>
                      <a:pt x="699" y="1426"/>
                    </a:lnTo>
                    <a:lnTo>
                      <a:pt x="655" y="1391"/>
                    </a:lnTo>
                    <a:lnTo>
                      <a:pt x="612" y="1345"/>
                    </a:lnTo>
                    <a:lnTo>
                      <a:pt x="553" y="1288"/>
                    </a:lnTo>
                    <a:lnTo>
                      <a:pt x="496" y="1235"/>
                    </a:lnTo>
                    <a:lnTo>
                      <a:pt x="435" y="1175"/>
                    </a:lnTo>
                    <a:lnTo>
                      <a:pt x="368" y="1118"/>
                    </a:lnTo>
                    <a:lnTo>
                      <a:pt x="317" y="1075"/>
                    </a:lnTo>
                    <a:lnTo>
                      <a:pt x="250" y="1026"/>
                    </a:lnTo>
                    <a:lnTo>
                      <a:pt x="211" y="987"/>
                    </a:lnTo>
                    <a:lnTo>
                      <a:pt x="169" y="930"/>
                    </a:lnTo>
                    <a:lnTo>
                      <a:pt x="135" y="887"/>
                    </a:lnTo>
                    <a:lnTo>
                      <a:pt x="95" y="852"/>
                    </a:lnTo>
                    <a:lnTo>
                      <a:pt x="44" y="809"/>
                    </a:lnTo>
                    <a:lnTo>
                      <a:pt x="0" y="774"/>
                    </a:lnTo>
                    <a:lnTo>
                      <a:pt x="34" y="777"/>
                    </a:lnTo>
                    <a:lnTo>
                      <a:pt x="88" y="791"/>
                    </a:lnTo>
                    <a:lnTo>
                      <a:pt x="142" y="802"/>
                    </a:lnTo>
                    <a:lnTo>
                      <a:pt x="189" y="823"/>
                    </a:lnTo>
                    <a:lnTo>
                      <a:pt x="236" y="862"/>
                    </a:lnTo>
                    <a:lnTo>
                      <a:pt x="304" y="909"/>
                    </a:lnTo>
                    <a:lnTo>
                      <a:pt x="361" y="948"/>
                    </a:lnTo>
                    <a:lnTo>
                      <a:pt x="427" y="990"/>
                    </a:lnTo>
                    <a:lnTo>
                      <a:pt x="484" y="1040"/>
                    </a:lnTo>
                    <a:lnTo>
                      <a:pt x="553" y="1097"/>
                    </a:lnTo>
                    <a:lnTo>
                      <a:pt x="602" y="1143"/>
                    </a:lnTo>
                    <a:close/>
                  </a:path>
                </a:pathLst>
              </a:custGeom>
              <a:solidFill>
                <a:srgbClr val="00a10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19720" cy="2323080"/>
              <a:chOff x="7386480" y="4522680"/>
              <a:chExt cx="1719720" cy="232308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0240" cy="2289600"/>
                <a:chOff x="8265960" y="4522680"/>
                <a:chExt cx="840240" cy="2289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2040" cy="1805400"/>
                </a:xfrm>
                <a:custGeom>
                  <a:avLst/>
                  <a:gdLst/>
                  <a:ahLst/>
                  <a:rect l="0" t="0" r="r" b="b"/>
                  <a:pathLst>
                    <a:path w="839" h="5015">
                      <a:moveTo>
                        <a:pt x="839" y="2334"/>
                      </a:moveTo>
                      <a:lnTo>
                        <a:pt x="768" y="3351"/>
                      </a:lnTo>
                      <a:lnTo>
                        <a:pt x="697" y="4172"/>
                      </a:lnTo>
                      <a:lnTo>
                        <a:pt x="650" y="4777"/>
                      </a:lnTo>
                      <a:lnTo>
                        <a:pt x="665" y="5015"/>
                      </a:lnTo>
                      <a:lnTo>
                        <a:pt x="561" y="5015"/>
                      </a:lnTo>
                      <a:lnTo>
                        <a:pt x="529" y="4665"/>
                      </a:lnTo>
                      <a:lnTo>
                        <a:pt x="514" y="4134"/>
                      </a:lnTo>
                      <a:lnTo>
                        <a:pt x="475" y="3636"/>
                      </a:lnTo>
                      <a:lnTo>
                        <a:pt x="458" y="3262"/>
                      </a:lnTo>
                      <a:lnTo>
                        <a:pt x="418" y="2719"/>
                      </a:lnTo>
                      <a:lnTo>
                        <a:pt x="372" y="2249"/>
                      </a:lnTo>
                      <a:lnTo>
                        <a:pt x="332" y="1837"/>
                      </a:lnTo>
                      <a:lnTo>
                        <a:pt x="293" y="1395"/>
                      </a:lnTo>
                      <a:lnTo>
                        <a:pt x="229" y="955"/>
                      </a:lnTo>
                      <a:lnTo>
                        <a:pt x="157" y="585"/>
                      </a:lnTo>
                      <a:lnTo>
                        <a:pt x="39" y="223"/>
                      </a:lnTo>
                      <a:lnTo>
                        <a:pt x="0" y="84"/>
                      </a:lnTo>
                      <a:lnTo>
                        <a:pt x="49" y="0"/>
                      </a:lnTo>
                      <a:lnTo>
                        <a:pt x="125" y="146"/>
                      </a:lnTo>
                      <a:lnTo>
                        <a:pt x="229" y="481"/>
                      </a:lnTo>
                      <a:lnTo>
                        <a:pt x="308" y="824"/>
                      </a:lnTo>
                      <a:lnTo>
                        <a:pt x="372" y="1182"/>
                      </a:lnTo>
                      <a:lnTo>
                        <a:pt x="411" y="1641"/>
                      </a:lnTo>
                      <a:lnTo>
                        <a:pt x="450" y="2072"/>
                      </a:lnTo>
                      <a:lnTo>
                        <a:pt x="507" y="2658"/>
                      </a:lnTo>
                      <a:lnTo>
                        <a:pt x="553" y="3139"/>
                      </a:lnTo>
                      <a:lnTo>
                        <a:pt x="571" y="3524"/>
                      </a:lnTo>
                      <a:lnTo>
                        <a:pt x="585" y="3922"/>
                      </a:lnTo>
                      <a:lnTo>
                        <a:pt x="625" y="4330"/>
                      </a:lnTo>
                      <a:lnTo>
                        <a:pt x="682" y="3624"/>
                      </a:lnTo>
                      <a:lnTo>
                        <a:pt x="746" y="2966"/>
                      </a:lnTo>
                      <a:lnTo>
                        <a:pt x="839" y="2334"/>
                      </a:lnTo>
                      <a:close/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0240" cy="1316520"/>
                </a:xfrm>
                <a:custGeom>
                  <a:avLst/>
                  <a:gdLst/>
                  <a:ahLst/>
                  <a:rect l="0" t="0" r="r" b="b"/>
                  <a:pathLst>
                    <a:path w="2334" h="3657">
                      <a:moveTo>
                        <a:pt x="1407" y="859"/>
                      </a:moveTo>
                      <a:lnTo>
                        <a:pt x="1363" y="692"/>
                      </a:lnTo>
                      <a:lnTo>
                        <a:pt x="1297" y="533"/>
                      </a:lnTo>
                      <a:lnTo>
                        <a:pt x="1213" y="352"/>
                      </a:lnTo>
                      <a:lnTo>
                        <a:pt x="1116" y="216"/>
                      </a:lnTo>
                      <a:lnTo>
                        <a:pt x="1006" y="101"/>
                      </a:lnTo>
                      <a:lnTo>
                        <a:pt x="856" y="39"/>
                      </a:lnTo>
                      <a:lnTo>
                        <a:pt x="658" y="4"/>
                      </a:lnTo>
                      <a:lnTo>
                        <a:pt x="524" y="8"/>
                      </a:lnTo>
                      <a:lnTo>
                        <a:pt x="374" y="0"/>
                      </a:lnTo>
                      <a:lnTo>
                        <a:pt x="471" y="88"/>
                      </a:lnTo>
                      <a:lnTo>
                        <a:pt x="555" y="101"/>
                      </a:lnTo>
                      <a:lnTo>
                        <a:pt x="666" y="149"/>
                      </a:lnTo>
                      <a:lnTo>
                        <a:pt x="768" y="198"/>
                      </a:lnTo>
                      <a:lnTo>
                        <a:pt x="922" y="308"/>
                      </a:lnTo>
                      <a:lnTo>
                        <a:pt x="1046" y="458"/>
                      </a:lnTo>
                      <a:lnTo>
                        <a:pt x="1125" y="648"/>
                      </a:lnTo>
                      <a:lnTo>
                        <a:pt x="1244" y="1054"/>
                      </a:lnTo>
                      <a:lnTo>
                        <a:pt x="922" y="784"/>
                      </a:lnTo>
                      <a:lnTo>
                        <a:pt x="816" y="718"/>
                      </a:lnTo>
                      <a:lnTo>
                        <a:pt x="697" y="670"/>
                      </a:lnTo>
                      <a:lnTo>
                        <a:pt x="587" y="652"/>
                      </a:lnTo>
                      <a:lnTo>
                        <a:pt x="520" y="630"/>
                      </a:lnTo>
                      <a:lnTo>
                        <a:pt x="313" y="595"/>
                      </a:lnTo>
                      <a:lnTo>
                        <a:pt x="0" y="568"/>
                      </a:lnTo>
                      <a:lnTo>
                        <a:pt x="0" y="815"/>
                      </a:lnTo>
                      <a:lnTo>
                        <a:pt x="70" y="815"/>
                      </a:lnTo>
                      <a:lnTo>
                        <a:pt x="167" y="824"/>
                      </a:lnTo>
                      <a:lnTo>
                        <a:pt x="282" y="811"/>
                      </a:lnTo>
                      <a:lnTo>
                        <a:pt x="366" y="815"/>
                      </a:lnTo>
                      <a:lnTo>
                        <a:pt x="600" y="842"/>
                      </a:lnTo>
                      <a:lnTo>
                        <a:pt x="693" y="873"/>
                      </a:lnTo>
                      <a:lnTo>
                        <a:pt x="1037" y="1019"/>
                      </a:lnTo>
                      <a:lnTo>
                        <a:pt x="1213" y="1134"/>
                      </a:lnTo>
                      <a:lnTo>
                        <a:pt x="1085" y="1151"/>
                      </a:lnTo>
                      <a:lnTo>
                        <a:pt x="993" y="1156"/>
                      </a:lnTo>
                      <a:lnTo>
                        <a:pt x="856" y="1271"/>
                      </a:lnTo>
                      <a:lnTo>
                        <a:pt x="790" y="1447"/>
                      </a:lnTo>
                      <a:lnTo>
                        <a:pt x="882" y="1345"/>
                      </a:lnTo>
                      <a:lnTo>
                        <a:pt x="1147" y="1226"/>
                      </a:lnTo>
                      <a:lnTo>
                        <a:pt x="1310" y="1279"/>
                      </a:lnTo>
                      <a:lnTo>
                        <a:pt x="1204" y="1341"/>
                      </a:lnTo>
                      <a:lnTo>
                        <a:pt x="1076" y="1345"/>
                      </a:lnTo>
                      <a:lnTo>
                        <a:pt x="755" y="1487"/>
                      </a:lnTo>
                      <a:lnTo>
                        <a:pt x="658" y="1522"/>
                      </a:lnTo>
                      <a:lnTo>
                        <a:pt x="551" y="1570"/>
                      </a:lnTo>
                      <a:lnTo>
                        <a:pt x="458" y="1650"/>
                      </a:lnTo>
                      <a:lnTo>
                        <a:pt x="361" y="1839"/>
                      </a:lnTo>
                      <a:lnTo>
                        <a:pt x="304" y="1980"/>
                      </a:lnTo>
                      <a:lnTo>
                        <a:pt x="127" y="2439"/>
                      </a:lnTo>
                      <a:lnTo>
                        <a:pt x="66" y="2563"/>
                      </a:lnTo>
                      <a:lnTo>
                        <a:pt x="348" y="2214"/>
                      </a:lnTo>
                      <a:lnTo>
                        <a:pt x="480" y="2086"/>
                      </a:lnTo>
                      <a:lnTo>
                        <a:pt x="693" y="1822"/>
                      </a:lnTo>
                      <a:lnTo>
                        <a:pt x="794" y="1720"/>
                      </a:lnTo>
                      <a:lnTo>
                        <a:pt x="882" y="1650"/>
                      </a:lnTo>
                      <a:lnTo>
                        <a:pt x="1129" y="1526"/>
                      </a:lnTo>
                      <a:lnTo>
                        <a:pt x="1266" y="1425"/>
                      </a:lnTo>
                      <a:lnTo>
                        <a:pt x="1160" y="1535"/>
                      </a:lnTo>
                      <a:lnTo>
                        <a:pt x="904" y="2122"/>
                      </a:lnTo>
                      <a:lnTo>
                        <a:pt x="803" y="2377"/>
                      </a:lnTo>
                      <a:lnTo>
                        <a:pt x="759" y="2523"/>
                      </a:lnTo>
                      <a:lnTo>
                        <a:pt x="733" y="2664"/>
                      </a:lnTo>
                      <a:lnTo>
                        <a:pt x="715" y="2828"/>
                      </a:lnTo>
                      <a:lnTo>
                        <a:pt x="710" y="2956"/>
                      </a:lnTo>
                      <a:lnTo>
                        <a:pt x="684" y="3212"/>
                      </a:lnTo>
                      <a:lnTo>
                        <a:pt x="803" y="2956"/>
                      </a:lnTo>
                      <a:lnTo>
                        <a:pt x="882" y="2602"/>
                      </a:lnTo>
                      <a:lnTo>
                        <a:pt x="940" y="2386"/>
                      </a:lnTo>
                      <a:lnTo>
                        <a:pt x="993" y="2249"/>
                      </a:lnTo>
                      <a:lnTo>
                        <a:pt x="1125" y="1989"/>
                      </a:lnTo>
                      <a:lnTo>
                        <a:pt x="1182" y="1861"/>
                      </a:lnTo>
                      <a:lnTo>
                        <a:pt x="1226" y="1703"/>
                      </a:lnTo>
                      <a:lnTo>
                        <a:pt x="1310" y="1482"/>
                      </a:lnTo>
                      <a:lnTo>
                        <a:pt x="1200" y="1689"/>
                      </a:lnTo>
                      <a:lnTo>
                        <a:pt x="1138" y="1919"/>
                      </a:lnTo>
                      <a:lnTo>
                        <a:pt x="1116" y="2377"/>
                      </a:lnTo>
                      <a:lnTo>
                        <a:pt x="1125" y="2545"/>
                      </a:lnTo>
                      <a:lnTo>
                        <a:pt x="1151" y="2850"/>
                      </a:lnTo>
                      <a:lnTo>
                        <a:pt x="1178" y="2969"/>
                      </a:lnTo>
                      <a:lnTo>
                        <a:pt x="1323" y="3459"/>
                      </a:lnTo>
                      <a:lnTo>
                        <a:pt x="1345" y="3657"/>
                      </a:lnTo>
                      <a:lnTo>
                        <a:pt x="1306" y="2982"/>
                      </a:lnTo>
                      <a:lnTo>
                        <a:pt x="1222" y="2466"/>
                      </a:lnTo>
                      <a:lnTo>
                        <a:pt x="1209" y="2289"/>
                      </a:lnTo>
                      <a:lnTo>
                        <a:pt x="1200" y="1879"/>
                      </a:lnTo>
                      <a:lnTo>
                        <a:pt x="1213" y="1756"/>
                      </a:lnTo>
                      <a:lnTo>
                        <a:pt x="1271" y="1548"/>
                      </a:lnTo>
                      <a:lnTo>
                        <a:pt x="1323" y="1412"/>
                      </a:lnTo>
                      <a:lnTo>
                        <a:pt x="1407" y="1491"/>
                      </a:lnTo>
                      <a:lnTo>
                        <a:pt x="1539" y="1672"/>
                      </a:lnTo>
                      <a:lnTo>
                        <a:pt x="1694" y="2042"/>
                      </a:lnTo>
                      <a:lnTo>
                        <a:pt x="1796" y="2346"/>
                      </a:lnTo>
                      <a:lnTo>
                        <a:pt x="1880" y="2620"/>
                      </a:lnTo>
                      <a:lnTo>
                        <a:pt x="2030" y="3027"/>
                      </a:lnTo>
                      <a:lnTo>
                        <a:pt x="2131" y="3238"/>
                      </a:lnTo>
                      <a:lnTo>
                        <a:pt x="2215" y="3375"/>
                      </a:lnTo>
                      <a:lnTo>
                        <a:pt x="2180" y="3177"/>
                      </a:lnTo>
                      <a:lnTo>
                        <a:pt x="1845" y="2298"/>
                      </a:lnTo>
                      <a:lnTo>
                        <a:pt x="1637" y="1831"/>
                      </a:lnTo>
                      <a:lnTo>
                        <a:pt x="1575" y="1654"/>
                      </a:lnTo>
                      <a:lnTo>
                        <a:pt x="1531" y="1495"/>
                      </a:lnTo>
                      <a:lnTo>
                        <a:pt x="1376" y="1182"/>
                      </a:lnTo>
                      <a:lnTo>
                        <a:pt x="1403" y="1041"/>
                      </a:lnTo>
                      <a:lnTo>
                        <a:pt x="1566" y="957"/>
                      </a:lnTo>
                      <a:lnTo>
                        <a:pt x="1645" y="988"/>
                      </a:lnTo>
                      <a:lnTo>
                        <a:pt x="1747" y="997"/>
                      </a:lnTo>
                      <a:lnTo>
                        <a:pt x="1854" y="1028"/>
                      </a:lnTo>
                      <a:lnTo>
                        <a:pt x="2281" y="1076"/>
                      </a:lnTo>
                      <a:lnTo>
                        <a:pt x="2255" y="1072"/>
                      </a:lnTo>
                      <a:lnTo>
                        <a:pt x="2290" y="984"/>
                      </a:lnTo>
                      <a:lnTo>
                        <a:pt x="2308" y="984"/>
                      </a:lnTo>
                      <a:lnTo>
                        <a:pt x="2198" y="966"/>
                      </a:lnTo>
                      <a:lnTo>
                        <a:pt x="2065" y="966"/>
                      </a:lnTo>
                      <a:lnTo>
                        <a:pt x="1898" y="1002"/>
                      </a:lnTo>
                      <a:lnTo>
                        <a:pt x="1716" y="1063"/>
                      </a:lnTo>
                      <a:lnTo>
                        <a:pt x="1562" y="1134"/>
                      </a:lnTo>
                      <a:lnTo>
                        <a:pt x="1438" y="1178"/>
                      </a:lnTo>
                      <a:lnTo>
                        <a:pt x="1606" y="1015"/>
                      </a:lnTo>
                      <a:lnTo>
                        <a:pt x="1849" y="859"/>
                      </a:lnTo>
                      <a:lnTo>
                        <a:pt x="2105" y="793"/>
                      </a:lnTo>
                      <a:lnTo>
                        <a:pt x="2220" y="789"/>
                      </a:lnTo>
                      <a:lnTo>
                        <a:pt x="2330" y="798"/>
                      </a:lnTo>
                      <a:lnTo>
                        <a:pt x="2286" y="798"/>
                      </a:lnTo>
                      <a:lnTo>
                        <a:pt x="2334" y="674"/>
                      </a:lnTo>
                      <a:lnTo>
                        <a:pt x="2189" y="692"/>
                      </a:lnTo>
                      <a:lnTo>
                        <a:pt x="2021" y="767"/>
                      </a:lnTo>
                      <a:lnTo>
                        <a:pt x="1840" y="873"/>
                      </a:lnTo>
                      <a:lnTo>
                        <a:pt x="1557" y="1090"/>
                      </a:lnTo>
                      <a:lnTo>
                        <a:pt x="1429" y="1173"/>
                      </a:lnTo>
                      <a:lnTo>
                        <a:pt x="1500" y="899"/>
                      </a:lnTo>
                      <a:lnTo>
                        <a:pt x="1645" y="784"/>
                      </a:lnTo>
                      <a:lnTo>
                        <a:pt x="1814" y="670"/>
                      </a:lnTo>
                      <a:lnTo>
                        <a:pt x="2048" y="533"/>
                      </a:lnTo>
                      <a:lnTo>
                        <a:pt x="2162" y="485"/>
                      </a:lnTo>
                      <a:lnTo>
                        <a:pt x="2021" y="449"/>
                      </a:lnTo>
                      <a:lnTo>
                        <a:pt x="1911" y="533"/>
                      </a:lnTo>
                      <a:lnTo>
                        <a:pt x="1796" y="648"/>
                      </a:lnTo>
                      <a:lnTo>
                        <a:pt x="1703" y="732"/>
                      </a:lnTo>
                      <a:lnTo>
                        <a:pt x="1553" y="908"/>
                      </a:lnTo>
                      <a:lnTo>
                        <a:pt x="1407" y="859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320"/>
                <a:ext cx="1572120" cy="1702440"/>
                <a:chOff x="7386480" y="5143320"/>
                <a:chExt cx="1572120" cy="170244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2000" cy="1403640"/>
                </a:xfrm>
                <a:custGeom>
                  <a:avLst/>
                  <a:gdLst/>
                  <a:ahLst/>
                  <a:rect l="0" t="0" r="r" b="b"/>
                  <a:pathLst>
                    <a:path w="1200" h="3899">
                      <a:moveTo>
                        <a:pt x="1200" y="1814"/>
                      </a:moveTo>
                      <a:lnTo>
                        <a:pt x="1098" y="2605"/>
                      </a:lnTo>
                      <a:lnTo>
                        <a:pt x="996" y="3243"/>
                      </a:lnTo>
                      <a:lnTo>
                        <a:pt x="929" y="3713"/>
                      </a:lnTo>
                      <a:lnTo>
                        <a:pt x="950" y="3899"/>
                      </a:lnTo>
                      <a:lnTo>
                        <a:pt x="802" y="3899"/>
                      </a:lnTo>
                      <a:lnTo>
                        <a:pt x="757" y="3626"/>
                      </a:lnTo>
                      <a:lnTo>
                        <a:pt x="736" y="3213"/>
                      </a:lnTo>
                      <a:lnTo>
                        <a:pt x="679" y="2827"/>
                      </a:lnTo>
                      <a:lnTo>
                        <a:pt x="655" y="2536"/>
                      </a:lnTo>
                      <a:lnTo>
                        <a:pt x="597" y="2114"/>
                      </a:lnTo>
                      <a:lnTo>
                        <a:pt x="531" y="1748"/>
                      </a:lnTo>
                      <a:lnTo>
                        <a:pt x="474" y="1428"/>
                      </a:lnTo>
                      <a:lnTo>
                        <a:pt x="418" y="1083"/>
                      </a:lnTo>
                      <a:lnTo>
                        <a:pt x="327" y="742"/>
                      </a:lnTo>
                      <a:lnTo>
                        <a:pt x="225" y="455"/>
                      </a:lnTo>
                      <a:lnTo>
                        <a:pt x="56" y="173"/>
                      </a:lnTo>
                      <a:lnTo>
                        <a:pt x="0" y="65"/>
                      </a:lnTo>
                      <a:lnTo>
                        <a:pt x="70" y="0"/>
                      </a:lnTo>
                      <a:lnTo>
                        <a:pt x="179" y="113"/>
                      </a:lnTo>
                      <a:lnTo>
                        <a:pt x="327" y="374"/>
                      </a:lnTo>
                      <a:lnTo>
                        <a:pt x="439" y="640"/>
                      </a:lnTo>
                      <a:lnTo>
                        <a:pt x="531" y="919"/>
                      </a:lnTo>
                      <a:lnTo>
                        <a:pt x="587" y="1275"/>
                      </a:lnTo>
                      <a:lnTo>
                        <a:pt x="644" y="1610"/>
                      </a:lnTo>
                      <a:lnTo>
                        <a:pt x="725" y="2066"/>
                      </a:lnTo>
                      <a:lnTo>
                        <a:pt x="792" y="2441"/>
                      </a:lnTo>
                      <a:lnTo>
                        <a:pt x="817" y="2740"/>
                      </a:lnTo>
                      <a:lnTo>
                        <a:pt x="838" y="3048"/>
                      </a:lnTo>
                      <a:lnTo>
                        <a:pt x="894" y="3366"/>
                      </a:lnTo>
                      <a:lnTo>
                        <a:pt x="975" y="2818"/>
                      </a:lnTo>
                      <a:lnTo>
                        <a:pt x="1066" y="2306"/>
                      </a:lnTo>
                      <a:lnTo>
                        <a:pt x="1200" y="1814"/>
                      </a:lnTo>
                      <a:close/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3640" cy="1010160"/>
                </a:xfrm>
                <a:custGeom>
                  <a:avLst/>
                  <a:gdLst/>
                  <a:ahLst/>
                  <a:rect l="0" t="0" r="r" b="b"/>
                  <a:pathLst>
                    <a:path w="2149" h="2806">
                      <a:moveTo>
                        <a:pt x="405" y="246"/>
                      </a:moveTo>
                      <a:lnTo>
                        <a:pt x="445" y="308"/>
                      </a:lnTo>
                      <a:lnTo>
                        <a:pt x="480" y="352"/>
                      </a:lnTo>
                      <a:lnTo>
                        <a:pt x="524" y="401"/>
                      </a:lnTo>
                      <a:lnTo>
                        <a:pt x="569" y="458"/>
                      </a:lnTo>
                      <a:lnTo>
                        <a:pt x="609" y="498"/>
                      </a:lnTo>
                      <a:lnTo>
                        <a:pt x="644" y="524"/>
                      </a:lnTo>
                      <a:lnTo>
                        <a:pt x="684" y="546"/>
                      </a:lnTo>
                      <a:lnTo>
                        <a:pt x="662" y="463"/>
                      </a:lnTo>
                      <a:lnTo>
                        <a:pt x="640" y="352"/>
                      </a:lnTo>
                      <a:lnTo>
                        <a:pt x="618" y="238"/>
                      </a:lnTo>
                      <a:lnTo>
                        <a:pt x="596" y="11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58" y="39"/>
                      </a:lnTo>
                      <a:lnTo>
                        <a:pt x="662" y="39"/>
                      </a:lnTo>
                      <a:lnTo>
                        <a:pt x="662" y="17"/>
                      </a:lnTo>
                      <a:lnTo>
                        <a:pt x="693" y="132"/>
                      </a:lnTo>
                      <a:lnTo>
                        <a:pt x="719" y="238"/>
                      </a:lnTo>
                      <a:lnTo>
                        <a:pt x="741" y="326"/>
                      </a:lnTo>
                      <a:lnTo>
                        <a:pt x="768" y="445"/>
                      </a:lnTo>
                      <a:lnTo>
                        <a:pt x="781" y="520"/>
                      </a:lnTo>
                      <a:lnTo>
                        <a:pt x="799" y="560"/>
                      </a:lnTo>
                      <a:lnTo>
                        <a:pt x="821" y="520"/>
                      </a:lnTo>
                      <a:lnTo>
                        <a:pt x="847" y="467"/>
                      </a:lnTo>
                      <a:lnTo>
                        <a:pt x="882" y="410"/>
                      </a:lnTo>
                      <a:lnTo>
                        <a:pt x="891" y="313"/>
                      </a:lnTo>
                      <a:lnTo>
                        <a:pt x="900" y="238"/>
                      </a:lnTo>
                      <a:lnTo>
                        <a:pt x="909" y="114"/>
                      </a:lnTo>
                      <a:lnTo>
                        <a:pt x="913" y="0"/>
                      </a:lnTo>
                      <a:lnTo>
                        <a:pt x="909" y="0"/>
                      </a:lnTo>
                      <a:lnTo>
                        <a:pt x="957" y="39"/>
                      </a:lnTo>
                      <a:lnTo>
                        <a:pt x="971" y="39"/>
                      </a:lnTo>
                      <a:lnTo>
                        <a:pt x="979" y="39"/>
                      </a:lnTo>
                      <a:lnTo>
                        <a:pt x="984" y="39"/>
                      </a:lnTo>
                      <a:lnTo>
                        <a:pt x="993" y="39"/>
                      </a:lnTo>
                      <a:lnTo>
                        <a:pt x="988" y="39"/>
                      </a:lnTo>
                      <a:lnTo>
                        <a:pt x="971" y="39"/>
                      </a:lnTo>
                      <a:lnTo>
                        <a:pt x="975" y="39"/>
                      </a:lnTo>
                      <a:lnTo>
                        <a:pt x="975" y="39"/>
                      </a:lnTo>
                      <a:lnTo>
                        <a:pt x="997" y="39"/>
                      </a:lnTo>
                      <a:lnTo>
                        <a:pt x="975" y="39"/>
                      </a:lnTo>
                      <a:lnTo>
                        <a:pt x="957" y="39"/>
                      </a:lnTo>
                      <a:lnTo>
                        <a:pt x="966" y="39"/>
                      </a:lnTo>
                      <a:lnTo>
                        <a:pt x="971" y="39"/>
                      </a:lnTo>
                      <a:lnTo>
                        <a:pt x="953" y="39"/>
                      </a:lnTo>
                      <a:lnTo>
                        <a:pt x="988" y="39"/>
                      </a:lnTo>
                      <a:lnTo>
                        <a:pt x="975" y="39"/>
                      </a:lnTo>
                      <a:lnTo>
                        <a:pt x="949" y="39"/>
                      </a:lnTo>
                      <a:lnTo>
                        <a:pt x="953" y="39"/>
                      </a:lnTo>
                      <a:lnTo>
                        <a:pt x="975" y="39"/>
                      </a:lnTo>
                      <a:lnTo>
                        <a:pt x="971" y="39"/>
                      </a:lnTo>
                      <a:lnTo>
                        <a:pt x="988" y="39"/>
                      </a:lnTo>
                      <a:lnTo>
                        <a:pt x="988" y="39"/>
                      </a:lnTo>
                      <a:lnTo>
                        <a:pt x="962" y="39"/>
                      </a:lnTo>
                      <a:lnTo>
                        <a:pt x="1015" y="39"/>
                      </a:lnTo>
                      <a:lnTo>
                        <a:pt x="975" y="39"/>
                      </a:lnTo>
                      <a:lnTo>
                        <a:pt x="984" y="39"/>
                      </a:lnTo>
                      <a:lnTo>
                        <a:pt x="1015" y="22"/>
                      </a:lnTo>
                      <a:lnTo>
                        <a:pt x="1010" y="123"/>
                      </a:lnTo>
                      <a:lnTo>
                        <a:pt x="1006" y="246"/>
                      </a:lnTo>
                      <a:lnTo>
                        <a:pt x="997" y="370"/>
                      </a:lnTo>
                      <a:lnTo>
                        <a:pt x="979" y="520"/>
                      </a:lnTo>
                      <a:lnTo>
                        <a:pt x="966" y="652"/>
                      </a:lnTo>
                      <a:lnTo>
                        <a:pt x="953" y="790"/>
                      </a:lnTo>
                      <a:lnTo>
                        <a:pt x="997" y="750"/>
                      </a:lnTo>
                      <a:lnTo>
                        <a:pt x="1050" y="696"/>
                      </a:lnTo>
                      <a:lnTo>
                        <a:pt x="1116" y="635"/>
                      </a:lnTo>
                      <a:lnTo>
                        <a:pt x="1165" y="612"/>
                      </a:lnTo>
                      <a:lnTo>
                        <a:pt x="1222" y="604"/>
                      </a:lnTo>
                      <a:lnTo>
                        <a:pt x="1266" y="621"/>
                      </a:lnTo>
                      <a:lnTo>
                        <a:pt x="1310" y="626"/>
                      </a:lnTo>
                      <a:lnTo>
                        <a:pt x="1376" y="639"/>
                      </a:lnTo>
                      <a:lnTo>
                        <a:pt x="1460" y="652"/>
                      </a:lnTo>
                      <a:lnTo>
                        <a:pt x="1531" y="652"/>
                      </a:lnTo>
                      <a:lnTo>
                        <a:pt x="1601" y="639"/>
                      </a:lnTo>
                      <a:lnTo>
                        <a:pt x="1660" y="643"/>
                      </a:lnTo>
                      <a:lnTo>
                        <a:pt x="1721" y="652"/>
                      </a:lnTo>
                      <a:lnTo>
                        <a:pt x="1774" y="692"/>
                      </a:lnTo>
                      <a:lnTo>
                        <a:pt x="1845" y="733"/>
                      </a:lnTo>
                      <a:lnTo>
                        <a:pt x="1893" y="772"/>
                      </a:lnTo>
                      <a:lnTo>
                        <a:pt x="1937" y="825"/>
                      </a:lnTo>
                      <a:lnTo>
                        <a:pt x="1995" y="887"/>
                      </a:lnTo>
                      <a:lnTo>
                        <a:pt x="2026" y="927"/>
                      </a:lnTo>
                      <a:lnTo>
                        <a:pt x="2074" y="1019"/>
                      </a:lnTo>
                      <a:lnTo>
                        <a:pt x="2109" y="1121"/>
                      </a:lnTo>
                      <a:lnTo>
                        <a:pt x="2149" y="1222"/>
                      </a:lnTo>
                      <a:lnTo>
                        <a:pt x="2105" y="1226"/>
                      </a:lnTo>
                      <a:lnTo>
                        <a:pt x="2048" y="1218"/>
                      </a:lnTo>
                      <a:lnTo>
                        <a:pt x="1986" y="1200"/>
                      </a:lnTo>
                      <a:lnTo>
                        <a:pt x="1937" y="1182"/>
                      </a:lnTo>
                      <a:lnTo>
                        <a:pt x="1893" y="1160"/>
                      </a:lnTo>
                      <a:lnTo>
                        <a:pt x="1840" y="1125"/>
                      </a:lnTo>
                      <a:lnTo>
                        <a:pt x="1783" y="1085"/>
                      </a:lnTo>
                      <a:lnTo>
                        <a:pt x="1739" y="1063"/>
                      </a:lnTo>
                      <a:lnTo>
                        <a:pt x="1695" y="1050"/>
                      </a:lnTo>
                      <a:lnTo>
                        <a:pt x="1615" y="1032"/>
                      </a:lnTo>
                      <a:lnTo>
                        <a:pt x="1531" y="1019"/>
                      </a:lnTo>
                      <a:lnTo>
                        <a:pt x="1456" y="993"/>
                      </a:lnTo>
                      <a:lnTo>
                        <a:pt x="1381" y="975"/>
                      </a:lnTo>
                      <a:lnTo>
                        <a:pt x="1306" y="962"/>
                      </a:lnTo>
                      <a:lnTo>
                        <a:pt x="1253" y="953"/>
                      </a:lnTo>
                      <a:lnTo>
                        <a:pt x="1213" y="949"/>
                      </a:lnTo>
                      <a:lnTo>
                        <a:pt x="1156" y="949"/>
                      </a:lnTo>
                      <a:lnTo>
                        <a:pt x="1099" y="953"/>
                      </a:lnTo>
                      <a:lnTo>
                        <a:pt x="1063" y="966"/>
                      </a:lnTo>
                      <a:lnTo>
                        <a:pt x="1015" y="988"/>
                      </a:lnTo>
                      <a:lnTo>
                        <a:pt x="949" y="1019"/>
                      </a:lnTo>
                      <a:lnTo>
                        <a:pt x="997" y="1063"/>
                      </a:lnTo>
                      <a:lnTo>
                        <a:pt x="1050" y="1107"/>
                      </a:lnTo>
                      <a:lnTo>
                        <a:pt x="1099" y="1160"/>
                      </a:lnTo>
                      <a:lnTo>
                        <a:pt x="1156" y="1182"/>
                      </a:lnTo>
                      <a:lnTo>
                        <a:pt x="1218" y="1222"/>
                      </a:lnTo>
                      <a:lnTo>
                        <a:pt x="1262" y="1244"/>
                      </a:lnTo>
                      <a:lnTo>
                        <a:pt x="1319" y="1253"/>
                      </a:lnTo>
                      <a:lnTo>
                        <a:pt x="1385" y="1279"/>
                      </a:lnTo>
                      <a:lnTo>
                        <a:pt x="1456" y="1297"/>
                      </a:lnTo>
                      <a:lnTo>
                        <a:pt x="1522" y="1315"/>
                      </a:lnTo>
                      <a:lnTo>
                        <a:pt x="1588" y="1332"/>
                      </a:lnTo>
                      <a:lnTo>
                        <a:pt x="1646" y="1341"/>
                      </a:lnTo>
                      <a:lnTo>
                        <a:pt x="1708" y="1368"/>
                      </a:lnTo>
                      <a:lnTo>
                        <a:pt x="1770" y="1381"/>
                      </a:lnTo>
                      <a:lnTo>
                        <a:pt x="1809" y="1412"/>
                      </a:lnTo>
                      <a:lnTo>
                        <a:pt x="1858" y="1465"/>
                      </a:lnTo>
                      <a:lnTo>
                        <a:pt x="1907" y="1522"/>
                      </a:lnTo>
                      <a:lnTo>
                        <a:pt x="1951" y="1588"/>
                      </a:lnTo>
                      <a:lnTo>
                        <a:pt x="1999" y="1667"/>
                      </a:lnTo>
                      <a:lnTo>
                        <a:pt x="2026" y="1720"/>
                      </a:lnTo>
                      <a:lnTo>
                        <a:pt x="2048" y="1800"/>
                      </a:lnTo>
                      <a:lnTo>
                        <a:pt x="2070" y="1892"/>
                      </a:lnTo>
                      <a:lnTo>
                        <a:pt x="2092" y="1989"/>
                      </a:lnTo>
                      <a:lnTo>
                        <a:pt x="2114" y="2064"/>
                      </a:lnTo>
                      <a:lnTo>
                        <a:pt x="2070" y="2025"/>
                      </a:lnTo>
                      <a:lnTo>
                        <a:pt x="2004" y="1967"/>
                      </a:lnTo>
                      <a:lnTo>
                        <a:pt x="1951" y="1928"/>
                      </a:lnTo>
                      <a:lnTo>
                        <a:pt x="1893" y="1870"/>
                      </a:lnTo>
                      <a:lnTo>
                        <a:pt x="1832" y="1817"/>
                      </a:lnTo>
                      <a:lnTo>
                        <a:pt x="1779" y="1778"/>
                      </a:lnTo>
                      <a:lnTo>
                        <a:pt x="1717" y="1725"/>
                      </a:lnTo>
                      <a:lnTo>
                        <a:pt x="1660" y="1676"/>
                      </a:lnTo>
                      <a:lnTo>
                        <a:pt x="1601" y="1623"/>
                      </a:lnTo>
                      <a:lnTo>
                        <a:pt x="1544" y="1566"/>
                      </a:lnTo>
                      <a:lnTo>
                        <a:pt x="1491" y="1526"/>
                      </a:lnTo>
                      <a:lnTo>
                        <a:pt x="1429" y="1473"/>
                      </a:lnTo>
                      <a:lnTo>
                        <a:pt x="1372" y="1434"/>
                      </a:lnTo>
                      <a:lnTo>
                        <a:pt x="1315" y="1398"/>
                      </a:lnTo>
                      <a:lnTo>
                        <a:pt x="1262" y="1359"/>
                      </a:lnTo>
                      <a:lnTo>
                        <a:pt x="1222" y="1341"/>
                      </a:lnTo>
                      <a:lnTo>
                        <a:pt x="1178" y="1310"/>
                      </a:lnTo>
                      <a:lnTo>
                        <a:pt x="1129" y="1279"/>
                      </a:lnTo>
                      <a:lnTo>
                        <a:pt x="1085" y="1244"/>
                      </a:lnTo>
                      <a:lnTo>
                        <a:pt x="1054" y="1257"/>
                      </a:lnTo>
                      <a:lnTo>
                        <a:pt x="1010" y="1275"/>
                      </a:lnTo>
                      <a:lnTo>
                        <a:pt x="975" y="1271"/>
                      </a:lnTo>
                      <a:lnTo>
                        <a:pt x="940" y="1244"/>
                      </a:lnTo>
                      <a:lnTo>
                        <a:pt x="931" y="1341"/>
                      </a:lnTo>
                      <a:lnTo>
                        <a:pt x="922" y="1456"/>
                      </a:lnTo>
                      <a:lnTo>
                        <a:pt x="949" y="1553"/>
                      </a:lnTo>
                      <a:lnTo>
                        <a:pt x="971" y="1659"/>
                      </a:lnTo>
                      <a:lnTo>
                        <a:pt x="1010" y="1729"/>
                      </a:lnTo>
                      <a:lnTo>
                        <a:pt x="1050" y="1822"/>
                      </a:lnTo>
                      <a:lnTo>
                        <a:pt x="1090" y="1928"/>
                      </a:lnTo>
                      <a:lnTo>
                        <a:pt x="1129" y="2038"/>
                      </a:lnTo>
                      <a:lnTo>
                        <a:pt x="1165" y="2114"/>
                      </a:lnTo>
                      <a:lnTo>
                        <a:pt x="1204" y="2189"/>
                      </a:lnTo>
                      <a:lnTo>
                        <a:pt x="1235" y="2339"/>
                      </a:lnTo>
                      <a:lnTo>
                        <a:pt x="1248" y="2458"/>
                      </a:lnTo>
                      <a:lnTo>
                        <a:pt x="1279" y="2608"/>
                      </a:lnTo>
                      <a:lnTo>
                        <a:pt x="1306" y="2744"/>
                      </a:lnTo>
                      <a:lnTo>
                        <a:pt x="1178" y="2744"/>
                      </a:lnTo>
                      <a:lnTo>
                        <a:pt x="1156" y="2744"/>
                      </a:lnTo>
                      <a:lnTo>
                        <a:pt x="1081" y="2581"/>
                      </a:lnTo>
                      <a:lnTo>
                        <a:pt x="1019" y="2418"/>
                      </a:lnTo>
                      <a:lnTo>
                        <a:pt x="975" y="2286"/>
                      </a:lnTo>
                      <a:lnTo>
                        <a:pt x="944" y="2149"/>
                      </a:lnTo>
                      <a:lnTo>
                        <a:pt x="927" y="2007"/>
                      </a:lnTo>
                      <a:lnTo>
                        <a:pt x="904" y="1861"/>
                      </a:lnTo>
                      <a:lnTo>
                        <a:pt x="856" y="1645"/>
                      </a:lnTo>
                      <a:lnTo>
                        <a:pt x="821" y="1579"/>
                      </a:lnTo>
                      <a:lnTo>
                        <a:pt x="799" y="1447"/>
                      </a:lnTo>
                      <a:lnTo>
                        <a:pt x="768" y="1394"/>
                      </a:lnTo>
                      <a:lnTo>
                        <a:pt x="737" y="1412"/>
                      </a:lnTo>
                      <a:lnTo>
                        <a:pt x="715" y="1425"/>
                      </a:lnTo>
                      <a:lnTo>
                        <a:pt x="702" y="1509"/>
                      </a:lnTo>
                      <a:lnTo>
                        <a:pt x="706" y="1469"/>
                      </a:lnTo>
                      <a:lnTo>
                        <a:pt x="702" y="1513"/>
                      </a:lnTo>
                      <a:lnTo>
                        <a:pt x="697" y="1548"/>
                      </a:lnTo>
                      <a:lnTo>
                        <a:pt x="684" y="1562"/>
                      </a:lnTo>
                      <a:lnTo>
                        <a:pt x="702" y="1548"/>
                      </a:lnTo>
                      <a:lnTo>
                        <a:pt x="693" y="1531"/>
                      </a:lnTo>
                      <a:lnTo>
                        <a:pt x="702" y="1487"/>
                      </a:lnTo>
                      <a:lnTo>
                        <a:pt x="706" y="1469"/>
                      </a:lnTo>
                      <a:lnTo>
                        <a:pt x="706" y="1473"/>
                      </a:lnTo>
                      <a:lnTo>
                        <a:pt x="706" y="1513"/>
                      </a:lnTo>
                      <a:lnTo>
                        <a:pt x="715" y="1548"/>
                      </a:lnTo>
                      <a:lnTo>
                        <a:pt x="697" y="1562"/>
                      </a:lnTo>
                      <a:lnTo>
                        <a:pt x="662" y="1623"/>
                      </a:lnTo>
                      <a:lnTo>
                        <a:pt x="618" y="1716"/>
                      </a:lnTo>
                      <a:lnTo>
                        <a:pt x="583" y="1786"/>
                      </a:lnTo>
                      <a:lnTo>
                        <a:pt x="547" y="1861"/>
                      </a:lnTo>
                      <a:lnTo>
                        <a:pt x="515" y="1950"/>
                      </a:lnTo>
                      <a:lnTo>
                        <a:pt x="480" y="2025"/>
                      </a:lnTo>
                      <a:lnTo>
                        <a:pt x="445" y="2114"/>
                      </a:lnTo>
                      <a:lnTo>
                        <a:pt x="410" y="2206"/>
                      </a:lnTo>
                      <a:lnTo>
                        <a:pt x="379" y="2303"/>
                      </a:lnTo>
                      <a:lnTo>
                        <a:pt x="343" y="2414"/>
                      </a:lnTo>
                      <a:lnTo>
                        <a:pt x="308" y="2537"/>
                      </a:lnTo>
                      <a:lnTo>
                        <a:pt x="273" y="2665"/>
                      </a:lnTo>
                      <a:lnTo>
                        <a:pt x="233" y="2806"/>
                      </a:lnTo>
                      <a:lnTo>
                        <a:pt x="246" y="2639"/>
                      </a:lnTo>
                      <a:lnTo>
                        <a:pt x="260" y="2528"/>
                      </a:lnTo>
                      <a:lnTo>
                        <a:pt x="268" y="2396"/>
                      </a:lnTo>
                      <a:lnTo>
                        <a:pt x="277" y="2321"/>
                      </a:lnTo>
                      <a:lnTo>
                        <a:pt x="295" y="2264"/>
                      </a:lnTo>
                      <a:lnTo>
                        <a:pt x="317" y="2153"/>
                      </a:lnTo>
                      <a:lnTo>
                        <a:pt x="343" y="2047"/>
                      </a:lnTo>
                      <a:lnTo>
                        <a:pt x="366" y="1958"/>
                      </a:lnTo>
                      <a:lnTo>
                        <a:pt x="405" y="1861"/>
                      </a:lnTo>
                      <a:lnTo>
                        <a:pt x="445" y="1764"/>
                      </a:lnTo>
                      <a:lnTo>
                        <a:pt x="493" y="1659"/>
                      </a:lnTo>
                      <a:lnTo>
                        <a:pt x="533" y="1548"/>
                      </a:lnTo>
                      <a:lnTo>
                        <a:pt x="565" y="1487"/>
                      </a:lnTo>
                      <a:lnTo>
                        <a:pt x="600" y="1429"/>
                      </a:lnTo>
                      <a:lnTo>
                        <a:pt x="649" y="1359"/>
                      </a:lnTo>
                      <a:lnTo>
                        <a:pt x="693" y="1293"/>
                      </a:lnTo>
                      <a:lnTo>
                        <a:pt x="733" y="1218"/>
                      </a:lnTo>
                      <a:lnTo>
                        <a:pt x="777" y="1125"/>
                      </a:lnTo>
                      <a:lnTo>
                        <a:pt x="759" y="1099"/>
                      </a:lnTo>
                      <a:lnTo>
                        <a:pt x="724" y="1050"/>
                      </a:lnTo>
                      <a:lnTo>
                        <a:pt x="693" y="1019"/>
                      </a:lnTo>
                      <a:lnTo>
                        <a:pt x="662" y="1041"/>
                      </a:lnTo>
                      <a:lnTo>
                        <a:pt x="613" y="1099"/>
                      </a:lnTo>
                      <a:lnTo>
                        <a:pt x="569" y="1156"/>
                      </a:lnTo>
                      <a:lnTo>
                        <a:pt x="524" y="1218"/>
                      </a:lnTo>
                      <a:lnTo>
                        <a:pt x="485" y="1293"/>
                      </a:lnTo>
                      <a:lnTo>
                        <a:pt x="432" y="1394"/>
                      </a:lnTo>
                      <a:lnTo>
                        <a:pt x="379" y="1491"/>
                      </a:lnTo>
                      <a:lnTo>
                        <a:pt x="339" y="1566"/>
                      </a:lnTo>
                      <a:lnTo>
                        <a:pt x="299" y="1632"/>
                      </a:lnTo>
                      <a:lnTo>
                        <a:pt x="255" y="1716"/>
                      </a:lnTo>
                      <a:lnTo>
                        <a:pt x="211" y="1813"/>
                      </a:lnTo>
                      <a:lnTo>
                        <a:pt x="176" y="1910"/>
                      </a:lnTo>
                      <a:lnTo>
                        <a:pt x="132" y="2011"/>
                      </a:lnTo>
                      <a:lnTo>
                        <a:pt x="92" y="2114"/>
                      </a:lnTo>
                      <a:lnTo>
                        <a:pt x="52" y="2224"/>
                      </a:lnTo>
                      <a:lnTo>
                        <a:pt x="0" y="2347"/>
                      </a:lnTo>
                      <a:lnTo>
                        <a:pt x="26" y="2189"/>
                      </a:lnTo>
                      <a:lnTo>
                        <a:pt x="39" y="2064"/>
                      </a:lnTo>
                      <a:lnTo>
                        <a:pt x="52" y="1954"/>
                      </a:lnTo>
                      <a:lnTo>
                        <a:pt x="61" y="1919"/>
                      </a:lnTo>
                      <a:lnTo>
                        <a:pt x="88" y="1870"/>
                      </a:lnTo>
                      <a:lnTo>
                        <a:pt x="123" y="1800"/>
                      </a:lnTo>
                      <a:lnTo>
                        <a:pt x="167" y="1725"/>
                      </a:lnTo>
                      <a:lnTo>
                        <a:pt x="216" y="1645"/>
                      </a:lnTo>
                      <a:lnTo>
                        <a:pt x="260" y="1566"/>
                      </a:lnTo>
                      <a:lnTo>
                        <a:pt x="317" y="1473"/>
                      </a:lnTo>
                      <a:lnTo>
                        <a:pt x="357" y="1412"/>
                      </a:lnTo>
                      <a:lnTo>
                        <a:pt x="405" y="1337"/>
                      </a:lnTo>
                      <a:lnTo>
                        <a:pt x="467" y="1253"/>
                      </a:lnTo>
                      <a:lnTo>
                        <a:pt x="524" y="1178"/>
                      </a:lnTo>
                      <a:lnTo>
                        <a:pt x="574" y="1116"/>
                      </a:lnTo>
                      <a:lnTo>
                        <a:pt x="662" y="1028"/>
                      </a:lnTo>
                      <a:lnTo>
                        <a:pt x="710" y="988"/>
                      </a:lnTo>
                      <a:lnTo>
                        <a:pt x="737" y="971"/>
                      </a:lnTo>
                      <a:lnTo>
                        <a:pt x="693" y="922"/>
                      </a:lnTo>
                      <a:lnTo>
                        <a:pt x="640" y="852"/>
                      </a:lnTo>
                      <a:lnTo>
                        <a:pt x="591" y="781"/>
                      </a:lnTo>
                      <a:lnTo>
                        <a:pt x="543" y="728"/>
                      </a:lnTo>
                      <a:lnTo>
                        <a:pt x="493" y="674"/>
                      </a:lnTo>
                      <a:lnTo>
                        <a:pt x="449" y="612"/>
                      </a:lnTo>
                      <a:lnTo>
                        <a:pt x="410" y="560"/>
                      </a:lnTo>
                      <a:lnTo>
                        <a:pt x="357" y="467"/>
                      </a:lnTo>
                      <a:lnTo>
                        <a:pt x="304" y="383"/>
                      </a:lnTo>
                      <a:lnTo>
                        <a:pt x="246" y="304"/>
                      </a:lnTo>
                      <a:lnTo>
                        <a:pt x="185" y="211"/>
                      </a:lnTo>
                      <a:lnTo>
                        <a:pt x="136" y="149"/>
                      </a:lnTo>
                      <a:lnTo>
                        <a:pt x="110" y="97"/>
                      </a:lnTo>
                      <a:lnTo>
                        <a:pt x="74" y="35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95" y="83"/>
                      </a:lnTo>
                      <a:lnTo>
                        <a:pt x="357" y="176"/>
                      </a:lnTo>
                      <a:lnTo>
                        <a:pt x="405" y="246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320"/>
                  <a:ext cx="1572120" cy="984960"/>
                  <a:chOff x="7386480" y="5143320"/>
                  <a:chExt cx="1572120" cy="98496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320"/>
                    <a:ext cx="1422720" cy="9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952" h="2550">
                        <a:moveTo>
                          <a:pt x="1247" y="651"/>
                        </a:moveTo>
                        <a:lnTo>
                          <a:pt x="1277" y="587"/>
                        </a:lnTo>
                        <a:lnTo>
                          <a:pt x="1322" y="515"/>
                        </a:lnTo>
                        <a:lnTo>
                          <a:pt x="1378" y="448"/>
                        </a:lnTo>
                        <a:lnTo>
                          <a:pt x="1441" y="383"/>
                        </a:lnTo>
                        <a:lnTo>
                          <a:pt x="1504" y="319"/>
                        </a:lnTo>
                        <a:lnTo>
                          <a:pt x="1552" y="274"/>
                        </a:lnTo>
                        <a:lnTo>
                          <a:pt x="1603" y="235"/>
                        </a:lnTo>
                        <a:lnTo>
                          <a:pt x="1663" y="198"/>
                        </a:lnTo>
                        <a:lnTo>
                          <a:pt x="1714" y="163"/>
                        </a:lnTo>
                        <a:lnTo>
                          <a:pt x="1765" y="134"/>
                        </a:lnTo>
                        <a:lnTo>
                          <a:pt x="1825" y="106"/>
                        </a:lnTo>
                        <a:lnTo>
                          <a:pt x="1879" y="84"/>
                        </a:lnTo>
                        <a:lnTo>
                          <a:pt x="1933" y="67"/>
                        </a:lnTo>
                        <a:lnTo>
                          <a:pt x="2003" y="52"/>
                        </a:lnTo>
                        <a:lnTo>
                          <a:pt x="2078" y="41"/>
                        </a:lnTo>
                        <a:lnTo>
                          <a:pt x="2138" y="30"/>
                        </a:lnTo>
                        <a:lnTo>
                          <a:pt x="2207" y="23"/>
                        </a:lnTo>
                        <a:lnTo>
                          <a:pt x="2276" y="19"/>
                        </a:lnTo>
                        <a:lnTo>
                          <a:pt x="2348" y="15"/>
                        </a:lnTo>
                        <a:lnTo>
                          <a:pt x="2438" y="8"/>
                        </a:lnTo>
                        <a:lnTo>
                          <a:pt x="2507" y="15"/>
                        </a:lnTo>
                        <a:lnTo>
                          <a:pt x="2570" y="19"/>
                        </a:lnTo>
                        <a:lnTo>
                          <a:pt x="2633" y="21"/>
                        </a:lnTo>
                        <a:lnTo>
                          <a:pt x="2693" y="15"/>
                        </a:lnTo>
                        <a:lnTo>
                          <a:pt x="2764" y="8"/>
                        </a:lnTo>
                        <a:lnTo>
                          <a:pt x="2833" y="0"/>
                        </a:lnTo>
                        <a:lnTo>
                          <a:pt x="2800" y="17"/>
                        </a:lnTo>
                        <a:lnTo>
                          <a:pt x="2764" y="32"/>
                        </a:lnTo>
                        <a:lnTo>
                          <a:pt x="2737" y="54"/>
                        </a:lnTo>
                        <a:lnTo>
                          <a:pt x="2711" y="80"/>
                        </a:lnTo>
                        <a:lnTo>
                          <a:pt x="2657" y="78"/>
                        </a:lnTo>
                        <a:lnTo>
                          <a:pt x="2600" y="82"/>
                        </a:lnTo>
                        <a:lnTo>
                          <a:pt x="2555" y="91"/>
                        </a:lnTo>
                        <a:lnTo>
                          <a:pt x="2504" y="102"/>
                        </a:lnTo>
                        <a:lnTo>
                          <a:pt x="2456" y="111"/>
                        </a:lnTo>
                        <a:lnTo>
                          <a:pt x="2402" y="121"/>
                        </a:lnTo>
                        <a:lnTo>
                          <a:pt x="2348" y="134"/>
                        </a:lnTo>
                        <a:lnTo>
                          <a:pt x="2291" y="148"/>
                        </a:lnTo>
                        <a:lnTo>
                          <a:pt x="2234" y="163"/>
                        </a:lnTo>
                        <a:lnTo>
                          <a:pt x="2180" y="178"/>
                        </a:lnTo>
                        <a:lnTo>
                          <a:pt x="2129" y="198"/>
                        </a:lnTo>
                        <a:lnTo>
                          <a:pt x="2063" y="219"/>
                        </a:lnTo>
                        <a:lnTo>
                          <a:pt x="2003" y="245"/>
                        </a:lnTo>
                        <a:lnTo>
                          <a:pt x="1939" y="276"/>
                        </a:lnTo>
                        <a:lnTo>
                          <a:pt x="1879" y="309"/>
                        </a:lnTo>
                        <a:lnTo>
                          <a:pt x="1810" y="356"/>
                        </a:lnTo>
                        <a:lnTo>
                          <a:pt x="1756" y="413"/>
                        </a:lnTo>
                        <a:lnTo>
                          <a:pt x="1699" y="483"/>
                        </a:lnTo>
                        <a:lnTo>
                          <a:pt x="1636" y="574"/>
                        </a:lnTo>
                        <a:lnTo>
                          <a:pt x="1576" y="677"/>
                        </a:lnTo>
                        <a:lnTo>
                          <a:pt x="1504" y="799"/>
                        </a:lnTo>
                        <a:lnTo>
                          <a:pt x="1624" y="749"/>
                        </a:lnTo>
                        <a:lnTo>
                          <a:pt x="1726" y="704"/>
                        </a:lnTo>
                        <a:lnTo>
                          <a:pt x="1864" y="647"/>
                        </a:lnTo>
                        <a:lnTo>
                          <a:pt x="2003" y="589"/>
                        </a:lnTo>
                        <a:lnTo>
                          <a:pt x="2063" y="574"/>
                        </a:lnTo>
                        <a:lnTo>
                          <a:pt x="2126" y="555"/>
                        </a:lnTo>
                        <a:lnTo>
                          <a:pt x="2195" y="541"/>
                        </a:lnTo>
                        <a:lnTo>
                          <a:pt x="2273" y="526"/>
                        </a:lnTo>
                        <a:lnTo>
                          <a:pt x="2351" y="513"/>
                        </a:lnTo>
                        <a:lnTo>
                          <a:pt x="2423" y="507"/>
                        </a:lnTo>
                        <a:lnTo>
                          <a:pt x="2483" y="502"/>
                        </a:lnTo>
                        <a:lnTo>
                          <a:pt x="2573" y="496"/>
                        </a:lnTo>
                        <a:lnTo>
                          <a:pt x="2654" y="500"/>
                        </a:lnTo>
                        <a:lnTo>
                          <a:pt x="2720" y="504"/>
                        </a:lnTo>
                        <a:lnTo>
                          <a:pt x="2803" y="511"/>
                        </a:lnTo>
                        <a:lnTo>
                          <a:pt x="2881" y="518"/>
                        </a:lnTo>
                        <a:lnTo>
                          <a:pt x="2956" y="522"/>
                        </a:lnTo>
                        <a:lnTo>
                          <a:pt x="3034" y="531"/>
                        </a:lnTo>
                        <a:lnTo>
                          <a:pt x="3109" y="535"/>
                        </a:lnTo>
                        <a:lnTo>
                          <a:pt x="3190" y="541"/>
                        </a:lnTo>
                        <a:lnTo>
                          <a:pt x="3271" y="548"/>
                        </a:lnTo>
                        <a:lnTo>
                          <a:pt x="3346" y="555"/>
                        </a:lnTo>
                        <a:lnTo>
                          <a:pt x="3439" y="563"/>
                        </a:lnTo>
                        <a:lnTo>
                          <a:pt x="3529" y="570"/>
                        </a:lnTo>
                        <a:lnTo>
                          <a:pt x="3616" y="581"/>
                        </a:lnTo>
                        <a:lnTo>
                          <a:pt x="3754" y="596"/>
                        </a:lnTo>
                        <a:lnTo>
                          <a:pt x="3799" y="594"/>
                        </a:lnTo>
                        <a:lnTo>
                          <a:pt x="3832" y="596"/>
                        </a:lnTo>
                        <a:lnTo>
                          <a:pt x="3877" y="607"/>
                        </a:lnTo>
                        <a:lnTo>
                          <a:pt x="3952" y="629"/>
                        </a:lnTo>
                        <a:lnTo>
                          <a:pt x="3820" y="609"/>
                        </a:lnTo>
                        <a:lnTo>
                          <a:pt x="3760" y="600"/>
                        </a:lnTo>
                        <a:lnTo>
                          <a:pt x="3703" y="600"/>
                        </a:lnTo>
                        <a:lnTo>
                          <a:pt x="3583" y="607"/>
                        </a:lnTo>
                        <a:lnTo>
                          <a:pt x="3499" y="611"/>
                        </a:lnTo>
                        <a:lnTo>
                          <a:pt x="3394" y="615"/>
                        </a:lnTo>
                        <a:lnTo>
                          <a:pt x="3307" y="618"/>
                        </a:lnTo>
                        <a:lnTo>
                          <a:pt x="3220" y="620"/>
                        </a:lnTo>
                        <a:lnTo>
                          <a:pt x="3139" y="626"/>
                        </a:lnTo>
                        <a:lnTo>
                          <a:pt x="3064" y="618"/>
                        </a:lnTo>
                        <a:lnTo>
                          <a:pt x="2971" y="613"/>
                        </a:lnTo>
                        <a:lnTo>
                          <a:pt x="2881" y="618"/>
                        </a:lnTo>
                        <a:lnTo>
                          <a:pt x="2797" y="624"/>
                        </a:lnTo>
                        <a:lnTo>
                          <a:pt x="2723" y="629"/>
                        </a:lnTo>
                        <a:lnTo>
                          <a:pt x="2639" y="633"/>
                        </a:lnTo>
                        <a:lnTo>
                          <a:pt x="2573" y="635"/>
                        </a:lnTo>
                        <a:lnTo>
                          <a:pt x="2492" y="640"/>
                        </a:lnTo>
                        <a:lnTo>
                          <a:pt x="2423" y="651"/>
                        </a:lnTo>
                        <a:lnTo>
                          <a:pt x="2357" y="662"/>
                        </a:lnTo>
                        <a:lnTo>
                          <a:pt x="2291" y="675"/>
                        </a:lnTo>
                        <a:lnTo>
                          <a:pt x="2219" y="690"/>
                        </a:lnTo>
                        <a:lnTo>
                          <a:pt x="2147" y="706"/>
                        </a:lnTo>
                        <a:lnTo>
                          <a:pt x="2069" y="723"/>
                        </a:lnTo>
                        <a:lnTo>
                          <a:pt x="2003" y="736"/>
                        </a:lnTo>
                        <a:lnTo>
                          <a:pt x="1879" y="762"/>
                        </a:lnTo>
                        <a:lnTo>
                          <a:pt x="1807" y="775"/>
                        </a:lnTo>
                        <a:lnTo>
                          <a:pt x="1699" y="815"/>
                        </a:lnTo>
                        <a:lnTo>
                          <a:pt x="1552" y="862"/>
                        </a:lnTo>
                        <a:lnTo>
                          <a:pt x="1708" y="876"/>
                        </a:lnTo>
                        <a:lnTo>
                          <a:pt x="1882" y="884"/>
                        </a:lnTo>
                        <a:lnTo>
                          <a:pt x="1918" y="891"/>
                        </a:lnTo>
                        <a:lnTo>
                          <a:pt x="2003" y="928"/>
                        </a:lnTo>
                        <a:lnTo>
                          <a:pt x="2057" y="947"/>
                        </a:lnTo>
                        <a:lnTo>
                          <a:pt x="2108" y="969"/>
                        </a:lnTo>
                        <a:lnTo>
                          <a:pt x="2120" y="982"/>
                        </a:lnTo>
                        <a:lnTo>
                          <a:pt x="2150" y="1026"/>
                        </a:lnTo>
                        <a:lnTo>
                          <a:pt x="2207" y="1098"/>
                        </a:lnTo>
                        <a:lnTo>
                          <a:pt x="2144" y="1069"/>
                        </a:lnTo>
                        <a:lnTo>
                          <a:pt x="2069" y="1030"/>
                        </a:lnTo>
                        <a:lnTo>
                          <a:pt x="2003" y="1013"/>
                        </a:lnTo>
                        <a:lnTo>
                          <a:pt x="1882" y="989"/>
                        </a:lnTo>
                        <a:lnTo>
                          <a:pt x="1795" y="969"/>
                        </a:lnTo>
                        <a:lnTo>
                          <a:pt x="1708" y="947"/>
                        </a:lnTo>
                        <a:lnTo>
                          <a:pt x="1657" y="934"/>
                        </a:lnTo>
                        <a:lnTo>
                          <a:pt x="1555" y="947"/>
                        </a:lnTo>
                        <a:lnTo>
                          <a:pt x="1489" y="956"/>
                        </a:lnTo>
                        <a:lnTo>
                          <a:pt x="1402" y="969"/>
                        </a:lnTo>
                        <a:lnTo>
                          <a:pt x="1447" y="982"/>
                        </a:lnTo>
                        <a:lnTo>
                          <a:pt x="1495" y="995"/>
                        </a:lnTo>
                        <a:lnTo>
                          <a:pt x="1558" y="1017"/>
                        </a:lnTo>
                        <a:lnTo>
                          <a:pt x="1636" y="1015"/>
                        </a:lnTo>
                        <a:lnTo>
                          <a:pt x="1759" y="1019"/>
                        </a:lnTo>
                        <a:lnTo>
                          <a:pt x="1834" y="1032"/>
                        </a:lnTo>
                        <a:lnTo>
                          <a:pt x="1933" y="1052"/>
                        </a:lnTo>
                        <a:lnTo>
                          <a:pt x="2003" y="1071"/>
                        </a:lnTo>
                        <a:lnTo>
                          <a:pt x="2087" y="1089"/>
                        </a:lnTo>
                        <a:lnTo>
                          <a:pt x="2183" y="1111"/>
                        </a:lnTo>
                        <a:lnTo>
                          <a:pt x="2267" y="1130"/>
                        </a:lnTo>
                        <a:lnTo>
                          <a:pt x="2342" y="1139"/>
                        </a:lnTo>
                        <a:lnTo>
                          <a:pt x="2405" y="1150"/>
                        </a:lnTo>
                        <a:lnTo>
                          <a:pt x="2465" y="1165"/>
                        </a:lnTo>
                        <a:lnTo>
                          <a:pt x="2540" y="1182"/>
                        </a:lnTo>
                        <a:lnTo>
                          <a:pt x="2621" y="1211"/>
                        </a:lnTo>
                        <a:lnTo>
                          <a:pt x="2696" y="1241"/>
                        </a:lnTo>
                        <a:lnTo>
                          <a:pt x="2732" y="1263"/>
                        </a:lnTo>
                        <a:lnTo>
                          <a:pt x="2782" y="1313"/>
                        </a:lnTo>
                        <a:lnTo>
                          <a:pt x="2848" y="1374"/>
                        </a:lnTo>
                        <a:lnTo>
                          <a:pt x="2893" y="1422"/>
                        </a:lnTo>
                        <a:lnTo>
                          <a:pt x="2938" y="1478"/>
                        </a:lnTo>
                        <a:lnTo>
                          <a:pt x="2983" y="1531"/>
                        </a:lnTo>
                        <a:lnTo>
                          <a:pt x="3025" y="1587"/>
                        </a:lnTo>
                        <a:lnTo>
                          <a:pt x="3064" y="1635"/>
                        </a:lnTo>
                        <a:lnTo>
                          <a:pt x="3109" y="1692"/>
                        </a:lnTo>
                        <a:lnTo>
                          <a:pt x="3160" y="1757"/>
                        </a:lnTo>
                        <a:lnTo>
                          <a:pt x="3208" y="1820"/>
                        </a:lnTo>
                        <a:lnTo>
                          <a:pt x="3256" y="1872"/>
                        </a:lnTo>
                        <a:lnTo>
                          <a:pt x="3316" y="1934"/>
                        </a:lnTo>
                        <a:lnTo>
                          <a:pt x="3235" y="1883"/>
                        </a:lnTo>
                        <a:lnTo>
                          <a:pt x="3181" y="1853"/>
                        </a:lnTo>
                        <a:lnTo>
                          <a:pt x="3106" y="1811"/>
                        </a:lnTo>
                        <a:lnTo>
                          <a:pt x="3034" y="1768"/>
                        </a:lnTo>
                        <a:lnTo>
                          <a:pt x="2974" y="1729"/>
                        </a:lnTo>
                        <a:lnTo>
                          <a:pt x="2914" y="1694"/>
                        </a:lnTo>
                        <a:lnTo>
                          <a:pt x="2860" y="1666"/>
                        </a:lnTo>
                        <a:lnTo>
                          <a:pt x="2803" y="1635"/>
                        </a:lnTo>
                        <a:lnTo>
                          <a:pt x="2740" y="1602"/>
                        </a:lnTo>
                        <a:lnTo>
                          <a:pt x="2681" y="1572"/>
                        </a:lnTo>
                        <a:lnTo>
                          <a:pt x="2627" y="1542"/>
                        </a:lnTo>
                        <a:lnTo>
                          <a:pt x="2558" y="1500"/>
                        </a:lnTo>
                        <a:lnTo>
                          <a:pt x="2483" y="1459"/>
                        </a:lnTo>
                        <a:lnTo>
                          <a:pt x="2411" y="1413"/>
                        </a:lnTo>
                        <a:lnTo>
                          <a:pt x="2342" y="1374"/>
                        </a:lnTo>
                        <a:lnTo>
                          <a:pt x="2276" y="1341"/>
                        </a:lnTo>
                        <a:lnTo>
                          <a:pt x="2213" y="1306"/>
                        </a:lnTo>
                        <a:lnTo>
                          <a:pt x="2135" y="1276"/>
                        </a:lnTo>
                        <a:lnTo>
                          <a:pt x="2069" y="1254"/>
                        </a:lnTo>
                        <a:lnTo>
                          <a:pt x="2003" y="1235"/>
                        </a:lnTo>
                        <a:lnTo>
                          <a:pt x="1906" y="1213"/>
                        </a:lnTo>
                        <a:lnTo>
                          <a:pt x="1816" y="1193"/>
                        </a:lnTo>
                        <a:lnTo>
                          <a:pt x="1750" y="1178"/>
                        </a:lnTo>
                        <a:lnTo>
                          <a:pt x="1678" y="1161"/>
                        </a:lnTo>
                        <a:lnTo>
                          <a:pt x="1576" y="1119"/>
                        </a:lnTo>
                        <a:lnTo>
                          <a:pt x="1474" y="1082"/>
                        </a:lnTo>
                        <a:lnTo>
                          <a:pt x="1630" y="1165"/>
                        </a:lnTo>
                        <a:lnTo>
                          <a:pt x="1645" y="1182"/>
                        </a:lnTo>
                        <a:lnTo>
                          <a:pt x="1678" y="1217"/>
                        </a:lnTo>
                        <a:lnTo>
                          <a:pt x="1717" y="1261"/>
                        </a:lnTo>
                        <a:lnTo>
                          <a:pt x="1762" y="1315"/>
                        </a:lnTo>
                        <a:lnTo>
                          <a:pt x="1810" y="1365"/>
                        </a:lnTo>
                        <a:lnTo>
                          <a:pt x="1858" y="1420"/>
                        </a:lnTo>
                        <a:lnTo>
                          <a:pt x="1915" y="1478"/>
                        </a:lnTo>
                        <a:lnTo>
                          <a:pt x="1957" y="1526"/>
                        </a:lnTo>
                        <a:lnTo>
                          <a:pt x="2003" y="1574"/>
                        </a:lnTo>
                        <a:lnTo>
                          <a:pt x="2048" y="1629"/>
                        </a:lnTo>
                        <a:lnTo>
                          <a:pt x="2102" y="1698"/>
                        </a:lnTo>
                        <a:lnTo>
                          <a:pt x="2147" y="1755"/>
                        </a:lnTo>
                        <a:lnTo>
                          <a:pt x="2186" y="1801"/>
                        </a:lnTo>
                        <a:lnTo>
                          <a:pt x="2219" y="1857"/>
                        </a:lnTo>
                        <a:lnTo>
                          <a:pt x="2255" y="1909"/>
                        </a:lnTo>
                        <a:lnTo>
                          <a:pt x="2276" y="1965"/>
                        </a:lnTo>
                        <a:lnTo>
                          <a:pt x="2294" y="2004"/>
                        </a:lnTo>
                        <a:lnTo>
                          <a:pt x="2306" y="2061"/>
                        </a:lnTo>
                        <a:lnTo>
                          <a:pt x="2315" y="2135"/>
                        </a:lnTo>
                        <a:lnTo>
                          <a:pt x="2324" y="2204"/>
                        </a:lnTo>
                        <a:lnTo>
                          <a:pt x="2339" y="2280"/>
                        </a:lnTo>
                        <a:lnTo>
                          <a:pt x="2351" y="2346"/>
                        </a:lnTo>
                        <a:lnTo>
                          <a:pt x="2360" y="2420"/>
                        </a:lnTo>
                        <a:lnTo>
                          <a:pt x="2297" y="2346"/>
                        </a:lnTo>
                        <a:lnTo>
                          <a:pt x="2252" y="2300"/>
                        </a:lnTo>
                        <a:lnTo>
                          <a:pt x="2207" y="2250"/>
                        </a:lnTo>
                        <a:lnTo>
                          <a:pt x="2177" y="2209"/>
                        </a:lnTo>
                        <a:lnTo>
                          <a:pt x="2147" y="2156"/>
                        </a:lnTo>
                        <a:lnTo>
                          <a:pt x="2126" y="2100"/>
                        </a:lnTo>
                        <a:lnTo>
                          <a:pt x="2093" y="2032"/>
                        </a:lnTo>
                        <a:lnTo>
                          <a:pt x="2060" y="1971"/>
                        </a:lnTo>
                        <a:lnTo>
                          <a:pt x="2024" y="1903"/>
                        </a:lnTo>
                        <a:lnTo>
                          <a:pt x="1994" y="1844"/>
                        </a:lnTo>
                        <a:lnTo>
                          <a:pt x="1957" y="1785"/>
                        </a:lnTo>
                        <a:lnTo>
                          <a:pt x="1915" y="1735"/>
                        </a:lnTo>
                        <a:lnTo>
                          <a:pt x="1876" y="1690"/>
                        </a:lnTo>
                        <a:lnTo>
                          <a:pt x="1825" y="1637"/>
                        </a:lnTo>
                        <a:lnTo>
                          <a:pt x="1765" y="1583"/>
                        </a:lnTo>
                        <a:lnTo>
                          <a:pt x="1723" y="1542"/>
                        </a:lnTo>
                        <a:lnTo>
                          <a:pt x="1675" y="1494"/>
                        </a:lnTo>
                        <a:lnTo>
                          <a:pt x="1666" y="1452"/>
                        </a:lnTo>
                        <a:lnTo>
                          <a:pt x="1633" y="1389"/>
                        </a:lnTo>
                        <a:lnTo>
                          <a:pt x="1600" y="1339"/>
                        </a:lnTo>
                        <a:lnTo>
                          <a:pt x="1573" y="1285"/>
                        </a:lnTo>
                        <a:lnTo>
                          <a:pt x="1552" y="1265"/>
                        </a:lnTo>
                        <a:lnTo>
                          <a:pt x="1492" y="1213"/>
                        </a:lnTo>
                        <a:lnTo>
                          <a:pt x="1453" y="1163"/>
                        </a:lnTo>
                        <a:lnTo>
                          <a:pt x="1414" y="1117"/>
                        </a:lnTo>
                        <a:lnTo>
                          <a:pt x="1375" y="1071"/>
                        </a:lnTo>
                        <a:lnTo>
                          <a:pt x="1304" y="1100"/>
                        </a:lnTo>
                        <a:lnTo>
                          <a:pt x="1238" y="1135"/>
                        </a:lnTo>
                        <a:lnTo>
                          <a:pt x="1166" y="1187"/>
                        </a:lnTo>
                        <a:lnTo>
                          <a:pt x="1091" y="1230"/>
                        </a:lnTo>
                        <a:lnTo>
                          <a:pt x="1037" y="1274"/>
                        </a:lnTo>
                        <a:lnTo>
                          <a:pt x="992" y="1324"/>
                        </a:lnTo>
                        <a:lnTo>
                          <a:pt x="938" y="1385"/>
                        </a:lnTo>
                        <a:lnTo>
                          <a:pt x="878" y="1459"/>
                        </a:lnTo>
                        <a:lnTo>
                          <a:pt x="827" y="1518"/>
                        </a:lnTo>
                        <a:lnTo>
                          <a:pt x="770" y="1592"/>
                        </a:lnTo>
                        <a:lnTo>
                          <a:pt x="725" y="1655"/>
                        </a:lnTo>
                        <a:lnTo>
                          <a:pt x="683" y="1713"/>
                        </a:lnTo>
                        <a:lnTo>
                          <a:pt x="641" y="1774"/>
                        </a:lnTo>
                        <a:lnTo>
                          <a:pt x="605" y="1835"/>
                        </a:lnTo>
                        <a:lnTo>
                          <a:pt x="560" y="1903"/>
                        </a:lnTo>
                        <a:lnTo>
                          <a:pt x="521" y="1969"/>
                        </a:lnTo>
                        <a:lnTo>
                          <a:pt x="461" y="2045"/>
                        </a:lnTo>
                        <a:lnTo>
                          <a:pt x="410" y="2119"/>
                        </a:lnTo>
                        <a:lnTo>
                          <a:pt x="350" y="2200"/>
                        </a:lnTo>
                        <a:lnTo>
                          <a:pt x="299" y="2270"/>
                        </a:lnTo>
                        <a:lnTo>
                          <a:pt x="260" y="2311"/>
                        </a:lnTo>
                        <a:lnTo>
                          <a:pt x="215" y="2359"/>
                        </a:lnTo>
                        <a:lnTo>
                          <a:pt x="170" y="2404"/>
                        </a:lnTo>
                        <a:lnTo>
                          <a:pt x="119" y="2450"/>
                        </a:lnTo>
                        <a:lnTo>
                          <a:pt x="65" y="2494"/>
                        </a:lnTo>
                        <a:lnTo>
                          <a:pt x="0" y="2550"/>
                        </a:lnTo>
                        <a:lnTo>
                          <a:pt x="23" y="2481"/>
                        </a:lnTo>
                        <a:lnTo>
                          <a:pt x="44" y="2426"/>
                        </a:lnTo>
                        <a:lnTo>
                          <a:pt x="80" y="2363"/>
                        </a:lnTo>
                        <a:lnTo>
                          <a:pt x="119" y="2311"/>
                        </a:lnTo>
                        <a:lnTo>
                          <a:pt x="182" y="2235"/>
                        </a:lnTo>
                        <a:lnTo>
                          <a:pt x="245" y="2152"/>
                        </a:lnTo>
                        <a:lnTo>
                          <a:pt x="317" y="2061"/>
                        </a:lnTo>
                        <a:lnTo>
                          <a:pt x="374" y="1984"/>
                        </a:lnTo>
                        <a:lnTo>
                          <a:pt x="431" y="1913"/>
                        </a:lnTo>
                        <a:lnTo>
                          <a:pt x="488" y="1844"/>
                        </a:lnTo>
                        <a:lnTo>
                          <a:pt x="530" y="1788"/>
                        </a:lnTo>
                        <a:lnTo>
                          <a:pt x="581" y="1729"/>
                        </a:lnTo>
                        <a:lnTo>
                          <a:pt x="626" y="1681"/>
                        </a:lnTo>
                        <a:lnTo>
                          <a:pt x="683" y="1620"/>
                        </a:lnTo>
                        <a:lnTo>
                          <a:pt x="740" y="1557"/>
                        </a:lnTo>
                        <a:lnTo>
                          <a:pt x="797" y="1494"/>
                        </a:lnTo>
                        <a:lnTo>
                          <a:pt x="857" y="1426"/>
                        </a:lnTo>
                        <a:lnTo>
                          <a:pt x="905" y="1367"/>
                        </a:lnTo>
                        <a:lnTo>
                          <a:pt x="950" y="1311"/>
                        </a:lnTo>
                        <a:lnTo>
                          <a:pt x="989" y="1256"/>
                        </a:lnTo>
                        <a:lnTo>
                          <a:pt x="1010" y="1215"/>
                        </a:lnTo>
                        <a:lnTo>
                          <a:pt x="1034" y="1174"/>
                        </a:lnTo>
                        <a:lnTo>
                          <a:pt x="1061" y="1130"/>
                        </a:lnTo>
                        <a:lnTo>
                          <a:pt x="1103" y="1089"/>
                        </a:lnTo>
                        <a:lnTo>
                          <a:pt x="1160" y="1034"/>
                        </a:lnTo>
                        <a:lnTo>
                          <a:pt x="1208" y="982"/>
                        </a:lnTo>
                        <a:lnTo>
                          <a:pt x="1253" y="943"/>
                        </a:lnTo>
                        <a:lnTo>
                          <a:pt x="1292" y="899"/>
                        </a:lnTo>
                        <a:lnTo>
                          <a:pt x="1277" y="856"/>
                        </a:lnTo>
                        <a:lnTo>
                          <a:pt x="1256" y="795"/>
                        </a:lnTo>
                        <a:lnTo>
                          <a:pt x="1145" y="764"/>
                        </a:lnTo>
                        <a:lnTo>
                          <a:pt x="1025" y="695"/>
                        </a:lnTo>
                        <a:lnTo>
                          <a:pt x="899" y="624"/>
                        </a:lnTo>
                        <a:lnTo>
                          <a:pt x="830" y="587"/>
                        </a:lnTo>
                        <a:lnTo>
                          <a:pt x="773" y="559"/>
                        </a:lnTo>
                        <a:lnTo>
                          <a:pt x="674" y="526"/>
                        </a:lnTo>
                        <a:lnTo>
                          <a:pt x="578" y="496"/>
                        </a:lnTo>
                        <a:lnTo>
                          <a:pt x="473" y="470"/>
                        </a:lnTo>
                        <a:lnTo>
                          <a:pt x="395" y="450"/>
                        </a:lnTo>
                        <a:lnTo>
                          <a:pt x="302" y="422"/>
                        </a:lnTo>
                        <a:lnTo>
                          <a:pt x="221" y="400"/>
                        </a:lnTo>
                        <a:lnTo>
                          <a:pt x="140" y="387"/>
                        </a:lnTo>
                        <a:lnTo>
                          <a:pt x="71" y="372"/>
                        </a:lnTo>
                        <a:lnTo>
                          <a:pt x="134" y="365"/>
                        </a:lnTo>
                        <a:lnTo>
                          <a:pt x="185" y="359"/>
                        </a:lnTo>
                        <a:lnTo>
                          <a:pt x="224" y="354"/>
                        </a:lnTo>
                        <a:lnTo>
                          <a:pt x="269" y="350"/>
                        </a:lnTo>
                        <a:lnTo>
                          <a:pt x="311" y="352"/>
                        </a:lnTo>
                        <a:lnTo>
                          <a:pt x="407" y="387"/>
                        </a:lnTo>
                        <a:lnTo>
                          <a:pt x="485" y="420"/>
                        </a:lnTo>
                        <a:lnTo>
                          <a:pt x="569" y="459"/>
                        </a:lnTo>
                        <a:lnTo>
                          <a:pt x="653" y="496"/>
                        </a:lnTo>
                        <a:lnTo>
                          <a:pt x="755" y="539"/>
                        </a:lnTo>
                        <a:lnTo>
                          <a:pt x="842" y="581"/>
                        </a:lnTo>
                        <a:lnTo>
                          <a:pt x="914" y="609"/>
                        </a:lnTo>
                        <a:lnTo>
                          <a:pt x="1037" y="660"/>
                        </a:lnTo>
                        <a:lnTo>
                          <a:pt x="1103" y="680"/>
                        </a:lnTo>
                        <a:lnTo>
                          <a:pt x="1151" y="671"/>
                        </a:lnTo>
                        <a:lnTo>
                          <a:pt x="1199" y="662"/>
                        </a:lnTo>
                        <a:lnTo>
                          <a:pt x="1247" y="651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5640" cy="514800"/>
                  </a:xfrm>
                  <a:custGeom>
                    <a:avLst/>
                    <a:gdLst/>
                    <a:ahLst/>
                    <a:rect l="0" t="0" r="r" b="b"/>
                    <a:pathLst>
                      <a:path w="349" h="1430">
                        <a:moveTo>
                          <a:pt x="191" y="0"/>
                        </a:moveTo>
                        <a:lnTo>
                          <a:pt x="232" y="69"/>
                        </a:lnTo>
                        <a:lnTo>
                          <a:pt x="261" y="114"/>
                        </a:lnTo>
                        <a:lnTo>
                          <a:pt x="317" y="181"/>
                        </a:lnTo>
                        <a:lnTo>
                          <a:pt x="331" y="244"/>
                        </a:lnTo>
                        <a:lnTo>
                          <a:pt x="343" y="324"/>
                        </a:lnTo>
                        <a:lnTo>
                          <a:pt x="346" y="422"/>
                        </a:lnTo>
                        <a:lnTo>
                          <a:pt x="349" y="485"/>
                        </a:lnTo>
                        <a:lnTo>
                          <a:pt x="346" y="558"/>
                        </a:lnTo>
                        <a:lnTo>
                          <a:pt x="331" y="647"/>
                        </a:lnTo>
                        <a:lnTo>
                          <a:pt x="320" y="725"/>
                        </a:lnTo>
                        <a:lnTo>
                          <a:pt x="293" y="846"/>
                        </a:lnTo>
                        <a:lnTo>
                          <a:pt x="270" y="908"/>
                        </a:lnTo>
                        <a:lnTo>
                          <a:pt x="226" y="986"/>
                        </a:lnTo>
                        <a:lnTo>
                          <a:pt x="166" y="1078"/>
                        </a:lnTo>
                        <a:lnTo>
                          <a:pt x="117" y="1158"/>
                        </a:lnTo>
                        <a:lnTo>
                          <a:pt x="70" y="1236"/>
                        </a:lnTo>
                        <a:lnTo>
                          <a:pt x="32" y="1301"/>
                        </a:lnTo>
                        <a:lnTo>
                          <a:pt x="0" y="1430"/>
                        </a:lnTo>
                        <a:lnTo>
                          <a:pt x="17" y="1301"/>
                        </a:lnTo>
                        <a:lnTo>
                          <a:pt x="29" y="1210"/>
                        </a:lnTo>
                        <a:lnTo>
                          <a:pt x="38" y="1125"/>
                        </a:lnTo>
                        <a:lnTo>
                          <a:pt x="46" y="1036"/>
                        </a:lnTo>
                        <a:lnTo>
                          <a:pt x="67" y="928"/>
                        </a:lnTo>
                        <a:lnTo>
                          <a:pt x="93" y="848"/>
                        </a:lnTo>
                        <a:lnTo>
                          <a:pt x="117" y="766"/>
                        </a:lnTo>
                        <a:lnTo>
                          <a:pt x="143" y="694"/>
                        </a:lnTo>
                        <a:lnTo>
                          <a:pt x="166" y="619"/>
                        </a:lnTo>
                        <a:lnTo>
                          <a:pt x="191" y="537"/>
                        </a:lnTo>
                        <a:lnTo>
                          <a:pt x="205" y="459"/>
                        </a:lnTo>
                        <a:lnTo>
                          <a:pt x="214" y="394"/>
                        </a:lnTo>
                        <a:lnTo>
                          <a:pt x="220" y="313"/>
                        </a:lnTo>
                        <a:lnTo>
                          <a:pt x="220" y="226"/>
                        </a:lnTo>
                        <a:lnTo>
                          <a:pt x="223" y="114"/>
                        </a:lnTo>
                        <a:lnTo>
                          <a:pt x="208" y="67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764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1549" h="363">
                        <a:moveTo>
                          <a:pt x="1549" y="363"/>
                        </a:moveTo>
                        <a:lnTo>
                          <a:pt x="1522" y="302"/>
                        </a:lnTo>
                        <a:lnTo>
                          <a:pt x="1489" y="245"/>
                        </a:lnTo>
                        <a:lnTo>
                          <a:pt x="1459" y="235"/>
                        </a:lnTo>
                        <a:lnTo>
                          <a:pt x="1400" y="216"/>
                        </a:lnTo>
                        <a:lnTo>
                          <a:pt x="1340" y="205"/>
                        </a:lnTo>
                        <a:lnTo>
                          <a:pt x="1280" y="216"/>
                        </a:lnTo>
                        <a:lnTo>
                          <a:pt x="1211" y="226"/>
                        </a:lnTo>
                        <a:lnTo>
                          <a:pt x="1126" y="199"/>
                        </a:lnTo>
                        <a:lnTo>
                          <a:pt x="1018" y="168"/>
                        </a:lnTo>
                        <a:lnTo>
                          <a:pt x="920" y="138"/>
                        </a:lnTo>
                        <a:lnTo>
                          <a:pt x="848" y="122"/>
                        </a:lnTo>
                        <a:lnTo>
                          <a:pt x="731" y="92"/>
                        </a:lnTo>
                        <a:lnTo>
                          <a:pt x="617" y="60"/>
                        </a:lnTo>
                        <a:lnTo>
                          <a:pt x="503" y="35"/>
                        </a:lnTo>
                        <a:lnTo>
                          <a:pt x="390" y="12"/>
                        </a:lnTo>
                        <a:lnTo>
                          <a:pt x="260" y="6"/>
                        </a:lnTo>
                        <a:lnTo>
                          <a:pt x="146" y="0"/>
                        </a:lnTo>
                        <a:lnTo>
                          <a:pt x="113" y="10"/>
                        </a:lnTo>
                        <a:lnTo>
                          <a:pt x="68" y="31"/>
                        </a:lnTo>
                        <a:lnTo>
                          <a:pt x="29" y="56"/>
                        </a:lnTo>
                        <a:lnTo>
                          <a:pt x="0" y="81"/>
                        </a:lnTo>
                        <a:lnTo>
                          <a:pt x="50" y="85"/>
                        </a:lnTo>
                        <a:lnTo>
                          <a:pt x="113" y="89"/>
                        </a:lnTo>
                        <a:lnTo>
                          <a:pt x="173" y="92"/>
                        </a:lnTo>
                        <a:lnTo>
                          <a:pt x="215" y="87"/>
                        </a:lnTo>
                        <a:lnTo>
                          <a:pt x="275" y="85"/>
                        </a:lnTo>
                        <a:lnTo>
                          <a:pt x="356" y="81"/>
                        </a:lnTo>
                        <a:lnTo>
                          <a:pt x="468" y="85"/>
                        </a:lnTo>
                        <a:lnTo>
                          <a:pt x="563" y="92"/>
                        </a:lnTo>
                        <a:lnTo>
                          <a:pt x="653" y="107"/>
                        </a:lnTo>
                        <a:lnTo>
                          <a:pt x="743" y="118"/>
                        </a:lnTo>
                        <a:lnTo>
                          <a:pt x="836" y="126"/>
                        </a:lnTo>
                        <a:lnTo>
                          <a:pt x="911" y="147"/>
                        </a:lnTo>
                        <a:lnTo>
                          <a:pt x="988" y="174"/>
                        </a:lnTo>
                        <a:lnTo>
                          <a:pt x="1060" y="203"/>
                        </a:lnTo>
                        <a:lnTo>
                          <a:pt x="1141" y="233"/>
                        </a:lnTo>
                        <a:lnTo>
                          <a:pt x="1178" y="237"/>
                        </a:lnTo>
                        <a:lnTo>
                          <a:pt x="1220" y="235"/>
                        </a:lnTo>
                        <a:lnTo>
                          <a:pt x="1277" y="255"/>
                        </a:lnTo>
                        <a:lnTo>
                          <a:pt x="1337" y="277"/>
                        </a:lnTo>
                        <a:lnTo>
                          <a:pt x="1394" y="302"/>
                        </a:lnTo>
                        <a:lnTo>
                          <a:pt x="1474" y="332"/>
                        </a:lnTo>
                        <a:lnTo>
                          <a:pt x="1522" y="348"/>
                        </a:lnTo>
                        <a:lnTo>
                          <a:pt x="1549" y="363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81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6" h="151">
                        <a:moveTo>
                          <a:pt x="1606" y="151"/>
                        </a:moveTo>
                        <a:lnTo>
                          <a:pt x="1567" y="138"/>
                        </a:lnTo>
                        <a:lnTo>
                          <a:pt x="1522" y="122"/>
                        </a:lnTo>
                        <a:lnTo>
                          <a:pt x="1468" y="105"/>
                        </a:lnTo>
                        <a:lnTo>
                          <a:pt x="1424" y="91"/>
                        </a:lnTo>
                        <a:lnTo>
                          <a:pt x="1364" y="73"/>
                        </a:lnTo>
                        <a:lnTo>
                          <a:pt x="1292" y="48"/>
                        </a:lnTo>
                        <a:lnTo>
                          <a:pt x="1230" y="23"/>
                        </a:lnTo>
                        <a:lnTo>
                          <a:pt x="1170" y="21"/>
                        </a:lnTo>
                        <a:lnTo>
                          <a:pt x="1104" y="29"/>
                        </a:lnTo>
                        <a:lnTo>
                          <a:pt x="1009" y="42"/>
                        </a:lnTo>
                        <a:lnTo>
                          <a:pt x="970" y="40"/>
                        </a:lnTo>
                        <a:lnTo>
                          <a:pt x="851" y="25"/>
                        </a:lnTo>
                        <a:lnTo>
                          <a:pt x="719" y="11"/>
                        </a:lnTo>
                        <a:lnTo>
                          <a:pt x="632" y="3"/>
                        </a:lnTo>
                        <a:lnTo>
                          <a:pt x="522" y="0"/>
                        </a:lnTo>
                        <a:lnTo>
                          <a:pt x="402" y="5"/>
                        </a:lnTo>
                        <a:lnTo>
                          <a:pt x="334" y="11"/>
                        </a:lnTo>
                        <a:lnTo>
                          <a:pt x="247" y="19"/>
                        </a:lnTo>
                        <a:lnTo>
                          <a:pt x="170" y="25"/>
                        </a:lnTo>
                        <a:lnTo>
                          <a:pt x="89" y="33"/>
                        </a:lnTo>
                        <a:lnTo>
                          <a:pt x="80" y="66"/>
                        </a:lnTo>
                        <a:lnTo>
                          <a:pt x="62" y="89"/>
                        </a:lnTo>
                        <a:lnTo>
                          <a:pt x="38" y="114"/>
                        </a:lnTo>
                        <a:lnTo>
                          <a:pt x="0" y="134"/>
                        </a:lnTo>
                        <a:lnTo>
                          <a:pt x="65" y="122"/>
                        </a:lnTo>
                        <a:lnTo>
                          <a:pt x="140" y="109"/>
                        </a:lnTo>
                        <a:lnTo>
                          <a:pt x="202" y="97"/>
                        </a:lnTo>
                        <a:lnTo>
                          <a:pt x="271" y="87"/>
                        </a:lnTo>
                        <a:lnTo>
                          <a:pt x="343" y="81"/>
                        </a:lnTo>
                        <a:lnTo>
                          <a:pt x="459" y="75"/>
                        </a:lnTo>
                        <a:lnTo>
                          <a:pt x="584" y="68"/>
                        </a:lnTo>
                        <a:lnTo>
                          <a:pt x="724" y="62"/>
                        </a:lnTo>
                        <a:lnTo>
                          <a:pt x="863" y="54"/>
                        </a:lnTo>
                        <a:lnTo>
                          <a:pt x="994" y="48"/>
                        </a:lnTo>
                        <a:lnTo>
                          <a:pt x="1104" y="60"/>
                        </a:lnTo>
                        <a:lnTo>
                          <a:pt x="1182" y="73"/>
                        </a:lnTo>
                        <a:lnTo>
                          <a:pt x="1266" y="91"/>
                        </a:lnTo>
                        <a:lnTo>
                          <a:pt x="1355" y="109"/>
                        </a:lnTo>
                        <a:lnTo>
                          <a:pt x="1450" y="132"/>
                        </a:lnTo>
                        <a:lnTo>
                          <a:pt x="1525" y="142"/>
                        </a:lnTo>
                        <a:lnTo>
                          <a:pt x="1606" y="151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" name=""/>
            <p:cNvGrpSpPr/>
            <p:nvPr/>
          </p:nvGrpSpPr>
          <p:grpSpPr>
            <a:xfrm>
              <a:off x="0" y="6624720"/>
              <a:ext cx="9132840" cy="220680"/>
              <a:chOff x="0" y="6624720"/>
              <a:chExt cx="9132840" cy="220680"/>
            </a:xfrm>
          </p:grpSpPr>
          <p:sp>
            <p:nvSpPr>
              <p:cNvPr id="25" name=""/>
              <p:cNvSpPr/>
              <p:nvPr/>
            </p:nvSpPr>
            <p:spPr>
              <a:xfrm>
                <a:off x="0" y="6624720"/>
                <a:ext cx="9132840" cy="220680"/>
              </a:xfrm>
              <a:custGeom>
                <a:avLst/>
                <a:gdLst/>
                <a:ahLst/>
                <a:rect l="0" t="0" r="r" b="b"/>
                <a:pathLst>
                  <a:path w="25369" h="613">
                    <a:moveTo>
                      <a:pt x="12684" y="599"/>
                    </a:moveTo>
                    <a:lnTo>
                      <a:pt x="25369" y="604"/>
                    </a:lnTo>
                    <a:lnTo>
                      <a:pt x="25369" y="604"/>
                    </a:lnTo>
                    <a:cubicBezTo>
                      <a:pt x="25369" y="603"/>
                      <a:pt x="25369" y="602"/>
                      <a:pt x="25369" y="600"/>
                    </a:cubicBezTo>
                    <a:cubicBezTo>
                      <a:pt x="25369" y="495"/>
                      <a:pt x="24783" y="392"/>
                      <a:pt x="23670" y="300"/>
                    </a:cubicBezTo>
                    <a:cubicBezTo>
                      <a:pt x="22557" y="209"/>
                      <a:pt x="20955" y="134"/>
                      <a:pt x="19027" y="81"/>
                    </a:cubicBezTo>
                    <a:cubicBezTo>
                      <a:pt x="17099" y="28"/>
                      <a:pt x="14911" y="0"/>
                      <a:pt x="12685" y="0"/>
                    </a:cubicBezTo>
                    <a:cubicBezTo>
                      <a:pt x="10458" y="0"/>
                      <a:pt x="8271" y="28"/>
                      <a:pt x="6342" y="81"/>
                    </a:cubicBezTo>
                    <a:cubicBezTo>
                      <a:pt x="4414" y="134"/>
                      <a:pt x="2813" y="209"/>
                      <a:pt x="1700" y="300"/>
                    </a:cubicBezTo>
                    <a:cubicBezTo>
                      <a:pt x="586" y="392"/>
                      <a:pt x="0" y="495"/>
                      <a:pt x="0" y="600"/>
                    </a:cubicBezTo>
                    <a:cubicBezTo>
                      <a:pt x="0" y="605"/>
                      <a:pt x="1" y="609"/>
                      <a:pt x="3" y="613"/>
                    </a:cubicBezTo>
                    <a:lnTo>
                      <a:pt x="12684" y="5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1d06"/>
                  </a:gs>
                  <a:gs pos="100000">
                    <a:srgbClr val="501404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6845400"/>
                <a:ext cx="9131400" cy="0"/>
              </a:xfrm>
              <a:prstGeom prst="line">
                <a:avLst/>
              </a:prstGeom>
              <a:ln w="38160">
                <a:solidFill>
                  <a:srgbClr val="3c00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4135320" y="5643720"/>
              <a:ext cx="873360" cy="990720"/>
              <a:chOff x="4135320" y="5643720"/>
              <a:chExt cx="873360" cy="990720"/>
            </a:xfrm>
          </p:grpSpPr>
          <p:sp>
            <p:nvSpPr>
              <p:cNvPr id="28" name=""/>
              <p:cNvSpPr/>
              <p:nvPr/>
            </p:nvSpPr>
            <p:spPr>
              <a:xfrm>
                <a:off x="4176720" y="5643720"/>
                <a:ext cx="790560" cy="695160"/>
              </a:xfrm>
              <a:prstGeom prst="ellipse">
                <a:avLst/>
              </a:prstGeom>
              <a:gradFill rotWithShape="0">
                <a:gsLst>
                  <a:gs pos="0">
                    <a:srgbClr val="ef9100"/>
                  </a:gs>
                  <a:gs pos="100000">
                    <a:srgbClr val="f7c87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135320" y="6191280"/>
                <a:ext cx="873360" cy="443160"/>
              </a:xfrm>
              <a:custGeom>
                <a:avLst/>
                <a:gdLst/>
                <a:ahLst/>
                <a:rect l="0" t="0" r="r" b="b"/>
                <a:pathLst>
                  <a:path w="2426" h="1231">
                    <a:moveTo>
                      <a:pt x="213" y="20"/>
                    </a:moveTo>
                    <a:lnTo>
                      <a:pt x="2136" y="20"/>
                    </a:lnTo>
                    <a:lnTo>
                      <a:pt x="2136" y="0"/>
                    </a:lnTo>
                    <a:lnTo>
                      <a:pt x="2197" y="0"/>
                    </a:lnTo>
                    <a:lnTo>
                      <a:pt x="2228" y="62"/>
                    </a:lnTo>
                    <a:lnTo>
                      <a:pt x="2182" y="83"/>
                    </a:lnTo>
                    <a:lnTo>
                      <a:pt x="2121" y="104"/>
                    </a:lnTo>
                    <a:lnTo>
                      <a:pt x="2075" y="104"/>
                    </a:lnTo>
                    <a:lnTo>
                      <a:pt x="2060" y="166"/>
                    </a:lnTo>
                    <a:lnTo>
                      <a:pt x="2106" y="166"/>
                    </a:lnTo>
                    <a:lnTo>
                      <a:pt x="2151" y="166"/>
                    </a:lnTo>
                    <a:lnTo>
                      <a:pt x="2197" y="166"/>
                    </a:lnTo>
                    <a:lnTo>
                      <a:pt x="2243" y="187"/>
                    </a:lnTo>
                    <a:lnTo>
                      <a:pt x="2258" y="250"/>
                    </a:lnTo>
                    <a:lnTo>
                      <a:pt x="2212" y="312"/>
                    </a:lnTo>
                    <a:lnTo>
                      <a:pt x="2167" y="312"/>
                    </a:lnTo>
                    <a:lnTo>
                      <a:pt x="2121" y="312"/>
                    </a:lnTo>
                    <a:lnTo>
                      <a:pt x="2075" y="312"/>
                    </a:lnTo>
                    <a:lnTo>
                      <a:pt x="2029" y="312"/>
                    </a:lnTo>
                    <a:lnTo>
                      <a:pt x="2014" y="375"/>
                    </a:lnTo>
                    <a:lnTo>
                      <a:pt x="2075" y="417"/>
                    </a:lnTo>
                    <a:lnTo>
                      <a:pt x="2136" y="437"/>
                    </a:lnTo>
                    <a:lnTo>
                      <a:pt x="2182" y="437"/>
                    </a:lnTo>
                    <a:lnTo>
                      <a:pt x="2228" y="437"/>
                    </a:lnTo>
                    <a:lnTo>
                      <a:pt x="2289" y="437"/>
                    </a:lnTo>
                    <a:lnTo>
                      <a:pt x="2334" y="437"/>
                    </a:lnTo>
                    <a:lnTo>
                      <a:pt x="2380" y="437"/>
                    </a:lnTo>
                    <a:lnTo>
                      <a:pt x="2426" y="500"/>
                    </a:lnTo>
                    <a:lnTo>
                      <a:pt x="2380" y="563"/>
                    </a:lnTo>
                    <a:lnTo>
                      <a:pt x="2334" y="563"/>
                    </a:lnTo>
                    <a:lnTo>
                      <a:pt x="2289" y="563"/>
                    </a:lnTo>
                    <a:lnTo>
                      <a:pt x="2228" y="563"/>
                    </a:lnTo>
                    <a:lnTo>
                      <a:pt x="2182" y="563"/>
                    </a:lnTo>
                    <a:lnTo>
                      <a:pt x="2136" y="542"/>
                    </a:lnTo>
                    <a:lnTo>
                      <a:pt x="2075" y="542"/>
                    </a:lnTo>
                    <a:lnTo>
                      <a:pt x="2014" y="542"/>
                    </a:lnTo>
                    <a:lnTo>
                      <a:pt x="1999" y="604"/>
                    </a:lnTo>
                    <a:lnTo>
                      <a:pt x="1983" y="668"/>
                    </a:lnTo>
                    <a:lnTo>
                      <a:pt x="2060" y="689"/>
                    </a:lnTo>
                    <a:lnTo>
                      <a:pt x="2106" y="709"/>
                    </a:lnTo>
                    <a:lnTo>
                      <a:pt x="2151" y="709"/>
                    </a:lnTo>
                    <a:lnTo>
                      <a:pt x="2197" y="730"/>
                    </a:lnTo>
                    <a:lnTo>
                      <a:pt x="2243" y="730"/>
                    </a:lnTo>
                    <a:lnTo>
                      <a:pt x="2289" y="730"/>
                    </a:lnTo>
                    <a:lnTo>
                      <a:pt x="2289" y="793"/>
                    </a:lnTo>
                    <a:lnTo>
                      <a:pt x="2228" y="814"/>
                    </a:lnTo>
                    <a:lnTo>
                      <a:pt x="2167" y="814"/>
                    </a:lnTo>
                    <a:lnTo>
                      <a:pt x="2106" y="814"/>
                    </a:lnTo>
                    <a:lnTo>
                      <a:pt x="2060" y="814"/>
                    </a:lnTo>
                    <a:lnTo>
                      <a:pt x="1983" y="814"/>
                    </a:lnTo>
                    <a:lnTo>
                      <a:pt x="1922" y="814"/>
                    </a:lnTo>
                    <a:lnTo>
                      <a:pt x="1877" y="814"/>
                    </a:lnTo>
                    <a:lnTo>
                      <a:pt x="1831" y="814"/>
                    </a:lnTo>
                    <a:lnTo>
                      <a:pt x="1846" y="876"/>
                    </a:lnTo>
                    <a:lnTo>
                      <a:pt x="1907" y="939"/>
                    </a:lnTo>
                    <a:lnTo>
                      <a:pt x="1968" y="939"/>
                    </a:lnTo>
                    <a:lnTo>
                      <a:pt x="2014" y="939"/>
                    </a:lnTo>
                    <a:lnTo>
                      <a:pt x="2014" y="1001"/>
                    </a:lnTo>
                    <a:lnTo>
                      <a:pt x="1953" y="1022"/>
                    </a:lnTo>
                    <a:lnTo>
                      <a:pt x="1892" y="1022"/>
                    </a:lnTo>
                    <a:lnTo>
                      <a:pt x="1831" y="1022"/>
                    </a:lnTo>
                    <a:lnTo>
                      <a:pt x="1785" y="1022"/>
                    </a:lnTo>
                    <a:lnTo>
                      <a:pt x="1739" y="1022"/>
                    </a:lnTo>
                    <a:lnTo>
                      <a:pt x="1739" y="1085"/>
                    </a:lnTo>
                    <a:lnTo>
                      <a:pt x="1785" y="1106"/>
                    </a:lnTo>
                    <a:lnTo>
                      <a:pt x="1739" y="1127"/>
                    </a:lnTo>
                    <a:lnTo>
                      <a:pt x="1678" y="1147"/>
                    </a:lnTo>
                    <a:lnTo>
                      <a:pt x="1633" y="1147"/>
                    </a:lnTo>
                    <a:lnTo>
                      <a:pt x="1587" y="1147"/>
                    </a:lnTo>
                    <a:lnTo>
                      <a:pt x="1541" y="1147"/>
                    </a:lnTo>
                    <a:lnTo>
                      <a:pt x="1495" y="1147"/>
                    </a:lnTo>
                    <a:lnTo>
                      <a:pt x="1450" y="1147"/>
                    </a:lnTo>
                    <a:lnTo>
                      <a:pt x="1404" y="1147"/>
                    </a:lnTo>
                    <a:lnTo>
                      <a:pt x="1450" y="1189"/>
                    </a:lnTo>
                    <a:lnTo>
                      <a:pt x="1404" y="1231"/>
                    </a:lnTo>
                    <a:lnTo>
                      <a:pt x="1343" y="1231"/>
                    </a:lnTo>
                    <a:lnTo>
                      <a:pt x="1282" y="1231"/>
                    </a:lnTo>
                    <a:lnTo>
                      <a:pt x="1205" y="1231"/>
                    </a:lnTo>
                    <a:lnTo>
                      <a:pt x="1128" y="1231"/>
                    </a:lnTo>
                    <a:lnTo>
                      <a:pt x="1067" y="1231"/>
                    </a:lnTo>
                    <a:lnTo>
                      <a:pt x="1006" y="1231"/>
                    </a:lnTo>
                    <a:lnTo>
                      <a:pt x="960" y="1231"/>
                    </a:lnTo>
                    <a:lnTo>
                      <a:pt x="915" y="1231"/>
                    </a:lnTo>
                    <a:lnTo>
                      <a:pt x="960" y="1231"/>
                    </a:lnTo>
                    <a:lnTo>
                      <a:pt x="1006" y="1231"/>
                    </a:lnTo>
                    <a:lnTo>
                      <a:pt x="1052" y="1231"/>
                    </a:lnTo>
                    <a:lnTo>
                      <a:pt x="1052" y="1168"/>
                    </a:lnTo>
                    <a:lnTo>
                      <a:pt x="1006" y="1168"/>
                    </a:lnTo>
                    <a:lnTo>
                      <a:pt x="945" y="1168"/>
                    </a:lnTo>
                    <a:lnTo>
                      <a:pt x="899" y="1168"/>
                    </a:lnTo>
                    <a:lnTo>
                      <a:pt x="823" y="1168"/>
                    </a:lnTo>
                    <a:lnTo>
                      <a:pt x="762" y="1147"/>
                    </a:lnTo>
                    <a:lnTo>
                      <a:pt x="701" y="1147"/>
                    </a:lnTo>
                    <a:lnTo>
                      <a:pt x="762" y="1127"/>
                    </a:lnTo>
                    <a:lnTo>
                      <a:pt x="823" y="1127"/>
                    </a:lnTo>
                    <a:lnTo>
                      <a:pt x="869" y="1127"/>
                    </a:lnTo>
                    <a:lnTo>
                      <a:pt x="930" y="1127"/>
                    </a:lnTo>
                    <a:lnTo>
                      <a:pt x="991" y="1127"/>
                    </a:lnTo>
                    <a:lnTo>
                      <a:pt x="1037" y="1127"/>
                    </a:lnTo>
                    <a:lnTo>
                      <a:pt x="1037" y="1064"/>
                    </a:lnTo>
                    <a:lnTo>
                      <a:pt x="991" y="1043"/>
                    </a:lnTo>
                    <a:lnTo>
                      <a:pt x="930" y="1043"/>
                    </a:lnTo>
                    <a:lnTo>
                      <a:pt x="884" y="1043"/>
                    </a:lnTo>
                    <a:lnTo>
                      <a:pt x="808" y="1043"/>
                    </a:lnTo>
                    <a:lnTo>
                      <a:pt x="747" y="1043"/>
                    </a:lnTo>
                    <a:lnTo>
                      <a:pt x="701" y="1043"/>
                    </a:lnTo>
                    <a:lnTo>
                      <a:pt x="640" y="1043"/>
                    </a:lnTo>
                    <a:lnTo>
                      <a:pt x="579" y="1022"/>
                    </a:lnTo>
                    <a:lnTo>
                      <a:pt x="518" y="1022"/>
                    </a:lnTo>
                    <a:lnTo>
                      <a:pt x="472" y="1022"/>
                    </a:lnTo>
                    <a:lnTo>
                      <a:pt x="396" y="1001"/>
                    </a:lnTo>
                    <a:lnTo>
                      <a:pt x="457" y="939"/>
                    </a:lnTo>
                    <a:lnTo>
                      <a:pt x="518" y="939"/>
                    </a:lnTo>
                    <a:lnTo>
                      <a:pt x="579" y="939"/>
                    </a:lnTo>
                    <a:lnTo>
                      <a:pt x="640" y="939"/>
                    </a:lnTo>
                    <a:lnTo>
                      <a:pt x="686" y="939"/>
                    </a:lnTo>
                    <a:lnTo>
                      <a:pt x="732" y="939"/>
                    </a:lnTo>
                    <a:lnTo>
                      <a:pt x="686" y="876"/>
                    </a:lnTo>
                    <a:lnTo>
                      <a:pt x="640" y="876"/>
                    </a:lnTo>
                    <a:lnTo>
                      <a:pt x="579" y="876"/>
                    </a:lnTo>
                    <a:lnTo>
                      <a:pt x="518" y="876"/>
                    </a:lnTo>
                    <a:lnTo>
                      <a:pt x="457" y="876"/>
                    </a:lnTo>
                    <a:lnTo>
                      <a:pt x="396" y="876"/>
                    </a:lnTo>
                    <a:lnTo>
                      <a:pt x="350" y="876"/>
                    </a:lnTo>
                    <a:lnTo>
                      <a:pt x="305" y="876"/>
                    </a:lnTo>
                    <a:lnTo>
                      <a:pt x="213" y="855"/>
                    </a:lnTo>
                    <a:lnTo>
                      <a:pt x="152" y="855"/>
                    </a:lnTo>
                    <a:lnTo>
                      <a:pt x="106" y="855"/>
                    </a:lnTo>
                    <a:lnTo>
                      <a:pt x="61" y="855"/>
                    </a:lnTo>
                    <a:lnTo>
                      <a:pt x="122" y="835"/>
                    </a:lnTo>
                    <a:lnTo>
                      <a:pt x="167" y="835"/>
                    </a:lnTo>
                    <a:lnTo>
                      <a:pt x="213" y="835"/>
                    </a:lnTo>
                    <a:lnTo>
                      <a:pt x="289" y="835"/>
                    </a:lnTo>
                    <a:lnTo>
                      <a:pt x="366" y="835"/>
                    </a:lnTo>
                    <a:lnTo>
                      <a:pt x="411" y="835"/>
                    </a:lnTo>
                    <a:lnTo>
                      <a:pt x="457" y="835"/>
                    </a:lnTo>
                    <a:lnTo>
                      <a:pt x="503" y="835"/>
                    </a:lnTo>
                    <a:lnTo>
                      <a:pt x="549" y="835"/>
                    </a:lnTo>
                    <a:lnTo>
                      <a:pt x="564" y="772"/>
                    </a:lnTo>
                    <a:lnTo>
                      <a:pt x="518" y="730"/>
                    </a:lnTo>
                    <a:lnTo>
                      <a:pt x="442" y="709"/>
                    </a:lnTo>
                    <a:lnTo>
                      <a:pt x="396" y="709"/>
                    </a:lnTo>
                    <a:lnTo>
                      <a:pt x="335" y="709"/>
                    </a:lnTo>
                    <a:lnTo>
                      <a:pt x="274" y="709"/>
                    </a:lnTo>
                    <a:lnTo>
                      <a:pt x="213" y="709"/>
                    </a:lnTo>
                    <a:lnTo>
                      <a:pt x="167" y="709"/>
                    </a:lnTo>
                    <a:lnTo>
                      <a:pt x="122" y="709"/>
                    </a:lnTo>
                    <a:lnTo>
                      <a:pt x="76" y="709"/>
                    </a:lnTo>
                    <a:lnTo>
                      <a:pt x="30" y="689"/>
                    </a:lnTo>
                    <a:lnTo>
                      <a:pt x="91" y="668"/>
                    </a:lnTo>
                    <a:lnTo>
                      <a:pt x="137" y="668"/>
                    </a:lnTo>
                    <a:lnTo>
                      <a:pt x="183" y="647"/>
                    </a:lnTo>
                    <a:lnTo>
                      <a:pt x="244" y="647"/>
                    </a:lnTo>
                    <a:lnTo>
                      <a:pt x="320" y="647"/>
                    </a:lnTo>
                    <a:lnTo>
                      <a:pt x="366" y="647"/>
                    </a:lnTo>
                    <a:lnTo>
                      <a:pt x="427" y="647"/>
                    </a:lnTo>
                    <a:lnTo>
                      <a:pt x="472" y="647"/>
                    </a:lnTo>
                    <a:lnTo>
                      <a:pt x="442" y="583"/>
                    </a:lnTo>
                    <a:lnTo>
                      <a:pt x="396" y="583"/>
                    </a:lnTo>
                    <a:lnTo>
                      <a:pt x="350" y="583"/>
                    </a:lnTo>
                    <a:lnTo>
                      <a:pt x="289" y="583"/>
                    </a:lnTo>
                    <a:lnTo>
                      <a:pt x="244" y="583"/>
                    </a:lnTo>
                    <a:lnTo>
                      <a:pt x="183" y="583"/>
                    </a:lnTo>
                    <a:lnTo>
                      <a:pt x="137" y="542"/>
                    </a:lnTo>
                    <a:lnTo>
                      <a:pt x="137" y="479"/>
                    </a:lnTo>
                    <a:lnTo>
                      <a:pt x="183" y="458"/>
                    </a:lnTo>
                    <a:lnTo>
                      <a:pt x="228" y="458"/>
                    </a:lnTo>
                    <a:lnTo>
                      <a:pt x="289" y="458"/>
                    </a:lnTo>
                    <a:lnTo>
                      <a:pt x="335" y="458"/>
                    </a:lnTo>
                    <a:lnTo>
                      <a:pt x="396" y="458"/>
                    </a:lnTo>
                    <a:lnTo>
                      <a:pt x="442" y="458"/>
                    </a:lnTo>
                    <a:lnTo>
                      <a:pt x="488" y="458"/>
                    </a:lnTo>
                    <a:lnTo>
                      <a:pt x="533" y="458"/>
                    </a:lnTo>
                    <a:lnTo>
                      <a:pt x="549" y="396"/>
                    </a:lnTo>
                    <a:lnTo>
                      <a:pt x="503" y="375"/>
                    </a:lnTo>
                    <a:lnTo>
                      <a:pt x="457" y="375"/>
                    </a:lnTo>
                    <a:lnTo>
                      <a:pt x="381" y="375"/>
                    </a:lnTo>
                    <a:lnTo>
                      <a:pt x="335" y="375"/>
                    </a:lnTo>
                    <a:lnTo>
                      <a:pt x="274" y="375"/>
                    </a:lnTo>
                    <a:lnTo>
                      <a:pt x="228" y="375"/>
                    </a:lnTo>
                    <a:lnTo>
                      <a:pt x="183" y="375"/>
                    </a:lnTo>
                    <a:lnTo>
                      <a:pt x="228" y="333"/>
                    </a:lnTo>
                    <a:lnTo>
                      <a:pt x="289" y="333"/>
                    </a:lnTo>
                    <a:lnTo>
                      <a:pt x="335" y="333"/>
                    </a:lnTo>
                    <a:lnTo>
                      <a:pt x="381" y="333"/>
                    </a:lnTo>
                    <a:lnTo>
                      <a:pt x="396" y="271"/>
                    </a:lnTo>
                    <a:lnTo>
                      <a:pt x="350" y="250"/>
                    </a:lnTo>
                    <a:lnTo>
                      <a:pt x="274" y="250"/>
                    </a:lnTo>
                    <a:lnTo>
                      <a:pt x="228" y="250"/>
                    </a:lnTo>
                    <a:lnTo>
                      <a:pt x="183" y="250"/>
                    </a:lnTo>
                    <a:lnTo>
                      <a:pt x="137" y="250"/>
                    </a:lnTo>
                    <a:lnTo>
                      <a:pt x="91" y="250"/>
                    </a:lnTo>
                    <a:lnTo>
                      <a:pt x="45" y="250"/>
                    </a:lnTo>
                    <a:lnTo>
                      <a:pt x="0" y="250"/>
                    </a:lnTo>
                    <a:lnTo>
                      <a:pt x="30" y="166"/>
                    </a:lnTo>
                    <a:lnTo>
                      <a:pt x="91" y="145"/>
                    </a:lnTo>
                    <a:lnTo>
                      <a:pt x="152" y="145"/>
                    </a:lnTo>
                    <a:lnTo>
                      <a:pt x="213" y="145"/>
                    </a:lnTo>
                    <a:lnTo>
                      <a:pt x="274" y="145"/>
                    </a:lnTo>
                    <a:lnTo>
                      <a:pt x="320" y="145"/>
                    </a:lnTo>
                    <a:lnTo>
                      <a:pt x="366" y="145"/>
                    </a:lnTo>
                    <a:lnTo>
                      <a:pt x="335" y="83"/>
                    </a:lnTo>
                    <a:lnTo>
                      <a:pt x="274" y="83"/>
                    </a:lnTo>
                    <a:lnTo>
                      <a:pt x="228" y="83"/>
                    </a:lnTo>
                    <a:lnTo>
                      <a:pt x="183" y="83"/>
                    </a:lnTo>
                    <a:lnTo>
                      <a:pt x="213" y="2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1d0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1d0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