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429000"/>
            <a:ext cx="9131760" cy="3416760"/>
            <a:chOff x="0" y="3429000"/>
            <a:chExt cx="9131760" cy="3416760"/>
          </a:xfrm>
        </p:grpSpPr>
        <p:grpSp>
          <p:nvGrpSpPr>
            <p:cNvPr id="1" name=""/>
            <p:cNvGrpSpPr/>
            <p:nvPr/>
          </p:nvGrpSpPr>
          <p:grpSpPr>
            <a:xfrm>
              <a:off x="6670800" y="4929120"/>
              <a:ext cx="2460960" cy="1916280"/>
              <a:chOff x="6670800" y="4929120"/>
              <a:chExt cx="2460960" cy="19162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7464600" y="4937040"/>
                <a:ext cx="776520" cy="973440"/>
                <a:chOff x="7464600" y="4937040"/>
                <a:chExt cx="776520" cy="9734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7818480" y="5278320"/>
                  <a:ext cx="233640" cy="554400"/>
                </a:xfrm>
                <a:custGeom>
                  <a:avLst/>
                  <a:gdLst/>
                  <a:ahLst/>
                  <a:rect l="0" t="0" r="r" b="b"/>
                  <a:pathLst>
                    <a:path w="649" h="1540">
                      <a:moveTo>
                        <a:pt x="649" y="552"/>
                      </a:moveTo>
                      <a:lnTo>
                        <a:pt x="583" y="57"/>
                      </a:lnTo>
                      <a:lnTo>
                        <a:pt x="494" y="8"/>
                      </a:lnTo>
                      <a:lnTo>
                        <a:pt x="424" y="0"/>
                      </a:lnTo>
                      <a:lnTo>
                        <a:pt x="313" y="22"/>
                      </a:lnTo>
                      <a:lnTo>
                        <a:pt x="242" y="79"/>
                      </a:lnTo>
                      <a:lnTo>
                        <a:pt x="167" y="154"/>
                      </a:lnTo>
                      <a:lnTo>
                        <a:pt x="92" y="291"/>
                      </a:lnTo>
                      <a:lnTo>
                        <a:pt x="52" y="486"/>
                      </a:lnTo>
                      <a:lnTo>
                        <a:pt x="30" y="649"/>
                      </a:lnTo>
                      <a:lnTo>
                        <a:pt x="0" y="878"/>
                      </a:lnTo>
                      <a:lnTo>
                        <a:pt x="0" y="1028"/>
                      </a:lnTo>
                      <a:lnTo>
                        <a:pt x="52" y="1232"/>
                      </a:lnTo>
                      <a:lnTo>
                        <a:pt x="149" y="1404"/>
                      </a:lnTo>
                      <a:lnTo>
                        <a:pt x="242" y="1540"/>
                      </a:lnTo>
                      <a:lnTo>
                        <a:pt x="189" y="1333"/>
                      </a:lnTo>
                      <a:lnTo>
                        <a:pt x="167" y="1138"/>
                      </a:lnTo>
                      <a:lnTo>
                        <a:pt x="180" y="935"/>
                      </a:lnTo>
                      <a:lnTo>
                        <a:pt x="189" y="755"/>
                      </a:lnTo>
                      <a:lnTo>
                        <a:pt x="211" y="574"/>
                      </a:lnTo>
                      <a:lnTo>
                        <a:pt x="242" y="411"/>
                      </a:lnTo>
                      <a:lnTo>
                        <a:pt x="255" y="286"/>
                      </a:lnTo>
                      <a:lnTo>
                        <a:pt x="295" y="163"/>
                      </a:lnTo>
                      <a:lnTo>
                        <a:pt x="393" y="61"/>
                      </a:lnTo>
                      <a:lnTo>
                        <a:pt x="477" y="70"/>
                      </a:lnTo>
                      <a:lnTo>
                        <a:pt x="556" y="348"/>
                      </a:lnTo>
                      <a:lnTo>
                        <a:pt x="622" y="411"/>
                      </a:lnTo>
                      <a:lnTo>
                        <a:pt x="649" y="552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7464600" y="4937040"/>
                  <a:ext cx="424080" cy="973440"/>
                </a:xfrm>
                <a:custGeom>
                  <a:avLst/>
                  <a:gdLst/>
                  <a:ahLst/>
                  <a:rect l="0" t="0" r="r" b="b"/>
                  <a:pathLst>
                    <a:path w="1178" h="2704">
                      <a:moveTo>
                        <a:pt x="966" y="0"/>
                      </a:moveTo>
                      <a:lnTo>
                        <a:pt x="909" y="8"/>
                      </a:lnTo>
                      <a:lnTo>
                        <a:pt x="821" y="35"/>
                      </a:lnTo>
                      <a:lnTo>
                        <a:pt x="882" y="52"/>
                      </a:lnTo>
                      <a:lnTo>
                        <a:pt x="834" y="88"/>
                      </a:lnTo>
                      <a:lnTo>
                        <a:pt x="781" y="136"/>
                      </a:lnTo>
                      <a:lnTo>
                        <a:pt x="405" y="220"/>
                      </a:lnTo>
                      <a:lnTo>
                        <a:pt x="591" y="171"/>
                      </a:lnTo>
                      <a:lnTo>
                        <a:pt x="706" y="154"/>
                      </a:lnTo>
                      <a:lnTo>
                        <a:pt x="781" y="180"/>
                      </a:lnTo>
                      <a:lnTo>
                        <a:pt x="728" y="216"/>
                      </a:lnTo>
                      <a:lnTo>
                        <a:pt x="763" y="233"/>
                      </a:lnTo>
                      <a:lnTo>
                        <a:pt x="662" y="304"/>
                      </a:lnTo>
                      <a:lnTo>
                        <a:pt x="264" y="414"/>
                      </a:lnTo>
                      <a:lnTo>
                        <a:pt x="533" y="317"/>
                      </a:lnTo>
                      <a:lnTo>
                        <a:pt x="662" y="321"/>
                      </a:lnTo>
                      <a:lnTo>
                        <a:pt x="728" y="330"/>
                      </a:lnTo>
                      <a:lnTo>
                        <a:pt x="605" y="414"/>
                      </a:lnTo>
                      <a:lnTo>
                        <a:pt x="680" y="414"/>
                      </a:lnTo>
                      <a:lnTo>
                        <a:pt x="546" y="511"/>
                      </a:lnTo>
                      <a:lnTo>
                        <a:pt x="295" y="639"/>
                      </a:lnTo>
                      <a:lnTo>
                        <a:pt x="123" y="793"/>
                      </a:lnTo>
                      <a:lnTo>
                        <a:pt x="304" y="657"/>
                      </a:lnTo>
                      <a:lnTo>
                        <a:pt x="555" y="529"/>
                      </a:lnTo>
                      <a:lnTo>
                        <a:pt x="631" y="537"/>
                      </a:lnTo>
                      <a:lnTo>
                        <a:pt x="515" y="612"/>
                      </a:lnTo>
                      <a:lnTo>
                        <a:pt x="591" y="630"/>
                      </a:lnTo>
                      <a:lnTo>
                        <a:pt x="498" y="718"/>
                      </a:lnTo>
                      <a:lnTo>
                        <a:pt x="194" y="952"/>
                      </a:lnTo>
                      <a:lnTo>
                        <a:pt x="498" y="736"/>
                      </a:lnTo>
                      <a:lnTo>
                        <a:pt x="582" y="736"/>
                      </a:lnTo>
                      <a:lnTo>
                        <a:pt x="489" y="851"/>
                      </a:lnTo>
                      <a:lnTo>
                        <a:pt x="555" y="846"/>
                      </a:lnTo>
                      <a:lnTo>
                        <a:pt x="467" y="987"/>
                      </a:lnTo>
                      <a:lnTo>
                        <a:pt x="220" y="1247"/>
                      </a:lnTo>
                      <a:lnTo>
                        <a:pt x="220" y="1256"/>
                      </a:lnTo>
                      <a:lnTo>
                        <a:pt x="480" y="996"/>
                      </a:lnTo>
                      <a:lnTo>
                        <a:pt x="555" y="956"/>
                      </a:lnTo>
                      <a:lnTo>
                        <a:pt x="498" y="1058"/>
                      </a:lnTo>
                      <a:lnTo>
                        <a:pt x="546" y="1040"/>
                      </a:lnTo>
                      <a:lnTo>
                        <a:pt x="467" y="1181"/>
                      </a:lnTo>
                      <a:lnTo>
                        <a:pt x="268" y="1456"/>
                      </a:lnTo>
                      <a:lnTo>
                        <a:pt x="127" y="1628"/>
                      </a:lnTo>
                      <a:lnTo>
                        <a:pt x="255" y="1465"/>
                      </a:lnTo>
                      <a:lnTo>
                        <a:pt x="480" y="1195"/>
                      </a:lnTo>
                      <a:lnTo>
                        <a:pt x="507" y="1195"/>
                      </a:lnTo>
                      <a:lnTo>
                        <a:pt x="132" y="2003"/>
                      </a:lnTo>
                      <a:lnTo>
                        <a:pt x="529" y="1195"/>
                      </a:lnTo>
                      <a:lnTo>
                        <a:pt x="480" y="1300"/>
                      </a:lnTo>
                      <a:lnTo>
                        <a:pt x="529" y="1265"/>
                      </a:lnTo>
                      <a:lnTo>
                        <a:pt x="445" y="1429"/>
                      </a:lnTo>
                      <a:lnTo>
                        <a:pt x="189" y="1804"/>
                      </a:lnTo>
                      <a:lnTo>
                        <a:pt x="445" y="1456"/>
                      </a:lnTo>
                      <a:lnTo>
                        <a:pt x="515" y="1429"/>
                      </a:lnTo>
                      <a:lnTo>
                        <a:pt x="445" y="1535"/>
                      </a:lnTo>
                      <a:lnTo>
                        <a:pt x="145" y="2272"/>
                      </a:lnTo>
                      <a:lnTo>
                        <a:pt x="383" y="1698"/>
                      </a:lnTo>
                      <a:lnTo>
                        <a:pt x="467" y="1535"/>
                      </a:lnTo>
                      <a:lnTo>
                        <a:pt x="515" y="1517"/>
                      </a:lnTo>
                      <a:lnTo>
                        <a:pt x="458" y="1632"/>
                      </a:lnTo>
                      <a:lnTo>
                        <a:pt x="507" y="1619"/>
                      </a:lnTo>
                      <a:lnTo>
                        <a:pt x="427" y="1760"/>
                      </a:lnTo>
                      <a:lnTo>
                        <a:pt x="392" y="1888"/>
                      </a:lnTo>
                      <a:lnTo>
                        <a:pt x="0" y="2307"/>
                      </a:lnTo>
                      <a:lnTo>
                        <a:pt x="401" y="1892"/>
                      </a:lnTo>
                      <a:lnTo>
                        <a:pt x="445" y="1804"/>
                      </a:lnTo>
                      <a:lnTo>
                        <a:pt x="498" y="1778"/>
                      </a:lnTo>
                      <a:lnTo>
                        <a:pt x="401" y="2020"/>
                      </a:lnTo>
                      <a:lnTo>
                        <a:pt x="507" y="1778"/>
                      </a:lnTo>
                      <a:lnTo>
                        <a:pt x="445" y="1892"/>
                      </a:lnTo>
                      <a:lnTo>
                        <a:pt x="515" y="1866"/>
                      </a:lnTo>
                      <a:lnTo>
                        <a:pt x="467" y="1967"/>
                      </a:lnTo>
                      <a:lnTo>
                        <a:pt x="335" y="2316"/>
                      </a:lnTo>
                      <a:lnTo>
                        <a:pt x="198" y="2523"/>
                      </a:lnTo>
                      <a:lnTo>
                        <a:pt x="335" y="2316"/>
                      </a:lnTo>
                      <a:lnTo>
                        <a:pt x="480" y="1985"/>
                      </a:lnTo>
                      <a:lnTo>
                        <a:pt x="529" y="1967"/>
                      </a:lnTo>
                      <a:lnTo>
                        <a:pt x="507" y="2047"/>
                      </a:lnTo>
                      <a:lnTo>
                        <a:pt x="401" y="2272"/>
                      </a:lnTo>
                      <a:lnTo>
                        <a:pt x="515" y="2077"/>
                      </a:lnTo>
                      <a:lnTo>
                        <a:pt x="546" y="2003"/>
                      </a:lnTo>
                      <a:lnTo>
                        <a:pt x="498" y="2179"/>
                      </a:lnTo>
                      <a:lnTo>
                        <a:pt x="555" y="2144"/>
                      </a:lnTo>
                      <a:lnTo>
                        <a:pt x="533" y="2289"/>
                      </a:lnTo>
                      <a:lnTo>
                        <a:pt x="573" y="2227"/>
                      </a:lnTo>
                      <a:lnTo>
                        <a:pt x="605" y="2280"/>
                      </a:lnTo>
                      <a:lnTo>
                        <a:pt x="591" y="2435"/>
                      </a:lnTo>
                      <a:lnTo>
                        <a:pt x="613" y="2435"/>
                      </a:lnTo>
                      <a:lnTo>
                        <a:pt x="613" y="2272"/>
                      </a:lnTo>
                      <a:lnTo>
                        <a:pt x="613" y="2174"/>
                      </a:lnTo>
                      <a:lnTo>
                        <a:pt x="671" y="2227"/>
                      </a:lnTo>
                      <a:lnTo>
                        <a:pt x="1121" y="2704"/>
                      </a:lnTo>
                      <a:lnTo>
                        <a:pt x="649" y="2179"/>
                      </a:lnTo>
                      <a:lnTo>
                        <a:pt x="613" y="2047"/>
                      </a:lnTo>
                      <a:lnTo>
                        <a:pt x="662" y="2077"/>
                      </a:lnTo>
                      <a:lnTo>
                        <a:pt x="591" y="1910"/>
                      </a:lnTo>
                      <a:lnTo>
                        <a:pt x="649" y="1976"/>
                      </a:lnTo>
                      <a:lnTo>
                        <a:pt x="759" y="2210"/>
                      </a:lnTo>
                      <a:lnTo>
                        <a:pt x="662" y="1958"/>
                      </a:lnTo>
                      <a:lnTo>
                        <a:pt x="613" y="1857"/>
                      </a:lnTo>
                      <a:lnTo>
                        <a:pt x="622" y="1857"/>
                      </a:lnTo>
                      <a:lnTo>
                        <a:pt x="680" y="1910"/>
                      </a:lnTo>
                      <a:lnTo>
                        <a:pt x="794" y="2038"/>
                      </a:lnTo>
                      <a:lnTo>
                        <a:pt x="1178" y="2135"/>
                      </a:lnTo>
                      <a:lnTo>
                        <a:pt x="781" y="2020"/>
                      </a:lnTo>
                      <a:lnTo>
                        <a:pt x="662" y="1866"/>
                      </a:lnTo>
                      <a:lnTo>
                        <a:pt x="622" y="1751"/>
                      </a:lnTo>
                      <a:lnTo>
                        <a:pt x="680" y="1751"/>
                      </a:lnTo>
                      <a:lnTo>
                        <a:pt x="622" y="1632"/>
                      </a:lnTo>
                      <a:lnTo>
                        <a:pt x="702" y="1663"/>
                      </a:lnTo>
                      <a:lnTo>
                        <a:pt x="702" y="1654"/>
                      </a:lnTo>
                      <a:lnTo>
                        <a:pt x="640" y="1517"/>
                      </a:lnTo>
                      <a:lnTo>
                        <a:pt x="706" y="1557"/>
                      </a:lnTo>
                      <a:lnTo>
                        <a:pt x="662" y="1447"/>
                      </a:lnTo>
                      <a:lnTo>
                        <a:pt x="728" y="1517"/>
                      </a:lnTo>
                      <a:lnTo>
                        <a:pt x="680" y="1359"/>
                      </a:lnTo>
                      <a:lnTo>
                        <a:pt x="737" y="1438"/>
                      </a:lnTo>
                      <a:lnTo>
                        <a:pt x="979" y="1786"/>
                      </a:lnTo>
                      <a:lnTo>
                        <a:pt x="728" y="1438"/>
                      </a:lnTo>
                      <a:lnTo>
                        <a:pt x="671" y="1230"/>
                      </a:lnTo>
                      <a:lnTo>
                        <a:pt x="843" y="1434"/>
                      </a:lnTo>
                      <a:lnTo>
                        <a:pt x="737" y="1265"/>
                      </a:lnTo>
                      <a:lnTo>
                        <a:pt x="688" y="1084"/>
                      </a:lnTo>
                      <a:lnTo>
                        <a:pt x="746" y="1111"/>
                      </a:lnTo>
                      <a:lnTo>
                        <a:pt x="702" y="1014"/>
                      </a:lnTo>
                      <a:lnTo>
                        <a:pt x="759" y="1049"/>
                      </a:lnTo>
                      <a:lnTo>
                        <a:pt x="979" y="1438"/>
                      </a:lnTo>
                      <a:lnTo>
                        <a:pt x="746" y="1009"/>
                      </a:lnTo>
                      <a:lnTo>
                        <a:pt x="746" y="873"/>
                      </a:lnTo>
                      <a:lnTo>
                        <a:pt x="803" y="930"/>
                      </a:lnTo>
                      <a:lnTo>
                        <a:pt x="922" y="1212"/>
                      </a:lnTo>
                      <a:lnTo>
                        <a:pt x="777" y="851"/>
                      </a:lnTo>
                      <a:lnTo>
                        <a:pt x="759" y="736"/>
                      </a:lnTo>
                      <a:lnTo>
                        <a:pt x="803" y="789"/>
                      </a:lnTo>
                      <a:lnTo>
                        <a:pt x="944" y="1014"/>
                      </a:lnTo>
                      <a:lnTo>
                        <a:pt x="940" y="996"/>
                      </a:lnTo>
                      <a:lnTo>
                        <a:pt x="812" y="754"/>
                      </a:lnTo>
                      <a:lnTo>
                        <a:pt x="794" y="599"/>
                      </a:lnTo>
                      <a:lnTo>
                        <a:pt x="852" y="674"/>
                      </a:lnTo>
                      <a:lnTo>
                        <a:pt x="821" y="529"/>
                      </a:lnTo>
                      <a:lnTo>
                        <a:pt x="1019" y="868"/>
                      </a:lnTo>
                      <a:lnTo>
                        <a:pt x="834" y="511"/>
                      </a:lnTo>
                      <a:lnTo>
                        <a:pt x="812" y="405"/>
                      </a:lnTo>
                      <a:lnTo>
                        <a:pt x="882" y="485"/>
                      </a:lnTo>
                      <a:lnTo>
                        <a:pt x="869" y="313"/>
                      </a:lnTo>
                      <a:lnTo>
                        <a:pt x="957" y="396"/>
                      </a:lnTo>
                      <a:lnTo>
                        <a:pt x="1068" y="599"/>
                      </a:lnTo>
                      <a:lnTo>
                        <a:pt x="957" y="388"/>
                      </a:lnTo>
                      <a:lnTo>
                        <a:pt x="922" y="216"/>
                      </a:lnTo>
                      <a:lnTo>
                        <a:pt x="966" y="260"/>
                      </a:lnTo>
                      <a:lnTo>
                        <a:pt x="940" y="136"/>
                      </a:lnTo>
                      <a:lnTo>
                        <a:pt x="984" y="171"/>
                      </a:lnTo>
                      <a:lnTo>
                        <a:pt x="997" y="70"/>
                      </a:lnTo>
                      <a:lnTo>
                        <a:pt x="984" y="26"/>
                      </a:lnTo>
                      <a:lnTo>
                        <a:pt x="966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8028000" y="5146560"/>
                  <a:ext cx="213120" cy="632160"/>
                </a:xfrm>
                <a:custGeom>
                  <a:avLst/>
                  <a:gdLst/>
                  <a:ahLst/>
                  <a:rect l="0" t="0" r="r" b="b"/>
                  <a:pathLst>
                    <a:path w="592" h="1756">
                      <a:moveTo>
                        <a:pt x="12" y="280"/>
                      </a:moveTo>
                      <a:lnTo>
                        <a:pt x="136" y="0"/>
                      </a:lnTo>
                      <a:lnTo>
                        <a:pt x="215" y="8"/>
                      </a:lnTo>
                      <a:lnTo>
                        <a:pt x="282" y="24"/>
                      </a:lnTo>
                      <a:lnTo>
                        <a:pt x="336" y="99"/>
                      </a:lnTo>
                      <a:lnTo>
                        <a:pt x="471" y="326"/>
                      </a:lnTo>
                      <a:lnTo>
                        <a:pt x="515" y="425"/>
                      </a:lnTo>
                      <a:lnTo>
                        <a:pt x="549" y="523"/>
                      </a:lnTo>
                      <a:lnTo>
                        <a:pt x="580" y="824"/>
                      </a:lnTo>
                      <a:lnTo>
                        <a:pt x="592" y="914"/>
                      </a:lnTo>
                      <a:lnTo>
                        <a:pt x="580" y="1030"/>
                      </a:lnTo>
                      <a:lnTo>
                        <a:pt x="559" y="1152"/>
                      </a:lnTo>
                      <a:lnTo>
                        <a:pt x="505" y="1340"/>
                      </a:lnTo>
                      <a:lnTo>
                        <a:pt x="461" y="1462"/>
                      </a:lnTo>
                      <a:lnTo>
                        <a:pt x="393" y="1594"/>
                      </a:lnTo>
                      <a:lnTo>
                        <a:pt x="259" y="1756"/>
                      </a:lnTo>
                      <a:lnTo>
                        <a:pt x="326" y="1551"/>
                      </a:lnTo>
                      <a:lnTo>
                        <a:pt x="382" y="1365"/>
                      </a:lnTo>
                      <a:lnTo>
                        <a:pt x="416" y="1192"/>
                      </a:lnTo>
                      <a:lnTo>
                        <a:pt x="403" y="1030"/>
                      </a:lnTo>
                      <a:lnTo>
                        <a:pt x="393" y="914"/>
                      </a:lnTo>
                      <a:lnTo>
                        <a:pt x="416" y="773"/>
                      </a:lnTo>
                      <a:lnTo>
                        <a:pt x="426" y="655"/>
                      </a:lnTo>
                      <a:lnTo>
                        <a:pt x="369" y="425"/>
                      </a:lnTo>
                      <a:lnTo>
                        <a:pt x="359" y="301"/>
                      </a:lnTo>
                      <a:lnTo>
                        <a:pt x="313" y="204"/>
                      </a:lnTo>
                      <a:lnTo>
                        <a:pt x="215" y="75"/>
                      </a:lnTo>
                      <a:lnTo>
                        <a:pt x="168" y="175"/>
                      </a:lnTo>
                      <a:lnTo>
                        <a:pt x="0" y="336"/>
                      </a:lnTo>
                      <a:lnTo>
                        <a:pt x="12" y="28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6670800" y="4929120"/>
                <a:ext cx="2460960" cy="1916280"/>
                <a:chOff x="6670800" y="4929120"/>
                <a:chExt cx="2460960" cy="1916280"/>
              </a:xfrm>
            </p:grpSpPr>
            <p:grpSp>
              <p:nvGrpSpPr>
                <p:cNvPr id="7" name=""/>
                <p:cNvGrpSpPr/>
                <p:nvPr/>
              </p:nvGrpSpPr>
              <p:grpSpPr>
                <a:xfrm>
                  <a:off x="7556400" y="4929120"/>
                  <a:ext cx="552960" cy="1900440"/>
                  <a:chOff x="7556400" y="4929120"/>
                  <a:chExt cx="552960" cy="1900440"/>
                </a:xfrm>
              </p:grpSpPr>
              <p:grpSp>
                <p:nvGrpSpPr>
                  <p:cNvPr id="8" name=""/>
                  <p:cNvGrpSpPr/>
                  <p:nvPr/>
                </p:nvGrpSpPr>
                <p:grpSpPr>
                  <a:xfrm>
                    <a:off x="7556400" y="4929120"/>
                    <a:ext cx="552960" cy="1900440"/>
                    <a:chOff x="7556400" y="4929120"/>
                    <a:chExt cx="552960" cy="1900440"/>
                  </a:xfrm>
                </p:grpSpPr>
                <p:grpSp>
                  <p:nvGrpSpPr>
                    <p:cNvPr id="9" name=""/>
                    <p:cNvGrpSpPr/>
                    <p:nvPr/>
                  </p:nvGrpSpPr>
                  <p:grpSpPr>
                    <a:xfrm>
                      <a:off x="7556400" y="5896080"/>
                      <a:ext cx="449640" cy="749520"/>
                      <a:chOff x="7556400" y="5896080"/>
                      <a:chExt cx="449640" cy="749520"/>
                    </a:xfrm>
                  </p:grpSpPr>
                  <p:sp>
                    <p:nvSpPr>
                      <p:cNvPr id="10" name=""/>
                      <p:cNvSpPr/>
                      <p:nvPr/>
                    </p:nvSpPr>
                    <p:spPr>
                      <a:xfrm>
                        <a:off x="7780320" y="5896080"/>
                        <a:ext cx="225720" cy="749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627" h="2082">
                            <a:moveTo>
                              <a:pt x="627" y="2082"/>
                            </a:moveTo>
                            <a:lnTo>
                              <a:pt x="503" y="837"/>
                            </a:lnTo>
                            <a:lnTo>
                              <a:pt x="406" y="216"/>
                            </a:lnTo>
                            <a:lnTo>
                              <a:pt x="375" y="88"/>
                            </a:lnTo>
                            <a:lnTo>
                              <a:pt x="327" y="22"/>
                            </a:lnTo>
                            <a:lnTo>
                              <a:pt x="233" y="0"/>
                            </a:lnTo>
                            <a:lnTo>
                              <a:pt x="154" y="26"/>
                            </a:lnTo>
                            <a:lnTo>
                              <a:pt x="74" y="92"/>
                            </a:lnTo>
                            <a:lnTo>
                              <a:pt x="0" y="211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7556400" y="5923080"/>
                        <a:ext cx="333720" cy="547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27" h="1522">
                            <a:moveTo>
                              <a:pt x="688" y="13"/>
                            </a:moveTo>
                            <a:lnTo>
                              <a:pt x="640" y="13"/>
                            </a:lnTo>
                            <a:lnTo>
                              <a:pt x="613" y="44"/>
                            </a:lnTo>
                            <a:lnTo>
                              <a:pt x="583" y="74"/>
                            </a:lnTo>
                            <a:lnTo>
                              <a:pt x="569" y="88"/>
                            </a:lnTo>
                            <a:lnTo>
                              <a:pt x="525" y="114"/>
                            </a:lnTo>
                            <a:lnTo>
                              <a:pt x="477" y="158"/>
                            </a:lnTo>
                            <a:lnTo>
                              <a:pt x="432" y="171"/>
                            </a:lnTo>
                            <a:lnTo>
                              <a:pt x="330" y="189"/>
                            </a:lnTo>
                            <a:lnTo>
                              <a:pt x="194" y="229"/>
                            </a:lnTo>
                            <a:lnTo>
                              <a:pt x="330" y="202"/>
                            </a:lnTo>
                            <a:lnTo>
                              <a:pt x="405" y="171"/>
                            </a:lnTo>
                            <a:lnTo>
                              <a:pt x="449" y="189"/>
                            </a:lnTo>
                            <a:lnTo>
                              <a:pt x="388" y="220"/>
                            </a:lnTo>
                            <a:lnTo>
                              <a:pt x="432" y="220"/>
                            </a:lnTo>
                            <a:lnTo>
                              <a:pt x="388" y="260"/>
                            </a:lnTo>
                            <a:lnTo>
                              <a:pt x="61" y="507"/>
                            </a:lnTo>
                            <a:lnTo>
                              <a:pt x="405" y="260"/>
                            </a:lnTo>
                            <a:lnTo>
                              <a:pt x="388" y="291"/>
                            </a:lnTo>
                            <a:lnTo>
                              <a:pt x="343" y="335"/>
                            </a:lnTo>
                            <a:lnTo>
                              <a:pt x="299" y="343"/>
                            </a:lnTo>
                            <a:lnTo>
                              <a:pt x="207" y="366"/>
                            </a:lnTo>
                            <a:lnTo>
                              <a:pt x="61" y="335"/>
                            </a:lnTo>
                            <a:lnTo>
                              <a:pt x="299" y="366"/>
                            </a:lnTo>
                            <a:lnTo>
                              <a:pt x="343" y="335"/>
                            </a:lnTo>
                            <a:lnTo>
                              <a:pt x="388" y="317"/>
                            </a:lnTo>
                            <a:lnTo>
                              <a:pt x="374" y="366"/>
                            </a:lnTo>
                            <a:lnTo>
                              <a:pt x="343" y="379"/>
                            </a:lnTo>
                            <a:lnTo>
                              <a:pt x="48" y="520"/>
                            </a:lnTo>
                            <a:lnTo>
                              <a:pt x="343" y="392"/>
                            </a:lnTo>
                            <a:lnTo>
                              <a:pt x="374" y="392"/>
                            </a:lnTo>
                            <a:lnTo>
                              <a:pt x="343" y="436"/>
                            </a:lnTo>
                            <a:lnTo>
                              <a:pt x="299" y="480"/>
                            </a:lnTo>
                            <a:lnTo>
                              <a:pt x="48" y="564"/>
                            </a:lnTo>
                            <a:lnTo>
                              <a:pt x="330" y="463"/>
                            </a:lnTo>
                            <a:lnTo>
                              <a:pt x="343" y="463"/>
                            </a:lnTo>
                            <a:lnTo>
                              <a:pt x="361" y="480"/>
                            </a:lnTo>
                            <a:lnTo>
                              <a:pt x="299" y="533"/>
                            </a:lnTo>
                            <a:lnTo>
                              <a:pt x="361" y="520"/>
                            </a:lnTo>
                            <a:lnTo>
                              <a:pt x="282" y="595"/>
                            </a:lnTo>
                            <a:lnTo>
                              <a:pt x="224" y="639"/>
                            </a:lnTo>
                            <a:lnTo>
                              <a:pt x="105" y="665"/>
                            </a:lnTo>
                            <a:lnTo>
                              <a:pt x="48" y="665"/>
                            </a:lnTo>
                            <a:lnTo>
                              <a:pt x="149" y="652"/>
                            </a:lnTo>
                            <a:lnTo>
                              <a:pt x="268" y="621"/>
                            </a:lnTo>
                            <a:lnTo>
                              <a:pt x="299" y="608"/>
                            </a:lnTo>
                            <a:lnTo>
                              <a:pt x="268" y="652"/>
                            </a:lnTo>
                            <a:lnTo>
                              <a:pt x="207" y="709"/>
                            </a:lnTo>
                            <a:lnTo>
                              <a:pt x="105" y="736"/>
                            </a:lnTo>
                            <a:lnTo>
                              <a:pt x="0" y="768"/>
                            </a:lnTo>
                            <a:lnTo>
                              <a:pt x="136" y="723"/>
                            </a:lnTo>
                            <a:lnTo>
                              <a:pt x="224" y="683"/>
                            </a:lnTo>
                            <a:lnTo>
                              <a:pt x="299" y="639"/>
                            </a:lnTo>
                            <a:lnTo>
                              <a:pt x="313" y="621"/>
                            </a:lnTo>
                            <a:lnTo>
                              <a:pt x="299" y="665"/>
                            </a:lnTo>
                            <a:lnTo>
                              <a:pt x="330" y="652"/>
                            </a:lnTo>
                            <a:lnTo>
                              <a:pt x="361" y="665"/>
                            </a:lnTo>
                            <a:lnTo>
                              <a:pt x="299" y="709"/>
                            </a:lnTo>
                            <a:lnTo>
                              <a:pt x="299" y="736"/>
                            </a:lnTo>
                            <a:lnTo>
                              <a:pt x="224" y="799"/>
                            </a:lnTo>
                            <a:lnTo>
                              <a:pt x="251" y="799"/>
                            </a:lnTo>
                            <a:lnTo>
                              <a:pt x="224" y="830"/>
                            </a:lnTo>
                            <a:lnTo>
                              <a:pt x="119" y="887"/>
                            </a:lnTo>
                            <a:lnTo>
                              <a:pt x="30" y="900"/>
                            </a:lnTo>
                            <a:lnTo>
                              <a:pt x="163" y="869"/>
                            </a:lnTo>
                            <a:lnTo>
                              <a:pt x="242" y="830"/>
                            </a:lnTo>
                            <a:lnTo>
                              <a:pt x="282" y="812"/>
                            </a:lnTo>
                            <a:lnTo>
                              <a:pt x="282" y="856"/>
                            </a:lnTo>
                            <a:lnTo>
                              <a:pt x="282" y="869"/>
                            </a:lnTo>
                            <a:lnTo>
                              <a:pt x="242" y="927"/>
                            </a:lnTo>
                            <a:lnTo>
                              <a:pt x="194" y="971"/>
                            </a:lnTo>
                            <a:lnTo>
                              <a:pt x="224" y="971"/>
                            </a:lnTo>
                            <a:lnTo>
                              <a:pt x="180" y="1002"/>
                            </a:lnTo>
                            <a:lnTo>
                              <a:pt x="30" y="1072"/>
                            </a:lnTo>
                            <a:lnTo>
                              <a:pt x="136" y="1032"/>
                            </a:lnTo>
                            <a:lnTo>
                              <a:pt x="207" y="1002"/>
                            </a:lnTo>
                            <a:lnTo>
                              <a:pt x="207" y="1046"/>
                            </a:lnTo>
                            <a:lnTo>
                              <a:pt x="163" y="1059"/>
                            </a:lnTo>
                            <a:lnTo>
                              <a:pt x="207" y="1046"/>
                            </a:lnTo>
                            <a:lnTo>
                              <a:pt x="207" y="1072"/>
                            </a:lnTo>
                            <a:lnTo>
                              <a:pt x="180" y="1103"/>
                            </a:lnTo>
                            <a:lnTo>
                              <a:pt x="48" y="1147"/>
                            </a:lnTo>
                            <a:lnTo>
                              <a:pt x="163" y="1103"/>
                            </a:lnTo>
                            <a:lnTo>
                              <a:pt x="163" y="1116"/>
                            </a:lnTo>
                            <a:lnTo>
                              <a:pt x="180" y="1129"/>
                            </a:lnTo>
                            <a:lnTo>
                              <a:pt x="48" y="1235"/>
                            </a:lnTo>
                            <a:lnTo>
                              <a:pt x="149" y="1160"/>
                            </a:lnTo>
                            <a:lnTo>
                              <a:pt x="180" y="1147"/>
                            </a:lnTo>
                            <a:lnTo>
                              <a:pt x="194" y="1173"/>
                            </a:lnTo>
                            <a:lnTo>
                              <a:pt x="163" y="1204"/>
                            </a:lnTo>
                            <a:lnTo>
                              <a:pt x="194" y="1191"/>
                            </a:lnTo>
                            <a:lnTo>
                              <a:pt x="163" y="1275"/>
                            </a:lnTo>
                            <a:lnTo>
                              <a:pt x="30" y="1376"/>
                            </a:lnTo>
                            <a:lnTo>
                              <a:pt x="163" y="1275"/>
                            </a:lnTo>
                            <a:lnTo>
                              <a:pt x="149" y="1319"/>
                            </a:lnTo>
                            <a:lnTo>
                              <a:pt x="194" y="1275"/>
                            </a:lnTo>
                            <a:lnTo>
                              <a:pt x="194" y="1319"/>
                            </a:lnTo>
                            <a:lnTo>
                              <a:pt x="207" y="1522"/>
                            </a:lnTo>
                            <a:lnTo>
                              <a:pt x="207" y="1509"/>
                            </a:lnTo>
                            <a:lnTo>
                              <a:pt x="207" y="1407"/>
                            </a:lnTo>
                            <a:lnTo>
                              <a:pt x="224" y="1332"/>
                            </a:lnTo>
                            <a:lnTo>
                              <a:pt x="242" y="1275"/>
                            </a:lnTo>
                            <a:lnTo>
                              <a:pt x="268" y="1173"/>
                            </a:lnTo>
                            <a:lnTo>
                              <a:pt x="299" y="1218"/>
                            </a:lnTo>
                            <a:lnTo>
                              <a:pt x="313" y="1218"/>
                            </a:lnTo>
                            <a:lnTo>
                              <a:pt x="313" y="1160"/>
                            </a:lnTo>
                            <a:lnTo>
                              <a:pt x="343" y="1191"/>
                            </a:lnTo>
                            <a:lnTo>
                              <a:pt x="361" y="1262"/>
                            </a:lnTo>
                            <a:lnTo>
                              <a:pt x="343" y="1173"/>
                            </a:lnTo>
                            <a:lnTo>
                              <a:pt x="330" y="1147"/>
                            </a:lnTo>
                            <a:lnTo>
                              <a:pt x="343" y="1072"/>
                            </a:lnTo>
                            <a:lnTo>
                              <a:pt x="361" y="1129"/>
                            </a:lnTo>
                            <a:lnTo>
                              <a:pt x="405" y="1248"/>
                            </a:lnTo>
                            <a:lnTo>
                              <a:pt x="449" y="1319"/>
                            </a:lnTo>
                            <a:lnTo>
                              <a:pt x="569" y="1425"/>
                            </a:lnTo>
                            <a:lnTo>
                              <a:pt x="494" y="1332"/>
                            </a:lnTo>
                            <a:lnTo>
                              <a:pt x="432" y="1262"/>
                            </a:lnTo>
                            <a:lnTo>
                              <a:pt x="405" y="1218"/>
                            </a:lnTo>
                            <a:lnTo>
                              <a:pt x="374" y="1160"/>
                            </a:lnTo>
                            <a:lnTo>
                              <a:pt x="388" y="1002"/>
                            </a:lnTo>
                            <a:lnTo>
                              <a:pt x="405" y="1046"/>
                            </a:lnTo>
                            <a:lnTo>
                              <a:pt x="405" y="957"/>
                            </a:lnTo>
                            <a:lnTo>
                              <a:pt x="405" y="927"/>
                            </a:lnTo>
                            <a:lnTo>
                              <a:pt x="432" y="1002"/>
                            </a:lnTo>
                            <a:lnTo>
                              <a:pt x="587" y="1257"/>
                            </a:lnTo>
                            <a:lnTo>
                              <a:pt x="477" y="1103"/>
                            </a:lnTo>
                            <a:lnTo>
                              <a:pt x="449" y="1059"/>
                            </a:lnTo>
                            <a:lnTo>
                              <a:pt x="432" y="1002"/>
                            </a:lnTo>
                            <a:lnTo>
                              <a:pt x="432" y="843"/>
                            </a:lnTo>
                            <a:lnTo>
                              <a:pt x="449" y="856"/>
                            </a:lnTo>
                            <a:lnTo>
                              <a:pt x="464" y="768"/>
                            </a:lnTo>
                            <a:lnTo>
                              <a:pt x="508" y="799"/>
                            </a:lnTo>
                            <a:lnTo>
                              <a:pt x="706" y="1262"/>
                            </a:lnTo>
                            <a:lnTo>
                              <a:pt x="613" y="1103"/>
                            </a:lnTo>
                            <a:lnTo>
                              <a:pt x="569" y="971"/>
                            </a:lnTo>
                            <a:lnTo>
                              <a:pt x="508" y="856"/>
                            </a:lnTo>
                            <a:lnTo>
                              <a:pt x="508" y="785"/>
                            </a:lnTo>
                            <a:lnTo>
                              <a:pt x="494" y="665"/>
                            </a:lnTo>
                            <a:lnTo>
                              <a:pt x="525" y="683"/>
                            </a:lnTo>
                            <a:lnTo>
                              <a:pt x="693" y="984"/>
                            </a:lnTo>
                            <a:lnTo>
                              <a:pt x="508" y="639"/>
                            </a:lnTo>
                            <a:lnTo>
                              <a:pt x="508" y="577"/>
                            </a:lnTo>
                            <a:lnTo>
                              <a:pt x="525" y="621"/>
                            </a:lnTo>
                            <a:lnTo>
                              <a:pt x="525" y="493"/>
                            </a:lnTo>
                            <a:lnTo>
                              <a:pt x="552" y="533"/>
                            </a:lnTo>
                            <a:lnTo>
                              <a:pt x="552" y="463"/>
                            </a:lnTo>
                            <a:lnTo>
                              <a:pt x="596" y="507"/>
                            </a:lnTo>
                            <a:lnTo>
                              <a:pt x="658" y="652"/>
                            </a:lnTo>
                            <a:lnTo>
                              <a:pt x="733" y="736"/>
                            </a:lnTo>
                            <a:lnTo>
                              <a:pt x="865" y="887"/>
                            </a:lnTo>
                            <a:lnTo>
                              <a:pt x="733" y="736"/>
                            </a:lnTo>
                            <a:lnTo>
                              <a:pt x="671" y="665"/>
                            </a:lnTo>
                            <a:lnTo>
                              <a:pt x="613" y="564"/>
                            </a:lnTo>
                            <a:lnTo>
                              <a:pt x="596" y="493"/>
                            </a:lnTo>
                            <a:lnTo>
                              <a:pt x="569" y="366"/>
                            </a:lnTo>
                            <a:lnTo>
                              <a:pt x="583" y="379"/>
                            </a:lnTo>
                            <a:lnTo>
                              <a:pt x="613" y="366"/>
                            </a:lnTo>
                            <a:lnTo>
                              <a:pt x="596" y="304"/>
                            </a:lnTo>
                            <a:lnTo>
                              <a:pt x="627" y="366"/>
                            </a:lnTo>
                            <a:lnTo>
                              <a:pt x="658" y="423"/>
                            </a:lnTo>
                            <a:lnTo>
                              <a:pt x="733" y="480"/>
                            </a:lnTo>
                            <a:lnTo>
                              <a:pt x="838" y="533"/>
                            </a:lnTo>
                            <a:lnTo>
                              <a:pt x="702" y="463"/>
                            </a:lnTo>
                            <a:lnTo>
                              <a:pt x="658" y="405"/>
                            </a:lnTo>
                            <a:lnTo>
                              <a:pt x="640" y="379"/>
                            </a:lnTo>
                            <a:lnTo>
                              <a:pt x="640" y="233"/>
                            </a:lnTo>
                            <a:lnTo>
                              <a:pt x="671" y="277"/>
                            </a:lnTo>
                            <a:lnTo>
                              <a:pt x="719" y="343"/>
                            </a:lnTo>
                            <a:lnTo>
                              <a:pt x="781" y="410"/>
                            </a:lnTo>
                            <a:lnTo>
                              <a:pt x="927" y="577"/>
                            </a:lnTo>
                            <a:lnTo>
                              <a:pt x="680" y="233"/>
                            </a:lnTo>
                            <a:lnTo>
                              <a:pt x="671" y="246"/>
                            </a:lnTo>
                            <a:lnTo>
                              <a:pt x="688" y="171"/>
                            </a:lnTo>
                            <a:lnTo>
                              <a:pt x="671" y="127"/>
                            </a:lnTo>
                            <a:lnTo>
                              <a:pt x="658" y="114"/>
                            </a:lnTo>
                            <a:lnTo>
                              <a:pt x="671" y="88"/>
                            </a:lnTo>
                            <a:lnTo>
                              <a:pt x="688" y="44"/>
                            </a:lnTo>
                            <a:lnTo>
                              <a:pt x="719" y="13"/>
                            </a:lnTo>
                            <a:lnTo>
                              <a:pt x="746" y="0"/>
                            </a:lnTo>
                            <a:lnTo>
                              <a:pt x="688" y="13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" name=""/>
                    <p:cNvGrpSpPr/>
                    <p:nvPr/>
                  </p:nvGrpSpPr>
                  <p:grpSpPr>
                    <a:xfrm>
                      <a:off x="7701120" y="4929120"/>
                      <a:ext cx="408240" cy="1900440"/>
                      <a:chOff x="7701120" y="4929120"/>
                      <a:chExt cx="408240" cy="1900440"/>
                    </a:xfrm>
                  </p:grpSpPr>
                  <p:sp>
                    <p:nvSpPr>
                      <p:cNvPr id="13" name=""/>
                      <p:cNvSpPr/>
                      <p:nvPr/>
                    </p:nvSpPr>
                    <p:spPr>
                      <a:xfrm>
                        <a:off x="7807320" y="4929120"/>
                        <a:ext cx="302040" cy="1900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39" h="5279">
                            <a:moveTo>
                              <a:pt x="834" y="5279"/>
                            </a:moveTo>
                            <a:lnTo>
                              <a:pt x="839" y="4516"/>
                            </a:lnTo>
                            <a:lnTo>
                              <a:pt x="839" y="4165"/>
                            </a:lnTo>
                            <a:lnTo>
                              <a:pt x="821" y="3917"/>
                            </a:lnTo>
                            <a:lnTo>
                              <a:pt x="810" y="3620"/>
                            </a:lnTo>
                            <a:lnTo>
                              <a:pt x="813" y="3310"/>
                            </a:lnTo>
                            <a:lnTo>
                              <a:pt x="805" y="3048"/>
                            </a:lnTo>
                            <a:lnTo>
                              <a:pt x="784" y="2814"/>
                            </a:lnTo>
                            <a:lnTo>
                              <a:pt x="755" y="2396"/>
                            </a:lnTo>
                            <a:lnTo>
                              <a:pt x="715" y="1944"/>
                            </a:lnTo>
                            <a:lnTo>
                              <a:pt x="665" y="1484"/>
                            </a:lnTo>
                            <a:lnTo>
                              <a:pt x="619" y="994"/>
                            </a:lnTo>
                            <a:lnTo>
                              <a:pt x="585" y="699"/>
                            </a:lnTo>
                            <a:lnTo>
                              <a:pt x="553" y="585"/>
                            </a:lnTo>
                            <a:lnTo>
                              <a:pt x="474" y="386"/>
                            </a:lnTo>
                            <a:lnTo>
                              <a:pt x="405" y="242"/>
                            </a:lnTo>
                            <a:lnTo>
                              <a:pt x="323" y="125"/>
                            </a:lnTo>
                            <a:lnTo>
                              <a:pt x="238" y="29"/>
                            </a:lnTo>
                            <a:lnTo>
                              <a:pt x="179" y="2"/>
                            </a:lnTo>
                            <a:lnTo>
                              <a:pt x="97" y="0"/>
                            </a:lnTo>
                            <a:lnTo>
                              <a:pt x="34" y="32"/>
                            </a:lnTo>
                            <a:lnTo>
                              <a:pt x="0" y="87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" name=""/>
                      <p:cNvSpPr/>
                      <p:nvPr/>
                    </p:nvSpPr>
                    <p:spPr>
                      <a:xfrm>
                        <a:off x="7701120" y="5668920"/>
                        <a:ext cx="86040" cy="518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39" h="1439">
                            <a:moveTo>
                              <a:pt x="239" y="0"/>
                            </a:moveTo>
                            <a:lnTo>
                              <a:pt x="150" y="92"/>
                            </a:lnTo>
                            <a:lnTo>
                              <a:pt x="101" y="273"/>
                            </a:lnTo>
                            <a:lnTo>
                              <a:pt x="48" y="516"/>
                            </a:lnTo>
                            <a:lnTo>
                              <a:pt x="0" y="821"/>
                            </a:lnTo>
                            <a:lnTo>
                              <a:pt x="0" y="1152"/>
                            </a:lnTo>
                            <a:lnTo>
                              <a:pt x="26" y="1439"/>
                            </a:lnTo>
                            <a:lnTo>
                              <a:pt x="48" y="1439"/>
                            </a:lnTo>
                            <a:lnTo>
                              <a:pt x="26" y="1152"/>
                            </a:lnTo>
                            <a:lnTo>
                              <a:pt x="26" y="909"/>
                            </a:lnTo>
                            <a:lnTo>
                              <a:pt x="74" y="649"/>
                            </a:lnTo>
                            <a:lnTo>
                              <a:pt x="150" y="384"/>
                            </a:lnTo>
                            <a:lnTo>
                              <a:pt x="234" y="39"/>
                            </a:lnTo>
                            <a:lnTo>
                              <a:pt x="239" y="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" name=""/>
                  <p:cNvSpPr/>
                  <p:nvPr/>
                </p:nvSpPr>
                <p:spPr>
                  <a:xfrm>
                    <a:off x="7780320" y="5630760"/>
                    <a:ext cx="313200" cy="6084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70" h="1690">
                        <a:moveTo>
                          <a:pt x="870" y="1690"/>
                        </a:moveTo>
                        <a:lnTo>
                          <a:pt x="742" y="1316"/>
                        </a:lnTo>
                        <a:lnTo>
                          <a:pt x="631" y="896"/>
                        </a:lnTo>
                        <a:lnTo>
                          <a:pt x="574" y="715"/>
                        </a:lnTo>
                        <a:lnTo>
                          <a:pt x="494" y="503"/>
                        </a:lnTo>
                        <a:lnTo>
                          <a:pt x="389" y="282"/>
                        </a:lnTo>
                        <a:lnTo>
                          <a:pt x="309" y="141"/>
                        </a:lnTo>
                        <a:lnTo>
                          <a:pt x="252" y="74"/>
                        </a:lnTo>
                        <a:lnTo>
                          <a:pt x="171" y="22"/>
                        </a:lnTo>
                        <a:lnTo>
                          <a:pt x="83" y="0"/>
                        </a:lnTo>
                        <a:lnTo>
                          <a:pt x="44" y="48"/>
                        </a:lnTo>
                        <a:lnTo>
                          <a:pt x="0" y="154"/>
                        </a:lnTo>
                      </a:path>
                    </a:pathLst>
                  </a:custGeom>
                  <a:ln w="12600">
                    <a:solidFill>
                      <a:srgbClr val="ededed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" name=""/>
                <p:cNvGrpSpPr/>
                <p:nvPr/>
              </p:nvGrpSpPr>
              <p:grpSpPr>
                <a:xfrm>
                  <a:off x="8250120" y="6173640"/>
                  <a:ext cx="379800" cy="671760"/>
                  <a:chOff x="8250120" y="6173640"/>
                  <a:chExt cx="379800" cy="671760"/>
                </a:xfrm>
              </p:grpSpPr>
              <p:sp>
                <p:nvSpPr>
                  <p:cNvPr id="17" name=""/>
                  <p:cNvSpPr/>
                  <p:nvPr/>
                </p:nvSpPr>
                <p:spPr>
                  <a:xfrm>
                    <a:off x="8250120" y="6200640"/>
                    <a:ext cx="86040" cy="64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9" h="1791">
                        <a:moveTo>
                          <a:pt x="191" y="0"/>
                        </a:moveTo>
                        <a:lnTo>
                          <a:pt x="174" y="34"/>
                        </a:lnTo>
                        <a:lnTo>
                          <a:pt x="96" y="353"/>
                        </a:lnTo>
                        <a:lnTo>
                          <a:pt x="48" y="652"/>
                        </a:lnTo>
                        <a:lnTo>
                          <a:pt x="0" y="1030"/>
                        </a:lnTo>
                        <a:lnTo>
                          <a:pt x="0" y="1434"/>
                        </a:lnTo>
                        <a:lnTo>
                          <a:pt x="24" y="1791"/>
                        </a:lnTo>
                        <a:lnTo>
                          <a:pt x="48" y="1791"/>
                        </a:lnTo>
                        <a:lnTo>
                          <a:pt x="24" y="1434"/>
                        </a:lnTo>
                        <a:lnTo>
                          <a:pt x="24" y="1138"/>
                        </a:lnTo>
                        <a:lnTo>
                          <a:pt x="72" y="811"/>
                        </a:lnTo>
                        <a:lnTo>
                          <a:pt x="142" y="489"/>
                        </a:lnTo>
                        <a:lnTo>
                          <a:pt x="239" y="81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8327880" y="6173640"/>
                    <a:ext cx="302040" cy="6670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39" h="1853">
                        <a:moveTo>
                          <a:pt x="839" y="1853"/>
                        </a:moveTo>
                        <a:lnTo>
                          <a:pt x="716" y="1676"/>
                        </a:lnTo>
                        <a:lnTo>
                          <a:pt x="667" y="1566"/>
                        </a:lnTo>
                        <a:lnTo>
                          <a:pt x="634" y="1479"/>
                        </a:lnTo>
                        <a:lnTo>
                          <a:pt x="448" y="621"/>
                        </a:lnTo>
                        <a:lnTo>
                          <a:pt x="347" y="349"/>
                        </a:lnTo>
                        <a:lnTo>
                          <a:pt x="270" y="176"/>
                        </a:lnTo>
                        <a:lnTo>
                          <a:pt x="214" y="94"/>
                        </a:lnTo>
                        <a:lnTo>
                          <a:pt x="143" y="27"/>
                        </a:lnTo>
                        <a:lnTo>
                          <a:pt x="77" y="0"/>
                        </a:lnTo>
                        <a:lnTo>
                          <a:pt x="25" y="15"/>
                        </a:lnTo>
                        <a:lnTo>
                          <a:pt x="0" y="125"/>
                        </a:lnTo>
                      </a:path>
                    </a:pathLst>
                  </a:custGeom>
                  <a:ln w="25560">
                    <a:solidFill>
                      <a:srgbClr val="ededed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" name=""/>
                <p:cNvGrpSpPr/>
                <p:nvPr/>
              </p:nvGrpSpPr>
              <p:grpSpPr>
                <a:xfrm>
                  <a:off x="7543800" y="4957920"/>
                  <a:ext cx="1099080" cy="1683000"/>
                  <a:chOff x="7543800" y="4957920"/>
                  <a:chExt cx="1099080" cy="168300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43800" y="5630760"/>
                    <a:ext cx="649800" cy="10101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805" h="2806">
                        <a:moveTo>
                          <a:pt x="1805" y="2806"/>
                        </a:moveTo>
                        <a:lnTo>
                          <a:pt x="1755" y="2584"/>
                        </a:lnTo>
                        <a:lnTo>
                          <a:pt x="1186" y="1061"/>
                        </a:lnTo>
                        <a:lnTo>
                          <a:pt x="935" y="591"/>
                        </a:lnTo>
                        <a:lnTo>
                          <a:pt x="859" y="434"/>
                        </a:lnTo>
                        <a:lnTo>
                          <a:pt x="762" y="257"/>
                        </a:lnTo>
                        <a:lnTo>
                          <a:pt x="651" y="122"/>
                        </a:lnTo>
                        <a:lnTo>
                          <a:pt x="547" y="52"/>
                        </a:lnTo>
                        <a:lnTo>
                          <a:pt x="413" y="2"/>
                        </a:lnTo>
                        <a:lnTo>
                          <a:pt x="280" y="0"/>
                        </a:lnTo>
                        <a:lnTo>
                          <a:pt x="190" y="54"/>
                        </a:lnTo>
                        <a:lnTo>
                          <a:pt x="0" y="314"/>
                        </a:lnTo>
                      </a:path>
                    </a:pathLst>
                  </a:custGeom>
                  <a:ln w="25560">
                    <a:solidFill>
                      <a:srgbClr val="ededed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7996320" y="4957920"/>
                    <a:ext cx="646560" cy="16750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96" h="4653">
                        <a:moveTo>
                          <a:pt x="0" y="4653"/>
                        </a:moveTo>
                        <a:lnTo>
                          <a:pt x="477" y="3335"/>
                        </a:lnTo>
                        <a:lnTo>
                          <a:pt x="733" y="2673"/>
                        </a:lnTo>
                        <a:lnTo>
                          <a:pt x="957" y="2041"/>
                        </a:lnTo>
                        <a:lnTo>
                          <a:pt x="1094" y="1605"/>
                        </a:lnTo>
                        <a:lnTo>
                          <a:pt x="1160" y="1372"/>
                        </a:lnTo>
                        <a:lnTo>
                          <a:pt x="1200" y="1121"/>
                        </a:lnTo>
                        <a:lnTo>
                          <a:pt x="1253" y="888"/>
                        </a:lnTo>
                        <a:lnTo>
                          <a:pt x="1341" y="612"/>
                        </a:lnTo>
                        <a:lnTo>
                          <a:pt x="1435" y="367"/>
                        </a:lnTo>
                        <a:lnTo>
                          <a:pt x="1558" y="147"/>
                        </a:lnTo>
                        <a:lnTo>
                          <a:pt x="1651" y="12"/>
                        </a:lnTo>
                        <a:lnTo>
                          <a:pt x="1708" y="0"/>
                        </a:lnTo>
                        <a:lnTo>
                          <a:pt x="1765" y="67"/>
                        </a:lnTo>
                        <a:lnTo>
                          <a:pt x="1796" y="312"/>
                        </a:lnTo>
                      </a:path>
                    </a:pathLst>
                  </a:custGeom>
                  <a:ln w="25560">
                    <a:solidFill>
                      <a:srgbClr val="ededed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153280" y="5651640"/>
                    <a:ext cx="475200" cy="5734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20" h="1593">
                        <a:moveTo>
                          <a:pt x="0" y="1593"/>
                        </a:moveTo>
                        <a:lnTo>
                          <a:pt x="246" y="1249"/>
                        </a:lnTo>
                        <a:lnTo>
                          <a:pt x="402" y="852"/>
                        </a:lnTo>
                        <a:lnTo>
                          <a:pt x="486" y="675"/>
                        </a:lnTo>
                        <a:lnTo>
                          <a:pt x="596" y="468"/>
                        </a:lnTo>
                        <a:lnTo>
                          <a:pt x="750" y="255"/>
                        </a:lnTo>
                        <a:lnTo>
                          <a:pt x="860" y="127"/>
                        </a:lnTo>
                        <a:lnTo>
                          <a:pt x="944" y="61"/>
                        </a:lnTo>
                        <a:lnTo>
                          <a:pt x="1064" y="8"/>
                        </a:lnTo>
                        <a:lnTo>
                          <a:pt x="1192" y="0"/>
                        </a:lnTo>
                        <a:lnTo>
                          <a:pt x="1249" y="74"/>
                        </a:lnTo>
                        <a:lnTo>
                          <a:pt x="1320" y="194"/>
                        </a:lnTo>
                      </a:path>
                    </a:pathLst>
                  </a:custGeom>
                  <a:ln w="25560">
                    <a:solidFill>
                      <a:srgbClr val="ededed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958160" y="5856120"/>
                    <a:ext cx="225720" cy="278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27" h="773">
                        <a:moveTo>
                          <a:pt x="0" y="0"/>
                        </a:moveTo>
                        <a:lnTo>
                          <a:pt x="104" y="49"/>
                        </a:lnTo>
                        <a:lnTo>
                          <a:pt x="233" y="107"/>
                        </a:lnTo>
                        <a:lnTo>
                          <a:pt x="350" y="215"/>
                        </a:lnTo>
                        <a:lnTo>
                          <a:pt x="454" y="307"/>
                        </a:lnTo>
                        <a:lnTo>
                          <a:pt x="540" y="404"/>
                        </a:lnTo>
                        <a:lnTo>
                          <a:pt x="583" y="483"/>
                        </a:lnTo>
                        <a:lnTo>
                          <a:pt x="612" y="561"/>
                        </a:lnTo>
                        <a:lnTo>
                          <a:pt x="627" y="666"/>
                        </a:lnTo>
                        <a:lnTo>
                          <a:pt x="627" y="773"/>
                        </a:lnTo>
                      </a:path>
                    </a:pathLst>
                  </a:custGeom>
                  <a:ln w="25560">
                    <a:solidFill>
                      <a:srgbClr val="ededed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8383680" y="5483160"/>
                  <a:ext cx="748080" cy="1113480"/>
                  <a:chOff x="8383680" y="5483160"/>
                  <a:chExt cx="748080" cy="111348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8574120" y="5483160"/>
                    <a:ext cx="557640" cy="1108440"/>
                    <a:chOff x="8574120" y="5483160"/>
                    <a:chExt cx="557640" cy="11084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8969400" y="6037200"/>
                      <a:ext cx="78120" cy="389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17" h="1081">
                          <a:moveTo>
                            <a:pt x="43" y="0"/>
                          </a:moveTo>
                          <a:lnTo>
                            <a:pt x="86" y="81"/>
                          </a:lnTo>
                          <a:lnTo>
                            <a:pt x="130" y="212"/>
                          </a:lnTo>
                          <a:lnTo>
                            <a:pt x="173" y="392"/>
                          </a:lnTo>
                          <a:lnTo>
                            <a:pt x="217" y="622"/>
                          </a:lnTo>
                          <a:lnTo>
                            <a:pt x="217" y="866"/>
                          </a:lnTo>
                          <a:lnTo>
                            <a:pt x="195" y="1081"/>
                          </a:lnTo>
                          <a:lnTo>
                            <a:pt x="173" y="1081"/>
                          </a:lnTo>
                          <a:lnTo>
                            <a:pt x="195" y="866"/>
                          </a:lnTo>
                          <a:lnTo>
                            <a:pt x="195" y="689"/>
                          </a:lnTo>
                          <a:lnTo>
                            <a:pt x="152" y="490"/>
                          </a:lnTo>
                          <a:lnTo>
                            <a:pt x="86" y="296"/>
                          </a:lnTo>
                          <a:lnTo>
                            <a:pt x="0" y="49"/>
                          </a:lnTo>
                          <a:lnTo>
                            <a:pt x="43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8574120" y="5829480"/>
                      <a:ext cx="135360" cy="387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76" h="1077">
                          <a:moveTo>
                            <a:pt x="368" y="168"/>
                          </a:moveTo>
                          <a:lnTo>
                            <a:pt x="290" y="0"/>
                          </a:lnTo>
                          <a:lnTo>
                            <a:pt x="237" y="2"/>
                          </a:lnTo>
                          <a:lnTo>
                            <a:pt x="197" y="11"/>
                          </a:lnTo>
                          <a:lnTo>
                            <a:pt x="162" y="58"/>
                          </a:lnTo>
                          <a:lnTo>
                            <a:pt x="74" y="197"/>
                          </a:lnTo>
                          <a:lnTo>
                            <a:pt x="46" y="258"/>
                          </a:lnTo>
                          <a:lnTo>
                            <a:pt x="28" y="320"/>
                          </a:lnTo>
                          <a:lnTo>
                            <a:pt x="5" y="506"/>
                          </a:lnTo>
                          <a:lnTo>
                            <a:pt x="0" y="562"/>
                          </a:lnTo>
                          <a:lnTo>
                            <a:pt x="5" y="632"/>
                          </a:lnTo>
                          <a:lnTo>
                            <a:pt x="20" y="707"/>
                          </a:lnTo>
                          <a:lnTo>
                            <a:pt x="54" y="822"/>
                          </a:lnTo>
                          <a:lnTo>
                            <a:pt x="83" y="897"/>
                          </a:lnTo>
                          <a:lnTo>
                            <a:pt x="127" y="979"/>
                          </a:lnTo>
                          <a:lnTo>
                            <a:pt x="211" y="1077"/>
                          </a:lnTo>
                          <a:lnTo>
                            <a:pt x="168" y="952"/>
                          </a:lnTo>
                          <a:lnTo>
                            <a:pt x="133" y="839"/>
                          </a:lnTo>
                          <a:lnTo>
                            <a:pt x="113" y="733"/>
                          </a:lnTo>
                          <a:lnTo>
                            <a:pt x="119" y="632"/>
                          </a:lnTo>
                          <a:lnTo>
                            <a:pt x="127" y="562"/>
                          </a:lnTo>
                          <a:lnTo>
                            <a:pt x="113" y="475"/>
                          </a:lnTo>
                          <a:lnTo>
                            <a:pt x="104" y="402"/>
                          </a:lnTo>
                          <a:lnTo>
                            <a:pt x="139" y="258"/>
                          </a:lnTo>
                          <a:lnTo>
                            <a:pt x="145" y="183"/>
                          </a:lnTo>
                          <a:lnTo>
                            <a:pt x="176" y="122"/>
                          </a:lnTo>
                          <a:lnTo>
                            <a:pt x="237" y="43"/>
                          </a:lnTo>
                          <a:lnTo>
                            <a:pt x="269" y="104"/>
                          </a:lnTo>
                          <a:lnTo>
                            <a:pt x="376" y="203"/>
                          </a:lnTo>
                          <a:lnTo>
                            <a:pt x="368" y="168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8802720" y="5483160"/>
                      <a:ext cx="329040" cy="700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14" h="1946">
                          <a:moveTo>
                            <a:pt x="204" y="0"/>
                          </a:moveTo>
                          <a:lnTo>
                            <a:pt x="243" y="5"/>
                          </a:lnTo>
                          <a:lnTo>
                            <a:pt x="299" y="23"/>
                          </a:lnTo>
                          <a:lnTo>
                            <a:pt x="261" y="32"/>
                          </a:lnTo>
                          <a:lnTo>
                            <a:pt x="290" y="55"/>
                          </a:lnTo>
                          <a:lnTo>
                            <a:pt x="322" y="82"/>
                          </a:lnTo>
                          <a:lnTo>
                            <a:pt x="372" y="93"/>
                          </a:lnTo>
                          <a:lnTo>
                            <a:pt x="445" y="87"/>
                          </a:lnTo>
                          <a:lnTo>
                            <a:pt x="524" y="73"/>
                          </a:lnTo>
                          <a:lnTo>
                            <a:pt x="733" y="87"/>
                          </a:lnTo>
                          <a:lnTo>
                            <a:pt x="533" y="76"/>
                          </a:lnTo>
                          <a:lnTo>
                            <a:pt x="445" y="99"/>
                          </a:lnTo>
                          <a:lnTo>
                            <a:pt x="372" y="93"/>
                          </a:lnTo>
                          <a:lnTo>
                            <a:pt x="322" y="111"/>
                          </a:lnTo>
                          <a:lnTo>
                            <a:pt x="360" y="131"/>
                          </a:lnTo>
                          <a:lnTo>
                            <a:pt x="334" y="143"/>
                          </a:lnTo>
                          <a:lnTo>
                            <a:pt x="401" y="187"/>
                          </a:lnTo>
                          <a:lnTo>
                            <a:pt x="551" y="181"/>
                          </a:lnTo>
                          <a:lnTo>
                            <a:pt x="745" y="336"/>
                          </a:lnTo>
                          <a:lnTo>
                            <a:pt x="551" y="187"/>
                          </a:lnTo>
                          <a:lnTo>
                            <a:pt x="401" y="199"/>
                          </a:lnTo>
                          <a:lnTo>
                            <a:pt x="360" y="205"/>
                          </a:lnTo>
                          <a:lnTo>
                            <a:pt x="439" y="254"/>
                          </a:lnTo>
                          <a:lnTo>
                            <a:pt x="390" y="254"/>
                          </a:lnTo>
                          <a:lnTo>
                            <a:pt x="474" y="316"/>
                          </a:lnTo>
                          <a:lnTo>
                            <a:pt x="635" y="392"/>
                          </a:lnTo>
                          <a:lnTo>
                            <a:pt x="821" y="531"/>
                          </a:lnTo>
                          <a:lnTo>
                            <a:pt x="632" y="404"/>
                          </a:lnTo>
                          <a:lnTo>
                            <a:pt x="469" y="328"/>
                          </a:lnTo>
                          <a:lnTo>
                            <a:pt x="422" y="330"/>
                          </a:lnTo>
                          <a:lnTo>
                            <a:pt x="495" y="374"/>
                          </a:lnTo>
                          <a:lnTo>
                            <a:pt x="445" y="386"/>
                          </a:lnTo>
                          <a:lnTo>
                            <a:pt x="507" y="445"/>
                          </a:lnTo>
                          <a:lnTo>
                            <a:pt x="897" y="914"/>
                          </a:lnTo>
                          <a:lnTo>
                            <a:pt x="507" y="453"/>
                          </a:lnTo>
                          <a:lnTo>
                            <a:pt x="451" y="453"/>
                          </a:lnTo>
                          <a:lnTo>
                            <a:pt x="512" y="525"/>
                          </a:lnTo>
                          <a:lnTo>
                            <a:pt x="469" y="519"/>
                          </a:lnTo>
                          <a:lnTo>
                            <a:pt x="524" y="610"/>
                          </a:lnTo>
                          <a:lnTo>
                            <a:pt x="686" y="771"/>
                          </a:lnTo>
                          <a:lnTo>
                            <a:pt x="853" y="1002"/>
                          </a:lnTo>
                          <a:lnTo>
                            <a:pt x="686" y="774"/>
                          </a:lnTo>
                          <a:lnTo>
                            <a:pt x="521" y="616"/>
                          </a:lnTo>
                          <a:lnTo>
                            <a:pt x="469" y="595"/>
                          </a:lnTo>
                          <a:lnTo>
                            <a:pt x="507" y="654"/>
                          </a:lnTo>
                          <a:lnTo>
                            <a:pt x="474" y="642"/>
                          </a:lnTo>
                          <a:lnTo>
                            <a:pt x="524" y="733"/>
                          </a:lnTo>
                          <a:lnTo>
                            <a:pt x="656" y="900"/>
                          </a:lnTo>
                          <a:lnTo>
                            <a:pt x="914" y="1119"/>
                          </a:lnTo>
                          <a:lnTo>
                            <a:pt x="662" y="903"/>
                          </a:lnTo>
                          <a:lnTo>
                            <a:pt x="521" y="736"/>
                          </a:lnTo>
                          <a:lnTo>
                            <a:pt x="501" y="736"/>
                          </a:lnTo>
                          <a:lnTo>
                            <a:pt x="742" y="1234"/>
                          </a:lnTo>
                          <a:lnTo>
                            <a:pt x="489" y="736"/>
                          </a:lnTo>
                          <a:lnTo>
                            <a:pt x="521" y="803"/>
                          </a:lnTo>
                          <a:lnTo>
                            <a:pt x="489" y="780"/>
                          </a:lnTo>
                          <a:lnTo>
                            <a:pt x="539" y="882"/>
                          </a:lnTo>
                          <a:lnTo>
                            <a:pt x="707" y="1113"/>
                          </a:lnTo>
                          <a:lnTo>
                            <a:pt x="539" y="900"/>
                          </a:lnTo>
                          <a:lnTo>
                            <a:pt x="495" y="882"/>
                          </a:lnTo>
                          <a:lnTo>
                            <a:pt x="539" y="946"/>
                          </a:lnTo>
                          <a:lnTo>
                            <a:pt x="739" y="1400"/>
                          </a:lnTo>
                          <a:lnTo>
                            <a:pt x="583" y="1049"/>
                          </a:lnTo>
                          <a:lnTo>
                            <a:pt x="524" y="946"/>
                          </a:lnTo>
                          <a:lnTo>
                            <a:pt x="495" y="935"/>
                          </a:lnTo>
                          <a:lnTo>
                            <a:pt x="533" y="1008"/>
                          </a:lnTo>
                          <a:lnTo>
                            <a:pt x="501" y="996"/>
                          </a:lnTo>
                          <a:lnTo>
                            <a:pt x="551" y="1087"/>
                          </a:lnTo>
                          <a:lnTo>
                            <a:pt x="574" y="1163"/>
                          </a:lnTo>
                          <a:lnTo>
                            <a:pt x="829" y="1424"/>
                          </a:lnTo>
                          <a:lnTo>
                            <a:pt x="568" y="1169"/>
                          </a:lnTo>
                          <a:lnTo>
                            <a:pt x="539" y="1113"/>
                          </a:lnTo>
                          <a:lnTo>
                            <a:pt x="507" y="1099"/>
                          </a:lnTo>
                          <a:lnTo>
                            <a:pt x="568" y="1245"/>
                          </a:lnTo>
                          <a:lnTo>
                            <a:pt x="501" y="1099"/>
                          </a:lnTo>
                          <a:lnTo>
                            <a:pt x="539" y="1169"/>
                          </a:lnTo>
                          <a:lnTo>
                            <a:pt x="495" y="1151"/>
                          </a:lnTo>
                          <a:lnTo>
                            <a:pt x="524" y="1213"/>
                          </a:lnTo>
                          <a:lnTo>
                            <a:pt x="612" y="1427"/>
                          </a:lnTo>
                          <a:lnTo>
                            <a:pt x="698" y="1557"/>
                          </a:lnTo>
                          <a:lnTo>
                            <a:pt x="612" y="1427"/>
                          </a:lnTo>
                          <a:lnTo>
                            <a:pt x="521" y="1222"/>
                          </a:lnTo>
                          <a:lnTo>
                            <a:pt x="489" y="1213"/>
                          </a:lnTo>
                          <a:lnTo>
                            <a:pt x="501" y="1263"/>
                          </a:lnTo>
                          <a:lnTo>
                            <a:pt x="568" y="1400"/>
                          </a:lnTo>
                          <a:lnTo>
                            <a:pt x="495" y="1277"/>
                          </a:lnTo>
                          <a:lnTo>
                            <a:pt x="474" y="1234"/>
                          </a:lnTo>
                          <a:lnTo>
                            <a:pt x="507" y="1345"/>
                          </a:lnTo>
                          <a:lnTo>
                            <a:pt x="469" y="1324"/>
                          </a:lnTo>
                          <a:lnTo>
                            <a:pt x="483" y="1412"/>
                          </a:lnTo>
                          <a:lnTo>
                            <a:pt x="457" y="1374"/>
                          </a:lnTo>
                          <a:lnTo>
                            <a:pt x="439" y="1406"/>
                          </a:lnTo>
                          <a:lnTo>
                            <a:pt x="445" y="1501"/>
                          </a:lnTo>
                          <a:lnTo>
                            <a:pt x="606" y="1946"/>
                          </a:lnTo>
                          <a:lnTo>
                            <a:pt x="434" y="1501"/>
                          </a:lnTo>
                          <a:lnTo>
                            <a:pt x="434" y="1400"/>
                          </a:lnTo>
                          <a:lnTo>
                            <a:pt x="434" y="1342"/>
                          </a:lnTo>
                          <a:lnTo>
                            <a:pt x="398" y="1374"/>
                          </a:lnTo>
                          <a:lnTo>
                            <a:pt x="105" y="1668"/>
                          </a:lnTo>
                          <a:lnTo>
                            <a:pt x="407" y="1345"/>
                          </a:lnTo>
                          <a:lnTo>
                            <a:pt x="434" y="1263"/>
                          </a:lnTo>
                          <a:lnTo>
                            <a:pt x="401" y="1277"/>
                          </a:lnTo>
                          <a:lnTo>
                            <a:pt x="445" y="1178"/>
                          </a:lnTo>
                          <a:lnTo>
                            <a:pt x="407" y="1219"/>
                          </a:lnTo>
                          <a:lnTo>
                            <a:pt x="343" y="1362"/>
                          </a:lnTo>
                          <a:lnTo>
                            <a:pt x="401" y="1207"/>
                          </a:lnTo>
                          <a:lnTo>
                            <a:pt x="434" y="1146"/>
                          </a:lnTo>
                          <a:lnTo>
                            <a:pt x="428" y="1146"/>
                          </a:lnTo>
                          <a:lnTo>
                            <a:pt x="390" y="1178"/>
                          </a:lnTo>
                          <a:lnTo>
                            <a:pt x="316" y="1257"/>
                          </a:lnTo>
                          <a:lnTo>
                            <a:pt x="67" y="1316"/>
                          </a:lnTo>
                          <a:lnTo>
                            <a:pt x="322" y="1245"/>
                          </a:lnTo>
                          <a:lnTo>
                            <a:pt x="401" y="1151"/>
                          </a:lnTo>
                          <a:lnTo>
                            <a:pt x="428" y="1078"/>
                          </a:lnTo>
                          <a:lnTo>
                            <a:pt x="390" y="1078"/>
                          </a:lnTo>
                          <a:lnTo>
                            <a:pt x="428" y="1008"/>
                          </a:lnTo>
                          <a:lnTo>
                            <a:pt x="378" y="1023"/>
                          </a:lnTo>
                          <a:lnTo>
                            <a:pt x="204" y="1163"/>
                          </a:lnTo>
                          <a:lnTo>
                            <a:pt x="378" y="1020"/>
                          </a:lnTo>
                          <a:lnTo>
                            <a:pt x="416" y="935"/>
                          </a:lnTo>
                          <a:lnTo>
                            <a:pt x="372" y="958"/>
                          </a:lnTo>
                          <a:lnTo>
                            <a:pt x="401" y="891"/>
                          </a:lnTo>
                          <a:lnTo>
                            <a:pt x="360" y="935"/>
                          </a:lnTo>
                          <a:lnTo>
                            <a:pt x="390" y="835"/>
                          </a:lnTo>
                          <a:lnTo>
                            <a:pt x="355" y="885"/>
                          </a:lnTo>
                          <a:lnTo>
                            <a:pt x="198" y="1102"/>
                          </a:lnTo>
                          <a:lnTo>
                            <a:pt x="360" y="885"/>
                          </a:lnTo>
                          <a:lnTo>
                            <a:pt x="398" y="759"/>
                          </a:lnTo>
                          <a:lnTo>
                            <a:pt x="355" y="785"/>
                          </a:lnTo>
                          <a:lnTo>
                            <a:pt x="99" y="908"/>
                          </a:lnTo>
                          <a:lnTo>
                            <a:pt x="355" y="780"/>
                          </a:lnTo>
                          <a:lnTo>
                            <a:pt x="384" y="671"/>
                          </a:lnTo>
                          <a:lnTo>
                            <a:pt x="349" y="689"/>
                          </a:lnTo>
                          <a:lnTo>
                            <a:pt x="378" y="624"/>
                          </a:lnTo>
                          <a:lnTo>
                            <a:pt x="343" y="648"/>
                          </a:lnTo>
                          <a:lnTo>
                            <a:pt x="222" y="952"/>
                          </a:lnTo>
                          <a:lnTo>
                            <a:pt x="349" y="621"/>
                          </a:lnTo>
                          <a:lnTo>
                            <a:pt x="349" y="536"/>
                          </a:lnTo>
                          <a:lnTo>
                            <a:pt x="311" y="577"/>
                          </a:lnTo>
                          <a:lnTo>
                            <a:pt x="237" y="747"/>
                          </a:lnTo>
                          <a:lnTo>
                            <a:pt x="328" y="525"/>
                          </a:lnTo>
                          <a:lnTo>
                            <a:pt x="343" y="453"/>
                          </a:lnTo>
                          <a:lnTo>
                            <a:pt x="311" y="487"/>
                          </a:lnTo>
                          <a:lnTo>
                            <a:pt x="216" y="624"/>
                          </a:lnTo>
                          <a:lnTo>
                            <a:pt x="0" y="703"/>
                          </a:lnTo>
                          <a:lnTo>
                            <a:pt x="222" y="616"/>
                          </a:lnTo>
                          <a:lnTo>
                            <a:pt x="305" y="465"/>
                          </a:lnTo>
                          <a:lnTo>
                            <a:pt x="316" y="371"/>
                          </a:lnTo>
                          <a:lnTo>
                            <a:pt x="278" y="415"/>
                          </a:lnTo>
                          <a:lnTo>
                            <a:pt x="299" y="328"/>
                          </a:lnTo>
                          <a:lnTo>
                            <a:pt x="155" y="560"/>
                          </a:lnTo>
                          <a:lnTo>
                            <a:pt x="290" y="316"/>
                          </a:lnTo>
                          <a:lnTo>
                            <a:pt x="305" y="248"/>
                          </a:lnTo>
                          <a:lnTo>
                            <a:pt x="261" y="301"/>
                          </a:lnTo>
                          <a:lnTo>
                            <a:pt x="267" y="193"/>
                          </a:lnTo>
                          <a:lnTo>
                            <a:pt x="210" y="243"/>
                          </a:lnTo>
                          <a:lnTo>
                            <a:pt x="11" y="427"/>
                          </a:lnTo>
                          <a:lnTo>
                            <a:pt x="210" y="237"/>
                          </a:lnTo>
                          <a:lnTo>
                            <a:pt x="237" y="131"/>
                          </a:lnTo>
                          <a:lnTo>
                            <a:pt x="204" y="161"/>
                          </a:lnTo>
                          <a:lnTo>
                            <a:pt x="222" y="82"/>
                          </a:lnTo>
                          <a:lnTo>
                            <a:pt x="193" y="105"/>
                          </a:lnTo>
                          <a:lnTo>
                            <a:pt x="187" y="43"/>
                          </a:lnTo>
                          <a:lnTo>
                            <a:pt x="193" y="17"/>
                          </a:lnTo>
                          <a:lnTo>
                            <a:pt x="204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>
                      <a:off x="8688240" y="6018120"/>
                      <a:ext cx="282960" cy="441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86" h="1227">
                          <a:moveTo>
                            <a:pt x="0" y="1227"/>
                          </a:moveTo>
                          <a:lnTo>
                            <a:pt x="116" y="955"/>
                          </a:lnTo>
                          <a:lnTo>
                            <a:pt x="215" y="652"/>
                          </a:lnTo>
                          <a:lnTo>
                            <a:pt x="266" y="517"/>
                          </a:lnTo>
                          <a:lnTo>
                            <a:pt x="338" y="365"/>
                          </a:lnTo>
                          <a:lnTo>
                            <a:pt x="433" y="203"/>
                          </a:lnTo>
                          <a:lnTo>
                            <a:pt x="505" y="103"/>
                          </a:lnTo>
                          <a:lnTo>
                            <a:pt x="559" y="54"/>
                          </a:lnTo>
                          <a:lnTo>
                            <a:pt x="631" y="14"/>
                          </a:lnTo>
                          <a:lnTo>
                            <a:pt x="712" y="0"/>
                          </a:lnTo>
                          <a:lnTo>
                            <a:pt x="748" y="34"/>
                          </a:lnTo>
                          <a:lnTo>
                            <a:pt x="786" y="114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690040" y="5487840"/>
                      <a:ext cx="192600" cy="11037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35" h="3066">
                          <a:moveTo>
                            <a:pt x="2" y="3066"/>
                          </a:moveTo>
                          <a:lnTo>
                            <a:pt x="0" y="2781"/>
                          </a:lnTo>
                          <a:lnTo>
                            <a:pt x="0" y="2564"/>
                          </a:lnTo>
                          <a:lnTo>
                            <a:pt x="11" y="2414"/>
                          </a:lnTo>
                          <a:lnTo>
                            <a:pt x="17" y="2228"/>
                          </a:lnTo>
                          <a:lnTo>
                            <a:pt x="17" y="2037"/>
                          </a:lnTo>
                          <a:lnTo>
                            <a:pt x="20" y="1878"/>
                          </a:lnTo>
                          <a:lnTo>
                            <a:pt x="35" y="1731"/>
                          </a:lnTo>
                          <a:lnTo>
                            <a:pt x="53" y="1476"/>
                          </a:lnTo>
                          <a:lnTo>
                            <a:pt x="80" y="1196"/>
                          </a:lnTo>
                          <a:lnTo>
                            <a:pt x="112" y="914"/>
                          </a:lnTo>
                          <a:lnTo>
                            <a:pt x="140" y="611"/>
                          </a:lnTo>
                          <a:lnTo>
                            <a:pt x="164" y="431"/>
                          </a:lnTo>
                          <a:lnTo>
                            <a:pt x="181" y="361"/>
                          </a:lnTo>
                          <a:lnTo>
                            <a:pt x="232" y="238"/>
                          </a:lnTo>
                          <a:lnTo>
                            <a:pt x="276" y="149"/>
                          </a:lnTo>
                          <a:lnTo>
                            <a:pt x="330" y="79"/>
                          </a:lnTo>
                          <a:lnTo>
                            <a:pt x="383" y="17"/>
                          </a:lnTo>
                          <a:lnTo>
                            <a:pt x="422" y="0"/>
                          </a:lnTo>
                          <a:lnTo>
                            <a:pt x="473" y="0"/>
                          </a:lnTo>
                          <a:lnTo>
                            <a:pt x="517" y="23"/>
                          </a:lnTo>
                          <a:lnTo>
                            <a:pt x="535" y="52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" name=""/>
                  <p:cNvGrpSpPr/>
                  <p:nvPr/>
                </p:nvGrpSpPr>
                <p:grpSpPr>
                  <a:xfrm>
                    <a:off x="8383680" y="5826240"/>
                    <a:ext cx="422640" cy="770400"/>
                    <a:chOff x="8383680" y="5826240"/>
                    <a:chExt cx="422640" cy="770400"/>
                  </a:xfrm>
                </p:grpSpPr>
                <p:sp>
                  <p:nvSpPr>
                    <p:cNvPr id="32" name=""/>
                    <p:cNvSpPr/>
                    <p:nvPr/>
                  </p:nvSpPr>
                  <p:spPr>
                    <a:xfrm>
                      <a:off x="8413920" y="6213600"/>
                      <a:ext cx="65520" cy="271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82" h="755">
                          <a:moveTo>
                            <a:pt x="146" y="0"/>
                          </a:moveTo>
                          <a:lnTo>
                            <a:pt x="109" y="56"/>
                          </a:lnTo>
                          <a:lnTo>
                            <a:pt x="73" y="147"/>
                          </a:lnTo>
                          <a:lnTo>
                            <a:pt x="36" y="273"/>
                          </a:lnTo>
                          <a:lnTo>
                            <a:pt x="0" y="434"/>
                          </a:lnTo>
                          <a:lnTo>
                            <a:pt x="0" y="605"/>
                          </a:lnTo>
                          <a:lnTo>
                            <a:pt x="18" y="755"/>
                          </a:lnTo>
                          <a:lnTo>
                            <a:pt x="36" y="755"/>
                          </a:lnTo>
                          <a:lnTo>
                            <a:pt x="18" y="605"/>
                          </a:lnTo>
                          <a:lnTo>
                            <a:pt x="18" y="481"/>
                          </a:lnTo>
                          <a:lnTo>
                            <a:pt x="55" y="342"/>
                          </a:lnTo>
                          <a:lnTo>
                            <a:pt x="109" y="206"/>
                          </a:lnTo>
                          <a:lnTo>
                            <a:pt x="182" y="34"/>
                          </a:lnTo>
                          <a:lnTo>
                            <a:pt x="146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" name=""/>
                    <p:cNvSpPr/>
                    <p:nvPr/>
                  </p:nvSpPr>
                  <p:spPr>
                    <a:xfrm>
                      <a:off x="8694720" y="6067440"/>
                      <a:ext cx="111600" cy="270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10" h="751">
                          <a:moveTo>
                            <a:pt x="7" y="117"/>
                          </a:moveTo>
                          <a:lnTo>
                            <a:pt x="71" y="0"/>
                          </a:lnTo>
                          <a:lnTo>
                            <a:pt x="114" y="2"/>
                          </a:lnTo>
                          <a:lnTo>
                            <a:pt x="148" y="8"/>
                          </a:lnTo>
                          <a:lnTo>
                            <a:pt x="176" y="40"/>
                          </a:lnTo>
                          <a:lnTo>
                            <a:pt x="248" y="137"/>
                          </a:lnTo>
                          <a:lnTo>
                            <a:pt x="272" y="180"/>
                          </a:lnTo>
                          <a:lnTo>
                            <a:pt x="286" y="223"/>
                          </a:lnTo>
                          <a:lnTo>
                            <a:pt x="305" y="353"/>
                          </a:lnTo>
                          <a:lnTo>
                            <a:pt x="310" y="392"/>
                          </a:lnTo>
                          <a:lnTo>
                            <a:pt x="305" y="440"/>
                          </a:lnTo>
                          <a:lnTo>
                            <a:pt x="294" y="493"/>
                          </a:lnTo>
                          <a:lnTo>
                            <a:pt x="265" y="573"/>
                          </a:lnTo>
                          <a:lnTo>
                            <a:pt x="241" y="626"/>
                          </a:lnTo>
                          <a:lnTo>
                            <a:pt x="205" y="682"/>
                          </a:lnTo>
                          <a:lnTo>
                            <a:pt x="136" y="751"/>
                          </a:lnTo>
                          <a:lnTo>
                            <a:pt x="171" y="664"/>
                          </a:lnTo>
                          <a:lnTo>
                            <a:pt x="200" y="585"/>
                          </a:lnTo>
                          <a:lnTo>
                            <a:pt x="217" y="511"/>
                          </a:lnTo>
                          <a:lnTo>
                            <a:pt x="212" y="440"/>
                          </a:lnTo>
                          <a:lnTo>
                            <a:pt x="205" y="392"/>
                          </a:lnTo>
                          <a:lnTo>
                            <a:pt x="217" y="331"/>
                          </a:lnTo>
                          <a:lnTo>
                            <a:pt x="224" y="280"/>
                          </a:lnTo>
                          <a:lnTo>
                            <a:pt x="195" y="180"/>
                          </a:lnTo>
                          <a:lnTo>
                            <a:pt x="190" y="127"/>
                          </a:lnTo>
                          <a:lnTo>
                            <a:pt x="164" y="85"/>
                          </a:lnTo>
                          <a:lnTo>
                            <a:pt x="114" y="30"/>
                          </a:lnTo>
                          <a:lnTo>
                            <a:pt x="88" y="72"/>
                          </a:lnTo>
                          <a:lnTo>
                            <a:pt x="0" y="141"/>
                          </a:lnTo>
                          <a:lnTo>
                            <a:pt x="7" y="117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8383680" y="5826240"/>
                      <a:ext cx="216360" cy="4273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01" h="1187">
                          <a:moveTo>
                            <a:pt x="478" y="0"/>
                          </a:moveTo>
                          <a:lnTo>
                            <a:pt x="446" y="4"/>
                          </a:lnTo>
                          <a:lnTo>
                            <a:pt x="402" y="17"/>
                          </a:lnTo>
                          <a:lnTo>
                            <a:pt x="433" y="22"/>
                          </a:lnTo>
                          <a:lnTo>
                            <a:pt x="406" y="39"/>
                          </a:lnTo>
                          <a:lnTo>
                            <a:pt x="380" y="57"/>
                          </a:lnTo>
                          <a:lnTo>
                            <a:pt x="340" y="66"/>
                          </a:lnTo>
                          <a:lnTo>
                            <a:pt x="367" y="57"/>
                          </a:lnTo>
                          <a:lnTo>
                            <a:pt x="141" y="110"/>
                          </a:lnTo>
                          <a:lnTo>
                            <a:pt x="340" y="66"/>
                          </a:lnTo>
                          <a:lnTo>
                            <a:pt x="380" y="79"/>
                          </a:lnTo>
                          <a:lnTo>
                            <a:pt x="349" y="92"/>
                          </a:lnTo>
                          <a:lnTo>
                            <a:pt x="371" y="101"/>
                          </a:lnTo>
                          <a:lnTo>
                            <a:pt x="314" y="132"/>
                          </a:lnTo>
                          <a:lnTo>
                            <a:pt x="132" y="176"/>
                          </a:lnTo>
                          <a:lnTo>
                            <a:pt x="314" y="141"/>
                          </a:lnTo>
                          <a:lnTo>
                            <a:pt x="349" y="141"/>
                          </a:lnTo>
                          <a:lnTo>
                            <a:pt x="283" y="176"/>
                          </a:lnTo>
                          <a:lnTo>
                            <a:pt x="327" y="176"/>
                          </a:lnTo>
                          <a:lnTo>
                            <a:pt x="256" y="220"/>
                          </a:lnTo>
                          <a:lnTo>
                            <a:pt x="119" y="273"/>
                          </a:lnTo>
                          <a:lnTo>
                            <a:pt x="261" y="229"/>
                          </a:lnTo>
                          <a:lnTo>
                            <a:pt x="300" y="229"/>
                          </a:lnTo>
                          <a:lnTo>
                            <a:pt x="239" y="260"/>
                          </a:lnTo>
                          <a:lnTo>
                            <a:pt x="278" y="268"/>
                          </a:lnTo>
                          <a:lnTo>
                            <a:pt x="230" y="313"/>
                          </a:lnTo>
                          <a:lnTo>
                            <a:pt x="30" y="410"/>
                          </a:lnTo>
                          <a:lnTo>
                            <a:pt x="230" y="317"/>
                          </a:lnTo>
                          <a:lnTo>
                            <a:pt x="274" y="317"/>
                          </a:lnTo>
                          <a:lnTo>
                            <a:pt x="225" y="366"/>
                          </a:lnTo>
                          <a:lnTo>
                            <a:pt x="261" y="361"/>
                          </a:lnTo>
                          <a:lnTo>
                            <a:pt x="212" y="423"/>
                          </a:lnTo>
                          <a:lnTo>
                            <a:pt x="79" y="498"/>
                          </a:lnTo>
                          <a:lnTo>
                            <a:pt x="217" y="427"/>
                          </a:lnTo>
                          <a:lnTo>
                            <a:pt x="261" y="414"/>
                          </a:lnTo>
                          <a:lnTo>
                            <a:pt x="230" y="454"/>
                          </a:lnTo>
                          <a:lnTo>
                            <a:pt x="256" y="449"/>
                          </a:lnTo>
                          <a:lnTo>
                            <a:pt x="212" y="511"/>
                          </a:lnTo>
                          <a:lnTo>
                            <a:pt x="39" y="618"/>
                          </a:lnTo>
                          <a:lnTo>
                            <a:pt x="217" y="511"/>
                          </a:lnTo>
                          <a:lnTo>
                            <a:pt x="234" y="511"/>
                          </a:lnTo>
                          <a:lnTo>
                            <a:pt x="61" y="688"/>
                          </a:lnTo>
                          <a:lnTo>
                            <a:pt x="243" y="511"/>
                          </a:lnTo>
                          <a:lnTo>
                            <a:pt x="217" y="560"/>
                          </a:lnTo>
                          <a:lnTo>
                            <a:pt x="243" y="542"/>
                          </a:lnTo>
                          <a:lnTo>
                            <a:pt x="203" y="618"/>
                          </a:lnTo>
                          <a:lnTo>
                            <a:pt x="22" y="781"/>
                          </a:lnTo>
                          <a:lnTo>
                            <a:pt x="203" y="627"/>
                          </a:lnTo>
                          <a:lnTo>
                            <a:pt x="239" y="618"/>
                          </a:lnTo>
                          <a:lnTo>
                            <a:pt x="203" y="662"/>
                          </a:lnTo>
                          <a:lnTo>
                            <a:pt x="30" y="852"/>
                          </a:lnTo>
                          <a:lnTo>
                            <a:pt x="164" y="733"/>
                          </a:lnTo>
                          <a:lnTo>
                            <a:pt x="212" y="662"/>
                          </a:lnTo>
                          <a:lnTo>
                            <a:pt x="239" y="653"/>
                          </a:lnTo>
                          <a:lnTo>
                            <a:pt x="208" y="706"/>
                          </a:lnTo>
                          <a:lnTo>
                            <a:pt x="234" y="697"/>
                          </a:lnTo>
                          <a:lnTo>
                            <a:pt x="190" y="759"/>
                          </a:lnTo>
                          <a:lnTo>
                            <a:pt x="172" y="812"/>
                          </a:lnTo>
                          <a:lnTo>
                            <a:pt x="0" y="962"/>
                          </a:lnTo>
                          <a:lnTo>
                            <a:pt x="177" y="816"/>
                          </a:lnTo>
                          <a:lnTo>
                            <a:pt x="203" y="777"/>
                          </a:lnTo>
                          <a:lnTo>
                            <a:pt x="230" y="768"/>
                          </a:lnTo>
                          <a:lnTo>
                            <a:pt x="136" y="949"/>
                          </a:lnTo>
                          <a:lnTo>
                            <a:pt x="234" y="768"/>
                          </a:lnTo>
                          <a:lnTo>
                            <a:pt x="203" y="816"/>
                          </a:lnTo>
                          <a:lnTo>
                            <a:pt x="239" y="803"/>
                          </a:lnTo>
                          <a:lnTo>
                            <a:pt x="212" y="847"/>
                          </a:lnTo>
                          <a:lnTo>
                            <a:pt x="141" y="997"/>
                          </a:lnTo>
                          <a:lnTo>
                            <a:pt x="70" y="1085"/>
                          </a:lnTo>
                          <a:lnTo>
                            <a:pt x="141" y="997"/>
                          </a:lnTo>
                          <a:lnTo>
                            <a:pt x="217" y="852"/>
                          </a:lnTo>
                          <a:lnTo>
                            <a:pt x="243" y="847"/>
                          </a:lnTo>
                          <a:lnTo>
                            <a:pt x="234" y="882"/>
                          </a:lnTo>
                          <a:lnTo>
                            <a:pt x="177" y="979"/>
                          </a:lnTo>
                          <a:lnTo>
                            <a:pt x="239" y="891"/>
                          </a:lnTo>
                          <a:lnTo>
                            <a:pt x="256" y="860"/>
                          </a:lnTo>
                          <a:lnTo>
                            <a:pt x="230" y="940"/>
                          </a:lnTo>
                          <a:lnTo>
                            <a:pt x="261" y="927"/>
                          </a:lnTo>
                          <a:lnTo>
                            <a:pt x="247" y="988"/>
                          </a:lnTo>
                          <a:lnTo>
                            <a:pt x="269" y="962"/>
                          </a:lnTo>
                          <a:lnTo>
                            <a:pt x="283" y="984"/>
                          </a:lnTo>
                          <a:lnTo>
                            <a:pt x="278" y="1046"/>
                          </a:lnTo>
                          <a:lnTo>
                            <a:pt x="318" y="1187"/>
                          </a:lnTo>
                          <a:lnTo>
                            <a:pt x="287" y="1046"/>
                          </a:lnTo>
                          <a:lnTo>
                            <a:pt x="287" y="979"/>
                          </a:lnTo>
                          <a:lnTo>
                            <a:pt x="287" y="935"/>
                          </a:lnTo>
                          <a:lnTo>
                            <a:pt x="318" y="962"/>
                          </a:lnTo>
                          <a:lnTo>
                            <a:pt x="509" y="1125"/>
                          </a:lnTo>
                          <a:lnTo>
                            <a:pt x="309" y="940"/>
                          </a:lnTo>
                          <a:lnTo>
                            <a:pt x="287" y="882"/>
                          </a:lnTo>
                          <a:lnTo>
                            <a:pt x="314" y="891"/>
                          </a:lnTo>
                          <a:lnTo>
                            <a:pt x="278" y="821"/>
                          </a:lnTo>
                          <a:lnTo>
                            <a:pt x="309" y="852"/>
                          </a:lnTo>
                          <a:lnTo>
                            <a:pt x="367" y="953"/>
                          </a:lnTo>
                          <a:lnTo>
                            <a:pt x="314" y="843"/>
                          </a:lnTo>
                          <a:lnTo>
                            <a:pt x="287" y="799"/>
                          </a:lnTo>
                          <a:lnTo>
                            <a:pt x="296" y="799"/>
                          </a:lnTo>
                          <a:lnTo>
                            <a:pt x="327" y="821"/>
                          </a:lnTo>
                          <a:lnTo>
                            <a:pt x="384" y="878"/>
                          </a:lnTo>
                          <a:lnTo>
                            <a:pt x="473" y="944"/>
                          </a:lnTo>
                          <a:lnTo>
                            <a:pt x="380" y="869"/>
                          </a:lnTo>
                          <a:lnTo>
                            <a:pt x="314" y="803"/>
                          </a:lnTo>
                          <a:lnTo>
                            <a:pt x="296" y="755"/>
                          </a:lnTo>
                          <a:lnTo>
                            <a:pt x="327" y="755"/>
                          </a:lnTo>
                          <a:lnTo>
                            <a:pt x="296" y="706"/>
                          </a:lnTo>
                          <a:lnTo>
                            <a:pt x="336" y="715"/>
                          </a:lnTo>
                          <a:lnTo>
                            <a:pt x="478" y="812"/>
                          </a:lnTo>
                          <a:lnTo>
                            <a:pt x="336" y="710"/>
                          </a:lnTo>
                          <a:lnTo>
                            <a:pt x="305" y="653"/>
                          </a:lnTo>
                          <a:lnTo>
                            <a:pt x="340" y="671"/>
                          </a:lnTo>
                          <a:lnTo>
                            <a:pt x="314" y="622"/>
                          </a:lnTo>
                          <a:lnTo>
                            <a:pt x="349" y="653"/>
                          </a:lnTo>
                          <a:lnTo>
                            <a:pt x="327" y="582"/>
                          </a:lnTo>
                          <a:lnTo>
                            <a:pt x="353" y="618"/>
                          </a:lnTo>
                          <a:lnTo>
                            <a:pt x="487" y="768"/>
                          </a:lnTo>
                          <a:lnTo>
                            <a:pt x="349" y="618"/>
                          </a:lnTo>
                          <a:lnTo>
                            <a:pt x="318" y="529"/>
                          </a:lnTo>
                          <a:lnTo>
                            <a:pt x="353" y="546"/>
                          </a:lnTo>
                          <a:lnTo>
                            <a:pt x="566" y="636"/>
                          </a:lnTo>
                          <a:lnTo>
                            <a:pt x="353" y="542"/>
                          </a:lnTo>
                          <a:lnTo>
                            <a:pt x="331" y="467"/>
                          </a:lnTo>
                          <a:lnTo>
                            <a:pt x="358" y="480"/>
                          </a:lnTo>
                          <a:lnTo>
                            <a:pt x="336" y="436"/>
                          </a:lnTo>
                          <a:lnTo>
                            <a:pt x="367" y="454"/>
                          </a:lnTo>
                          <a:lnTo>
                            <a:pt x="465" y="666"/>
                          </a:lnTo>
                          <a:lnTo>
                            <a:pt x="358" y="432"/>
                          </a:lnTo>
                          <a:lnTo>
                            <a:pt x="358" y="374"/>
                          </a:lnTo>
                          <a:lnTo>
                            <a:pt x="393" y="401"/>
                          </a:lnTo>
                          <a:lnTo>
                            <a:pt x="450" y="520"/>
                          </a:lnTo>
                          <a:lnTo>
                            <a:pt x="375" y="366"/>
                          </a:lnTo>
                          <a:lnTo>
                            <a:pt x="367" y="317"/>
                          </a:lnTo>
                          <a:lnTo>
                            <a:pt x="393" y="339"/>
                          </a:lnTo>
                          <a:lnTo>
                            <a:pt x="553" y="551"/>
                          </a:lnTo>
                          <a:lnTo>
                            <a:pt x="465" y="427"/>
                          </a:lnTo>
                          <a:lnTo>
                            <a:pt x="397" y="326"/>
                          </a:lnTo>
                          <a:lnTo>
                            <a:pt x="384" y="260"/>
                          </a:lnTo>
                          <a:lnTo>
                            <a:pt x="419" y="291"/>
                          </a:lnTo>
                          <a:lnTo>
                            <a:pt x="402" y="229"/>
                          </a:lnTo>
                          <a:lnTo>
                            <a:pt x="522" y="392"/>
                          </a:lnTo>
                          <a:lnTo>
                            <a:pt x="406" y="220"/>
                          </a:lnTo>
                          <a:lnTo>
                            <a:pt x="397" y="171"/>
                          </a:lnTo>
                          <a:lnTo>
                            <a:pt x="433" y="211"/>
                          </a:lnTo>
                          <a:lnTo>
                            <a:pt x="428" y="136"/>
                          </a:lnTo>
                          <a:lnTo>
                            <a:pt x="473" y="171"/>
                          </a:lnTo>
                          <a:lnTo>
                            <a:pt x="601" y="313"/>
                          </a:lnTo>
                          <a:lnTo>
                            <a:pt x="473" y="167"/>
                          </a:lnTo>
                          <a:lnTo>
                            <a:pt x="450" y="92"/>
                          </a:lnTo>
                          <a:lnTo>
                            <a:pt x="478" y="114"/>
                          </a:lnTo>
                          <a:lnTo>
                            <a:pt x="465" y="57"/>
                          </a:lnTo>
                          <a:lnTo>
                            <a:pt x="491" y="74"/>
                          </a:lnTo>
                          <a:lnTo>
                            <a:pt x="495" y="30"/>
                          </a:lnTo>
                          <a:lnTo>
                            <a:pt x="491" y="13"/>
                          </a:lnTo>
                          <a:lnTo>
                            <a:pt x="478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8477280" y="6195960"/>
                      <a:ext cx="233640" cy="308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49" h="856">
                          <a:moveTo>
                            <a:pt x="649" y="856"/>
                          </a:moveTo>
                          <a:lnTo>
                            <a:pt x="553" y="666"/>
                          </a:lnTo>
                          <a:lnTo>
                            <a:pt x="471" y="455"/>
                          </a:lnTo>
                          <a:lnTo>
                            <a:pt x="429" y="360"/>
                          </a:lnTo>
                          <a:lnTo>
                            <a:pt x="370" y="254"/>
                          </a:lnTo>
                          <a:lnTo>
                            <a:pt x="290" y="142"/>
                          </a:lnTo>
                          <a:lnTo>
                            <a:pt x="231" y="72"/>
                          </a:lnTo>
                          <a:lnTo>
                            <a:pt x="187" y="38"/>
                          </a:lnTo>
                          <a:lnTo>
                            <a:pt x="128" y="10"/>
                          </a:lnTo>
                          <a:lnTo>
                            <a:pt x="61" y="0"/>
                          </a:lnTo>
                          <a:lnTo>
                            <a:pt x="32" y="24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8550360" y="5826240"/>
                      <a:ext cx="159120" cy="7704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442" h="2140">
                          <a:moveTo>
                            <a:pt x="440" y="2140"/>
                          </a:moveTo>
                          <a:lnTo>
                            <a:pt x="442" y="1941"/>
                          </a:lnTo>
                          <a:lnTo>
                            <a:pt x="442" y="1790"/>
                          </a:lnTo>
                          <a:lnTo>
                            <a:pt x="433" y="1685"/>
                          </a:lnTo>
                          <a:lnTo>
                            <a:pt x="428" y="1555"/>
                          </a:lnTo>
                          <a:lnTo>
                            <a:pt x="428" y="1422"/>
                          </a:lnTo>
                          <a:lnTo>
                            <a:pt x="425" y="1311"/>
                          </a:lnTo>
                          <a:lnTo>
                            <a:pt x="413" y="1208"/>
                          </a:lnTo>
                          <a:lnTo>
                            <a:pt x="398" y="1030"/>
                          </a:lnTo>
                          <a:lnTo>
                            <a:pt x="376" y="835"/>
                          </a:lnTo>
                          <a:lnTo>
                            <a:pt x="349" y="638"/>
                          </a:lnTo>
                          <a:lnTo>
                            <a:pt x="326" y="426"/>
                          </a:lnTo>
                          <a:lnTo>
                            <a:pt x="307" y="301"/>
                          </a:lnTo>
                          <a:lnTo>
                            <a:pt x="292" y="252"/>
                          </a:lnTo>
                          <a:lnTo>
                            <a:pt x="250" y="166"/>
                          </a:lnTo>
                          <a:lnTo>
                            <a:pt x="214" y="104"/>
                          </a:lnTo>
                          <a:lnTo>
                            <a:pt x="170" y="55"/>
                          </a:lnTo>
                          <a:lnTo>
                            <a:pt x="125" y="12"/>
                          </a:lnTo>
                          <a:lnTo>
                            <a:pt x="93" y="0"/>
                          </a:lnTo>
                          <a:lnTo>
                            <a:pt x="51" y="0"/>
                          </a:lnTo>
                          <a:lnTo>
                            <a:pt x="14" y="16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8694720" y="6307200"/>
                  <a:ext cx="312840" cy="290880"/>
                  <a:chOff x="8694720" y="6307200"/>
                  <a:chExt cx="312840" cy="2908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8935920" y="6318360"/>
                    <a:ext cx="71640" cy="27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777">
                        <a:moveTo>
                          <a:pt x="40" y="0"/>
                        </a:moveTo>
                        <a:lnTo>
                          <a:pt x="54" y="15"/>
                        </a:lnTo>
                        <a:lnTo>
                          <a:pt x="119" y="153"/>
                        </a:lnTo>
                        <a:lnTo>
                          <a:pt x="159" y="282"/>
                        </a:lnTo>
                        <a:lnTo>
                          <a:pt x="199" y="447"/>
                        </a:lnTo>
                        <a:lnTo>
                          <a:pt x="199" y="622"/>
                        </a:lnTo>
                        <a:lnTo>
                          <a:pt x="179" y="777"/>
                        </a:lnTo>
                        <a:lnTo>
                          <a:pt x="159" y="777"/>
                        </a:lnTo>
                        <a:lnTo>
                          <a:pt x="179" y="622"/>
                        </a:lnTo>
                        <a:lnTo>
                          <a:pt x="179" y="494"/>
                        </a:lnTo>
                        <a:lnTo>
                          <a:pt x="139" y="351"/>
                        </a:lnTo>
                        <a:lnTo>
                          <a:pt x="80" y="212"/>
                        </a:lnTo>
                        <a:lnTo>
                          <a:pt x="0" y="35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8694720" y="6307200"/>
                    <a:ext cx="249480" cy="289440"/>
                  </a:xfrm>
                  <a:custGeom>
                    <a:avLst/>
                    <a:gdLst/>
                    <a:ahLst/>
                    <a:rect l="0" t="0" r="r" b="b"/>
                    <a:pathLst>
                      <a:path w="693" h="804">
                        <a:moveTo>
                          <a:pt x="0" y="804"/>
                        </a:moveTo>
                        <a:lnTo>
                          <a:pt x="101" y="727"/>
                        </a:lnTo>
                        <a:lnTo>
                          <a:pt x="142" y="680"/>
                        </a:lnTo>
                        <a:lnTo>
                          <a:pt x="169" y="642"/>
                        </a:lnTo>
                        <a:lnTo>
                          <a:pt x="322" y="270"/>
                        </a:lnTo>
                        <a:lnTo>
                          <a:pt x="406" y="151"/>
                        </a:lnTo>
                        <a:lnTo>
                          <a:pt x="470" y="76"/>
                        </a:lnTo>
                        <a:lnTo>
                          <a:pt x="517" y="40"/>
                        </a:lnTo>
                        <a:lnTo>
                          <a:pt x="574" y="11"/>
                        </a:lnTo>
                        <a:lnTo>
                          <a:pt x="629" y="0"/>
                        </a:lnTo>
                        <a:lnTo>
                          <a:pt x="672" y="6"/>
                        </a:lnTo>
                        <a:lnTo>
                          <a:pt x="693" y="54"/>
                        </a:lnTo>
                        <a:lnTo>
                          <a:pt x="0" y="804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" name=""/>
                <p:cNvGrpSpPr/>
                <p:nvPr/>
              </p:nvGrpSpPr>
              <p:grpSpPr>
                <a:xfrm>
                  <a:off x="6670800" y="5551560"/>
                  <a:ext cx="1126080" cy="1122480"/>
                  <a:chOff x="6670800" y="5551560"/>
                  <a:chExt cx="1126080" cy="1122480"/>
                </a:xfrm>
              </p:grpSpPr>
              <p:grpSp>
                <p:nvGrpSpPr>
                  <p:cNvPr id="41" name=""/>
                  <p:cNvGrpSpPr/>
                  <p:nvPr/>
                </p:nvGrpSpPr>
                <p:grpSpPr>
                  <a:xfrm>
                    <a:off x="6942240" y="5665680"/>
                    <a:ext cx="622440" cy="1008360"/>
                    <a:chOff x="6942240" y="5665680"/>
                    <a:chExt cx="622440" cy="100836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6942240" y="5665680"/>
                      <a:ext cx="582840" cy="1008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619" h="2801">
                          <a:moveTo>
                            <a:pt x="1619" y="2801"/>
                          </a:moveTo>
                          <a:lnTo>
                            <a:pt x="1564" y="2477"/>
                          </a:lnTo>
                          <a:lnTo>
                            <a:pt x="1487" y="2117"/>
                          </a:lnTo>
                          <a:lnTo>
                            <a:pt x="1427" y="1839"/>
                          </a:lnTo>
                          <a:lnTo>
                            <a:pt x="1356" y="1594"/>
                          </a:lnTo>
                          <a:lnTo>
                            <a:pt x="1266" y="1375"/>
                          </a:lnTo>
                          <a:lnTo>
                            <a:pt x="1177" y="1144"/>
                          </a:lnTo>
                          <a:lnTo>
                            <a:pt x="1053" y="945"/>
                          </a:lnTo>
                          <a:lnTo>
                            <a:pt x="792" y="547"/>
                          </a:lnTo>
                          <a:lnTo>
                            <a:pt x="718" y="430"/>
                          </a:lnTo>
                          <a:lnTo>
                            <a:pt x="665" y="373"/>
                          </a:lnTo>
                          <a:lnTo>
                            <a:pt x="539" y="226"/>
                          </a:lnTo>
                          <a:lnTo>
                            <a:pt x="468" y="155"/>
                          </a:lnTo>
                          <a:lnTo>
                            <a:pt x="384" y="98"/>
                          </a:lnTo>
                          <a:lnTo>
                            <a:pt x="252" y="35"/>
                          </a:lnTo>
                          <a:lnTo>
                            <a:pt x="163" y="5"/>
                          </a:lnTo>
                          <a:lnTo>
                            <a:pt x="99" y="0"/>
                          </a:lnTo>
                          <a:lnTo>
                            <a:pt x="39" y="16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7323120" y="5776920"/>
                      <a:ext cx="241560" cy="83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71" h="2307">
                          <a:moveTo>
                            <a:pt x="671" y="2307"/>
                          </a:moveTo>
                          <a:lnTo>
                            <a:pt x="308" y="88"/>
                          </a:lnTo>
                          <a:lnTo>
                            <a:pt x="282" y="57"/>
                          </a:lnTo>
                          <a:lnTo>
                            <a:pt x="242" y="17"/>
                          </a:lnTo>
                          <a:lnTo>
                            <a:pt x="207" y="8"/>
                          </a:lnTo>
                          <a:lnTo>
                            <a:pt x="145" y="0"/>
                          </a:lnTo>
                          <a:lnTo>
                            <a:pt x="105" y="8"/>
                          </a:lnTo>
                          <a:lnTo>
                            <a:pt x="66" y="35"/>
                          </a:lnTo>
                          <a:lnTo>
                            <a:pt x="26" y="74"/>
                          </a:lnTo>
                          <a:lnTo>
                            <a:pt x="0" y="145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6670800" y="5551560"/>
                    <a:ext cx="1126080" cy="1032120"/>
                    <a:chOff x="6670800" y="5551560"/>
                    <a:chExt cx="1126080" cy="103212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7270920" y="5810400"/>
                      <a:ext cx="65520" cy="476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82" h="1324">
                          <a:moveTo>
                            <a:pt x="149" y="0"/>
                          </a:moveTo>
                          <a:lnTo>
                            <a:pt x="182" y="48"/>
                          </a:lnTo>
                          <a:lnTo>
                            <a:pt x="128" y="551"/>
                          </a:lnTo>
                          <a:lnTo>
                            <a:pt x="135" y="698"/>
                          </a:lnTo>
                          <a:lnTo>
                            <a:pt x="158" y="1324"/>
                          </a:lnTo>
                          <a:lnTo>
                            <a:pt x="51" y="824"/>
                          </a:lnTo>
                          <a:lnTo>
                            <a:pt x="26" y="679"/>
                          </a:lnTo>
                          <a:lnTo>
                            <a:pt x="7" y="564"/>
                          </a:lnTo>
                          <a:lnTo>
                            <a:pt x="0" y="451"/>
                          </a:lnTo>
                          <a:lnTo>
                            <a:pt x="21" y="336"/>
                          </a:lnTo>
                          <a:lnTo>
                            <a:pt x="46" y="190"/>
                          </a:lnTo>
                          <a:lnTo>
                            <a:pt x="149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6670800" y="5662440"/>
                      <a:ext cx="332280" cy="6717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23" h="1866">
                          <a:moveTo>
                            <a:pt x="756" y="0"/>
                          </a:moveTo>
                          <a:lnTo>
                            <a:pt x="698" y="57"/>
                          </a:lnTo>
                          <a:lnTo>
                            <a:pt x="618" y="74"/>
                          </a:lnTo>
                          <a:lnTo>
                            <a:pt x="574" y="88"/>
                          </a:lnTo>
                          <a:lnTo>
                            <a:pt x="530" y="136"/>
                          </a:lnTo>
                          <a:lnTo>
                            <a:pt x="574" y="141"/>
                          </a:lnTo>
                          <a:lnTo>
                            <a:pt x="512" y="171"/>
                          </a:lnTo>
                          <a:lnTo>
                            <a:pt x="419" y="189"/>
                          </a:lnTo>
                          <a:lnTo>
                            <a:pt x="207" y="189"/>
                          </a:lnTo>
                          <a:lnTo>
                            <a:pt x="424" y="202"/>
                          </a:lnTo>
                          <a:lnTo>
                            <a:pt x="512" y="176"/>
                          </a:lnTo>
                          <a:lnTo>
                            <a:pt x="547" y="189"/>
                          </a:lnTo>
                          <a:lnTo>
                            <a:pt x="455" y="251"/>
                          </a:lnTo>
                          <a:lnTo>
                            <a:pt x="521" y="268"/>
                          </a:lnTo>
                          <a:lnTo>
                            <a:pt x="446" y="326"/>
                          </a:lnTo>
                          <a:lnTo>
                            <a:pt x="393" y="383"/>
                          </a:lnTo>
                          <a:lnTo>
                            <a:pt x="61" y="405"/>
                          </a:lnTo>
                          <a:lnTo>
                            <a:pt x="393" y="396"/>
                          </a:lnTo>
                          <a:lnTo>
                            <a:pt x="446" y="343"/>
                          </a:lnTo>
                          <a:lnTo>
                            <a:pt x="503" y="357"/>
                          </a:lnTo>
                          <a:lnTo>
                            <a:pt x="441" y="405"/>
                          </a:lnTo>
                          <a:lnTo>
                            <a:pt x="269" y="511"/>
                          </a:lnTo>
                          <a:lnTo>
                            <a:pt x="88" y="542"/>
                          </a:lnTo>
                          <a:lnTo>
                            <a:pt x="269" y="515"/>
                          </a:lnTo>
                          <a:lnTo>
                            <a:pt x="441" y="427"/>
                          </a:lnTo>
                          <a:lnTo>
                            <a:pt x="472" y="454"/>
                          </a:lnTo>
                          <a:lnTo>
                            <a:pt x="402" y="515"/>
                          </a:lnTo>
                          <a:lnTo>
                            <a:pt x="362" y="560"/>
                          </a:lnTo>
                          <a:lnTo>
                            <a:pt x="132" y="643"/>
                          </a:lnTo>
                          <a:lnTo>
                            <a:pt x="362" y="564"/>
                          </a:lnTo>
                          <a:lnTo>
                            <a:pt x="402" y="529"/>
                          </a:lnTo>
                          <a:lnTo>
                            <a:pt x="459" y="537"/>
                          </a:lnTo>
                          <a:lnTo>
                            <a:pt x="393" y="599"/>
                          </a:lnTo>
                          <a:lnTo>
                            <a:pt x="446" y="604"/>
                          </a:lnTo>
                          <a:lnTo>
                            <a:pt x="344" y="674"/>
                          </a:lnTo>
                          <a:lnTo>
                            <a:pt x="70" y="793"/>
                          </a:lnTo>
                          <a:lnTo>
                            <a:pt x="344" y="687"/>
                          </a:lnTo>
                          <a:lnTo>
                            <a:pt x="437" y="679"/>
                          </a:lnTo>
                          <a:lnTo>
                            <a:pt x="371" y="745"/>
                          </a:lnTo>
                          <a:lnTo>
                            <a:pt x="419" y="736"/>
                          </a:lnTo>
                          <a:lnTo>
                            <a:pt x="344" y="815"/>
                          </a:lnTo>
                          <a:lnTo>
                            <a:pt x="397" y="806"/>
                          </a:lnTo>
                          <a:lnTo>
                            <a:pt x="340" y="881"/>
                          </a:lnTo>
                          <a:lnTo>
                            <a:pt x="243" y="949"/>
                          </a:lnTo>
                          <a:lnTo>
                            <a:pt x="154" y="988"/>
                          </a:lnTo>
                          <a:lnTo>
                            <a:pt x="22" y="1002"/>
                          </a:lnTo>
                          <a:lnTo>
                            <a:pt x="149" y="1002"/>
                          </a:lnTo>
                          <a:lnTo>
                            <a:pt x="243" y="957"/>
                          </a:lnTo>
                          <a:lnTo>
                            <a:pt x="340" y="903"/>
                          </a:lnTo>
                          <a:lnTo>
                            <a:pt x="397" y="912"/>
                          </a:lnTo>
                          <a:lnTo>
                            <a:pt x="318" y="1002"/>
                          </a:lnTo>
                          <a:lnTo>
                            <a:pt x="380" y="1002"/>
                          </a:lnTo>
                          <a:lnTo>
                            <a:pt x="300" y="1068"/>
                          </a:lnTo>
                          <a:lnTo>
                            <a:pt x="0" y="1350"/>
                          </a:lnTo>
                          <a:lnTo>
                            <a:pt x="309" y="1076"/>
                          </a:lnTo>
                          <a:lnTo>
                            <a:pt x="358" y="1085"/>
                          </a:lnTo>
                          <a:lnTo>
                            <a:pt x="274" y="1156"/>
                          </a:lnTo>
                          <a:lnTo>
                            <a:pt x="327" y="1173"/>
                          </a:lnTo>
                          <a:lnTo>
                            <a:pt x="256" y="1240"/>
                          </a:lnTo>
                          <a:lnTo>
                            <a:pt x="314" y="1226"/>
                          </a:lnTo>
                          <a:lnTo>
                            <a:pt x="132" y="1451"/>
                          </a:lnTo>
                          <a:lnTo>
                            <a:pt x="318" y="1240"/>
                          </a:lnTo>
                          <a:lnTo>
                            <a:pt x="243" y="1306"/>
                          </a:lnTo>
                          <a:lnTo>
                            <a:pt x="296" y="1306"/>
                          </a:lnTo>
                          <a:lnTo>
                            <a:pt x="243" y="1381"/>
                          </a:lnTo>
                          <a:lnTo>
                            <a:pt x="287" y="1363"/>
                          </a:lnTo>
                          <a:lnTo>
                            <a:pt x="229" y="1451"/>
                          </a:lnTo>
                          <a:lnTo>
                            <a:pt x="287" y="1390"/>
                          </a:lnTo>
                          <a:lnTo>
                            <a:pt x="252" y="1495"/>
                          </a:lnTo>
                          <a:lnTo>
                            <a:pt x="207" y="1760"/>
                          </a:lnTo>
                          <a:lnTo>
                            <a:pt x="229" y="1866"/>
                          </a:lnTo>
                          <a:lnTo>
                            <a:pt x="211" y="1760"/>
                          </a:lnTo>
                          <a:lnTo>
                            <a:pt x="256" y="1500"/>
                          </a:lnTo>
                          <a:lnTo>
                            <a:pt x="300" y="1469"/>
                          </a:lnTo>
                          <a:lnTo>
                            <a:pt x="314" y="1544"/>
                          </a:lnTo>
                          <a:lnTo>
                            <a:pt x="344" y="1451"/>
                          </a:lnTo>
                          <a:lnTo>
                            <a:pt x="384" y="1482"/>
                          </a:lnTo>
                          <a:lnTo>
                            <a:pt x="512" y="1861"/>
                          </a:lnTo>
                          <a:lnTo>
                            <a:pt x="393" y="1451"/>
                          </a:lnTo>
                          <a:lnTo>
                            <a:pt x="393" y="1363"/>
                          </a:lnTo>
                          <a:lnTo>
                            <a:pt x="441" y="1416"/>
                          </a:lnTo>
                          <a:lnTo>
                            <a:pt x="441" y="1694"/>
                          </a:lnTo>
                          <a:lnTo>
                            <a:pt x="441" y="1394"/>
                          </a:lnTo>
                          <a:lnTo>
                            <a:pt x="415" y="1266"/>
                          </a:lnTo>
                          <a:lnTo>
                            <a:pt x="464" y="1332"/>
                          </a:lnTo>
                          <a:lnTo>
                            <a:pt x="666" y="1637"/>
                          </a:lnTo>
                          <a:lnTo>
                            <a:pt x="464" y="1315"/>
                          </a:lnTo>
                          <a:lnTo>
                            <a:pt x="455" y="1182"/>
                          </a:lnTo>
                          <a:lnTo>
                            <a:pt x="499" y="1248"/>
                          </a:lnTo>
                          <a:lnTo>
                            <a:pt x="472" y="1099"/>
                          </a:lnTo>
                          <a:lnTo>
                            <a:pt x="512" y="1156"/>
                          </a:lnTo>
                          <a:lnTo>
                            <a:pt x="552" y="1293"/>
                          </a:lnTo>
                          <a:lnTo>
                            <a:pt x="769" y="1513"/>
                          </a:lnTo>
                          <a:lnTo>
                            <a:pt x="561" y="1288"/>
                          </a:lnTo>
                          <a:lnTo>
                            <a:pt x="512" y="1156"/>
                          </a:lnTo>
                          <a:lnTo>
                            <a:pt x="503" y="988"/>
                          </a:lnTo>
                          <a:lnTo>
                            <a:pt x="534" y="1037"/>
                          </a:lnTo>
                          <a:lnTo>
                            <a:pt x="525" y="926"/>
                          </a:lnTo>
                          <a:lnTo>
                            <a:pt x="561" y="957"/>
                          </a:lnTo>
                          <a:lnTo>
                            <a:pt x="760" y="1257"/>
                          </a:lnTo>
                          <a:lnTo>
                            <a:pt x="574" y="940"/>
                          </a:lnTo>
                          <a:lnTo>
                            <a:pt x="561" y="806"/>
                          </a:lnTo>
                          <a:lnTo>
                            <a:pt x="600" y="842"/>
                          </a:lnTo>
                          <a:lnTo>
                            <a:pt x="791" y="1085"/>
                          </a:lnTo>
                          <a:lnTo>
                            <a:pt x="613" y="824"/>
                          </a:lnTo>
                          <a:lnTo>
                            <a:pt x="569" y="718"/>
                          </a:lnTo>
                          <a:lnTo>
                            <a:pt x="569" y="683"/>
                          </a:lnTo>
                          <a:lnTo>
                            <a:pt x="605" y="754"/>
                          </a:lnTo>
                          <a:lnTo>
                            <a:pt x="587" y="612"/>
                          </a:lnTo>
                          <a:lnTo>
                            <a:pt x="596" y="573"/>
                          </a:lnTo>
                          <a:lnTo>
                            <a:pt x="618" y="652"/>
                          </a:lnTo>
                          <a:lnTo>
                            <a:pt x="618" y="515"/>
                          </a:lnTo>
                          <a:lnTo>
                            <a:pt x="658" y="542"/>
                          </a:lnTo>
                          <a:lnTo>
                            <a:pt x="729" y="749"/>
                          </a:lnTo>
                          <a:lnTo>
                            <a:pt x="861" y="921"/>
                          </a:lnTo>
                          <a:lnTo>
                            <a:pt x="734" y="736"/>
                          </a:lnTo>
                          <a:lnTo>
                            <a:pt x="662" y="533"/>
                          </a:lnTo>
                          <a:lnTo>
                            <a:pt x="644" y="405"/>
                          </a:lnTo>
                          <a:lnTo>
                            <a:pt x="688" y="454"/>
                          </a:lnTo>
                          <a:lnTo>
                            <a:pt x="671" y="330"/>
                          </a:lnTo>
                          <a:lnTo>
                            <a:pt x="711" y="405"/>
                          </a:lnTo>
                          <a:lnTo>
                            <a:pt x="742" y="502"/>
                          </a:lnTo>
                          <a:lnTo>
                            <a:pt x="919" y="705"/>
                          </a:lnTo>
                          <a:lnTo>
                            <a:pt x="756" y="502"/>
                          </a:lnTo>
                          <a:lnTo>
                            <a:pt x="716" y="405"/>
                          </a:lnTo>
                          <a:lnTo>
                            <a:pt x="720" y="238"/>
                          </a:lnTo>
                          <a:lnTo>
                            <a:pt x="742" y="282"/>
                          </a:lnTo>
                          <a:lnTo>
                            <a:pt x="786" y="405"/>
                          </a:lnTo>
                          <a:lnTo>
                            <a:pt x="923" y="511"/>
                          </a:lnTo>
                          <a:lnTo>
                            <a:pt x="786" y="392"/>
                          </a:lnTo>
                          <a:lnTo>
                            <a:pt x="751" y="268"/>
                          </a:lnTo>
                          <a:lnTo>
                            <a:pt x="738" y="154"/>
                          </a:lnTo>
                          <a:lnTo>
                            <a:pt x="795" y="216"/>
                          </a:lnTo>
                          <a:lnTo>
                            <a:pt x="778" y="145"/>
                          </a:lnTo>
                          <a:lnTo>
                            <a:pt x="764" y="105"/>
                          </a:lnTo>
                          <a:lnTo>
                            <a:pt x="751" y="70"/>
                          </a:lnTo>
                          <a:lnTo>
                            <a:pt x="720" y="57"/>
                          </a:lnTo>
                          <a:lnTo>
                            <a:pt x="756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7024680" y="5773680"/>
                      <a:ext cx="189360" cy="4654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1293">
                          <a:moveTo>
                            <a:pt x="517" y="136"/>
                          </a:moveTo>
                          <a:lnTo>
                            <a:pt x="331" y="0"/>
                          </a:lnTo>
                          <a:lnTo>
                            <a:pt x="274" y="4"/>
                          </a:lnTo>
                          <a:lnTo>
                            <a:pt x="225" y="17"/>
                          </a:lnTo>
                          <a:lnTo>
                            <a:pt x="186" y="70"/>
                          </a:lnTo>
                          <a:lnTo>
                            <a:pt x="88" y="242"/>
                          </a:lnTo>
                          <a:lnTo>
                            <a:pt x="57" y="313"/>
                          </a:lnTo>
                          <a:lnTo>
                            <a:pt x="30" y="383"/>
                          </a:lnTo>
                          <a:lnTo>
                            <a:pt x="8" y="608"/>
                          </a:lnTo>
                          <a:lnTo>
                            <a:pt x="0" y="675"/>
                          </a:lnTo>
                          <a:lnTo>
                            <a:pt x="8" y="759"/>
                          </a:lnTo>
                          <a:lnTo>
                            <a:pt x="22" y="847"/>
                          </a:lnTo>
                          <a:lnTo>
                            <a:pt x="61" y="988"/>
                          </a:lnTo>
                          <a:lnTo>
                            <a:pt x="97" y="1076"/>
                          </a:lnTo>
                          <a:lnTo>
                            <a:pt x="146" y="1173"/>
                          </a:lnTo>
                          <a:lnTo>
                            <a:pt x="243" y="1293"/>
                          </a:lnTo>
                          <a:lnTo>
                            <a:pt x="195" y="1143"/>
                          </a:lnTo>
                          <a:lnTo>
                            <a:pt x="155" y="1002"/>
                          </a:lnTo>
                          <a:lnTo>
                            <a:pt x="127" y="878"/>
                          </a:lnTo>
                          <a:lnTo>
                            <a:pt x="137" y="759"/>
                          </a:lnTo>
                          <a:lnTo>
                            <a:pt x="146" y="675"/>
                          </a:lnTo>
                          <a:lnTo>
                            <a:pt x="127" y="573"/>
                          </a:lnTo>
                          <a:lnTo>
                            <a:pt x="119" y="485"/>
                          </a:lnTo>
                          <a:lnTo>
                            <a:pt x="159" y="313"/>
                          </a:lnTo>
                          <a:lnTo>
                            <a:pt x="168" y="224"/>
                          </a:lnTo>
                          <a:lnTo>
                            <a:pt x="203" y="149"/>
                          </a:lnTo>
                          <a:lnTo>
                            <a:pt x="274" y="57"/>
                          </a:lnTo>
                          <a:lnTo>
                            <a:pt x="349" y="57"/>
                          </a:lnTo>
                          <a:lnTo>
                            <a:pt x="526" y="180"/>
                          </a:lnTo>
                          <a:lnTo>
                            <a:pt x="517" y="136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7453440" y="5551560"/>
                      <a:ext cx="343440" cy="501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1394">
                          <a:moveTo>
                            <a:pt x="672" y="1394"/>
                          </a:moveTo>
                          <a:lnTo>
                            <a:pt x="742" y="1154"/>
                          </a:lnTo>
                          <a:lnTo>
                            <a:pt x="771" y="1054"/>
                          </a:lnTo>
                          <a:lnTo>
                            <a:pt x="835" y="928"/>
                          </a:lnTo>
                          <a:lnTo>
                            <a:pt x="905" y="806"/>
                          </a:lnTo>
                          <a:lnTo>
                            <a:pt x="944" y="736"/>
                          </a:lnTo>
                          <a:lnTo>
                            <a:pt x="954" y="665"/>
                          </a:lnTo>
                          <a:lnTo>
                            <a:pt x="933" y="557"/>
                          </a:lnTo>
                          <a:lnTo>
                            <a:pt x="923" y="452"/>
                          </a:lnTo>
                          <a:lnTo>
                            <a:pt x="817" y="191"/>
                          </a:lnTo>
                          <a:lnTo>
                            <a:pt x="771" y="126"/>
                          </a:lnTo>
                          <a:lnTo>
                            <a:pt x="685" y="56"/>
                          </a:lnTo>
                          <a:lnTo>
                            <a:pt x="605" y="13"/>
                          </a:lnTo>
                          <a:lnTo>
                            <a:pt x="512" y="0"/>
                          </a:lnTo>
                          <a:lnTo>
                            <a:pt x="434" y="29"/>
                          </a:lnTo>
                          <a:lnTo>
                            <a:pt x="339" y="56"/>
                          </a:lnTo>
                          <a:lnTo>
                            <a:pt x="241" y="142"/>
                          </a:lnTo>
                          <a:lnTo>
                            <a:pt x="201" y="196"/>
                          </a:lnTo>
                          <a:lnTo>
                            <a:pt x="144" y="283"/>
                          </a:lnTo>
                          <a:lnTo>
                            <a:pt x="95" y="355"/>
                          </a:lnTo>
                          <a:lnTo>
                            <a:pt x="10" y="723"/>
                          </a:lnTo>
                          <a:lnTo>
                            <a:pt x="0" y="793"/>
                          </a:lnTo>
                          <a:lnTo>
                            <a:pt x="20" y="912"/>
                          </a:lnTo>
                          <a:lnTo>
                            <a:pt x="69" y="1257"/>
                          </a:lnTo>
                          <a:lnTo>
                            <a:pt x="67" y="920"/>
                          </a:lnTo>
                          <a:lnTo>
                            <a:pt x="95" y="771"/>
                          </a:lnTo>
                          <a:lnTo>
                            <a:pt x="116" y="679"/>
                          </a:lnTo>
                          <a:lnTo>
                            <a:pt x="154" y="557"/>
                          </a:lnTo>
                          <a:lnTo>
                            <a:pt x="191" y="439"/>
                          </a:lnTo>
                          <a:lnTo>
                            <a:pt x="251" y="318"/>
                          </a:lnTo>
                          <a:lnTo>
                            <a:pt x="318" y="212"/>
                          </a:lnTo>
                          <a:lnTo>
                            <a:pt x="375" y="113"/>
                          </a:lnTo>
                          <a:lnTo>
                            <a:pt x="434" y="56"/>
                          </a:lnTo>
                          <a:lnTo>
                            <a:pt x="501" y="35"/>
                          </a:lnTo>
                          <a:lnTo>
                            <a:pt x="568" y="56"/>
                          </a:lnTo>
                          <a:lnTo>
                            <a:pt x="615" y="105"/>
                          </a:lnTo>
                          <a:lnTo>
                            <a:pt x="646" y="196"/>
                          </a:lnTo>
                          <a:lnTo>
                            <a:pt x="646" y="269"/>
                          </a:lnTo>
                          <a:lnTo>
                            <a:pt x="664" y="396"/>
                          </a:lnTo>
                          <a:lnTo>
                            <a:pt x="692" y="474"/>
                          </a:lnTo>
                          <a:lnTo>
                            <a:pt x="760" y="601"/>
                          </a:lnTo>
                          <a:lnTo>
                            <a:pt x="771" y="665"/>
                          </a:lnTo>
                          <a:lnTo>
                            <a:pt x="781" y="728"/>
                          </a:lnTo>
                          <a:lnTo>
                            <a:pt x="781" y="823"/>
                          </a:lnTo>
                          <a:lnTo>
                            <a:pt x="664" y="1133"/>
                          </a:lnTo>
                          <a:lnTo>
                            <a:pt x="672" y="1394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7128000" y="6122880"/>
                      <a:ext cx="284400" cy="456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1267">
                          <a:moveTo>
                            <a:pt x="773" y="202"/>
                          </a:moveTo>
                          <a:lnTo>
                            <a:pt x="607" y="0"/>
                          </a:lnTo>
                          <a:lnTo>
                            <a:pt x="504" y="5"/>
                          </a:lnTo>
                          <a:lnTo>
                            <a:pt x="414" y="17"/>
                          </a:lnTo>
                          <a:lnTo>
                            <a:pt x="341" y="71"/>
                          </a:lnTo>
                          <a:lnTo>
                            <a:pt x="162" y="235"/>
                          </a:lnTo>
                          <a:lnTo>
                            <a:pt x="103" y="307"/>
                          </a:lnTo>
                          <a:lnTo>
                            <a:pt x="58" y="378"/>
                          </a:lnTo>
                          <a:lnTo>
                            <a:pt x="17" y="595"/>
                          </a:lnTo>
                          <a:lnTo>
                            <a:pt x="0" y="660"/>
                          </a:lnTo>
                          <a:lnTo>
                            <a:pt x="17" y="743"/>
                          </a:lnTo>
                          <a:lnTo>
                            <a:pt x="44" y="831"/>
                          </a:lnTo>
                          <a:lnTo>
                            <a:pt x="117" y="968"/>
                          </a:lnTo>
                          <a:lnTo>
                            <a:pt x="175" y="1055"/>
                          </a:lnTo>
                          <a:lnTo>
                            <a:pt x="265" y="1150"/>
                          </a:lnTo>
                          <a:lnTo>
                            <a:pt x="445" y="1267"/>
                          </a:lnTo>
                          <a:lnTo>
                            <a:pt x="355" y="1119"/>
                          </a:lnTo>
                          <a:lnTo>
                            <a:pt x="279" y="985"/>
                          </a:lnTo>
                          <a:lnTo>
                            <a:pt x="234" y="860"/>
                          </a:lnTo>
                          <a:lnTo>
                            <a:pt x="251" y="743"/>
                          </a:lnTo>
                          <a:lnTo>
                            <a:pt x="265" y="660"/>
                          </a:lnTo>
                          <a:lnTo>
                            <a:pt x="234" y="558"/>
                          </a:lnTo>
                          <a:lnTo>
                            <a:pt x="220" y="473"/>
                          </a:lnTo>
                          <a:lnTo>
                            <a:pt x="296" y="307"/>
                          </a:lnTo>
                          <a:lnTo>
                            <a:pt x="310" y="217"/>
                          </a:lnTo>
                          <a:lnTo>
                            <a:pt x="372" y="147"/>
                          </a:lnTo>
                          <a:lnTo>
                            <a:pt x="504" y="54"/>
                          </a:lnTo>
                          <a:lnTo>
                            <a:pt x="566" y="126"/>
                          </a:lnTo>
                          <a:lnTo>
                            <a:pt x="790" y="243"/>
                          </a:lnTo>
                          <a:lnTo>
                            <a:pt x="773" y="202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7464600" y="6275520"/>
                      <a:ext cx="289440" cy="308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4" h="856">
                          <a:moveTo>
                            <a:pt x="17" y="136"/>
                          </a:moveTo>
                          <a:lnTo>
                            <a:pt x="185" y="0"/>
                          </a:lnTo>
                          <a:lnTo>
                            <a:pt x="291" y="3"/>
                          </a:lnTo>
                          <a:lnTo>
                            <a:pt x="383" y="11"/>
                          </a:lnTo>
                          <a:lnTo>
                            <a:pt x="456" y="48"/>
                          </a:lnTo>
                          <a:lnTo>
                            <a:pt x="639" y="159"/>
                          </a:lnTo>
                          <a:lnTo>
                            <a:pt x="699" y="207"/>
                          </a:lnTo>
                          <a:lnTo>
                            <a:pt x="744" y="254"/>
                          </a:lnTo>
                          <a:lnTo>
                            <a:pt x="787" y="402"/>
                          </a:lnTo>
                          <a:lnTo>
                            <a:pt x="804" y="446"/>
                          </a:lnTo>
                          <a:lnTo>
                            <a:pt x="787" y="502"/>
                          </a:lnTo>
                          <a:lnTo>
                            <a:pt x="759" y="562"/>
                          </a:lnTo>
                          <a:lnTo>
                            <a:pt x="685" y="654"/>
                          </a:lnTo>
                          <a:lnTo>
                            <a:pt x="625" y="713"/>
                          </a:lnTo>
                          <a:lnTo>
                            <a:pt x="533" y="777"/>
                          </a:lnTo>
                          <a:lnTo>
                            <a:pt x="351" y="856"/>
                          </a:lnTo>
                          <a:lnTo>
                            <a:pt x="442" y="756"/>
                          </a:lnTo>
                          <a:lnTo>
                            <a:pt x="519" y="665"/>
                          </a:lnTo>
                          <a:lnTo>
                            <a:pt x="565" y="581"/>
                          </a:lnTo>
                          <a:lnTo>
                            <a:pt x="547" y="502"/>
                          </a:lnTo>
                          <a:lnTo>
                            <a:pt x="533" y="446"/>
                          </a:lnTo>
                          <a:lnTo>
                            <a:pt x="565" y="377"/>
                          </a:lnTo>
                          <a:lnTo>
                            <a:pt x="579" y="319"/>
                          </a:lnTo>
                          <a:lnTo>
                            <a:pt x="502" y="207"/>
                          </a:lnTo>
                          <a:lnTo>
                            <a:pt x="488" y="147"/>
                          </a:lnTo>
                          <a:lnTo>
                            <a:pt x="425" y="99"/>
                          </a:lnTo>
                          <a:lnTo>
                            <a:pt x="291" y="36"/>
                          </a:lnTo>
                          <a:lnTo>
                            <a:pt x="228" y="85"/>
                          </a:lnTo>
                          <a:lnTo>
                            <a:pt x="0" y="164"/>
                          </a:lnTo>
                          <a:lnTo>
                            <a:pt x="17" y="136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1" name=""/>
              <p:cNvSpPr/>
              <p:nvPr/>
            </p:nvSpPr>
            <p:spPr>
              <a:xfrm>
                <a:off x="7262640" y="5738760"/>
                <a:ext cx="384480" cy="519480"/>
              </a:xfrm>
              <a:custGeom>
                <a:avLst/>
                <a:gdLst/>
                <a:ahLst/>
                <a:rect l="0" t="0" r="r" b="b"/>
                <a:pathLst>
                  <a:path w="1068" h="1443">
                    <a:moveTo>
                      <a:pt x="768" y="17"/>
                    </a:moveTo>
                    <a:lnTo>
                      <a:pt x="680" y="0"/>
                    </a:lnTo>
                    <a:lnTo>
                      <a:pt x="622" y="39"/>
                    </a:lnTo>
                    <a:lnTo>
                      <a:pt x="561" y="52"/>
                    </a:lnTo>
                    <a:lnTo>
                      <a:pt x="427" y="66"/>
                    </a:lnTo>
                    <a:lnTo>
                      <a:pt x="427" y="74"/>
                    </a:lnTo>
                    <a:lnTo>
                      <a:pt x="520" y="52"/>
                    </a:lnTo>
                    <a:lnTo>
                      <a:pt x="583" y="66"/>
                    </a:lnTo>
                    <a:lnTo>
                      <a:pt x="502" y="88"/>
                    </a:lnTo>
                    <a:lnTo>
                      <a:pt x="561" y="88"/>
                    </a:lnTo>
                    <a:lnTo>
                      <a:pt x="502" y="127"/>
                    </a:lnTo>
                    <a:lnTo>
                      <a:pt x="74" y="343"/>
                    </a:lnTo>
                    <a:lnTo>
                      <a:pt x="520" y="127"/>
                    </a:lnTo>
                    <a:lnTo>
                      <a:pt x="502" y="154"/>
                    </a:lnTo>
                    <a:lnTo>
                      <a:pt x="445" y="194"/>
                    </a:lnTo>
                    <a:lnTo>
                      <a:pt x="388" y="202"/>
                    </a:lnTo>
                    <a:lnTo>
                      <a:pt x="268" y="216"/>
                    </a:lnTo>
                    <a:lnTo>
                      <a:pt x="74" y="194"/>
                    </a:lnTo>
                    <a:lnTo>
                      <a:pt x="388" y="216"/>
                    </a:lnTo>
                    <a:lnTo>
                      <a:pt x="445" y="194"/>
                    </a:lnTo>
                    <a:lnTo>
                      <a:pt x="502" y="176"/>
                    </a:lnTo>
                    <a:lnTo>
                      <a:pt x="485" y="216"/>
                    </a:lnTo>
                    <a:lnTo>
                      <a:pt x="445" y="229"/>
                    </a:lnTo>
                    <a:lnTo>
                      <a:pt x="57" y="352"/>
                    </a:lnTo>
                    <a:lnTo>
                      <a:pt x="445" y="242"/>
                    </a:lnTo>
                    <a:lnTo>
                      <a:pt x="485" y="242"/>
                    </a:lnTo>
                    <a:lnTo>
                      <a:pt x="445" y="277"/>
                    </a:lnTo>
                    <a:lnTo>
                      <a:pt x="388" y="317"/>
                    </a:lnTo>
                    <a:lnTo>
                      <a:pt x="57" y="393"/>
                    </a:lnTo>
                    <a:lnTo>
                      <a:pt x="427" y="304"/>
                    </a:lnTo>
                    <a:lnTo>
                      <a:pt x="445" y="304"/>
                    </a:lnTo>
                    <a:lnTo>
                      <a:pt x="463" y="317"/>
                    </a:lnTo>
                    <a:lnTo>
                      <a:pt x="388" y="367"/>
                    </a:lnTo>
                    <a:lnTo>
                      <a:pt x="463" y="352"/>
                    </a:lnTo>
                    <a:lnTo>
                      <a:pt x="366" y="419"/>
                    </a:lnTo>
                    <a:lnTo>
                      <a:pt x="286" y="455"/>
                    </a:lnTo>
                    <a:lnTo>
                      <a:pt x="136" y="481"/>
                    </a:lnTo>
                    <a:lnTo>
                      <a:pt x="57" y="481"/>
                    </a:lnTo>
                    <a:lnTo>
                      <a:pt x="189" y="472"/>
                    </a:lnTo>
                    <a:lnTo>
                      <a:pt x="348" y="441"/>
                    </a:lnTo>
                    <a:lnTo>
                      <a:pt x="388" y="433"/>
                    </a:lnTo>
                    <a:lnTo>
                      <a:pt x="348" y="472"/>
                    </a:lnTo>
                    <a:lnTo>
                      <a:pt x="268" y="521"/>
                    </a:lnTo>
                    <a:lnTo>
                      <a:pt x="136" y="547"/>
                    </a:lnTo>
                    <a:lnTo>
                      <a:pt x="0" y="569"/>
                    </a:lnTo>
                    <a:lnTo>
                      <a:pt x="171" y="534"/>
                    </a:lnTo>
                    <a:lnTo>
                      <a:pt x="286" y="494"/>
                    </a:lnTo>
                    <a:lnTo>
                      <a:pt x="388" y="455"/>
                    </a:lnTo>
                    <a:lnTo>
                      <a:pt x="405" y="441"/>
                    </a:lnTo>
                    <a:lnTo>
                      <a:pt x="388" y="481"/>
                    </a:lnTo>
                    <a:lnTo>
                      <a:pt x="427" y="472"/>
                    </a:lnTo>
                    <a:lnTo>
                      <a:pt x="463" y="481"/>
                    </a:lnTo>
                    <a:lnTo>
                      <a:pt x="388" y="521"/>
                    </a:lnTo>
                    <a:lnTo>
                      <a:pt x="388" y="547"/>
                    </a:lnTo>
                    <a:lnTo>
                      <a:pt x="286" y="596"/>
                    </a:lnTo>
                    <a:lnTo>
                      <a:pt x="326" y="596"/>
                    </a:lnTo>
                    <a:lnTo>
                      <a:pt x="286" y="622"/>
                    </a:lnTo>
                    <a:lnTo>
                      <a:pt x="154" y="671"/>
                    </a:lnTo>
                    <a:lnTo>
                      <a:pt x="35" y="684"/>
                    </a:lnTo>
                    <a:lnTo>
                      <a:pt x="207" y="658"/>
                    </a:lnTo>
                    <a:lnTo>
                      <a:pt x="308" y="622"/>
                    </a:lnTo>
                    <a:lnTo>
                      <a:pt x="366" y="609"/>
                    </a:lnTo>
                    <a:lnTo>
                      <a:pt x="366" y="644"/>
                    </a:lnTo>
                    <a:lnTo>
                      <a:pt x="366" y="658"/>
                    </a:lnTo>
                    <a:lnTo>
                      <a:pt x="308" y="710"/>
                    </a:lnTo>
                    <a:lnTo>
                      <a:pt x="251" y="750"/>
                    </a:lnTo>
                    <a:lnTo>
                      <a:pt x="286" y="750"/>
                    </a:lnTo>
                    <a:lnTo>
                      <a:pt x="233" y="772"/>
                    </a:lnTo>
                    <a:lnTo>
                      <a:pt x="35" y="838"/>
                    </a:lnTo>
                    <a:lnTo>
                      <a:pt x="171" y="799"/>
                    </a:lnTo>
                    <a:lnTo>
                      <a:pt x="268" y="772"/>
                    </a:lnTo>
                    <a:lnTo>
                      <a:pt x="268" y="812"/>
                    </a:lnTo>
                    <a:lnTo>
                      <a:pt x="207" y="821"/>
                    </a:lnTo>
                    <a:lnTo>
                      <a:pt x="268" y="812"/>
                    </a:lnTo>
                    <a:lnTo>
                      <a:pt x="268" y="838"/>
                    </a:lnTo>
                    <a:lnTo>
                      <a:pt x="233" y="860"/>
                    </a:lnTo>
                    <a:lnTo>
                      <a:pt x="57" y="900"/>
                    </a:lnTo>
                    <a:lnTo>
                      <a:pt x="207" y="860"/>
                    </a:lnTo>
                    <a:lnTo>
                      <a:pt x="207" y="874"/>
                    </a:lnTo>
                    <a:lnTo>
                      <a:pt x="233" y="887"/>
                    </a:lnTo>
                    <a:lnTo>
                      <a:pt x="57" y="975"/>
                    </a:lnTo>
                    <a:lnTo>
                      <a:pt x="189" y="909"/>
                    </a:lnTo>
                    <a:lnTo>
                      <a:pt x="233" y="900"/>
                    </a:lnTo>
                    <a:lnTo>
                      <a:pt x="251" y="927"/>
                    </a:lnTo>
                    <a:lnTo>
                      <a:pt x="207" y="949"/>
                    </a:lnTo>
                    <a:lnTo>
                      <a:pt x="251" y="940"/>
                    </a:lnTo>
                    <a:lnTo>
                      <a:pt x="207" y="1015"/>
                    </a:lnTo>
                    <a:lnTo>
                      <a:pt x="35" y="1100"/>
                    </a:lnTo>
                    <a:lnTo>
                      <a:pt x="207" y="1015"/>
                    </a:lnTo>
                    <a:lnTo>
                      <a:pt x="189" y="1050"/>
                    </a:lnTo>
                    <a:lnTo>
                      <a:pt x="251" y="1015"/>
                    </a:lnTo>
                    <a:lnTo>
                      <a:pt x="251" y="1050"/>
                    </a:lnTo>
                    <a:lnTo>
                      <a:pt x="268" y="1227"/>
                    </a:lnTo>
                    <a:lnTo>
                      <a:pt x="445" y="1443"/>
                    </a:lnTo>
                    <a:lnTo>
                      <a:pt x="268" y="1219"/>
                    </a:lnTo>
                    <a:lnTo>
                      <a:pt x="268" y="1130"/>
                    </a:lnTo>
                    <a:lnTo>
                      <a:pt x="286" y="1063"/>
                    </a:lnTo>
                    <a:lnTo>
                      <a:pt x="308" y="1015"/>
                    </a:lnTo>
                    <a:lnTo>
                      <a:pt x="348" y="927"/>
                    </a:lnTo>
                    <a:lnTo>
                      <a:pt x="388" y="962"/>
                    </a:lnTo>
                    <a:lnTo>
                      <a:pt x="640" y="1443"/>
                    </a:lnTo>
                    <a:lnTo>
                      <a:pt x="405" y="962"/>
                    </a:lnTo>
                    <a:lnTo>
                      <a:pt x="405" y="909"/>
                    </a:lnTo>
                    <a:lnTo>
                      <a:pt x="445" y="940"/>
                    </a:lnTo>
                    <a:lnTo>
                      <a:pt x="485" y="1408"/>
                    </a:lnTo>
                    <a:lnTo>
                      <a:pt x="463" y="1002"/>
                    </a:lnTo>
                    <a:lnTo>
                      <a:pt x="445" y="927"/>
                    </a:lnTo>
                    <a:lnTo>
                      <a:pt x="427" y="900"/>
                    </a:lnTo>
                    <a:lnTo>
                      <a:pt x="445" y="838"/>
                    </a:lnTo>
                    <a:lnTo>
                      <a:pt x="463" y="887"/>
                    </a:lnTo>
                    <a:lnTo>
                      <a:pt x="520" y="988"/>
                    </a:lnTo>
                    <a:lnTo>
                      <a:pt x="583" y="1050"/>
                    </a:lnTo>
                    <a:lnTo>
                      <a:pt x="737" y="1139"/>
                    </a:lnTo>
                    <a:lnTo>
                      <a:pt x="1068" y="1307"/>
                    </a:lnTo>
                    <a:lnTo>
                      <a:pt x="640" y="1063"/>
                    </a:lnTo>
                    <a:lnTo>
                      <a:pt x="561" y="1002"/>
                    </a:lnTo>
                    <a:lnTo>
                      <a:pt x="520" y="962"/>
                    </a:lnTo>
                    <a:lnTo>
                      <a:pt x="485" y="909"/>
                    </a:lnTo>
                    <a:lnTo>
                      <a:pt x="502" y="772"/>
                    </a:lnTo>
                    <a:lnTo>
                      <a:pt x="520" y="812"/>
                    </a:lnTo>
                    <a:lnTo>
                      <a:pt x="520" y="733"/>
                    </a:lnTo>
                    <a:lnTo>
                      <a:pt x="520" y="710"/>
                    </a:lnTo>
                    <a:lnTo>
                      <a:pt x="561" y="772"/>
                    </a:lnTo>
                    <a:lnTo>
                      <a:pt x="931" y="1241"/>
                    </a:lnTo>
                    <a:lnTo>
                      <a:pt x="622" y="860"/>
                    </a:lnTo>
                    <a:lnTo>
                      <a:pt x="583" y="821"/>
                    </a:lnTo>
                    <a:lnTo>
                      <a:pt x="561" y="772"/>
                    </a:lnTo>
                    <a:lnTo>
                      <a:pt x="561" y="631"/>
                    </a:lnTo>
                    <a:lnTo>
                      <a:pt x="583" y="644"/>
                    </a:lnTo>
                    <a:lnTo>
                      <a:pt x="600" y="569"/>
                    </a:lnTo>
                    <a:lnTo>
                      <a:pt x="662" y="596"/>
                    </a:lnTo>
                    <a:lnTo>
                      <a:pt x="860" y="794"/>
                    </a:lnTo>
                    <a:lnTo>
                      <a:pt x="688" y="605"/>
                    </a:lnTo>
                    <a:lnTo>
                      <a:pt x="662" y="583"/>
                    </a:lnTo>
                    <a:lnTo>
                      <a:pt x="640" y="481"/>
                    </a:lnTo>
                    <a:lnTo>
                      <a:pt x="680" y="494"/>
                    </a:lnTo>
                    <a:lnTo>
                      <a:pt x="834" y="1015"/>
                    </a:lnTo>
                    <a:lnTo>
                      <a:pt x="662" y="455"/>
                    </a:lnTo>
                    <a:lnTo>
                      <a:pt x="662" y="406"/>
                    </a:lnTo>
                    <a:lnTo>
                      <a:pt x="680" y="441"/>
                    </a:lnTo>
                    <a:lnTo>
                      <a:pt x="680" y="330"/>
                    </a:lnTo>
                    <a:lnTo>
                      <a:pt x="715" y="367"/>
                    </a:lnTo>
                    <a:lnTo>
                      <a:pt x="715" y="304"/>
                    </a:lnTo>
                    <a:lnTo>
                      <a:pt x="772" y="343"/>
                    </a:lnTo>
                    <a:lnTo>
                      <a:pt x="856" y="472"/>
                    </a:lnTo>
                    <a:lnTo>
                      <a:pt x="988" y="627"/>
                    </a:lnTo>
                    <a:lnTo>
                      <a:pt x="874" y="481"/>
                    </a:lnTo>
                    <a:lnTo>
                      <a:pt x="794" y="393"/>
                    </a:lnTo>
                    <a:lnTo>
                      <a:pt x="772" y="330"/>
                    </a:lnTo>
                    <a:lnTo>
                      <a:pt x="737" y="216"/>
                    </a:lnTo>
                    <a:lnTo>
                      <a:pt x="755" y="229"/>
                    </a:lnTo>
                    <a:lnTo>
                      <a:pt x="794" y="216"/>
                    </a:lnTo>
                    <a:lnTo>
                      <a:pt x="772" y="167"/>
                    </a:lnTo>
                    <a:lnTo>
                      <a:pt x="812" y="216"/>
                    </a:lnTo>
                    <a:lnTo>
                      <a:pt x="1002" y="384"/>
                    </a:lnTo>
                    <a:lnTo>
                      <a:pt x="856" y="251"/>
                    </a:lnTo>
                    <a:lnTo>
                      <a:pt x="834" y="229"/>
                    </a:lnTo>
                    <a:lnTo>
                      <a:pt x="834" y="101"/>
                    </a:lnTo>
                    <a:lnTo>
                      <a:pt x="874" y="141"/>
                    </a:lnTo>
                    <a:lnTo>
                      <a:pt x="931" y="202"/>
                    </a:lnTo>
                    <a:lnTo>
                      <a:pt x="1059" y="304"/>
                    </a:lnTo>
                    <a:lnTo>
                      <a:pt x="909" y="202"/>
                    </a:lnTo>
                    <a:lnTo>
                      <a:pt x="874" y="114"/>
                    </a:lnTo>
                    <a:lnTo>
                      <a:pt x="891" y="52"/>
                    </a:lnTo>
                    <a:lnTo>
                      <a:pt x="799" y="13"/>
                    </a:lnTo>
                    <a:lnTo>
                      <a:pt x="768" y="1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99240" y="5810400"/>
                <a:ext cx="406800" cy="493920"/>
              </a:xfrm>
              <a:custGeom>
                <a:avLst/>
                <a:gdLst/>
                <a:ahLst/>
                <a:rect l="0" t="0" r="r" b="b"/>
                <a:pathLst>
                  <a:path w="1130" h="1372">
                    <a:moveTo>
                      <a:pt x="1116" y="213"/>
                    </a:moveTo>
                    <a:lnTo>
                      <a:pt x="1035" y="122"/>
                    </a:lnTo>
                    <a:lnTo>
                      <a:pt x="997" y="88"/>
                    </a:lnTo>
                    <a:lnTo>
                      <a:pt x="916" y="58"/>
                    </a:lnTo>
                    <a:lnTo>
                      <a:pt x="837" y="31"/>
                    </a:lnTo>
                    <a:lnTo>
                      <a:pt x="732" y="4"/>
                    </a:lnTo>
                    <a:lnTo>
                      <a:pt x="641" y="0"/>
                    </a:lnTo>
                    <a:lnTo>
                      <a:pt x="560" y="12"/>
                    </a:lnTo>
                    <a:lnTo>
                      <a:pt x="465" y="26"/>
                    </a:lnTo>
                    <a:lnTo>
                      <a:pt x="359" y="51"/>
                    </a:lnTo>
                    <a:lnTo>
                      <a:pt x="292" y="103"/>
                    </a:lnTo>
                    <a:lnTo>
                      <a:pt x="225" y="176"/>
                    </a:lnTo>
                    <a:lnTo>
                      <a:pt x="158" y="233"/>
                    </a:lnTo>
                    <a:lnTo>
                      <a:pt x="105" y="291"/>
                    </a:lnTo>
                    <a:lnTo>
                      <a:pt x="42" y="370"/>
                    </a:lnTo>
                    <a:lnTo>
                      <a:pt x="0" y="534"/>
                    </a:lnTo>
                    <a:lnTo>
                      <a:pt x="14" y="659"/>
                    </a:lnTo>
                    <a:lnTo>
                      <a:pt x="66" y="842"/>
                    </a:lnTo>
                    <a:lnTo>
                      <a:pt x="158" y="999"/>
                    </a:lnTo>
                    <a:lnTo>
                      <a:pt x="359" y="1372"/>
                    </a:lnTo>
                    <a:lnTo>
                      <a:pt x="281" y="972"/>
                    </a:lnTo>
                    <a:lnTo>
                      <a:pt x="239" y="835"/>
                    </a:lnTo>
                    <a:lnTo>
                      <a:pt x="211" y="712"/>
                    </a:lnTo>
                    <a:lnTo>
                      <a:pt x="196" y="581"/>
                    </a:lnTo>
                    <a:lnTo>
                      <a:pt x="225" y="436"/>
                    </a:lnTo>
                    <a:lnTo>
                      <a:pt x="253" y="326"/>
                    </a:lnTo>
                    <a:lnTo>
                      <a:pt x="306" y="188"/>
                    </a:lnTo>
                    <a:lnTo>
                      <a:pt x="387" y="122"/>
                    </a:lnTo>
                    <a:lnTo>
                      <a:pt x="493" y="98"/>
                    </a:lnTo>
                    <a:lnTo>
                      <a:pt x="771" y="83"/>
                    </a:lnTo>
                    <a:lnTo>
                      <a:pt x="944" y="130"/>
                    </a:lnTo>
                    <a:lnTo>
                      <a:pt x="1130" y="230"/>
                    </a:lnTo>
                    <a:lnTo>
                      <a:pt x="1116" y="21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93000" y="5459400"/>
                <a:ext cx="416160" cy="483120"/>
              </a:xfrm>
              <a:custGeom>
                <a:avLst/>
                <a:gdLst/>
                <a:ahLst/>
                <a:rect l="0" t="0" r="r" b="b"/>
                <a:pathLst>
                  <a:path w="1156" h="1342">
                    <a:moveTo>
                      <a:pt x="338" y="1342"/>
                    </a:moveTo>
                    <a:lnTo>
                      <a:pt x="257" y="1110"/>
                    </a:lnTo>
                    <a:lnTo>
                      <a:pt x="221" y="1014"/>
                    </a:lnTo>
                    <a:lnTo>
                      <a:pt x="140" y="892"/>
                    </a:lnTo>
                    <a:lnTo>
                      <a:pt x="56" y="776"/>
                    </a:lnTo>
                    <a:lnTo>
                      <a:pt x="10" y="709"/>
                    </a:lnTo>
                    <a:lnTo>
                      <a:pt x="0" y="640"/>
                    </a:lnTo>
                    <a:lnTo>
                      <a:pt x="21" y="539"/>
                    </a:lnTo>
                    <a:lnTo>
                      <a:pt x="35" y="437"/>
                    </a:lnTo>
                    <a:lnTo>
                      <a:pt x="162" y="185"/>
                    </a:lnTo>
                    <a:lnTo>
                      <a:pt x="221" y="123"/>
                    </a:lnTo>
                    <a:lnTo>
                      <a:pt x="327" y="56"/>
                    </a:lnTo>
                    <a:lnTo>
                      <a:pt x="419" y="14"/>
                    </a:lnTo>
                    <a:lnTo>
                      <a:pt x="535" y="0"/>
                    </a:lnTo>
                    <a:lnTo>
                      <a:pt x="631" y="29"/>
                    </a:lnTo>
                    <a:lnTo>
                      <a:pt x="751" y="56"/>
                    </a:lnTo>
                    <a:lnTo>
                      <a:pt x="867" y="138"/>
                    </a:lnTo>
                    <a:lnTo>
                      <a:pt x="909" y="192"/>
                    </a:lnTo>
                    <a:lnTo>
                      <a:pt x="983" y="274"/>
                    </a:lnTo>
                    <a:lnTo>
                      <a:pt x="1043" y="344"/>
                    </a:lnTo>
                    <a:lnTo>
                      <a:pt x="1145" y="694"/>
                    </a:lnTo>
                    <a:lnTo>
                      <a:pt x="1156" y="761"/>
                    </a:lnTo>
                    <a:lnTo>
                      <a:pt x="1135" y="877"/>
                    </a:lnTo>
                    <a:lnTo>
                      <a:pt x="1071" y="1206"/>
                    </a:lnTo>
                    <a:lnTo>
                      <a:pt x="1075" y="884"/>
                    </a:lnTo>
                    <a:lnTo>
                      <a:pt x="1043" y="741"/>
                    </a:lnTo>
                    <a:lnTo>
                      <a:pt x="1015" y="655"/>
                    </a:lnTo>
                    <a:lnTo>
                      <a:pt x="969" y="539"/>
                    </a:lnTo>
                    <a:lnTo>
                      <a:pt x="923" y="423"/>
                    </a:lnTo>
                    <a:lnTo>
                      <a:pt x="853" y="308"/>
                    </a:lnTo>
                    <a:lnTo>
                      <a:pt x="772" y="204"/>
                    </a:lnTo>
                    <a:lnTo>
                      <a:pt x="701" y="111"/>
                    </a:lnTo>
                    <a:lnTo>
                      <a:pt x="631" y="56"/>
                    </a:lnTo>
                    <a:lnTo>
                      <a:pt x="549" y="37"/>
                    </a:lnTo>
                    <a:lnTo>
                      <a:pt x="468" y="56"/>
                    </a:lnTo>
                    <a:lnTo>
                      <a:pt x="408" y="106"/>
                    </a:lnTo>
                    <a:lnTo>
                      <a:pt x="373" y="192"/>
                    </a:lnTo>
                    <a:lnTo>
                      <a:pt x="373" y="259"/>
                    </a:lnTo>
                    <a:lnTo>
                      <a:pt x="348" y="383"/>
                    </a:lnTo>
                    <a:lnTo>
                      <a:pt x="313" y="457"/>
                    </a:lnTo>
                    <a:lnTo>
                      <a:pt x="232" y="578"/>
                    </a:lnTo>
                    <a:lnTo>
                      <a:pt x="221" y="640"/>
                    </a:lnTo>
                    <a:lnTo>
                      <a:pt x="207" y="702"/>
                    </a:lnTo>
                    <a:lnTo>
                      <a:pt x="207" y="791"/>
                    </a:lnTo>
                    <a:lnTo>
                      <a:pt x="348" y="1090"/>
                    </a:lnTo>
                    <a:lnTo>
                      <a:pt x="338" y="134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372520" y="4973760"/>
                <a:ext cx="533520" cy="675000"/>
                <a:chOff x="8372520" y="4973760"/>
                <a:chExt cx="533520" cy="675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372520" y="4973760"/>
                  <a:ext cx="303480" cy="675000"/>
                </a:xfrm>
                <a:custGeom>
                  <a:avLst/>
                  <a:gdLst/>
                  <a:ahLst/>
                  <a:rect l="0" t="0" r="r" b="b"/>
                  <a:pathLst>
                    <a:path w="843" h="1875">
                      <a:moveTo>
                        <a:pt x="733" y="149"/>
                      </a:moveTo>
                      <a:lnTo>
                        <a:pt x="755" y="44"/>
                      </a:lnTo>
                      <a:lnTo>
                        <a:pt x="843" y="35"/>
                      </a:lnTo>
                      <a:lnTo>
                        <a:pt x="746" y="0"/>
                      </a:lnTo>
                      <a:lnTo>
                        <a:pt x="702" y="4"/>
                      </a:lnTo>
                      <a:lnTo>
                        <a:pt x="636" y="17"/>
                      </a:lnTo>
                      <a:lnTo>
                        <a:pt x="631" y="48"/>
                      </a:lnTo>
                      <a:lnTo>
                        <a:pt x="569" y="70"/>
                      </a:lnTo>
                      <a:lnTo>
                        <a:pt x="189" y="291"/>
                      </a:lnTo>
                      <a:lnTo>
                        <a:pt x="437" y="171"/>
                      </a:lnTo>
                      <a:lnTo>
                        <a:pt x="569" y="149"/>
                      </a:lnTo>
                      <a:lnTo>
                        <a:pt x="450" y="220"/>
                      </a:lnTo>
                      <a:lnTo>
                        <a:pt x="569" y="229"/>
                      </a:lnTo>
                      <a:lnTo>
                        <a:pt x="127" y="449"/>
                      </a:lnTo>
                      <a:lnTo>
                        <a:pt x="361" y="339"/>
                      </a:lnTo>
                      <a:lnTo>
                        <a:pt x="578" y="282"/>
                      </a:lnTo>
                      <a:lnTo>
                        <a:pt x="569" y="326"/>
                      </a:lnTo>
                      <a:lnTo>
                        <a:pt x="494" y="383"/>
                      </a:lnTo>
                      <a:lnTo>
                        <a:pt x="437" y="436"/>
                      </a:lnTo>
                      <a:lnTo>
                        <a:pt x="282" y="551"/>
                      </a:lnTo>
                      <a:lnTo>
                        <a:pt x="52" y="661"/>
                      </a:lnTo>
                      <a:lnTo>
                        <a:pt x="207" y="586"/>
                      </a:lnTo>
                      <a:lnTo>
                        <a:pt x="414" y="467"/>
                      </a:lnTo>
                      <a:lnTo>
                        <a:pt x="494" y="418"/>
                      </a:lnTo>
                      <a:lnTo>
                        <a:pt x="569" y="366"/>
                      </a:lnTo>
                      <a:lnTo>
                        <a:pt x="530" y="374"/>
                      </a:lnTo>
                      <a:lnTo>
                        <a:pt x="596" y="401"/>
                      </a:lnTo>
                      <a:lnTo>
                        <a:pt x="521" y="436"/>
                      </a:lnTo>
                      <a:lnTo>
                        <a:pt x="414" y="537"/>
                      </a:lnTo>
                      <a:lnTo>
                        <a:pt x="295" y="643"/>
                      </a:lnTo>
                      <a:lnTo>
                        <a:pt x="154" y="723"/>
                      </a:lnTo>
                      <a:lnTo>
                        <a:pt x="388" y="551"/>
                      </a:lnTo>
                      <a:lnTo>
                        <a:pt x="494" y="467"/>
                      </a:lnTo>
                      <a:lnTo>
                        <a:pt x="569" y="401"/>
                      </a:lnTo>
                      <a:lnTo>
                        <a:pt x="596" y="401"/>
                      </a:lnTo>
                      <a:lnTo>
                        <a:pt x="538" y="502"/>
                      </a:lnTo>
                      <a:lnTo>
                        <a:pt x="609" y="476"/>
                      </a:lnTo>
                      <a:lnTo>
                        <a:pt x="569" y="537"/>
                      </a:lnTo>
                      <a:lnTo>
                        <a:pt x="494" y="604"/>
                      </a:lnTo>
                      <a:lnTo>
                        <a:pt x="339" y="705"/>
                      </a:lnTo>
                      <a:lnTo>
                        <a:pt x="154" y="776"/>
                      </a:lnTo>
                      <a:lnTo>
                        <a:pt x="0" y="859"/>
                      </a:lnTo>
                      <a:lnTo>
                        <a:pt x="202" y="771"/>
                      </a:lnTo>
                      <a:lnTo>
                        <a:pt x="494" y="621"/>
                      </a:lnTo>
                      <a:lnTo>
                        <a:pt x="543" y="586"/>
                      </a:lnTo>
                      <a:lnTo>
                        <a:pt x="596" y="537"/>
                      </a:lnTo>
                      <a:lnTo>
                        <a:pt x="530" y="648"/>
                      </a:lnTo>
                      <a:lnTo>
                        <a:pt x="640" y="608"/>
                      </a:lnTo>
                      <a:lnTo>
                        <a:pt x="543" y="758"/>
                      </a:lnTo>
                      <a:lnTo>
                        <a:pt x="521" y="789"/>
                      </a:lnTo>
                      <a:lnTo>
                        <a:pt x="490" y="811"/>
                      </a:lnTo>
                      <a:lnTo>
                        <a:pt x="105" y="1019"/>
                      </a:lnTo>
                      <a:lnTo>
                        <a:pt x="374" y="846"/>
                      </a:lnTo>
                      <a:lnTo>
                        <a:pt x="530" y="767"/>
                      </a:lnTo>
                      <a:lnTo>
                        <a:pt x="618" y="727"/>
                      </a:lnTo>
                      <a:lnTo>
                        <a:pt x="636" y="732"/>
                      </a:lnTo>
                      <a:lnTo>
                        <a:pt x="101" y="1121"/>
                      </a:lnTo>
                      <a:lnTo>
                        <a:pt x="512" y="855"/>
                      </a:lnTo>
                      <a:lnTo>
                        <a:pt x="613" y="846"/>
                      </a:lnTo>
                      <a:lnTo>
                        <a:pt x="494" y="988"/>
                      </a:lnTo>
                      <a:lnTo>
                        <a:pt x="600" y="957"/>
                      </a:lnTo>
                      <a:lnTo>
                        <a:pt x="441" y="1116"/>
                      </a:lnTo>
                      <a:lnTo>
                        <a:pt x="105" y="1337"/>
                      </a:lnTo>
                      <a:lnTo>
                        <a:pt x="481" y="1099"/>
                      </a:lnTo>
                      <a:lnTo>
                        <a:pt x="596" y="1002"/>
                      </a:lnTo>
                      <a:lnTo>
                        <a:pt x="477" y="1138"/>
                      </a:lnTo>
                      <a:lnTo>
                        <a:pt x="569" y="1090"/>
                      </a:lnTo>
                      <a:lnTo>
                        <a:pt x="472" y="1204"/>
                      </a:lnTo>
                      <a:lnTo>
                        <a:pt x="556" y="1178"/>
                      </a:lnTo>
                      <a:lnTo>
                        <a:pt x="459" y="1310"/>
                      </a:lnTo>
                      <a:lnTo>
                        <a:pt x="569" y="1266"/>
                      </a:lnTo>
                      <a:lnTo>
                        <a:pt x="468" y="1337"/>
                      </a:lnTo>
                      <a:lnTo>
                        <a:pt x="339" y="1394"/>
                      </a:lnTo>
                      <a:lnTo>
                        <a:pt x="136" y="1491"/>
                      </a:lnTo>
                      <a:lnTo>
                        <a:pt x="207" y="1469"/>
                      </a:lnTo>
                      <a:lnTo>
                        <a:pt x="468" y="1368"/>
                      </a:lnTo>
                      <a:lnTo>
                        <a:pt x="543" y="1319"/>
                      </a:lnTo>
                      <a:lnTo>
                        <a:pt x="441" y="1420"/>
                      </a:lnTo>
                      <a:lnTo>
                        <a:pt x="521" y="1403"/>
                      </a:lnTo>
                      <a:lnTo>
                        <a:pt x="472" y="1451"/>
                      </a:lnTo>
                      <a:lnTo>
                        <a:pt x="441" y="1522"/>
                      </a:lnTo>
                      <a:lnTo>
                        <a:pt x="494" y="1504"/>
                      </a:lnTo>
                      <a:lnTo>
                        <a:pt x="428" y="1562"/>
                      </a:lnTo>
                      <a:lnTo>
                        <a:pt x="180" y="1694"/>
                      </a:lnTo>
                      <a:lnTo>
                        <a:pt x="468" y="1553"/>
                      </a:lnTo>
                      <a:lnTo>
                        <a:pt x="521" y="1487"/>
                      </a:lnTo>
                      <a:lnTo>
                        <a:pt x="441" y="1632"/>
                      </a:lnTo>
                      <a:lnTo>
                        <a:pt x="530" y="1597"/>
                      </a:lnTo>
                      <a:lnTo>
                        <a:pt x="477" y="1676"/>
                      </a:lnTo>
                      <a:lnTo>
                        <a:pt x="388" y="1782"/>
                      </a:lnTo>
                      <a:lnTo>
                        <a:pt x="313" y="1875"/>
                      </a:lnTo>
                      <a:lnTo>
                        <a:pt x="441" y="1742"/>
                      </a:lnTo>
                      <a:lnTo>
                        <a:pt x="477" y="1707"/>
                      </a:lnTo>
                      <a:lnTo>
                        <a:pt x="565" y="1667"/>
                      </a:lnTo>
                      <a:lnTo>
                        <a:pt x="618" y="1747"/>
                      </a:lnTo>
                      <a:lnTo>
                        <a:pt x="640" y="1597"/>
                      </a:lnTo>
                      <a:lnTo>
                        <a:pt x="733" y="149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94640" y="4973760"/>
                  <a:ext cx="311400" cy="621000"/>
                </a:xfrm>
                <a:custGeom>
                  <a:avLst/>
                  <a:gdLst/>
                  <a:ahLst/>
                  <a:rect l="0" t="0" r="r" b="b"/>
                  <a:pathLst>
                    <a:path w="865" h="1725">
                      <a:moveTo>
                        <a:pt x="0" y="1698"/>
                      </a:moveTo>
                      <a:lnTo>
                        <a:pt x="8" y="1614"/>
                      </a:lnTo>
                      <a:lnTo>
                        <a:pt x="92" y="1663"/>
                      </a:lnTo>
                      <a:lnTo>
                        <a:pt x="61" y="1548"/>
                      </a:lnTo>
                      <a:lnTo>
                        <a:pt x="141" y="1566"/>
                      </a:lnTo>
                      <a:lnTo>
                        <a:pt x="246" y="1725"/>
                      </a:lnTo>
                      <a:lnTo>
                        <a:pt x="167" y="1614"/>
                      </a:lnTo>
                      <a:lnTo>
                        <a:pt x="136" y="1562"/>
                      </a:lnTo>
                      <a:lnTo>
                        <a:pt x="110" y="1500"/>
                      </a:lnTo>
                      <a:lnTo>
                        <a:pt x="167" y="1517"/>
                      </a:lnTo>
                      <a:lnTo>
                        <a:pt x="330" y="1623"/>
                      </a:lnTo>
                      <a:lnTo>
                        <a:pt x="246" y="1566"/>
                      </a:lnTo>
                      <a:lnTo>
                        <a:pt x="154" y="1500"/>
                      </a:lnTo>
                      <a:lnTo>
                        <a:pt x="141" y="1403"/>
                      </a:lnTo>
                      <a:lnTo>
                        <a:pt x="202" y="1434"/>
                      </a:lnTo>
                      <a:lnTo>
                        <a:pt x="189" y="1328"/>
                      </a:lnTo>
                      <a:lnTo>
                        <a:pt x="246" y="1363"/>
                      </a:lnTo>
                      <a:lnTo>
                        <a:pt x="468" y="1566"/>
                      </a:lnTo>
                      <a:lnTo>
                        <a:pt x="220" y="1315"/>
                      </a:lnTo>
                      <a:lnTo>
                        <a:pt x="189" y="1244"/>
                      </a:lnTo>
                      <a:lnTo>
                        <a:pt x="268" y="1284"/>
                      </a:lnTo>
                      <a:lnTo>
                        <a:pt x="481" y="1482"/>
                      </a:lnTo>
                      <a:lnTo>
                        <a:pt x="246" y="1279"/>
                      </a:lnTo>
                      <a:lnTo>
                        <a:pt x="167" y="1173"/>
                      </a:lnTo>
                      <a:lnTo>
                        <a:pt x="246" y="1209"/>
                      </a:lnTo>
                      <a:lnTo>
                        <a:pt x="189" y="1143"/>
                      </a:lnTo>
                      <a:lnTo>
                        <a:pt x="268" y="1160"/>
                      </a:lnTo>
                      <a:lnTo>
                        <a:pt x="343" y="1279"/>
                      </a:lnTo>
                      <a:lnTo>
                        <a:pt x="321" y="1244"/>
                      </a:lnTo>
                      <a:lnTo>
                        <a:pt x="246" y="1143"/>
                      </a:lnTo>
                      <a:lnTo>
                        <a:pt x="220" y="1090"/>
                      </a:lnTo>
                      <a:lnTo>
                        <a:pt x="295" y="1143"/>
                      </a:lnTo>
                      <a:lnTo>
                        <a:pt x="246" y="1024"/>
                      </a:lnTo>
                      <a:lnTo>
                        <a:pt x="295" y="1041"/>
                      </a:lnTo>
                      <a:lnTo>
                        <a:pt x="335" y="1099"/>
                      </a:lnTo>
                      <a:lnTo>
                        <a:pt x="574" y="1173"/>
                      </a:lnTo>
                      <a:lnTo>
                        <a:pt x="414" y="1116"/>
                      </a:lnTo>
                      <a:lnTo>
                        <a:pt x="370" y="1094"/>
                      </a:lnTo>
                      <a:lnTo>
                        <a:pt x="255" y="975"/>
                      </a:lnTo>
                      <a:lnTo>
                        <a:pt x="295" y="997"/>
                      </a:lnTo>
                      <a:lnTo>
                        <a:pt x="268" y="922"/>
                      </a:lnTo>
                      <a:lnTo>
                        <a:pt x="260" y="935"/>
                      </a:lnTo>
                      <a:lnTo>
                        <a:pt x="366" y="966"/>
                      </a:lnTo>
                      <a:lnTo>
                        <a:pt x="291" y="887"/>
                      </a:lnTo>
                      <a:lnTo>
                        <a:pt x="374" y="904"/>
                      </a:lnTo>
                      <a:lnTo>
                        <a:pt x="574" y="940"/>
                      </a:lnTo>
                      <a:lnTo>
                        <a:pt x="781" y="1010"/>
                      </a:lnTo>
                      <a:lnTo>
                        <a:pt x="636" y="957"/>
                      </a:lnTo>
                      <a:lnTo>
                        <a:pt x="379" y="887"/>
                      </a:lnTo>
                      <a:lnTo>
                        <a:pt x="313" y="824"/>
                      </a:lnTo>
                      <a:lnTo>
                        <a:pt x="410" y="855"/>
                      </a:lnTo>
                      <a:lnTo>
                        <a:pt x="295" y="732"/>
                      </a:lnTo>
                      <a:lnTo>
                        <a:pt x="374" y="740"/>
                      </a:lnTo>
                      <a:lnTo>
                        <a:pt x="321" y="679"/>
                      </a:lnTo>
                      <a:lnTo>
                        <a:pt x="330" y="665"/>
                      </a:lnTo>
                      <a:lnTo>
                        <a:pt x="433" y="718"/>
                      </a:lnTo>
                      <a:lnTo>
                        <a:pt x="335" y="626"/>
                      </a:lnTo>
                      <a:lnTo>
                        <a:pt x="410" y="626"/>
                      </a:lnTo>
                      <a:lnTo>
                        <a:pt x="321" y="564"/>
                      </a:lnTo>
                      <a:lnTo>
                        <a:pt x="374" y="564"/>
                      </a:lnTo>
                      <a:lnTo>
                        <a:pt x="321" y="533"/>
                      </a:lnTo>
                      <a:lnTo>
                        <a:pt x="401" y="533"/>
                      </a:lnTo>
                      <a:lnTo>
                        <a:pt x="565" y="604"/>
                      </a:lnTo>
                      <a:lnTo>
                        <a:pt x="763" y="665"/>
                      </a:lnTo>
                      <a:lnTo>
                        <a:pt x="636" y="617"/>
                      </a:lnTo>
                      <a:lnTo>
                        <a:pt x="433" y="555"/>
                      </a:lnTo>
                      <a:lnTo>
                        <a:pt x="401" y="533"/>
                      </a:lnTo>
                      <a:lnTo>
                        <a:pt x="348" y="467"/>
                      </a:lnTo>
                      <a:lnTo>
                        <a:pt x="427" y="480"/>
                      </a:lnTo>
                      <a:lnTo>
                        <a:pt x="335" y="374"/>
                      </a:lnTo>
                      <a:lnTo>
                        <a:pt x="388" y="374"/>
                      </a:lnTo>
                      <a:lnTo>
                        <a:pt x="321" y="299"/>
                      </a:lnTo>
                      <a:lnTo>
                        <a:pt x="401" y="299"/>
                      </a:lnTo>
                      <a:lnTo>
                        <a:pt x="450" y="335"/>
                      </a:lnTo>
                      <a:lnTo>
                        <a:pt x="636" y="388"/>
                      </a:lnTo>
                      <a:lnTo>
                        <a:pt x="583" y="366"/>
                      </a:lnTo>
                      <a:lnTo>
                        <a:pt x="450" y="330"/>
                      </a:lnTo>
                      <a:lnTo>
                        <a:pt x="427" y="299"/>
                      </a:lnTo>
                      <a:lnTo>
                        <a:pt x="348" y="246"/>
                      </a:lnTo>
                      <a:lnTo>
                        <a:pt x="401" y="264"/>
                      </a:lnTo>
                      <a:lnTo>
                        <a:pt x="268" y="194"/>
                      </a:lnTo>
                      <a:lnTo>
                        <a:pt x="321" y="216"/>
                      </a:lnTo>
                      <a:lnTo>
                        <a:pt x="446" y="211"/>
                      </a:lnTo>
                      <a:lnTo>
                        <a:pt x="781" y="304"/>
                      </a:lnTo>
                      <a:lnTo>
                        <a:pt x="427" y="216"/>
                      </a:lnTo>
                      <a:lnTo>
                        <a:pt x="321" y="145"/>
                      </a:lnTo>
                      <a:lnTo>
                        <a:pt x="427" y="145"/>
                      </a:lnTo>
                      <a:lnTo>
                        <a:pt x="865" y="145"/>
                      </a:lnTo>
                      <a:lnTo>
                        <a:pt x="556" y="158"/>
                      </a:lnTo>
                      <a:lnTo>
                        <a:pt x="401" y="145"/>
                      </a:lnTo>
                      <a:lnTo>
                        <a:pt x="348" y="110"/>
                      </a:lnTo>
                      <a:lnTo>
                        <a:pt x="295" y="57"/>
                      </a:lnTo>
                      <a:lnTo>
                        <a:pt x="171" y="0"/>
                      </a:lnTo>
                      <a:lnTo>
                        <a:pt x="141" y="26"/>
                      </a:lnTo>
                      <a:lnTo>
                        <a:pt x="114" y="4"/>
                      </a:lnTo>
                      <a:lnTo>
                        <a:pt x="0" y="1698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8602560" y="5681520"/>
                <a:ext cx="136800" cy="535320"/>
              </a:xfrm>
              <a:custGeom>
                <a:avLst/>
                <a:gdLst/>
                <a:ahLst/>
                <a:rect l="0" t="0" r="r" b="b"/>
                <a:pathLst>
                  <a:path w="380" h="1487">
                    <a:moveTo>
                      <a:pt x="77" y="0"/>
                    </a:moveTo>
                    <a:lnTo>
                      <a:pt x="152" y="113"/>
                    </a:lnTo>
                    <a:lnTo>
                      <a:pt x="227" y="293"/>
                    </a:lnTo>
                    <a:lnTo>
                      <a:pt x="305" y="542"/>
                    </a:lnTo>
                    <a:lnTo>
                      <a:pt x="380" y="858"/>
                    </a:lnTo>
                    <a:lnTo>
                      <a:pt x="380" y="1196"/>
                    </a:lnTo>
                    <a:lnTo>
                      <a:pt x="342" y="1487"/>
                    </a:lnTo>
                    <a:lnTo>
                      <a:pt x="305" y="1487"/>
                    </a:lnTo>
                    <a:lnTo>
                      <a:pt x="342" y="1196"/>
                    </a:lnTo>
                    <a:lnTo>
                      <a:pt x="342" y="947"/>
                    </a:lnTo>
                    <a:lnTo>
                      <a:pt x="265" y="675"/>
                    </a:lnTo>
                    <a:lnTo>
                      <a:pt x="152" y="406"/>
                    </a:lnTo>
                    <a:lnTo>
                      <a:pt x="0" y="69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50080" y="6099120"/>
                <a:ext cx="289440" cy="308160"/>
              </a:xfrm>
              <a:custGeom>
                <a:avLst/>
                <a:gdLst/>
                <a:ahLst/>
                <a:rect l="0" t="0" r="r" b="b"/>
                <a:pathLst>
                  <a:path w="804" h="856">
                    <a:moveTo>
                      <a:pt x="787" y="136"/>
                    </a:moveTo>
                    <a:lnTo>
                      <a:pt x="618" y="0"/>
                    </a:lnTo>
                    <a:lnTo>
                      <a:pt x="512" y="3"/>
                    </a:lnTo>
                    <a:lnTo>
                      <a:pt x="421" y="11"/>
                    </a:lnTo>
                    <a:lnTo>
                      <a:pt x="347" y="48"/>
                    </a:lnTo>
                    <a:lnTo>
                      <a:pt x="164" y="159"/>
                    </a:lnTo>
                    <a:lnTo>
                      <a:pt x="105" y="207"/>
                    </a:lnTo>
                    <a:lnTo>
                      <a:pt x="59" y="254"/>
                    </a:lnTo>
                    <a:lnTo>
                      <a:pt x="17" y="402"/>
                    </a:lnTo>
                    <a:lnTo>
                      <a:pt x="0" y="446"/>
                    </a:lnTo>
                    <a:lnTo>
                      <a:pt x="17" y="502"/>
                    </a:lnTo>
                    <a:lnTo>
                      <a:pt x="45" y="562"/>
                    </a:lnTo>
                    <a:lnTo>
                      <a:pt x="119" y="654"/>
                    </a:lnTo>
                    <a:lnTo>
                      <a:pt x="178" y="713"/>
                    </a:lnTo>
                    <a:lnTo>
                      <a:pt x="270" y="777"/>
                    </a:lnTo>
                    <a:lnTo>
                      <a:pt x="453" y="856"/>
                    </a:lnTo>
                    <a:lnTo>
                      <a:pt x="361" y="756"/>
                    </a:lnTo>
                    <a:lnTo>
                      <a:pt x="284" y="665"/>
                    </a:lnTo>
                    <a:lnTo>
                      <a:pt x="239" y="581"/>
                    </a:lnTo>
                    <a:lnTo>
                      <a:pt x="256" y="502"/>
                    </a:lnTo>
                    <a:lnTo>
                      <a:pt x="270" y="446"/>
                    </a:lnTo>
                    <a:lnTo>
                      <a:pt x="239" y="377"/>
                    </a:lnTo>
                    <a:lnTo>
                      <a:pt x="225" y="319"/>
                    </a:lnTo>
                    <a:lnTo>
                      <a:pt x="302" y="207"/>
                    </a:lnTo>
                    <a:lnTo>
                      <a:pt x="316" y="147"/>
                    </a:lnTo>
                    <a:lnTo>
                      <a:pt x="379" y="99"/>
                    </a:lnTo>
                    <a:lnTo>
                      <a:pt x="512" y="36"/>
                    </a:lnTo>
                    <a:lnTo>
                      <a:pt x="575" y="85"/>
                    </a:lnTo>
                    <a:lnTo>
                      <a:pt x="804" y="164"/>
                    </a:lnTo>
                    <a:lnTo>
                      <a:pt x="787" y="13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0" y="3429000"/>
              <a:ext cx="3265920" cy="3321360"/>
              <a:chOff x="0" y="3429000"/>
              <a:chExt cx="3265920" cy="33213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0" y="3429000"/>
                <a:ext cx="3265920" cy="3321360"/>
                <a:chOff x="0" y="3429000"/>
                <a:chExt cx="3265920" cy="332136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0" y="3429000"/>
                  <a:ext cx="3265920" cy="3321360"/>
                  <a:chOff x="0" y="3429000"/>
                  <a:chExt cx="3265920" cy="332136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206280" y="5253120"/>
                    <a:ext cx="1238400" cy="1368720"/>
                    <a:chOff x="206280" y="5253120"/>
                    <a:chExt cx="1238400" cy="136872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892080" y="5342040"/>
                      <a:ext cx="552600" cy="1267200"/>
                      <a:chOff x="892080" y="5342040"/>
                      <a:chExt cx="552600" cy="126720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892080" y="5348160"/>
                        <a:ext cx="552600" cy="1080000"/>
                        <a:chOff x="892080" y="5348160"/>
                        <a:chExt cx="552600" cy="1080000"/>
                      </a:xfrm>
                    </p:grpSpPr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1279440" y="5981760"/>
                          <a:ext cx="81360" cy="446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26" h="1240">
                              <a:moveTo>
                                <a:pt x="44" y="0"/>
                              </a:moveTo>
                              <a:lnTo>
                                <a:pt x="90" y="93"/>
                              </a:lnTo>
                              <a:lnTo>
                                <a:pt x="135" y="243"/>
                              </a:lnTo>
                              <a:lnTo>
                                <a:pt x="181" y="449"/>
                              </a:lnTo>
                              <a:lnTo>
                                <a:pt x="226" y="713"/>
                              </a:lnTo>
                              <a:lnTo>
                                <a:pt x="226" y="993"/>
                              </a:lnTo>
                              <a:lnTo>
                                <a:pt x="204" y="1240"/>
                              </a:lnTo>
                              <a:lnTo>
                                <a:pt x="181" y="1240"/>
                              </a:lnTo>
                              <a:lnTo>
                                <a:pt x="204" y="993"/>
                              </a:lnTo>
                              <a:lnTo>
                                <a:pt x="204" y="790"/>
                              </a:lnTo>
                              <a:lnTo>
                                <a:pt x="158" y="562"/>
                              </a:lnTo>
                              <a:lnTo>
                                <a:pt x="90" y="339"/>
                              </a:lnTo>
                              <a:lnTo>
                                <a:pt x="0" y="56"/>
                              </a:lnTo>
                              <a:lnTo>
                                <a:pt x="4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>
                          <a:off x="892080" y="5742000"/>
                          <a:ext cx="132120" cy="4431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67" h="1231">
                              <a:moveTo>
                                <a:pt x="358" y="192"/>
                              </a:moveTo>
                              <a:lnTo>
                                <a:pt x="282" y="0"/>
                              </a:lnTo>
                              <a:lnTo>
                                <a:pt x="231" y="3"/>
                              </a:lnTo>
                              <a:lnTo>
                                <a:pt x="192" y="13"/>
                              </a:lnTo>
                              <a:lnTo>
                                <a:pt x="157" y="66"/>
                              </a:lnTo>
                              <a:lnTo>
                                <a:pt x="73" y="226"/>
                              </a:lnTo>
                              <a:lnTo>
                                <a:pt x="45" y="295"/>
                              </a:lnTo>
                              <a:lnTo>
                                <a:pt x="28" y="365"/>
                              </a:lnTo>
                              <a:lnTo>
                                <a:pt x="5" y="578"/>
                              </a:lnTo>
                              <a:lnTo>
                                <a:pt x="0" y="642"/>
                              </a:lnTo>
                              <a:lnTo>
                                <a:pt x="5" y="722"/>
                              </a:lnTo>
                              <a:lnTo>
                                <a:pt x="19" y="809"/>
                              </a:lnTo>
                              <a:lnTo>
                                <a:pt x="53" y="938"/>
                              </a:lnTo>
                              <a:lnTo>
                                <a:pt x="81" y="1025"/>
                              </a:lnTo>
                              <a:lnTo>
                                <a:pt x="123" y="1118"/>
                              </a:lnTo>
                              <a:lnTo>
                                <a:pt x="206" y="1231"/>
                              </a:lnTo>
                              <a:lnTo>
                                <a:pt x="163" y="1088"/>
                              </a:lnTo>
                              <a:lnTo>
                                <a:pt x="129" y="958"/>
                              </a:lnTo>
                              <a:lnTo>
                                <a:pt x="109" y="838"/>
                              </a:lnTo>
                              <a:lnTo>
                                <a:pt x="115" y="722"/>
                              </a:lnTo>
                              <a:lnTo>
                                <a:pt x="123" y="642"/>
                              </a:lnTo>
                              <a:lnTo>
                                <a:pt x="109" y="542"/>
                              </a:lnTo>
                              <a:lnTo>
                                <a:pt x="101" y="458"/>
                              </a:lnTo>
                              <a:lnTo>
                                <a:pt x="135" y="295"/>
                              </a:lnTo>
                              <a:lnTo>
                                <a:pt x="140" y="209"/>
                              </a:lnTo>
                              <a:lnTo>
                                <a:pt x="171" y="139"/>
                              </a:lnTo>
                              <a:lnTo>
                                <a:pt x="231" y="49"/>
                              </a:lnTo>
                              <a:lnTo>
                                <a:pt x="262" y="119"/>
                              </a:lnTo>
                              <a:lnTo>
                                <a:pt x="367" y="232"/>
                              </a:lnTo>
                              <a:lnTo>
                                <a:pt x="358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1117440" y="5348160"/>
                          <a:ext cx="327240" cy="7988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909" h="2219">
                              <a:moveTo>
                                <a:pt x="203" y="0"/>
                              </a:moveTo>
                              <a:lnTo>
                                <a:pt x="241" y="6"/>
                              </a:lnTo>
                              <a:lnTo>
                                <a:pt x="296" y="26"/>
                              </a:lnTo>
                              <a:lnTo>
                                <a:pt x="259" y="36"/>
                              </a:lnTo>
                              <a:lnTo>
                                <a:pt x="288" y="63"/>
                              </a:lnTo>
                              <a:lnTo>
                                <a:pt x="320" y="93"/>
                              </a:lnTo>
                              <a:lnTo>
                                <a:pt x="369" y="106"/>
                              </a:lnTo>
                              <a:lnTo>
                                <a:pt x="442" y="100"/>
                              </a:lnTo>
                              <a:lnTo>
                                <a:pt x="522" y="83"/>
                              </a:lnTo>
                              <a:lnTo>
                                <a:pt x="728" y="100"/>
                              </a:lnTo>
                              <a:lnTo>
                                <a:pt x="530" y="86"/>
                              </a:lnTo>
                              <a:lnTo>
                                <a:pt x="442" y="113"/>
                              </a:lnTo>
                              <a:lnTo>
                                <a:pt x="369" y="106"/>
                              </a:lnTo>
                              <a:lnTo>
                                <a:pt x="320" y="126"/>
                              </a:lnTo>
                              <a:lnTo>
                                <a:pt x="358" y="150"/>
                              </a:lnTo>
                              <a:lnTo>
                                <a:pt x="331" y="163"/>
                              </a:lnTo>
                              <a:lnTo>
                                <a:pt x="398" y="213"/>
                              </a:lnTo>
                              <a:lnTo>
                                <a:pt x="548" y="207"/>
                              </a:lnTo>
                              <a:lnTo>
                                <a:pt x="740" y="384"/>
                              </a:lnTo>
                              <a:lnTo>
                                <a:pt x="548" y="213"/>
                              </a:lnTo>
                              <a:lnTo>
                                <a:pt x="398" y="227"/>
                              </a:lnTo>
                              <a:lnTo>
                                <a:pt x="358" y="233"/>
                              </a:lnTo>
                              <a:lnTo>
                                <a:pt x="436" y="290"/>
                              </a:lnTo>
                              <a:lnTo>
                                <a:pt x="387" y="290"/>
                              </a:lnTo>
                              <a:lnTo>
                                <a:pt x="472" y="360"/>
                              </a:lnTo>
                              <a:lnTo>
                                <a:pt x="632" y="447"/>
                              </a:lnTo>
                              <a:lnTo>
                                <a:pt x="816" y="604"/>
                              </a:lnTo>
                              <a:lnTo>
                                <a:pt x="629" y="460"/>
                              </a:lnTo>
                              <a:lnTo>
                                <a:pt x="466" y="374"/>
                              </a:lnTo>
                              <a:lnTo>
                                <a:pt x="419" y="377"/>
                              </a:lnTo>
                              <a:lnTo>
                                <a:pt x="493" y="427"/>
                              </a:lnTo>
                              <a:lnTo>
                                <a:pt x="442" y="440"/>
                              </a:lnTo>
                              <a:lnTo>
                                <a:pt x="504" y="507"/>
                              </a:lnTo>
                              <a:lnTo>
                                <a:pt x="891" y="1042"/>
                              </a:lnTo>
                              <a:lnTo>
                                <a:pt x="504" y="517"/>
                              </a:lnTo>
                              <a:lnTo>
                                <a:pt x="448" y="517"/>
                              </a:lnTo>
                              <a:lnTo>
                                <a:pt x="510" y="597"/>
                              </a:lnTo>
                              <a:lnTo>
                                <a:pt x="466" y="591"/>
                              </a:lnTo>
                              <a:lnTo>
                                <a:pt x="522" y="694"/>
                              </a:lnTo>
                              <a:lnTo>
                                <a:pt x="682" y="878"/>
                              </a:lnTo>
                              <a:lnTo>
                                <a:pt x="848" y="1143"/>
                              </a:lnTo>
                              <a:lnTo>
                                <a:pt x="682" y="881"/>
                              </a:lnTo>
                              <a:lnTo>
                                <a:pt x="519" y="701"/>
                              </a:lnTo>
                              <a:lnTo>
                                <a:pt x="466" y="678"/>
                              </a:lnTo>
                              <a:lnTo>
                                <a:pt x="504" y="744"/>
                              </a:lnTo>
                              <a:lnTo>
                                <a:pt x="472" y="731"/>
                              </a:lnTo>
                              <a:lnTo>
                                <a:pt x="522" y="835"/>
                              </a:lnTo>
                              <a:lnTo>
                                <a:pt x="653" y="1025"/>
                              </a:lnTo>
                              <a:lnTo>
                                <a:pt x="909" y="1277"/>
                              </a:lnTo>
                              <a:lnTo>
                                <a:pt x="659" y="1028"/>
                              </a:lnTo>
                              <a:lnTo>
                                <a:pt x="519" y="838"/>
                              </a:lnTo>
                              <a:lnTo>
                                <a:pt x="498" y="838"/>
                              </a:lnTo>
                              <a:lnTo>
                                <a:pt x="737" y="1407"/>
                              </a:lnTo>
                              <a:lnTo>
                                <a:pt x="487" y="838"/>
                              </a:lnTo>
                              <a:lnTo>
                                <a:pt x="519" y="915"/>
                              </a:lnTo>
                              <a:lnTo>
                                <a:pt x="487" y="888"/>
                              </a:lnTo>
                              <a:lnTo>
                                <a:pt x="536" y="1005"/>
                              </a:lnTo>
                              <a:lnTo>
                                <a:pt x="702" y="1270"/>
                              </a:lnTo>
                              <a:lnTo>
                                <a:pt x="536" y="1025"/>
                              </a:lnTo>
                              <a:lnTo>
                                <a:pt x="493" y="1005"/>
                              </a:lnTo>
                              <a:lnTo>
                                <a:pt x="536" y="1078"/>
                              </a:lnTo>
                              <a:lnTo>
                                <a:pt x="734" y="1597"/>
                              </a:lnTo>
                              <a:lnTo>
                                <a:pt x="580" y="1196"/>
                              </a:lnTo>
                              <a:lnTo>
                                <a:pt x="522" y="1078"/>
                              </a:lnTo>
                              <a:lnTo>
                                <a:pt x="493" y="1065"/>
                              </a:lnTo>
                              <a:lnTo>
                                <a:pt x="530" y="1150"/>
                              </a:lnTo>
                              <a:lnTo>
                                <a:pt x="498" y="1136"/>
                              </a:lnTo>
                              <a:lnTo>
                                <a:pt x="548" y="1240"/>
                              </a:lnTo>
                              <a:lnTo>
                                <a:pt x="571" y="1327"/>
                              </a:lnTo>
                              <a:lnTo>
                                <a:pt x="824" y="1624"/>
                              </a:lnTo>
                              <a:lnTo>
                                <a:pt x="565" y="1333"/>
                              </a:lnTo>
                              <a:lnTo>
                                <a:pt x="536" y="1270"/>
                              </a:lnTo>
                              <a:lnTo>
                                <a:pt x="504" y="1253"/>
                              </a:lnTo>
                              <a:lnTo>
                                <a:pt x="565" y="1420"/>
                              </a:lnTo>
                              <a:lnTo>
                                <a:pt x="498" y="1253"/>
                              </a:lnTo>
                              <a:lnTo>
                                <a:pt x="536" y="1333"/>
                              </a:lnTo>
                              <a:lnTo>
                                <a:pt x="493" y="1313"/>
                              </a:lnTo>
                              <a:lnTo>
                                <a:pt x="522" y="1383"/>
                              </a:lnTo>
                              <a:lnTo>
                                <a:pt x="609" y="1627"/>
                              </a:lnTo>
                              <a:lnTo>
                                <a:pt x="693" y="1774"/>
                              </a:lnTo>
                              <a:lnTo>
                                <a:pt x="609" y="1627"/>
                              </a:lnTo>
                              <a:lnTo>
                                <a:pt x="519" y="1393"/>
                              </a:lnTo>
                              <a:lnTo>
                                <a:pt x="487" y="1383"/>
                              </a:lnTo>
                              <a:lnTo>
                                <a:pt x="498" y="1440"/>
                              </a:lnTo>
                              <a:lnTo>
                                <a:pt x="565" y="1597"/>
                              </a:lnTo>
                              <a:lnTo>
                                <a:pt x="493" y="1457"/>
                              </a:lnTo>
                              <a:lnTo>
                                <a:pt x="472" y="1407"/>
                              </a:lnTo>
                              <a:lnTo>
                                <a:pt x="504" y="1534"/>
                              </a:lnTo>
                              <a:lnTo>
                                <a:pt x="466" y="1510"/>
                              </a:lnTo>
                              <a:lnTo>
                                <a:pt x="481" y="1611"/>
                              </a:lnTo>
                              <a:lnTo>
                                <a:pt x="455" y="1567"/>
                              </a:lnTo>
                              <a:lnTo>
                                <a:pt x="436" y="1604"/>
                              </a:lnTo>
                              <a:lnTo>
                                <a:pt x="442" y="1711"/>
                              </a:lnTo>
                              <a:lnTo>
                                <a:pt x="603" y="2219"/>
                              </a:lnTo>
                              <a:lnTo>
                                <a:pt x="430" y="1711"/>
                              </a:lnTo>
                              <a:lnTo>
                                <a:pt x="430" y="1597"/>
                              </a:lnTo>
                              <a:lnTo>
                                <a:pt x="430" y="1530"/>
                              </a:lnTo>
                              <a:lnTo>
                                <a:pt x="395" y="1567"/>
                              </a:lnTo>
                              <a:lnTo>
                                <a:pt x="104" y="1901"/>
                              </a:lnTo>
                              <a:lnTo>
                                <a:pt x="404" y="1534"/>
                              </a:lnTo>
                              <a:lnTo>
                                <a:pt x="430" y="1440"/>
                              </a:lnTo>
                              <a:lnTo>
                                <a:pt x="398" y="1457"/>
                              </a:lnTo>
                              <a:lnTo>
                                <a:pt x="442" y="1343"/>
                              </a:lnTo>
                              <a:lnTo>
                                <a:pt x="404" y="1390"/>
                              </a:lnTo>
                              <a:lnTo>
                                <a:pt x="340" y="1554"/>
                              </a:lnTo>
                              <a:lnTo>
                                <a:pt x="398" y="1377"/>
                              </a:lnTo>
                              <a:lnTo>
                                <a:pt x="430" y="1307"/>
                              </a:lnTo>
                              <a:lnTo>
                                <a:pt x="425" y="1307"/>
                              </a:lnTo>
                              <a:lnTo>
                                <a:pt x="387" y="1343"/>
                              </a:lnTo>
                              <a:lnTo>
                                <a:pt x="314" y="1434"/>
                              </a:lnTo>
                              <a:lnTo>
                                <a:pt x="66" y="1500"/>
                              </a:lnTo>
                              <a:lnTo>
                                <a:pt x="320" y="1420"/>
                              </a:lnTo>
                              <a:lnTo>
                                <a:pt x="398" y="1313"/>
                              </a:lnTo>
                              <a:lnTo>
                                <a:pt x="425" y="1230"/>
                              </a:lnTo>
                              <a:lnTo>
                                <a:pt x="387" y="1230"/>
                              </a:lnTo>
                              <a:lnTo>
                                <a:pt x="425" y="1150"/>
                              </a:lnTo>
                              <a:lnTo>
                                <a:pt x="375" y="1166"/>
                              </a:lnTo>
                              <a:lnTo>
                                <a:pt x="203" y="1327"/>
                              </a:lnTo>
                              <a:lnTo>
                                <a:pt x="375" y="1163"/>
                              </a:lnTo>
                              <a:lnTo>
                                <a:pt x="413" y="1065"/>
                              </a:lnTo>
                              <a:lnTo>
                                <a:pt x="369" y="1092"/>
                              </a:lnTo>
                              <a:lnTo>
                                <a:pt x="398" y="1015"/>
                              </a:lnTo>
                              <a:lnTo>
                                <a:pt x="358" y="1065"/>
                              </a:lnTo>
                              <a:lnTo>
                                <a:pt x="387" y="952"/>
                              </a:lnTo>
                              <a:lnTo>
                                <a:pt x="352" y="1008"/>
                              </a:lnTo>
                              <a:lnTo>
                                <a:pt x="197" y="1257"/>
                              </a:lnTo>
                              <a:lnTo>
                                <a:pt x="358" y="1008"/>
                              </a:lnTo>
                              <a:lnTo>
                                <a:pt x="395" y="865"/>
                              </a:lnTo>
                              <a:lnTo>
                                <a:pt x="352" y="895"/>
                              </a:lnTo>
                              <a:lnTo>
                                <a:pt x="98" y="1035"/>
                              </a:lnTo>
                              <a:lnTo>
                                <a:pt x="352" y="888"/>
                              </a:lnTo>
                              <a:lnTo>
                                <a:pt x="381" y="764"/>
                              </a:lnTo>
                              <a:lnTo>
                                <a:pt x="346" y="785"/>
                              </a:lnTo>
                              <a:lnTo>
                                <a:pt x="375" y="711"/>
                              </a:lnTo>
                              <a:lnTo>
                                <a:pt x="340" y="738"/>
                              </a:lnTo>
                              <a:lnTo>
                                <a:pt x="221" y="1085"/>
                              </a:lnTo>
                              <a:lnTo>
                                <a:pt x="346" y="708"/>
                              </a:lnTo>
                              <a:lnTo>
                                <a:pt x="346" y="611"/>
                              </a:lnTo>
                              <a:lnTo>
                                <a:pt x="308" y="658"/>
                              </a:lnTo>
                              <a:lnTo>
                                <a:pt x="235" y="851"/>
                              </a:lnTo>
                              <a:lnTo>
                                <a:pt x="326" y="597"/>
                              </a:lnTo>
                              <a:lnTo>
                                <a:pt x="340" y="517"/>
                              </a:lnTo>
                              <a:lnTo>
                                <a:pt x="308" y="554"/>
                              </a:lnTo>
                              <a:lnTo>
                                <a:pt x="215" y="711"/>
                              </a:lnTo>
                              <a:lnTo>
                                <a:pt x="0" y="801"/>
                              </a:lnTo>
                              <a:lnTo>
                                <a:pt x="221" y="701"/>
                              </a:lnTo>
                              <a:lnTo>
                                <a:pt x="302" y="531"/>
                              </a:lnTo>
                              <a:lnTo>
                                <a:pt x="314" y="424"/>
                              </a:lnTo>
                              <a:lnTo>
                                <a:pt x="276" y="474"/>
                              </a:lnTo>
                              <a:lnTo>
                                <a:pt x="296" y="374"/>
                              </a:lnTo>
                              <a:lnTo>
                                <a:pt x="154" y="638"/>
                              </a:lnTo>
                              <a:lnTo>
                                <a:pt x="288" y="360"/>
                              </a:lnTo>
                              <a:lnTo>
                                <a:pt x="302" y="283"/>
                              </a:lnTo>
                              <a:lnTo>
                                <a:pt x="259" y="344"/>
                              </a:lnTo>
                              <a:lnTo>
                                <a:pt x="264" y="220"/>
                              </a:lnTo>
                              <a:lnTo>
                                <a:pt x="209" y="277"/>
                              </a:lnTo>
                              <a:lnTo>
                                <a:pt x="11" y="487"/>
                              </a:lnTo>
                              <a:lnTo>
                                <a:pt x="209" y="270"/>
                              </a:lnTo>
                              <a:lnTo>
                                <a:pt x="235" y="150"/>
                              </a:lnTo>
                              <a:lnTo>
                                <a:pt x="203" y="183"/>
                              </a:lnTo>
                              <a:lnTo>
                                <a:pt x="221" y="93"/>
                              </a:lnTo>
                              <a:lnTo>
                                <a:pt x="192" y="120"/>
                              </a:lnTo>
                              <a:lnTo>
                                <a:pt x="186" y="50"/>
                              </a:lnTo>
                              <a:lnTo>
                                <a:pt x="192" y="20"/>
                              </a:lnTo>
                              <a:lnTo>
                                <a:pt x="20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8" name=""/>
                      <p:cNvGrpSpPr/>
                      <p:nvPr/>
                    </p:nvGrpSpPr>
                    <p:grpSpPr>
                      <a:xfrm>
                        <a:off x="1004760" y="5342040"/>
                        <a:ext cx="289440" cy="1267200"/>
                        <a:chOff x="1004760" y="5342040"/>
                        <a:chExt cx="289440" cy="1267200"/>
                      </a:xfrm>
                    </p:grpSpPr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>
                          <a:off x="1011240" y="5945040"/>
                          <a:ext cx="282960" cy="518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786" h="1439">
                              <a:moveTo>
                                <a:pt x="0" y="1439"/>
                              </a:moveTo>
                              <a:lnTo>
                                <a:pt x="116" y="1119"/>
                              </a:lnTo>
                              <a:lnTo>
                                <a:pt x="215" y="765"/>
                              </a:lnTo>
                              <a:lnTo>
                                <a:pt x="266" y="607"/>
                              </a:lnTo>
                              <a:lnTo>
                                <a:pt x="338" y="428"/>
                              </a:lnTo>
                              <a:lnTo>
                                <a:pt x="433" y="239"/>
                              </a:lnTo>
                              <a:lnTo>
                                <a:pt x="505" y="121"/>
                              </a:lnTo>
                              <a:lnTo>
                                <a:pt x="559" y="63"/>
                              </a:lnTo>
                              <a:lnTo>
                                <a:pt x="631" y="16"/>
                              </a:lnTo>
                              <a:lnTo>
                                <a:pt x="712" y="0"/>
                              </a:lnTo>
                              <a:lnTo>
                                <a:pt x="748" y="40"/>
                              </a:lnTo>
                              <a:lnTo>
                                <a:pt x="786" y="134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1004760" y="5342040"/>
                          <a:ext cx="192600" cy="1267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535" h="3520">
                              <a:moveTo>
                                <a:pt x="2" y="3520"/>
                              </a:moveTo>
                              <a:lnTo>
                                <a:pt x="0" y="3193"/>
                              </a:lnTo>
                              <a:lnTo>
                                <a:pt x="0" y="2944"/>
                              </a:lnTo>
                              <a:lnTo>
                                <a:pt x="11" y="2771"/>
                              </a:lnTo>
                              <a:lnTo>
                                <a:pt x="17" y="2558"/>
                              </a:lnTo>
                              <a:lnTo>
                                <a:pt x="17" y="2339"/>
                              </a:lnTo>
                              <a:lnTo>
                                <a:pt x="20" y="2156"/>
                              </a:lnTo>
                              <a:lnTo>
                                <a:pt x="35" y="1988"/>
                              </a:lnTo>
                              <a:lnTo>
                                <a:pt x="53" y="1694"/>
                              </a:lnTo>
                              <a:lnTo>
                                <a:pt x="80" y="1374"/>
                              </a:lnTo>
                              <a:lnTo>
                                <a:pt x="112" y="1050"/>
                              </a:lnTo>
                              <a:lnTo>
                                <a:pt x="140" y="701"/>
                              </a:lnTo>
                              <a:lnTo>
                                <a:pt x="164" y="495"/>
                              </a:lnTo>
                              <a:lnTo>
                                <a:pt x="181" y="414"/>
                              </a:lnTo>
                              <a:lnTo>
                                <a:pt x="232" y="273"/>
                              </a:lnTo>
                              <a:lnTo>
                                <a:pt x="276" y="172"/>
                              </a:lnTo>
                              <a:lnTo>
                                <a:pt x="330" y="91"/>
                              </a:lnTo>
                              <a:lnTo>
                                <a:pt x="383" y="20"/>
                              </a:lnTo>
                              <a:lnTo>
                                <a:pt x="422" y="0"/>
                              </a:lnTo>
                              <a:lnTo>
                                <a:pt x="473" y="0"/>
                              </a:lnTo>
                              <a:lnTo>
                                <a:pt x="517" y="26"/>
                              </a:lnTo>
                              <a:lnTo>
                                <a:pt x="535" y="60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1" name=""/>
                    <p:cNvGrpSpPr/>
                    <p:nvPr/>
                  </p:nvGrpSpPr>
                  <p:grpSpPr>
                    <a:xfrm>
                      <a:off x="206280" y="5253120"/>
                      <a:ext cx="811440" cy="1368720"/>
                      <a:chOff x="206280" y="5253120"/>
                      <a:chExt cx="811440" cy="1368720"/>
                    </a:xfrm>
                  </p:grpSpPr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206280" y="5394240"/>
                        <a:ext cx="468720" cy="1227600"/>
                        <a:chOff x="206280" y="5394240"/>
                        <a:chExt cx="468720" cy="122760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574560" y="6068880"/>
                          <a:ext cx="100440" cy="5529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79" h="1536">
                              <a:moveTo>
                                <a:pt x="223" y="0"/>
                              </a:moveTo>
                              <a:lnTo>
                                <a:pt x="203" y="29"/>
                              </a:lnTo>
                              <a:lnTo>
                                <a:pt x="113" y="302"/>
                              </a:lnTo>
                              <a:lnTo>
                                <a:pt x="56" y="560"/>
                              </a:lnTo>
                              <a:lnTo>
                                <a:pt x="0" y="883"/>
                              </a:lnTo>
                              <a:lnTo>
                                <a:pt x="0" y="1230"/>
                              </a:lnTo>
                              <a:lnTo>
                                <a:pt x="28" y="1536"/>
                              </a:lnTo>
                              <a:lnTo>
                                <a:pt x="56" y="1536"/>
                              </a:lnTo>
                              <a:lnTo>
                                <a:pt x="28" y="1230"/>
                              </a:lnTo>
                              <a:lnTo>
                                <a:pt x="28" y="976"/>
                              </a:lnTo>
                              <a:lnTo>
                                <a:pt x="85" y="696"/>
                              </a:lnTo>
                              <a:lnTo>
                                <a:pt x="166" y="420"/>
                              </a:lnTo>
                              <a:lnTo>
                                <a:pt x="279" y="69"/>
                              </a:lnTo>
                              <a:lnTo>
                                <a:pt x="22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06280" y="5394240"/>
                          <a:ext cx="311400" cy="6004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65" h="1668">
                              <a:moveTo>
                                <a:pt x="631" y="26"/>
                              </a:moveTo>
                              <a:lnTo>
                                <a:pt x="561" y="0"/>
                              </a:lnTo>
                              <a:lnTo>
                                <a:pt x="512" y="52"/>
                              </a:lnTo>
                              <a:lnTo>
                                <a:pt x="464" y="70"/>
                              </a:lnTo>
                              <a:lnTo>
                                <a:pt x="352" y="88"/>
                              </a:lnTo>
                              <a:lnTo>
                                <a:pt x="352" y="101"/>
                              </a:lnTo>
                              <a:lnTo>
                                <a:pt x="427" y="70"/>
                              </a:lnTo>
                              <a:lnTo>
                                <a:pt x="481" y="88"/>
                              </a:lnTo>
                              <a:lnTo>
                                <a:pt x="414" y="119"/>
                              </a:lnTo>
                              <a:lnTo>
                                <a:pt x="464" y="119"/>
                              </a:lnTo>
                              <a:lnTo>
                                <a:pt x="414" y="171"/>
                              </a:lnTo>
                              <a:lnTo>
                                <a:pt x="61" y="464"/>
                              </a:lnTo>
                              <a:lnTo>
                                <a:pt x="427" y="171"/>
                              </a:lnTo>
                              <a:lnTo>
                                <a:pt x="414" y="207"/>
                              </a:lnTo>
                              <a:lnTo>
                                <a:pt x="366" y="260"/>
                              </a:lnTo>
                              <a:lnTo>
                                <a:pt x="317" y="277"/>
                              </a:lnTo>
                              <a:lnTo>
                                <a:pt x="220" y="295"/>
                              </a:lnTo>
                              <a:lnTo>
                                <a:pt x="317" y="295"/>
                              </a:lnTo>
                              <a:lnTo>
                                <a:pt x="366" y="260"/>
                              </a:lnTo>
                              <a:lnTo>
                                <a:pt x="414" y="242"/>
                              </a:lnTo>
                              <a:lnTo>
                                <a:pt x="401" y="295"/>
                              </a:lnTo>
                              <a:lnTo>
                                <a:pt x="366" y="308"/>
                              </a:lnTo>
                              <a:lnTo>
                                <a:pt x="366" y="326"/>
                              </a:lnTo>
                              <a:lnTo>
                                <a:pt x="401" y="326"/>
                              </a:lnTo>
                              <a:lnTo>
                                <a:pt x="366" y="379"/>
                              </a:lnTo>
                              <a:lnTo>
                                <a:pt x="317" y="433"/>
                              </a:lnTo>
                              <a:lnTo>
                                <a:pt x="352" y="410"/>
                              </a:lnTo>
                              <a:lnTo>
                                <a:pt x="366" y="410"/>
                              </a:lnTo>
                              <a:lnTo>
                                <a:pt x="383" y="433"/>
                              </a:lnTo>
                              <a:lnTo>
                                <a:pt x="317" y="499"/>
                              </a:lnTo>
                              <a:lnTo>
                                <a:pt x="383" y="481"/>
                              </a:lnTo>
                              <a:lnTo>
                                <a:pt x="299" y="569"/>
                              </a:lnTo>
                              <a:lnTo>
                                <a:pt x="238" y="618"/>
                              </a:lnTo>
                              <a:lnTo>
                                <a:pt x="110" y="658"/>
                              </a:lnTo>
                              <a:lnTo>
                                <a:pt x="48" y="658"/>
                              </a:lnTo>
                              <a:lnTo>
                                <a:pt x="158" y="640"/>
                              </a:lnTo>
                              <a:lnTo>
                                <a:pt x="286" y="600"/>
                              </a:lnTo>
                              <a:lnTo>
                                <a:pt x="317" y="587"/>
                              </a:lnTo>
                              <a:lnTo>
                                <a:pt x="286" y="640"/>
                              </a:lnTo>
                              <a:lnTo>
                                <a:pt x="220" y="706"/>
                              </a:lnTo>
                              <a:lnTo>
                                <a:pt x="110" y="741"/>
                              </a:lnTo>
                              <a:lnTo>
                                <a:pt x="0" y="772"/>
                              </a:lnTo>
                              <a:lnTo>
                                <a:pt x="141" y="724"/>
                              </a:lnTo>
                              <a:lnTo>
                                <a:pt x="238" y="671"/>
                              </a:lnTo>
                              <a:lnTo>
                                <a:pt x="317" y="618"/>
                              </a:lnTo>
                              <a:lnTo>
                                <a:pt x="335" y="600"/>
                              </a:lnTo>
                              <a:lnTo>
                                <a:pt x="317" y="658"/>
                              </a:lnTo>
                              <a:lnTo>
                                <a:pt x="352" y="640"/>
                              </a:lnTo>
                              <a:lnTo>
                                <a:pt x="383" y="658"/>
                              </a:lnTo>
                              <a:lnTo>
                                <a:pt x="317" y="706"/>
                              </a:lnTo>
                              <a:lnTo>
                                <a:pt x="317" y="741"/>
                              </a:lnTo>
                              <a:lnTo>
                                <a:pt x="238" y="807"/>
                              </a:lnTo>
                              <a:lnTo>
                                <a:pt x="268" y="807"/>
                              </a:lnTo>
                              <a:lnTo>
                                <a:pt x="238" y="847"/>
                              </a:lnTo>
                              <a:lnTo>
                                <a:pt x="127" y="913"/>
                              </a:lnTo>
                              <a:lnTo>
                                <a:pt x="30" y="931"/>
                              </a:lnTo>
                              <a:lnTo>
                                <a:pt x="171" y="891"/>
                              </a:lnTo>
                              <a:lnTo>
                                <a:pt x="255" y="847"/>
                              </a:lnTo>
                              <a:lnTo>
                                <a:pt x="299" y="825"/>
                              </a:lnTo>
                              <a:lnTo>
                                <a:pt x="299" y="878"/>
                              </a:lnTo>
                              <a:lnTo>
                                <a:pt x="299" y="891"/>
                              </a:lnTo>
                              <a:lnTo>
                                <a:pt x="255" y="966"/>
                              </a:lnTo>
                              <a:lnTo>
                                <a:pt x="207" y="1015"/>
                              </a:lnTo>
                              <a:lnTo>
                                <a:pt x="238" y="1015"/>
                              </a:lnTo>
                              <a:lnTo>
                                <a:pt x="194" y="1050"/>
                              </a:lnTo>
                              <a:lnTo>
                                <a:pt x="17" y="1138"/>
                              </a:lnTo>
                              <a:lnTo>
                                <a:pt x="141" y="1081"/>
                              </a:lnTo>
                              <a:lnTo>
                                <a:pt x="220" y="1050"/>
                              </a:lnTo>
                              <a:lnTo>
                                <a:pt x="220" y="1103"/>
                              </a:lnTo>
                              <a:lnTo>
                                <a:pt x="171" y="1116"/>
                              </a:lnTo>
                              <a:lnTo>
                                <a:pt x="220" y="1103"/>
                              </a:lnTo>
                              <a:lnTo>
                                <a:pt x="220" y="1138"/>
                              </a:lnTo>
                              <a:lnTo>
                                <a:pt x="194" y="1169"/>
                              </a:lnTo>
                              <a:lnTo>
                                <a:pt x="48" y="1222"/>
                              </a:lnTo>
                              <a:lnTo>
                                <a:pt x="171" y="1169"/>
                              </a:lnTo>
                              <a:lnTo>
                                <a:pt x="171" y="1187"/>
                              </a:lnTo>
                              <a:lnTo>
                                <a:pt x="194" y="1204"/>
                              </a:lnTo>
                              <a:lnTo>
                                <a:pt x="48" y="1324"/>
                              </a:lnTo>
                              <a:lnTo>
                                <a:pt x="158" y="1235"/>
                              </a:lnTo>
                              <a:lnTo>
                                <a:pt x="194" y="1222"/>
                              </a:lnTo>
                              <a:lnTo>
                                <a:pt x="207" y="1258"/>
                              </a:lnTo>
                              <a:lnTo>
                                <a:pt x="171" y="1289"/>
                              </a:lnTo>
                              <a:lnTo>
                                <a:pt x="207" y="1276"/>
                              </a:lnTo>
                              <a:lnTo>
                                <a:pt x="171" y="1377"/>
                              </a:lnTo>
                              <a:lnTo>
                                <a:pt x="30" y="1496"/>
                              </a:lnTo>
                              <a:lnTo>
                                <a:pt x="171" y="1377"/>
                              </a:lnTo>
                              <a:lnTo>
                                <a:pt x="158" y="1430"/>
                              </a:lnTo>
                              <a:lnTo>
                                <a:pt x="207" y="1377"/>
                              </a:lnTo>
                              <a:lnTo>
                                <a:pt x="207" y="1430"/>
                              </a:lnTo>
                              <a:lnTo>
                                <a:pt x="220" y="1668"/>
                              </a:lnTo>
                              <a:lnTo>
                                <a:pt x="220" y="1651"/>
                              </a:lnTo>
                              <a:lnTo>
                                <a:pt x="220" y="1532"/>
                              </a:lnTo>
                              <a:lnTo>
                                <a:pt x="238" y="1443"/>
                              </a:lnTo>
                              <a:lnTo>
                                <a:pt x="255" y="1377"/>
                              </a:lnTo>
                              <a:lnTo>
                                <a:pt x="286" y="1258"/>
                              </a:lnTo>
                              <a:lnTo>
                                <a:pt x="317" y="1307"/>
                              </a:lnTo>
                              <a:lnTo>
                                <a:pt x="335" y="1307"/>
                              </a:lnTo>
                              <a:lnTo>
                                <a:pt x="335" y="1235"/>
                              </a:lnTo>
                              <a:lnTo>
                                <a:pt x="366" y="1276"/>
                              </a:lnTo>
                              <a:lnTo>
                                <a:pt x="383" y="1360"/>
                              </a:lnTo>
                              <a:lnTo>
                                <a:pt x="366" y="1258"/>
                              </a:lnTo>
                              <a:lnTo>
                                <a:pt x="352" y="1222"/>
                              </a:lnTo>
                              <a:lnTo>
                                <a:pt x="366" y="1138"/>
                              </a:lnTo>
                              <a:lnTo>
                                <a:pt x="383" y="1204"/>
                              </a:lnTo>
                              <a:lnTo>
                                <a:pt x="427" y="1342"/>
                              </a:lnTo>
                              <a:lnTo>
                                <a:pt x="481" y="1430"/>
                              </a:lnTo>
                              <a:lnTo>
                                <a:pt x="609" y="1549"/>
                              </a:lnTo>
                              <a:lnTo>
                                <a:pt x="525" y="1443"/>
                              </a:lnTo>
                              <a:lnTo>
                                <a:pt x="464" y="1360"/>
                              </a:lnTo>
                              <a:lnTo>
                                <a:pt x="427" y="1307"/>
                              </a:lnTo>
                              <a:lnTo>
                                <a:pt x="401" y="1235"/>
                              </a:lnTo>
                              <a:lnTo>
                                <a:pt x="414" y="1050"/>
                              </a:lnTo>
                              <a:lnTo>
                                <a:pt x="427" y="1103"/>
                              </a:lnTo>
                              <a:lnTo>
                                <a:pt x="427" y="997"/>
                              </a:lnTo>
                              <a:lnTo>
                                <a:pt x="427" y="966"/>
                              </a:lnTo>
                              <a:lnTo>
                                <a:pt x="464" y="1050"/>
                              </a:lnTo>
                              <a:lnTo>
                                <a:pt x="512" y="1169"/>
                              </a:lnTo>
                              <a:lnTo>
                                <a:pt x="481" y="1116"/>
                              </a:lnTo>
                              <a:lnTo>
                                <a:pt x="464" y="1050"/>
                              </a:lnTo>
                              <a:lnTo>
                                <a:pt x="464" y="860"/>
                              </a:lnTo>
                              <a:lnTo>
                                <a:pt x="481" y="878"/>
                              </a:lnTo>
                              <a:lnTo>
                                <a:pt x="494" y="772"/>
                              </a:lnTo>
                              <a:lnTo>
                                <a:pt x="543" y="807"/>
                              </a:lnTo>
                              <a:lnTo>
                                <a:pt x="569" y="904"/>
                              </a:lnTo>
                              <a:lnTo>
                                <a:pt x="658" y="1169"/>
                              </a:lnTo>
                              <a:lnTo>
                                <a:pt x="609" y="1015"/>
                              </a:lnTo>
                              <a:lnTo>
                                <a:pt x="543" y="878"/>
                              </a:lnTo>
                              <a:lnTo>
                                <a:pt x="543" y="794"/>
                              </a:lnTo>
                              <a:lnTo>
                                <a:pt x="525" y="658"/>
                              </a:lnTo>
                              <a:lnTo>
                                <a:pt x="561" y="671"/>
                              </a:lnTo>
                              <a:lnTo>
                                <a:pt x="781" y="1059"/>
                              </a:lnTo>
                              <a:lnTo>
                                <a:pt x="543" y="618"/>
                              </a:lnTo>
                              <a:lnTo>
                                <a:pt x="543" y="552"/>
                              </a:lnTo>
                              <a:lnTo>
                                <a:pt x="561" y="600"/>
                              </a:lnTo>
                              <a:lnTo>
                                <a:pt x="561" y="450"/>
                              </a:lnTo>
                              <a:lnTo>
                                <a:pt x="591" y="499"/>
                              </a:lnTo>
                              <a:lnTo>
                                <a:pt x="591" y="410"/>
                              </a:lnTo>
                              <a:lnTo>
                                <a:pt x="640" y="464"/>
                              </a:lnTo>
                              <a:lnTo>
                                <a:pt x="706" y="640"/>
                              </a:lnTo>
                              <a:lnTo>
                                <a:pt x="781" y="741"/>
                              </a:lnTo>
                              <a:lnTo>
                                <a:pt x="821" y="860"/>
                              </a:lnTo>
                              <a:lnTo>
                                <a:pt x="781" y="741"/>
                              </a:lnTo>
                              <a:lnTo>
                                <a:pt x="719" y="658"/>
                              </a:lnTo>
                              <a:lnTo>
                                <a:pt x="658" y="534"/>
                              </a:lnTo>
                              <a:lnTo>
                                <a:pt x="640" y="450"/>
                              </a:lnTo>
                              <a:lnTo>
                                <a:pt x="609" y="295"/>
                              </a:lnTo>
                              <a:lnTo>
                                <a:pt x="622" y="308"/>
                              </a:lnTo>
                              <a:lnTo>
                                <a:pt x="658" y="295"/>
                              </a:lnTo>
                              <a:lnTo>
                                <a:pt x="640" y="229"/>
                              </a:lnTo>
                              <a:lnTo>
                                <a:pt x="671" y="295"/>
                              </a:lnTo>
                              <a:lnTo>
                                <a:pt x="706" y="361"/>
                              </a:lnTo>
                              <a:lnTo>
                                <a:pt x="781" y="433"/>
                              </a:lnTo>
                              <a:lnTo>
                                <a:pt x="750" y="410"/>
                              </a:lnTo>
                              <a:lnTo>
                                <a:pt x="706" y="343"/>
                              </a:lnTo>
                              <a:lnTo>
                                <a:pt x="688" y="308"/>
                              </a:lnTo>
                              <a:lnTo>
                                <a:pt x="688" y="136"/>
                              </a:lnTo>
                              <a:lnTo>
                                <a:pt x="719" y="189"/>
                              </a:lnTo>
                              <a:lnTo>
                                <a:pt x="768" y="277"/>
                              </a:lnTo>
                              <a:lnTo>
                                <a:pt x="865" y="410"/>
                              </a:lnTo>
                              <a:lnTo>
                                <a:pt x="750" y="277"/>
                              </a:lnTo>
                              <a:lnTo>
                                <a:pt x="719" y="154"/>
                              </a:lnTo>
                              <a:lnTo>
                                <a:pt x="733" y="70"/>
                              </a:lnTo>
                              <a:lnTo>
                                <a:pt x="658" y="17"/>
                              </a:lnTo>
                              <a:lnTo>
                                <a:pt x="631" y="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" name=""/>
                      <p:cNvGrpSpPr/>
                      <p:nvPr/>
                    </p:nvGrpSpPr>
                    <p:grpSpPr>
                      <a:xfrm>
                        <a:off x="434880" y="5253120"/>
                        <a:ext cx="582840" cy="1367280"/>
                        <a:chOff x="434880" y="5253120"/>
                        <a:chExt cx="582840" cy="1367280"/>
                      </a:xfrm>
                    </p:grpSpPr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>
                          <a:off x="663480" y="6048360"/>
                          <a:ext cx="354240" cy="572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984" h="1589">
                              <a:moveTo>
                                <a:pt x="984" y="1589"/>
                              </a:moveTo>
                              <a:lnTo>
                                <a:pt x="839" y="1437"/>
                              </a:lnTo>
                              <a:lnTo>
                                <a:pt x="782" y="1343"/>
                              </a:lnTo>
                              <a:lnTo>
                                <a:pt x="743" y="1269"/>
                              </a:lnTo>
                              <a:lnTo>
                                <a:pt x="525" y="533"/>
                              </a:lnTo>
                              <a:lnTo>
                                <a:pt x="407" y="299"/>
                              </a:lnTo>
                              <a:lnTo>
                                <a:pt x="316" y="151"/>
                              </a:lnTo>
                              <a:lnTo>
                                <a:pt x="250" y="80"/>
                              </a:lnTo>
                              <a:lnTo>
                                <a:pt x="168" y="23"/>
                              </a:lnTo>
                              <a:lnTo>
                                <a:pt x="90" y="0"/>
                              </a:lnTo>
                              <a:lnTo>
                                <a:pt x="30" y="13"/>
                              </a:lnTo>
                              <a:lnTo>
                                <a:pt x="0" y="107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434880" y="5253120"/>
                          <a:ext cx="540000" cy="13608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1500" h="3780">
                              <a:moveTo>
                                <a:pt x="1500" y="3780"/>
                              </a:moveTo>
                              <a:lnTo>
                                <a:pt x="1458" y="3480"/>
                              </a:lnTo>
                              <a:lnTo>
                                <a:pt x="986" y="1428"/>
                              </a:lnTo>
                              <a:lnTo>
                                <a:pt x="777" y="796"/>
                              </a:lnTo>
                              <a:lnTo>
                                <a:pt x="713" y="585"/>
                              </a:lnTo>
                              <a:lnTo>
                                <a:pt x="633" y="346"/>
                              </a:lnTo>
                              <a:lnTo>
                                <a:pt x="540" y="164"/>
                              </a:lnTo>
                              <a:lnTo>
                                <a:pt x="453" y="70"/>
                              </a:lnTo>
                              <a:lnTo>
                                <a:pt x="343" y="3"/>
                              </a:lnTo>
                              <a:lnTo>
                                <a:pt x="232" y="0"/>
                              </a:lnTo>
                              <a:lnTo>
                                <a:pt x="158" y="73"/>
                              </a:lnTo>
                              <a:lnTo>
                                <a:pt x="0" y="423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687240" y="5237280"/>
                    <a:ext cx="253080" cy="1387800"/>
                    <a:chOff x="687240" y="5237280"/>
                    <a:chExt cx="253080" cy="1387800"/>
                  </a:xfrm>
                </p:grpSpPr>
                <p:grpSp>
                  <p:nvGrpSpPr>
                    <p:cNvPr id="79" name=""/>
                    <p:cNvGrpSpPr/>
                    <p:nvPr/>
                  </p:nvGrpSpPr>
                  <p:grpSpPr>
                    <a:xfrm>
                      <a:off x="687240" y="5243400"/>
                      <a:ext cx="253080" cy="1181520"/>
                      <a:chOff x="687240" y="5243400"/>
                      <a:chExt cx="253080" cy="1181520"/>
                    </a:xfrm>
                  </p:grpSpPr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865080" y="5938920"/>
                        <a:ext cx="35280" cy="486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8" h="1350">
                            <a:moveTo>
                              <a:pt x="19" y="0"/>
                            </a:moveTo>
                            <a:lnTo>
                              <a:pt x="38" y="101"/>
                            </a:lnTo>
                            <a:lnTo>
                              <a:pt x="59" y="264"/>
                            </a:lnTo>
                            <a:lnTo>
                              <a:pt x="78" y="489"/>
                            </a:lnTo>
                            <a:lnTo>
                              <a:pt x="98" y="777"/>
                            </a:lnTo>
                            <a:lnTo>
                              <a:pt x="98" y="1081"/>
                            </a:lnTo>
                            <a:lnTo>
                              <a:pt x="88" y="1350"/>
                            </a:lnTo>
                            <a:lnTo>
                              <a:pt x="78" y="1350"/>
                            </a:lnTo>
                            <a:lnTo>
                              <a:pt x="88" y="1081"/>
                            </a:lnTo>
                            <a:lnTo>
                              <a:pt x="88" y="860"/>
                            </a:lnTo>
                            <a:lnTo>
                              <a:pt x="68" y="613"/>
                            </a:lnTo>
                            <a:lnTo>
                              <a:pt x="38" y="369"/>
                            </a:lnTo>
                            <a:lnTo>
                              <a:pt x="0" y="61"/>
                            </a:lnTo>
                            <a:lnTo>
                              <a:pt x="19" y="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87240" y="5670720"/>
                        <a:ext cx="59040" cy="484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4" h="1346">
                            <a:moveTo>
                              <a:pt x="160" y="210"/>
                            </a:moveTo>
                            <a:lnTo>
                              <a:pt x="126" y="0"/>
                            </a:lnTo>
                            <a:lnTo>
                              <a:pt x="103" y="3"/>
                            </a:lnTo>
                            <a:lnTo>
                              <a:pt x="86" y="14"/>
                            </a:lnTo>
                            <a:lnTo>
                              <a:pt x="70" y="72"/>
                            </a:lnTo>
                            <a:lnTo>
                              <a:pt x="32" y="247"/>
                            </a:lnTo>
                            <a:lnTo>
                              <a:pt x="20" y="323"/>
                            </a:lnTo>
                            <a:lnTo>
                              <a:pt x="12" y="400"/>
                            </a:lnTo>
                            <a:lnTo>
                              <a:pt x="2" y="633"/>
                            </a:lnTo>
                            <a:lnTo>
                              <a:pt x="0" y="702"/>
                            </a:lnTo>
                            <a:lnTo>
                              <a:pt x="2" y="789"/>
                            </a:lnTo>
                            <a:lnTo>
                              <a:pt x="8" y="884"/>
                            </a:lnTo>
                            <a:lnTo>
                              <a:pt x="23" y="1027"/>
                            </a:lnTo>
                            <a:lnTo>
                              <a:pt x="36" y="1121"/>
                            </a:lnTo>
                            <a:lnTo>
                              <a:pt x="55" y="1223"/>
                            </a:lnTo>
                            <a:lnTo>
                              <a:pt x="92" y="1346"/>
                            </a:lnTo>
                            <a:lnTo>
                              <a:pt x="72" y="1190"/>
                            </a:lnTo>
                            <a:lnTo>
                              <a:pt x="57" y="1048"/>
                            </a:lnTo>
                            <a:lnTo>
                              <a:pt x="48" y="917"/>
                            </a:lnTo>
                            <a:lnTo>
                              <a:pt x="51" y="789"/>
                            </a:lnTo>
                            <a:lnTo>
                              <a:pt x="55" y="702"/>
                            </a:lnTo>
                            <a:lnTo>
                              <a:pt x="48" y="593"/>
                            </a:lnTo>
                            <a:lnTo>
                              <a:pt x="45" y="502"/>
                            </a:lnTo>
                            <a:lnTo>
                              <a:pt x="60" y="323"/>
                            </a:lnTo>
                            <a:lnTo>
                              <a:pt x="62" y="229"/>
                            </a:lnTo>
                            <a:lnTo>
                              <a:pt x="76" y="152"/>
                            </a:lnTo>
                            <a:lnTo>
                              <a:pt x="103" y="54"/>
                            </a:lnTo>
                            <a:lnTo>
                              <a:pt x="117" y="130"/>
                            </a:lnTo>
                            <a:lnTo>
                              <a:pt x="164" y="254"/>
                            </a:lnTo>
                            <a:lnTo>
                              <a:pt x="160" y="21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789120" y="5243400"/>
                        <a:ext cx="151200" cy="875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20" h="2431">
                            <a:moveTo>
                              <a:pt x="93" y="0"/>
                            </a:moveTo>
                            <a:lnTo>
                              <a:pt x="112" y="7"/>
                            </a:lnTo>
                            <a:lnTo>
                              <a:pt x="137" y="29"/>
                            </a:lnTo>
                            <a:lnTo>
                              <a:pt x="120" y="40"/>
                            </a:lnTo>
                            <a:lnTo>
                              <a:pt x="133" y="69"/>
                            </a:lnTo>
                            <a:lnTo>
                              <a:pt x="148" y="102"/>
                            </a:lnTo>
                            <a:lnTo>
                              <a:pt x="171" y="117"/>
                            </a:lnTo>
                            <a:lnTo>
                              <a:pt x="205" y="109"/>
                            </a:lnTo>
                            <a:lnTo>
                              <a:pt x="241" y="91"/>
                            </a:lnTo>
                            <a:lnTo>
                              <a:pt x="337" y="109"/>
                            </a:lnTo>
                            <a:lnTo>
                              <a:pt x="245" y="95"/>
                            </a:lnTo>
                            <a:lnTo>
                              <a:pt x="205" y="124"/>
                            </a:lnTo>
                            <a:lnTo>
                              <a:pt x="171" y="117"/>
                            </a:lnTo>
                            <a:lnTo>
                              <a:pt x="148" y="139"/>
                            </a:lnTo>
                            <a:lnTo>
                              <a:pt x="166" y="164"/>
                            </a:lnTo>
                            <a:lnTo>
                              <a:pt x="154" y="179"/>
                            </a:lnTo>
                            <a:lnTo>
                              <a:pt x="184" y="234"/>
                            </a:lnTo>
                            <a:lnTo>
                              <a:pt x="253" y="226"/>
                            </a:lnTo>
                            <a:lnTo>
                              <a:pt x="343" y="420"/>
                            </a:lnTo>
                            <a:lnTo>
                              <a:pt x="253" y="234"/>
                            </a:lnTo>
                            <a:lnTo>
                              <a:pt x="184" y="248"/>
                            </a:lnTo>
                            <a:lnTo>
                              <a:pt x="166" y="256"/>
                            </a:lnTo>
                            <a:lnTo>
                              <a:pt x="202" y="318"/>
                            </a:lnTo>
                            <a:lnTo>
                              <a:pt x="179" y="318"/>
                            </a:lnTo>
                            <a:lnTo>
                              <a:pt x="218" y="395"/>
                            </a:lnTo>
                            <a:lnTo>
                              <a:pt x="292" y="490"/>
                            </a:lnTo>
                            <a:lnTo>
                              <a:pt x="377" y="663"/>
                            </a:lnTo>
                            <a:lnTo>
                              <a:pt x="291" y="504"/>
                            </a:lnTo>
                            <a:lnTo>
                              <a:pt x="215" y="409"/>
                            </a:lnTo>
                            <a:lnTo>
                              <a:pt x="194" y="413"/>
                            </a:lnTo>
                            <a:lnTo>
                              <a:pt x="227" y="468"/>
                            </a:lnTo>
                            <a:lnTo>
                              <a:pt x="205" y="483"/>
                            </a:lnTo>
                            <a:lnTo>
                              <a:pt x="233" y="556"/>
                            </a:lnTo>
                            <a:lnTo>
                              <a:pt x="412" y="1142"/>
                            </a:lnTo>
                            <a:lnTo>
                              <a:pt x="233" y="567"/>
                            </a:lnTo>
                            <a:lnTo>
                              <a:pt x="207" y="567"/>
                            </a:lnTo>
                            <a:lnTo>
                              <a:pt x="235" y="656"/>
                            </a:lnTo>
                            <a:lnTo>
                              <a:pt x="215" y="648"/>
                            </a:lnTo>
                            <a:lnTo>
                              <a:pt x="241" y="762"/>
                            </a:lnTo>
                            <a:lnTo>
                              <a:pt x="316" y="963"/>
                            </a:lnTo>
                            <a:lnTo>
                              <a:pt x="392" y="1252"/>
                            </a:lnTo>
                            <a:lnTo>
                              <a:pt x="316" y="967"/>
                            </a:lnTo>
                            <a:lnTo>
                              <a:pt x="240" y="769"/>
                            </a:lnTo>
                            <a:lnTo>
                              <a:pt x="215" y="743"/>
                            </a:lnTo>
                            <a:lnTo>
                              <a:pt x="233" y="817"/>
                            </a:lnTo>
                            <a:lnTo>
                              <a:pt x="218" y="802"/>
                            </a:lnTo>
                            <a:lnTo>
                              <a:pt x="241" y="915"/>
                            </a:lnTo>
                            <a:lnTo>
                              <a:pt x="301" y="1124"/>
                            </a:lnTo>
                            <a:lnTo>
                              <a:pt x="420" y="1398"/>
                            </a:lnTo>
                            <a:lnTo>
                              <a:pt x="304" y="1128"/>
                            </a:lnTo>
                            <a:lnTo>
                              <a:pt x="240" y="919"/>
                            </a:lnTo>
                            <a:lnTo>
                              <a:pt x="230" y="919"/>
                            </a:lnTo>
                            <a:lnTo>
                              <a:pt x="341" y="1541"/>
                            </a:lnTo>
                            <a:lnTo>
                              <a:pt x="225" y="919"/>
                            </a:lnTo>
                            <a:lnTo>
                              <a:pt x="240" y="1003"/>
                            </a:lnTo>
                            <a:lnTo>
                              <a:pt x="225" y="974"/>
                            </a:lnTo>
                            <a:lnTo>
                              <a:pt x="248" y="1102"/>
                            </a:lnTo>
                            <a:lnTo>
                              <a:pt x="325" y="1391"/>
                            </a:lnTo>
                            <a:lnTo>
                              <a:pt x="248" y="1124"/>
                            </a:lnTo>
                            <a:lnTo>
                              <a:pt x="227" y="1102"/>
                            </a:lnTo>
                            <a:lnTo>
                              <a:pt x="248" y="1182"/>
                            </a:lnTo>
                            <a:lnTo>
                              <a:pt x="340" y="1750"/>
                            </a:lnTo>
                            <a:lnTo>
                              <a:pt x="268" y="1311"/>
                            </a:lnTo>
                            <a:lnTo>
                              <a:pt x="241" y="1182"/>
                            </a:lnTo>
                            <a:lnTo>
                              <a:pt x="227" y="1168"/>
                            </a:lnTo>
                            <a:lnTo>
                              <a:pt x="245" y="1259"/>
                            </a:lnTo>
                            <a:lnTo>
                              <a:pt x="230" y="1245"/>
                            </a:lnTo>
                            <a:lnTo>
                              <a:pt x="253" y="1358"/>
                            </a:lnTo>
                            <a:lnTo>
                              <a:pt x="264" y="1453"/>
                            </a:lnTo>
                            <a:lnTo>
                              <a:pt x="381" y="1779"/>
                            </a:lnTo>
                            <a:lnTo>
                              <a:pt x="261" y="1461"/>
                            </a:lnTo>
                            <a:lnTo>
                              <a:pt x="248" y="1391"/>
                            </a:lnTo>
                            <a:lnTo>
                              <a:pt x="233" y="1373"/>
                            </a:lnTo>
                            <a:lnTo>
                              <a:pt x="261" y="1556"/>
                            </a:lnTo>
                            <a:lnTo>
                              <a:pt x="230" y="1373"/>
                            </a:lnTo>
                            <a:lnTo>
                              <a:pt x="248" y="1461"/>
                            </a:lnTo>
                            <a:lnTo>
                              <a:pt x="227" y="1439"/>
                            </a:lnTo>
                            <a:lnTo>
                              <a:pt x="241" y="1515"/>
                            </a:lnTo>
                            <a:lnTo>
                              <a:pt x="281" y="1783"/>
                            </a:lnTo>
                            <a:lnTo>
                              <a:pt x="321" y="1945"/>
                            </a:lnTo>
                            <a:lnTo>
                              <a:pt x="281" y="1783"/>
                            </a:lnTo>
                            <a:lnTo>
                              <a:pt x="240" y="1526"/>
                            </a:lnTo>
                            <a:lnTo>
                              <a:pt x="225" y="1515"/>
                            </a:lnTo>
                            <a:lnTo>
                              <a:pt x="230" y="1578"/>
                            </a:lnTo>
                            <a:lnTo>
                              <a:pt x="261" y="1750"/>
                            </a:lnTo>
                            <a:lnTo>
                              <a:pt x="227" y="1596"/>
                            </a:lnTo>
                            <a:lnTo>
                              <a:pt x="218" y="1541"/>
                            </a:lnTo>
                            <a:lnTo>
                              <a:pt x="233" y="1680"/>
                            </a:lnTo>
                            <a:lnTo>
                              <a:pt x="215" y="1654"/>
                            </a:lnTo>
                            <a:lnTo>
                              <a:pt x="222" y="1764"/>
                            </a:lnTo>
                            <a:lnTo>
                              <a:pt x="210" y="1717"/>
                            </a:lnTo>
                            <a:lnTo>
                              <a:pt x="202" y="1757"/>
                            </a:lnTo>
                            <a:lnTo>
                              <a:pt x="205" y="1875"/>
                            </a:lnTo>
                            <a:lnTo>
                              <a:pt x="278" y="2431"/>
                            </a:lnTo>
                            <a:lnTo>
                              <a:pt x="199" y="1875"/>
                            </a:lnTo>
                            <a:lnTo>
                              <a:pt x="199" y="1750"/>
                            </a:lnTo>
                            <a:lnTo>
                              <a:pt x="199" y="1676"/>
                            </a:lnTo>
                            <a:lnTo>
                              <a:pt x="183" y="1717"/>
                            </a:lnTo>
                            <a:lnTo>
                              <a:pt x="48" y="2084"/>
                            </a:lnTo>
                            <a:lnTo>
                              <a:pt x="187" y="1680"/>
                            </a:lnTo>
                            <a:lnTo>
                              <a:pt x="199" y="1578"/>
                            </a:lnTo>
                            <a:lnTo>
                              <a:pt x="184" y="1596"/>
                            </a:lnTo>
                            <a:lnTo>
                              <a:pt x="205" y="1472"/>
                            </a:lnTo>
                            <a:lnTo>
                              <a:pt x="187" y="1523"/>
                            </a:lnTo>
                            <a:lnTo>
                              <a:pt x="158" y="1702"/>
                            </a:lnTo>
                            <a:lnTo>
                              <a:pt x="184" y="1508"/>
                            </a:lnTo>
                            <a:lnTo>
                              <a:pt x="199" y="1431"/>
                            </a:lnTo>
                            <a:lnTo>
                              <a:pt x="197" y="1431"/>
                            </a:lnTo>
                            <a:lnTo>
                              <a:pt x="179" y="1472"/>
                            </a:lnTo>
                            <a:lnTo>
                              <a:pt x="146" y="1570"/>
                            </a:lnTo>
                            <a:lnTo>
                              <a:pt x="30" y="1644"/>
                            </a:lnTo>
                            <a:lnTo>
                              <a:pt x="148" y="1556"/>
                            </a:lnTo>
                            <a:lnTo>
                              <a:pt x="184" y="1439"/>
                            </a:lnTo>
                            <a:lnTo>
                              <a:pt x="197" y="1347"/>
                            </a:lnTo>
                            <a:lnTo>
                              <a:pt x="179" y="1347"/>
                            </a:lnTo>
                            <a:lnTo>
                              <a:pt x="197" y="1259"/>
                            </a:lnTo>
                            <a:lnTo>
                              <a:pt x="174" y="1278"/>
                            </a:lnTo>
                            <a:lnTo>
                              <a:pt x="93" y="1453"/>
                            </a:lnTo>
                            <a:lnTo>
                              <a:pt x="174" y="1274"/>
                            </a:lnTo>
                            <a:lnTo>
                              <a:pt x="191" y="1168"/>
                            </a:lnTo>
                            <a:lnTo>
                              <a:pt x="171" y="1197"/>
                            </a:lnTo>
                            <a:lnTo>
                              <a:pt x="184" y="1113"/>
                            </a:lnTo>
                            <a:lnTo>
                              <a:pt x="166" y="1168"/>
                            </a:lnTo>
                            <a:lnTo>
                              <a:pt x="179" y="1043"/>
                            </a:lnTo>
                            <a:lnTo>
                              <a:pt x="163" y="1106"/>
                            </a:lnTo>
                            <a:lnTo>
                              <a:pt x="91" y="1376"/>
                            </a:lnTo>
                            <a:lnTo>
                              <a:pt x="166" y="1106"/>
                            </a:lnTo>
                            <a:lnTo>
                              <a:pt x="183" y="948"/>
                            </a:lnTo>
                            <a:lnTo>
                              <a:pt x="163" y="981"/>
                            </a:lnTo>
                            <a:lnTo>
                              <a:pt x="45" y="1135"/>
                            </a:lnTo>
                            <a:lnTo>
                              <a:pt x="163" y="974"/>
                            </a:lnTo>
                            <a:lnTo>
                              <a:pt x="176" y="838"/>
                            </a:lnTo>
                            <a:lnTo>
                              <a:pt x="160" y="860"/>
                            </a:lnTo>
                            <a:lnTo>
                              <a:pt x="174" y="780"/>
                            </a:lnTo>
                            <a:lnTo>
                              <a:pt x="158" y="809"/>
                            </a:lnTo>
                            <a:lnTo>
                              <a:pt x="102" y="1190"/>
                            </a:lnTo>
                            <a:lnTo>
                              <a:pt x="160" y="776"/>
                            </a:lnTo>
                            <a:lnTo>
                              <a:pt x="160" y="670"/>
                            </a:lnTo>
                            <a:lnTo>
                              <a:pt x="143" y="721"/>
                            </a:lnTo>
                            <a:lnTo>
                              <a:pt x="109" y="934"/>
                            </a:lnTo>
                            <a:lnTo>
                              <a:pt x="151" y="656"/>
                            </a:lnTo>
                            <a:lnTo>
                              <a:pt x="158" y="567"/>
                            </a:lnTo>
                            <a:lnTo>
                              <a:pt x="143" y="607"/>
                            </a:lnTo>
                            <a:lnTo>
                              <a:pt x="99" y="780"/>
                            </a:lnTo>
                            <a:lnTo>
                              <a:pt x="0" y="879"/>
                            </a:lnTo>
                            <a:lnTo>
                              <a:pt x="102" y="769"/>
                            </a:lnTo>
                            <a:lnTo>
                              <a:pt x="140" y="581"/>
                            </a:lnTo>
                            <a:lnTo>
                              <a:pt x="146" y="464"/>
                            </a:lnTo>
                            <a:lnTo>
                              <a:pt x="128" y="519"/>
                            </a:lnTo>
                            <a:lnTo>
                              <a:pt x="137" y="409"/>
                            </a:lnTo>
                            <a:lnTo>
                              <a:pt x="71" y="699"/>
                            </a:lnTo>
                            <a:lnTo>
                              <a:pt x="133" y="395"/>
                            </a:lnTo>
                            <a:lnTo>
                              <a:pt x="140" y="311"/>
                            </a:lnTo>
                            <a:lnTo>
                              <a:pt x="120" y="376"/>
                            </a:lnTo>
                            <a:lnTo>
                              <a:pt x="123" y="241"/>
                            </a:lnTo>
                            <a:lnTo>
                              <a:pt x="96" y="303"/>
                            </a:lnTo>
                            <a:lnTo>
                              <a:pt x="5" y="534"/>
                            </a:lnTo>
                            <a:lnTo>
                              <a:pt x="96" y="296"/>
                            </a:lnTo>
                            <a:lnTo>
                              <a:pt x="109" y="164"/>
                            </a:lnTo>
                            <a:lnTo>
                              <a:pt x="93" y="201"/>
                            </a:lnTo>
                            <a:lnTo>
                              <a:pt x="102" y="102"/>
                            </a:lnTo>
                            <a:lnTo>
                              <a:pt x="88" y="131"/>
                            </a:lnTo>
                            <a:lnTo>
                              <a:pt x="85" y="54"/>
                            </a:lnTo>
                            <a:lnTo>
                              <a:pt x="88" y="21"/>
                            </a:lnTo>
                            <a:lnTo>
                              <a:pt x="93" y="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" name=""/>
                    <p:cNvGrpSpPr/>
                    <p:nvPr/>
                  </p:nvGrpSpPr>
                  <p:grpSpPr>
                    <a:xfrm>
                      <a:off x="738360" y="5237280"/>
                      <a:ext cx="132120" cy="1387800"/>
                      <a:chOff x="738360" y="5237280"/>
                      <a:chExt cx="132120" cy="1387800"/>
                    </a:xfrm>
                  </p:grpSpPr>
                  <p:sp>
                    <p:nvSpPr>
                      <p:cNvPr id="84" name=""/>
                      <p:cNvSpPr/>
                      <p:nvPr/>
                    </p:nvSpPr>
                    <p:spPr>
                      <a:xfrm>
                        <a:off x="743040" y="5894280"/>
                        <a:ext cx="127440" cy="568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354" h="1580">
                            <a:moveTo>
                              <a:pt x="0" y="1580"/>
                            </a:moveTo>
                            <a:lnTo>
                              <a:pt x="52" y="1229"/>
                            </a:lnTo>
                            <a:lnTo>
                              <a:pt x="97" y="840"/>
                            </a:lnTo>
                            <a:lnTo>
                              <a:pt x="120" y="666"/>
                            </a:lnTo>
                            <a:lnTo>
                              <a:pt x="152" y="470"/>
                            </a:lnTo>
                            <a:lnTo>
                              <a:pt x="195" y="262"/>
                            </a:lnTo>
                            <a:lnTo>
                              <a:pt x="227" y="133"/>
                            </a:lnTo>
                            <a:lnTo>
                              <a:pt x="251" y="70"/>
                            </a:lnTo>
                            <a:lnTo>
                              <a:pt x="285" y="18"/>
                            </a:lnTo>
                            <a:lnTo>
                              <a:pt x="321" y="0"/>
                            </a:lnTo>
                            <a:lnTo>
                              <a:pt x="337" y="44"/>
                            </a:lnTo>
                            <a:lnTo>
                              <a:pt x="354" y="147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8360" y="5237280"/>
                        <a:ext cx="87840" cy="1387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44" h="3855">
                            <a:moveTo>
                              <a:pt x="1" y="3855"/>
                            </a:moveTo>
                            <a:lnTo>
                              <a:pt x="0" y="3496"/>
                            </a:lnTo>
                            <a:lnTo>
                              <a:pt x="0" y="3223"/>
                            </a:lnTo>
                            <a:lnTo>
                              <a:pt x="5" y="3034"/>
                            </a:lnTo>
                            <a:lnTo>
                              <a:pt x="8" y="2801"/>
                            </a:lnTo>
                            <a:lnTo>
                              <a:pt x="8" y="2561"/>
                            </a:lnTo>
                            <a:lnTo>
                              <a:pt x="9" y="2362"/>
                            </a:lnTo>
                            <a:lnTo>
                              <a:pt x="16" y="2177"/>
                            </a:lnTo>
                            <a:lnTo>
                              <a:pt x="24" y="1854"/>
                            </a:lnTo>
                            <a:lnTo>
                              <a:pt x="36" y="1503"/>
                            </a:lnTo>
                            <a:lnTo>
                              <a:pt x="51" y="1149"/>
                            </a:lnTo>
                            <a:lnTo>
                              <a:pt x="64" y="768"/>
                            </a:lnTo>
                            <a:lnTo>
                              <a:pt x="75" y="543"/>
                            </a:lnTo>
                            <a:lnTo>
                              <a:pt x="83" y="454"/>
                            </a:lnTo>
                            <a:lnTo>
                              <a:pt x="106" y="299"/>
                            </a:lnTo>
                            <a:lnTo>
                              <a:pt x="126" y="188"/>
                            </a:lnTo>
                            <a:lnTo>
                              <a:pt x="150" y="99"/>
                            </a:lnTo>
                            <a:lnTo>
                              <a:pt x="174" y="22"/>
                            </a:lnTo>
                            <a:lnTo>
                              <a:pt x="193" y="0"/>
                            </a:lnTo>
                            <a:lnTo>
                              <a:pt x="216" y="0"/>
                            </a:lnTo>
                            <a:lnTo>
                              <a:pt x="236" y="29"/>
                            </a:lnTo>
                            <a:lnTo>
                              <a:pt x="244" y="66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3429000"/>
                    <a:ext cx="854280" cy="3321360"/>
                    <a:chOff x="0" y="3429000"/>
                    <a:chExt cx="854280" cy="332136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0" y="4102200"/>
                      <a:ext cx="438480" cy="2381760"/>
                      <a:chOff x="0" y="4102200"/>
                      <a:chExt cx="438480" cy="238176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0" y="4356000"/>
                        <a:ext cx="206640" cy="1046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74" h="2907">
                            <a:moveTo>
                              <a:pt x="362" y="44"/>
                            </a:moveTo>
                            <a:lnTo>
                              <a:pt x="322" y="0"/>
                            </a:lnTo>
                            <a:lnTo>
                              <a:pt x="292" y="92"/>
                            </a:lnTo>
                            <a:lnTo>
                              <a:pt x="268" y="119"/>
                            </a:lnTo>
                            <a:lnTo>
                              <a:pt x="202" y="149"/>
                            </a:lnTo>
                            <a:lnTo>
                              <a:pt x="48" y="149"/>
                            </a:lnTo>
                            <a:lnTo>
                              <a:pt x="202" y="176"/>
                            </a:lnTo>
                            <a:lnTo>
                              <a:pt x="242" y="119"/>
                            </a:lnTo>
                            <a:lnTo>
                              <a:pt x="273" y="149"/>
                            </a:lnTo>
                            <a:lnTo>
                              <a:pt x="233" y="211"/>
                            </a:lnTo>
                            <a:lnTo>
                              <a:pt x="268" y="211"/>
                            </a:lnTo>
                            <a:lnTo>
                              <a:pt x="233" y="304"/>
                            </a:lnTo>
                            <a:lnTo>
                              <a:pt x="30" y="815"/>
                            </a:lnTo>
                            <a:lnTo>
                              <a:pt x="242" y="304"/>
                            </a:lnTo>
                            <a:lnTo>
                              <a:pt x="233" y="361"/>
                            </a:lnTo>
                            <a:lnTo>
                              <a:pt x="211" y="454"/>
                            </a:lnTo>
                            <a:lnTo>
                              <a:pt x="180" y="480"/>
                            </a:lnTo>
                            <a:lnTo>
                              <a:pt x="123" y="507"/>
                            </a:lnTo>
                            <a:lnTo>
                              <a:pt x="30" y="454"/>
                            </a:lnTo>
                            <a:lnTo>
                              <a:pt x="180" y="507"/>
                            </a:lnTo>
                            <a:lnTo>
                              <a:pt x="211" y="454"/>
                            </a:lnTo>
                            <a:lnTo>
                              <a:pt x="233" y="414"/>
                            </a:lnTo>
                            <a:lnTo>
                              <a:pt x="229" y="507"/>
                            </a:lnTo>
                            <a:lnTo>
                              <a:pt x="211" y="546"/>
                            </a:lnTo>
                            <a:lnTo>
                              <a:pt x="22" y="842"/>
                            </a:lnTo>
                            <a:lnTo>
                              <a:pt x="211" y="573"/>
                            </a:lnTo>
                            <a:lnTo>
                              <a:pt x="229" y="573"/>
                            </a:lnTo>
                            <a:lnTo>
                              <a:pt x="211" y="657"/>
                            </a:lnTo>
                            <a:lnTo>
                              <a:pt x="180" y="749"/>
                            </a:lnTo>
                            <a:lnTo>
                              <a:pt x="22" y="934"/>
                            </a:lnTo>
                            <a:lnTo>
                              <a:pt x="202" y="714"/>
                            </a:lnTo>
                            <a:lnTo>
                              <a:pt x="211" y="714"/>
                            </a:lnTo>
                            <a:lnTo>
                              <a:pt x="220" y="749"/>
                            </a:lnTo>
                            <a:lnTo>
                              <a:pt x="180" y="868"/>
                            </a:lnTo>
                            <a:lnTo>
                              <a:pt x="220" y="842"/>
                            </a:lnTo>
                            <a:lnTo>
                              <a:pt x="171" y="987"/>
                            </a:lnTo>
                            <a:lnTo>
                              <a:pt x="132" y="1071"/>
                            </a:lnTo>
                            <a:lnTo>
                              <a:pt x="61" y="1137"/>
                            </a:lnTo>
                            <a:lnTo>
                              <a:pt x="22" y="1137"/>
                            </a:lnTo>
                            <a:lnTo>
                              <a:pt x="92" y="1111"/>
                            </a:lnTo>
                            <a:lnTo>
                              <a:pt x="163" y="1045"/>
                            </a:lnTo>
                            <a:lnTo>
                              <a:pt x="180" y="1018"/>
                            </a:lnTo>
                            <a:lnTo>
                              <a:pt x="163" y="1111"/>
                            </a:lnTo>
                            <a:lnTo>
                              <a:pt x="123" y="1230"/>
                            </a:lnTo>
                            <a:lnTo>
                              <a:pt x="61" y="1296"/>
                            </a:lnTo>
                            <a:lnTo>
                              <a:pt x="0" y="1340"/>
                            </a:lnTo>
                            <a:lnTo>
                              <a:pt x="79" y="1256"/>
                            </a:lnTo>
                            <a:lnTo>
                              <a:pt x="132" y="1164"/>
                            </a:lnTo>
                            <a:lnTo>
                              <a:pt x="180" y="1071"/>
                            </a:lnTo>
                            <a:lnTo>
                              <a:pt x="189" y="1045"/>
                            </a:lnTo>
                            <a:lnTo>
                              <a:pt x="180" y="1137"/>
                            </a:lnTo>
                            <a:lnTo>
                              <a:pt x="202" y="1111"/>
                            </a:lnTo>
                            <a:lnTo>
                              <a:pt x="220" y="1137"/>
                            </a:lnTo>
                            <a:lnTo>
                              <a:pt x="180" y="1230"/>
                            </a:lnTo>
                            <a:lnTo>
                              <a:pt x="180" y="1296"/>
                            </a:lnTo>
                            <a:lnTo>
                              <a:pt x="132" y="1406"/>
                            </a:lnTo>
                            <a:lnTo>
                              <a:pt x="158" y="1406"/>
                            </a:lnTo>
                            <a:lnTo>
                              <a:pt x="132" y="1473"/>
                            </a:lnTo>
                            <a:lnTo>
                              <a:pt x="70" y="1592"/>
                            </a:lnTo>
                            <a:lnTo>
                              <a:pt x="17" y="1619"/>
                            </a:lnTo>
                            <a:lnTo>
                              <a:pt x="101" y="1553"/>
                            </a:lnTo>
                            <a:lnTo>
                              <a:pt x="149" y="1473"/>
                            </a:lnTo>
                            <a:lnTo>
                              <a:pt x="171" y="1441"/>
                            </a:lnTo>
                            <a:lnTo>
                              <a:pt x="171" y="1526"/>
                            </a:lnTo>
                            <a:lnTo>
                              <a:pt x="171" y="1553"/>
                            </a:lnTo>
                            <a:lnTo>
                              <a:pt x="149" y="1685"/>
                            </a:lnTo>
                            <a:lnTo>
                              <a:pt x="119" y="1769"/>
                            </a:lnTo>
                            <a:lnTo>
                              <a:pt x="132" y="1769"/>
                            </a:lnTo>
                            <a:lnTo>
                              <a:pt x="110" y="1831"/>
                            </a:lnTo>
                            <a:lnTo>
                              <a:pt x="17" y="1980"/>
                            </a:lnTo>
                            <a:lnTo>
                              <a:pt x="79" y="1888"/>
                            </a:lnTo>
                            <a:lnTo>
                              <a:pt x="123" y="1831"/>
                            </a:lnTo>
                            <a:lnTo>
                              <a:pt x="123" y="1923"/>
                            </a:lnTo>
                            <a:lnTo>
                              <a:pt x="101" y="1941"/>
                            </a:lnTo>
                            <a:lnTo>
                              <a:pt x="123" y="1923"/>
                            </a:lnTo>
                            <a:lnTo>
                              <a:pt x="123" y="1980"/>
                            </a:lnTo>
                            <a:lnTo>
                              <a:pt x="110" y="2033"/>
                            </a:lnTo>
                            <a:lnTo>
                              <a:pt x="22" y="2126"/>
                            </a:lnTo>
                            <a:lnTo>
                              <a:pt x="101" y="2033"/>
                            </a:lnTo>
                            <a:lnTo>
                              <a:pt x="101" y="2073"/>
                            </a:lnTo>
                            <a:lnTo>
                              <a:pt x="110" y="2100"/>
                            </a:lnTo>
                            <a:lnTo>
                              <a:pt x="22" y="2302"/>
                            </a:lnTo>
                            <a:lnTo>
                              <a:pt x="92" y="2157"/>
                            </a:lnTo>
                            <a:lnTo>
                              <a:pt x="110" y="2126"/>
                            </a:lnTo>
                            <a:lnTo>
                              <a:pt x="119" y="2192"/>
                            </a:lnTo>
                            <a:lnTo>
                              <a:pt x="101" y="2249"/>
                            </a:lnTo>
                            <a:lnTo>
                              <a:pt x="119" y="2219"/>
                            </a:lnTo>
                            <a:lnTo>
                              <a:pt x="101" y="2395"/>
                            </a:lnTo>
                            <a:lnTo>
                              <a:pt x="17" y="2598"/>
                            </a:lnTo>
                            <a:lnTo>
                              <a:pt x="101" y="2395"/>
                            </a:lnTo>
                            <a:lnTo>
                              <a:pt x="92" y="2488"/>
                            </a:lnTo>
                            <a:lnTo>
                              <a:pt x="119" y="2395"/>
                            </a:lnTo>
                            <a:lnTo>
                              <a:pt x="119" y="2488"/>
                            </a:lnTo>
                            <a:lnTo>
                              <a:pt x="123" y="2907"/>
                            </a:lnTo>
                            <a:lnTo>
                              <a:pt x="123" y="2876"/>
                            </a:lnTo>
                            <a:lnTo>
                              <a:pt x="123" y="2664"/>
                            </a:lnTo>
                            <a:lnTo>
                              <a:pt x="132" y="2518"/>
                            </a:lnTo>
                            <a:lnTo>
                              <a:pt x="149" y="2395"/>
                            </a:lnTo>
                            <a:lnTo>
                              <a:pt x="163" y="2192"/>
                            </a:lnTo>
                            <a:lnTo>
                              <a:pt x="180" y="2276"/>
                            </a:lnTo>
                            <a:lnTo>
                              <a:pt x="189" y="2276"/>
                            </a:lnTo>
                            <a:lnTo>
                              <a:pt x="189" y="2157"/>
                            </a:lnTo>
                            <a:lnTo>
                              <a:pt x="211" y="2219"/>
                            </a:lnTo>
                            <a:lnTo>
                              <a:pt x="220" y="2369"/>
                            </a:lnTo>
                            <a:lnTo>
                              <a:pt x="211" y="2192"/>
                            </a:lnTo>
                            <a:lnTo>
                              <a:pt x="202" y="2126"/>
                            </a:lnTo>
                            <a:lnTo>
                              <a:pt x="211" y="1980"/>
                            </a:lnTo>
                            <a:lnTo>
                              <a:pt x="220" y="2100"/>
                            </a:lnTo>
                            <a:lnTo>
                              <a:pt x="242" y="2342"/>
                            </a:lnTo>
                            <a:lnTo>
                              <a:pt x="273" y="2488"/>
                            </a:lnTo>
                            <a:lnTo>
                              <a:pt x="353" y="2699"/>
                            </a:lnTo>
                            <a:lnTo>
                              <a:pt x="305" y="2518"/>
                            </a:lnTo>
                            <a:lnTo>
                              <a:pt x="268" y="2369"/>
                            </a:lnTo>
                            <a:lnTo>
                              <a:pt x="242" y="2276"/>
                            </a:lnTo>
                            <a:lnTo>
                              <a:pt x="229" y="2157"/>
                            </a:lnTo>
                            <a:lnTo>
                              <a:pt x="233" y="1831"/>
                            </a:lnTo>
                            <a:lnTo>
                              <a:pt x="242" y="1923"/>
                            </a:lnTo>
                            <a:lnTo>
                              <a:pt x="242" y="1738"/>
                            </a:lnTo>
                            <a:lnTo>
                              <a:pt x="242" y="1685"/>
                            </a:lnTo>
                            <a:lnTo>
                              <a:pt x="268" y="1831"/>
                            </a:lnTo>
                            <a:lnTo>
                              <a:pt x="292" y="2033"/>
                            </a:lnTo>
                            <a:lnTo>
                              <a:pt x="273" y="1941"/>
                            </a:lnTo>
                            <a:lnTo>
                              <a:pt x="268" y="1831"/>
                            </a:lnTo>
                            <a:lnTo>
                              <a:pt x="268" y="1500"/>
                            </a:lnTo>
                            <a:lnTo>
                              <a:pt x="273" y="1526"/>
                            </a:lnTo>
                            <a:lnTo>
                              <a:pt x="282" y="1340"/>
                            </a:lnTo>
                            <a:lnTo>
                              <a:pt x="314" y="1406"/>
                            </a:lnTo>
                            <a:lnTo>
                              <a:pt x="375" y="2033"/>
                            </a:lnTo>
                            <a:lnTo>
                              <a:pt x="353" y="1769"/>
                            </a:lnTo>
                            <a:lnTo>
                              <a:pt x="314" y="1526"/>
                            </a:lnTo>
                            <a:lnTo>
                              <a:pt x="314" y="1380"/>
                            </a:lnTo>
                            <a:lnTo>
                              <a:pt x="305" y="1137"/>
                            </a:lnTo>
                            <a:lnTo>
                              <a:pt x="322" y="1164"/>
                            </a:lnTo>
                            <a:lnTo>
                              <a:pt x="314" y="1071"/>
                            </a:lnTo>
                            <a:lnTo>
                              <a:pt x="314" y="961"/>
                            </a:lnTo>
                            <a:lnTo>
                              <a:pt x="322" y="1045"/>
                            </a:lnTo>
                            <a:lnTo>
                              <a:pt x="322" y="776"/>
                            </a:lnTo>
                            <a:lnTo>
                              <a:pt x="340" y="868"/>
                            </a:lnTo>
                            <a:lnTo>
                              <a:pt x="340" y="714"/>
                            </a:lnTo>
                            <a:lnTo>
                              <a:pt x="371" y="815"/>
                            </a:lnTo>
                            <a:lnTo>
                              <a:pt x="411" y="1111"/>
                            </a:lnTo>
                            <a:lnTo>
                              <a:pt x="446" y="1296"/>
                            </a:lnTo>
                            <a:lnTo>
                              <a:pt x="446" y="1296"/>
                            </a:lnTo>
                            <a:lnTo>
                              <a:pt x="415" y="1137"/>
                            </a:lnTo>
                            <a:lnTo>
                              <a:pt x="375" y="934"/>
                            </a:lnTo>
                            <a:lnTo>
                              <a:pt x="371" y="776"/>
                            </a:lnTo>
                            <a:lnTo>
                              <a:pt x="353" y="507"/>
                            </a:lnTo>
                            <a:lnTo>
                              <a:pt x="362" y="546"/>
                            </a:lnTo>
                            <a:lnTo>
                              <a:pt x="375" y="507"/>
                            </a:lnTo>
                            <a:lnTo>
                              <a:pt x="371" y="396"/>
                            </a:lnTo>
                            <a:lnTo>
                              <a:pt x="384" y="507"/>
                            </a:lnTo>
                            <a:lnTo>
                              <a:pt x="411" y="630"/>
                            </a:lnTo>
                            <a:lnTo>
                              <a:pt x="446" y="749"/>
                            </a:lnTo>
                            <a:lnTo>
                              <a:pt x="433" y="714"/>
                            </a:lnTo>
                            <a:lnTo>
                              <a:pt x="411" y="599"/>
                            </a:lnTo>
                            <a:lnTo>
                              <a:pt x="393" y="546"/>
                            </a:lnTo>
                            <a:lnTo>
                              <a:pt x="393" y="242"/>
                            </a:lnTo>
                            <a:lnTo>
                              <a:pt x="415" y="335"/>
                            </a:lnTo>
                            <a:lnTo>
                              <a:pt x="441" y="480"/>
                            </a:lnTo>
                            <a:lnTo>
                              <a:pt x="494" y="714"/>
                            </a:lnTo>
                            <a:lnTo>
                              <a:pt x="574" y="961"/>
                            </a:lnTo>
                            <a:lnTo>
                              <a:pt x="433" y="480"/>
                            </a:lnTo>
                            <a:lnTo>
                              <a:pt x="415" y="268"/>
                            </a:lnTo>
                            <a:lnTo>
                              <a:pt x="424" y="119"/>
                            </a:lnTo>
                            <a:lnTo>
                              <a:pt x="375" y="26"/>
                            </a:lnTo>
                            <a:lnTo>
                              <a:pt x="362" y="44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136440" y="4102200"/>
                        <a:ext cx="302040" cy="23817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39" h="6616">
                            <a:moveTo>
                              <a:pt x="839" y="6616"/>
                            </a:moveTo>
                            <a:lnTo>
                              <a:pt x="816" y="6090"/>
                            </a:lnTo>
                            <a:lnTo>
                              <a:pt x="549" y="2504"/>
                            </a:lnTo>
                            <a:lnTo>
                              <a:pt x="431" y="1394"/>
                            </a:lnTo>
                            <a:lnTo>
                              <a:pt x="400" y="1025"/>
                            </a:lnTo>
                            <a:lnTo>
                              <a:pt x="353" y="609"/>
                            </a:lnTo>
                            <a:lnTo>
                              <a:pt x="306" y="286"/>
                            </a:lnTo>
                            <a:lnTo>
                              <a:pt x="251" y="120"/>
                            </a:lnTo>
                            <a:lnTo>
                              <a:pt x="195" y="9"/>
                            </a:lnTo>
                            <a:lnTo>
                              <a:pt x="133" y="0"/>
                            </a:lnTo>
                            <a:lnTo>
                              <a:pt x="86" y="129"/>
                            </a:lnTo>
                            <a:lnTo>
                              <a:pt x="0" y="739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158760" y="3429000"/>
                      <a:ext cx="695520" cy="3321360"/>
                      <a:chOff x="158760" y="3429000"/>
                      <a:chExt cx="695520" cy="3321360"/>
                    </a:xfrm>
                  </p:grpSpPr>
                  <p:grpSp>
                    <p:nvGrpSpPr>
                      <p:cNvPr id="91" name=""/>
                      <p:cNvGrpSpPr/>
                      <p:nvPr/>
                    </p:nvGrpSpPr>
                    <p:grpSpPr>
                      <a:xfrm>
                        <a:off x="158760" y="3462480"/>
                        <a:ext cx="695520" cy="3287880"/>
                        <a:chOff x="158760" y="3462480"/>
                        <a:chExt cx="695520" cy="3287880"/>
                      </a:xfrm>
                    </p:grpSpPr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270000" y="5945040"/>
                          <a:ext cx="57600" cy="8053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60" h="2237">
                              <a:moveTo>
                                <a:pt x="128" y="0"/>
                              </a:moveTo>
                              <a:lnTo>
                                <a:pt x="116" y="43"/>
                              </a:lnTo>
                              <a:lnTo>
                                <a:pt x="65" y="441"/>
                              </a:lnTo>
                              <a:lnTo>
                                <a:pt x="32" y="815"/>
                              </a:lnTo>
                              <a:lnTo>
                                <a:pt x="0" y="1286"/>
                              </a:lnTo>
                              <a:lnTo>
                                <a:pt x="0" y="1791"/>
                              </a:lnTo>
                              <a:lnTo>
                                <a:pt x="16" y="2237"/>
                              </a:lnTo>
                              <a:lnTo>
                                <a:pt x="32" y="2237"/>
                              </a:lnTo>
                              <a:lnTo>
                                <a:pt x="16" y="1791"/>
                              </a:lnTo>
                              <a:lnTo>
                                <a:pt x="16" y="1421"/>
                              </a:lnTo>
                              <a:lnTo>
                                <a:pt x="49" y="1014"/>
                              </a:lnTo>
                              <a:lnTo>
                                <a:pt x="95" y="612"/>
                              </a:lnTo>
                              <a:lnTo>
                                <a:pt x="160" y="101"/>
                              </a:lnTo>
                              <a:lnTo>
                                <a:pt x="1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158760" y="5121360"/>
                          <a:ext cx="190800" cy="9766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30" h="2713">
                              <a:moveTo>
                                <a:pt x="523" y="422"/>
                              </a:moveTo>
                              <a:lnTo>
                                <a:pt x="485" y="242"/>
                              </a:lnTo>
                              <a:lnTo>
                                <a:pt x="467" y="174"/>
                              </a:lnTo>
                              <a:lnTo>
                                <a:pt x="429" y="116"/>
                              </a:lnTo>
                              <a:lnTo>
                                <a:pt x="393" y="63"/>
                              </a:lnTo>
                              <a:lnTo>
                                <a:pt x="343" y="9"/>
                              </a:lnTo>
                              <a:lnTo>
                                <a:pt x="301" y="0"/>
                              </a:lnTo>
                              <a:lnTo>
                                <a:pt x="262" y="24"/>
                              </a:lnTo>
                              <a:lnTo>
                                <a:pt x="217" y="53"/>
                              </a:lnTo>
                              <a:lnTo>
                                <a:pt x="168" y="101"/>
                              </a:lnTo>
                              <a:lnTo>
                                <a:pt x="136" y="203"/>
                              </a:lnTo>
                              <a:lnTo>
                                <a:pt x="105" y="349"/>
                              </a:lnTo>
                              <a:lnTo>
                                <a:pt x="74" y="460"/>
                              </a:lnTo>
                              <a:lnTo>
                                <a:pt x="49" y="577"/>
                              </a:lnTo>
                              <a:lnTo>
                                <a:pt x="19" y="733"/>
                              </a:lnTo>
                              <a:lnTo>
                                <a:pt x="0" y="1058"/>
                              </a:lnTo>
                              <a:lnTo>
                                <a:pt x="6" y="1306"/>
                              </a:lnTo>
                              <a:lnTo>
                                <a:pt x="31" y="1665"/>
                              </a:lnTo>
                              <a:lnTo>
                                <a:pt x="74" y="1975"/>
                              </a:lnTo>
                              <a:lnTo>
                                <a:pt x="168" y="2713"/>
                              </a:lnTo>
                              <a:lnTo>
                                <a:pt x="131" y="1922"/>
                              </a:lnTo>
                              <a:lnTo>
                                <a:pt x="112" y="1650"/>
                              </a:lnTo>
                              <a:lnTo>
                                <a:pt x="98" y="1407"/>
                              </a:lnTo>
                              <a:lnTo>
                                <a:pt x="92" y="1150"/>
                              </a:lnTo>
                              <a:lnTo>
                                <a:pt x="105" y="864"/>
                              </a:lnTo>
                              <a:lnTo>
                                <a:pt x="118" y="645"/>
                              </a:lnTo>
                              <a:lnTo>
                                <a:pt x="143" y="373"/>
                              </a:lnTo>
                              <a:lnTo>
                                <a:pt x="181" y="242"/>
                              </a:lnTo>
                              <a:lnTo>
                                <a:pt x="230" y="194"/>
                              </a:lnTo>
                              <a:lnTo>
                                <a:pt x="362" y="164"/>
                              </a:lnTo>
                              <a:lnTo>
                                <a:pt x="442" y="257"/>
                              </a:lnTo>
                              <a:lnTo>
                                <a:pt x="530" y="456"/>
                              </a:lnTo>
                              <a:lnTo>
                                <a:pt x="523" y="4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4" name=""/>
                        <p:cNvGrpSpPr/>
                        <p:nvPr/>
                      </p:nvGrpSpPr>
                      <p:grpSpPr>
                        <a:xfrm>
                          <a:off x="473040" y="3462480"/>
                          <a:ext cx="381240" cy="1391040"/>
                          <a:chOff x="473040" y="3462480"/>
                          <a:chExt cx="381240" cy="1391040"/>
                        </a:xfrm>
                      </p:grpSpPr>
                      <p:sp>
                        <p:nvSpPr>
                          <p:cNvPr id="95" name=""/>
                          <p:cNvSpPr/>
                          <p:nvPr/>
                        </p:nvSpPr>
                        <p:spPr>
                          <a:xfrm>
                            <a:off x="473040" y="3462480"/>
                            <a:ext cx="195480" cy="1332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43" h="3701">
                                <a:moveTo>
                                  <a:pt x="490" y="299"/>
                                </a:moveTo>
                                <a:lnTo>
                                  <a:pt x="503" y="88"/>
                                </a:lnTo>
                                <a:lnTo>
                                  <a:pt x="543" y="74"/>
                                </a:lnTo>
                                <a:lnTo>
                                  <a:pt x="494" y="0"/>
                                </a:lnTo>
                                <a:lnTo>
                                  <a:pt x="477" y="4"/>
                                </a:lnTo>
                                <a:lnTo>
                                  <a:pt x="446" y="35"/>
                                </a:lnTo>
                                <a:lnTo>
                                  <a:pt x="441" y="97"/>
                                </a:lnTo>
                                <a:lnTo>
                                  <a:pt x="415" y="136"/>
                                </a:lnTo>
                                <a:lnTo>
                                  <a:pt x="171" y="687"/>
                                </a:lnTo>
                                <a:lnTo>
                                  <a:pt x="167" y="683"/>
                                </a:lnTo>
                                <a:lnTo>
                                  <a:pt x="353" y="343"/>
                                </a:lnTo>
                                <a:lnTo>
                                  <a:pt x="415" y="295"/>
                                </a:lnTo>
                                <a:lnTo>
                                  <a:pt x="358" y="440"/>
                                </a:lnTo>
                                <a:lnTo>
                                  <a:pt x="415" y="449"/>
                                </a:lnTo>
                                <a:lnTo>
                                  <a:pt x="105" y="1046"/>
                                </a:lnTo>
                                <a:lnTo>
                                  <a:pt x="318" y="670"/>
                                </a:lnTo>
                                <a:lnTo>
                                  <a:pt x="419" y="564"/>
                                </a:lnTo>
                                <a:lnTo>
                                  <a:pt x="415" y="643"/>
                                </a:lnTo>
                                <a:lnTo>
                                  <a:pt x="380" y="762"/>
                                </a:lnTo>
                                <a:lnTo>
                                  <a:pt x="353" y="864"/>
                                </a:lnTo>
                                <a:lnTo>
                                  <a:pt x="278" y="1094"/>
                                </a:lnTo>
                                <a:lnTo>
                                  <a:pt x="145" y="1500"/>
                                </a:lnTo>
                                <a:lnTo>
                                  <a:pt x="74" y="1659"/>
                                </a:lnTo>
                                <a:lnTo>
                                  <a:pt x="185" y="1354"/>
                                </a:lnTo>
                                <a:lnTo>
                                  <a:pt x="246" y="1165"/>
                                </a:lnTo>
                                <a:lnTo>
                                  <a:pt x="340" y="931"/>
                                </a:lnTo>
                                <a:lnTo>
                                  <a:pt x="380" y="824"/>
                                </a:lnTo>
                                <a:lnTo>
                                  <a:pt x="415" y="727"/>
                                </a:lnTo>
                                <a:lnTo>
                                  <a:pt x="393" y="736"/>
                                </a:lnTo>
                                <a:lnTo>
                                  <a:pt x="428" y="798"/>
                                </a:lnTo>
                                <a:lnTo>
                                  <a:pt x="393" y="864"/>
                                </a:lnTo>
                                <a:lnTo>
                                  <a:pt x="340" y="1063"/>
                                </a:lnTo>
                                <a:lnTo>
                                  <a:pt x="287" y="1270"/>
                                </a:lnTo>
                                <a:lnTo>
                                  <a:pt x="220" y="1434"/>
                                </a:lnTo>
                                <a:lnTo>
                                  <a:pt x="331" y="1094"/>
                                </a:lnTo>
                                <a:lnTo>
                                  <a:pt x="380" y="931"/>
                                </a:lnTo>
                                <a:lnTo>
                                  <a:pt x="415" y="798"/>
                                </a:lnTo>
                                <a:lnTo>
                                  <a:pt x="428" y="798"/>
                                </a:lnTo>
                                <a:lnTo>
                                  <a:pt x="402" y="993"/>
                                </a:lnTo>
                                <a:lnTo>
                                  <a:pt x="433" y="944"/>
                                </a:lnTo>
                                <a:lnTo>
                                  <a:pt x="415" y="1063"/>
                                </a:lnTo>
                                <a:lnTo>
                                  <a:pt x="380" y="1200"/>
                                </a:lnTo>
                                <a:lnTo>
                                  <a:pt x="305" y="1398"/>
                                </a:lnTo>
                                <a:lnTo>
                                  <a:pt x="220" y="1535"/>
                                </a:lnTo>
                                <a:lnTo>
                                  <a:pt x="145" y="1703"/>
                                </a:lnTo>
                                <a:lnTo>
                                  <a:pt x="83" y="1839"/>
                                </a:lnTo>
                                <a:lnTo>
                                  <a:pt x="123" y="1769"/>
                                </a:lnTo>
                                <a:lnTo>
                                  <a:pt x="242" y="1526"/>
                                </a:lnTo>
                                <a:lnTo>
                                  <a:pt x="380" y="1231"/>
                                </a:lnTo>
                                <a:lnTo>
                                  <a:pt x="402" y="1165"/>
                                </a:lnTo>
                                <a:lnTo>
                                  <a:pt x="428" y="1063"/>
                                </a:lnTo>
                                <a:lnTo>
                                  <a:pt x="397" y="1288"/>
                                </a:lnTo>
                                <a:lnTo>
                                  <a:pt x="450" y="1204"/>
                                </a:lnTo>
                                <a:lnTo>
                                  <a:pt x="402" y="1500"/>
                                </a:lnTo>
                                <a:lnTo>
                                  <a:pt x="393" y="1566"/>
                                </a:lnTo>
                                <a:lnTo>
                                  <a:pt x="375" y="1606"/>
                                </a:lnTo>
                                <a:lnTo>
                                  <a:pt x="314" y="1764"/>
                                </a:lnTo>
                                <a:lnTo>
                                  <a:pt x="246" y="1914"/>
                                </a:lnTo>
                                <a:lnTo>
                                  <a:pt x="119" y="2170"/>
                                </a:lnTo>
                                <a:lnTo>
                                  <a:pt x="0" y="2408"/>
                                </a:lnTo>
                                <a:lnTo>
                                  <a:pt x="35" y="2302"/>
                                </a:lnTo>
                                <a:lnTo>
                                  <a:pt x="255" y="1870"/>
                                </a:lnTo>
                                <a:lnTo>
                                  <a:pt x="340" y="1703"/>
                                </a:lnTo>
                                <a:lnTo>
                                  <a:pt x="393" y="1522"/>
                                </a:lnTo>
                                <a:lnTo>
                                  <a:pt x="437" y="1442"/>
                                </a:lnTo>
                                <a:lnTo>
                                  <a:pt x="446" y="1451"/>
                                </a:lnTo>
                                <a:lnTo>
                                  <a:pt x="194" y="2214"/>
                                </a:lnTo>
                                <a:lnTo>
                                  <a:pt x="389" y="1694"/>
                                </a:lnTo>
                                <a:lnTo>
                                  <a:pt x="433" y="1672"/>
                                </a:lnTo>
                                <a:lnTo>
                                  <a:pt x="380" y="1958"/>
                                </a:lnTo>
                                <a:lnTo>
                                  <a:pt x="428" y="1892"/>
                                </a:lnTo>
                                <a:lnTo>
                                  <a:pt x="353" y="2205"/>
                                </a:lnTo>
                                <a:lnTo>
                                  <a:pt x="305" y="2408"/>
                                </a:lnTo>
                                <a:lnTo>
                                  <a:pt x="220" y="2571"/>
                                </a:lnTo>
                                <a:lnTo>
                                  <a:pt x="97" y="2774"/>
                                </a:lnTo>
                                <a:lnTo>
                                  <a:pt x="198" y="2642"/>
                                </a:lnTo>
                                <a:lnTo>
                                  <a:pt x="278" y="2483"/>
                                </a:lnTo>
                                <a:lnTo>
                                  <a:pt x="318" y="2373"/>
                                </a:lnTo>
                                <a:lnTo>
                                  <a:pt x="375" y="2170"/>
                                </a:lnTo>
                                <a:lnTo>
                                  <a:pt x="428" y="1980"/>
                                </a:lnTo>
                                <a:lnTo>
                                  <a:pt x="371" y="2254"/>
                                </a:lnTo>
                                <a:lnTo>
                                  <a:pt x="415" y="2157"/>
                                </a:lnTo>
                                <a:lnTo>
                                  <a:pt x="367" y="2382"/>
                                </a:lnTo>
                                <a:lnTo>
                                  <a:pt x="406" y="2333"/>
                                </a:lnTo>
                                <a:lnTo>
                                  <a:pt x="362" y="2598"/>
                                </a:lnTo>
                                <a:lnTo>
                                  <a:pt x="415" y="2505"/>
                                </a:lnTo>
                                <a:lnTo>
                                  <a:pt x="367" y="2642"/>
                                </a:lnTo>
                                <a:lnTo>
                                  <a:pt x="305" y="2841"/>
                                </a:lnTo>
                                <a:lnTo>
                                  <a:pt x="255" y="2903"/>
                                </a:lnTo>
                                <a:lnTo>
                                  <a:pt x="105" y="3146"/>
                                </a:lnTo>
                                <a:lnTo>
                                  <a:pt x="119" y="3124"/>
                                </a:lnTo>
                                <a:lnTo>
                                  <a:pt x="246" y="2912"/>
                                </a:lnTo>
                                <a:lnTo>
                                  <a:pt x="367" y="2708"/>
                                </a:lnTo>
                                <a:lnTo>
                                  <a:pt x="402" y="2611"/>
                                </a:lnTo>
                                <a:lnTo>
                                  <a:pt x="353" y="2815"/>
                                </a:lnTo>
                                <a:lnTo>
                                  <a:pt x="393" y="2774"/>
                                </a:lnTo>
                                <a:lnTo>
                                  <a:pt x="367" y="2877"/>
                                </a:lnTo>
                                <a:lnTo>
                                  <a:pt x="353" y="3013"/>
                                </a:lnTo>
                                <a:lnTo>
                                  <a:pt x="380" y="2974"/>
                                </a:lnTo>
                                <a:lnTo>
                                  <a:pt x="349" y="3093"/>
                                </a:lnTo>
                                <a:lnTo>
                                  <a:pt x="255" y="3282"/>
                                </a:lnTo>
                                <a:lnTo>
                                  <a:pt x="198" y="3313"/>
                                </a:lnTo>
                                <a:lnTo>
                                  <a:pt x="268" y="3247"/>
                                </a:lnTo>
                                <a:lnTo>
                                  <a:pt x="367" y="3079"/>
                                </a:lnTo>
                                <a:lnTo>
                                  <a:pt x="393" y="2947"/>
                                </a:lnTo>
                                <a:lnTo>
                                  <a:pt x="353" y="3234"/>
                                </a:lnTo>
                                <a:lnTo>
                                  <a:pt x="393" y="3159"/>
                                </a:lnTo>
                                <a:lnTo>
                                  <a:pt x="371" y="3318"/>
                                </a:lnTo>
                                <a:lnTo>
                                  <a:pt x="331" y="3534"/>
                                </a:lnTo>
                                <a:lnTo>
                                  <a:pt x="238" y="3701"/>
                                </a:lnTo>
                                <a:lnTo>
                                  <a:pt x="353" y="3450"/>
                                </a:lnTo>
                                <a:lnTo>
                                  <a:pt x="371" y="3379"/>
                                </a:lnTo>
                                <a:lnTo>
                                  <a:pt x="411" y="3296"/>
                                </a:lnTo>
                                <a:lnTo>
                                  <a:pt x="437" y="3454"/>
                                </a:lnTo>
                                <a:lnTo>
                                  <a:pt x="450" y="3159"/>
                                </a:lnTo>
                                <a:lnTo>
                                  <a:pt x="490" y="29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ededed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>
                            <a:off x="631800" y="3462480"/>
                            <a:ext cx="222480" cy="13910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618" h="3864">
                                <a:moveTo>
                                  <a:pt x="0" y="3362"/>
                                </a:moveTo>
                                <a:lnTo>
                                  <a:pt x="4" y="3199"/>
                                </a:lnTo>
                                <a:lnTo>
                                  <a:pt x="44" y="3291"/>
                                </a:lnTo>
                                <a:lnTo>
                                  <a:pt x="26" y="3062"/>
                                </a:lnTo>
                                <a:lnTo>
                                  <a:pt x="66" y="3093"/>
                                </a:lnTo>
                                <a:lnTo>
                                  <a:pt x="198" y="3864"/>
                                </a:lnTo>
                                <a:lnTo>
                                  <a:pt x="74" y="3199"/>
                                </a:lnTo>
                                <a:lnTo>
                                  <a:pt x="61" y="3084"/>
                                </a:lnTo>
                                <a:lnTo>
                                  <a:pt x="52" y="2969"/>
                                </a:lnTo>
                                <a:lnTo>
                                  <a:pt x="74" y="2996"/>
                                </a:lnTo>
                                <a:lnTo>
                                  <a:pt x="154" y="3212"/>
                                </a:lnTo>
                                <a:lnTo>
                                  <a:pt x="242" y="3569"/>
                                </a:lnTo>
                                <a:lnTo>
                                  <a:pt x="114" y="3093"/>
                                </a:lnTo>
                                <a:lnTo>
                                  <a:pt x="70" y="2965"/>
                                </a:lnTo>
                                <a:lnTo>
                                  <a:pt x="66" y="2779"/>
                                </a:lnTo>
                                <a:lnTo>
                                  <a:pt x="92" y="2836"/>
                                </a:lnTo>
                                <a:lnTo>
                                  <a:pt x="88" y="2624"/>
                                </a:lnTo>
                                <a:lnTo>
                                  <a:pt x="114" y="2695"/>
                                </a:lnTo>
                                <a:lnTo>
                                  <a:pt x="233" y="3397"/>
                                </a:lnTo>
                                <a:lnTo>
                                  <a:pt x="101" y="2598"/>
                                </a:lnTo>
                                <a:lnTo>
                                  <a:pt x="88" y="2461"/>
                                </a:lnTo>
                                <a:lnTo>
                                  <a:pt x="123" y="2540"/>
                                </a:lnTo>
                                <a:lnTo>
                                  <a:pt x="220" y="2930"/>
                                </a:lnTo>
                                <a:lnTo>
                                  <a:pt x="114" y="2527"/>
                                </a:lnTo>
                                <a:lnTo>
                                  <a:pt x="74" y="2324"/>
                                </a:lnTo>
                                <a:lnTo>
                                  <a:pt x="114" y="2391"/>
                                </a:lnTo>
                                <a:lnTo>
                                  <a:pt x="88" y="2263"/>
                                </a:lnTo>
                                <a:lnTo>
                                  <a:pt x="123" y="2294"/>
                                </a:lnTo>
                                <a:lnTo>
                                  <a:pt x="158" y="2527"/>
                                </a:lnTo>
                                <a:lnTo>
                                  <a:pt x="327" y="2969"/>
                                </a:lnTo>
                                <a:lnTo>
                                  <a:pt x="149" y="2461"/>
                                </a:lnTo>
                                <a:lnTo>
                                  <a:pt x="114" y="2263"/>
                                </a:lnTo>
                                <a:lnTo>
                                  <a:pt x="101" y="2157"/>
                                </a:lnTo>
                                <a:lnTo>
                                  <a:pt x="136" y="2263"/>
                                </a:lnTo>
                                <a:lnTo>
                                  <a:pt x="114" y="2029"/>
                                </a:lnTo>
                                <a:lnTo>
                                  <a:pt x="136" y="2055"/>
                                </a:lnTo>
                                <a:lnTo>
                                  <a:pt x="154" y="2174"/>
                                </a:lnTo>
                                <a:lnTo>
                                  <a:pt x="393" y="2532"/>
                                </a:lnTo>
                                <a:lnTo>
                                  <a:pt x="264" y="2320"/>
                                </a:lnTo>
                                <a:lnTo>
                                  <a:pt x="189" y="2201"/>
                                </a:lnTo>
                                <a:lnTo>
                                  <a:pt x="171" y="2161"/>
                                </a:lnTo>
                                <a:lnTo>
                                  <a:pt x="119" y="1923"/>
                                </a:lnTo>
                                <a:lnTo>
                                  <a:pt x="136" y="1967"/>
                                </a:lnTo>
                                <a:lnTo>
                                  <a:pt x="123" y="1822"/>
                                </a:lnTo>
                                <a:lnTo>
                                  <a:pt x="119" y="1848"/>
                                </a:lnTo>
                                <a:lnTo>
                                  <a:pt x="167" y="1910"/>
                                </a:lnTo>
                                <a:lnTo>
                                  <a:pt x="132" y="1751"/>
                                </a:lnTo>
                                <a:lnTo>
                                  <a:pt x="171" y="1786"/>
                                </a:lnTo>
                                <a:lnTo>
                                  <a:pt x="264" y="1861"/>
                                </a:lnTo>
                                <a:lnTo>
                                  <a:pt x="362" y="1998"/>
                                </a:lnTo>
                                <a:lnTo>
                                  <a:pt x="565" y="2232"/>
                                </a:lnTo>
                                <a:lnTo>
                                  <a:pt x="291" y="1892"/>
                                </a:lnTo>
                                <a:lnTo>
                                  <a:pt x="176" y="1751"/>
                                </a:lnTo>
                                <a:lnTo>
                                  <a:pt x="145" y="1628"/>
                                </a:lnTo>
                                <a:lnTo>
                                  <a:pt x="189" y="1689"/>
                                </a:lnTo>
                                <a:lnTo>
                                  <a:pt x="136" y="1451"/>
                                </a:lnTo>
                                <a:lnTo>
                                  <a:pt x="171" y="1469"/>
                                </a:lnTo>
                                <a:lnTo>
                                  <a:pt x="149" y="1345"/>
                                </a:lnTo>
                                <a:lnTo>
                                  <a:pt x="154" y="1319"/>
                                </a:lnTo>
                                <a:lnTo>
                                  <a:pt x="198" y="1425"/>
                                </a:lnTo>
                                <a:lnTo>
                                  <a:pt x="154" y="1244"/>
                                </a:lnTo>
                                <a:lnTo>
                                  <a:pt x="189" y="1244"/>
                                </a:lnTo>
                                <a:lnTo>
                                  <a:pt x="149" y="1121"/>
                                </a:lnTo>
                                <a:lnTo>
                                  <a:pt x="171" y="1121"/>
                                </a:lnTo>
                                <a:lnTo>
                                  <a:pt x="149" y="1054"/>
                                </a:lnTo>
                                <a:lnTo>
                                  <a:pt x="185" y="1054"/>
                                </a:lnTo>
                                <a:lnTo>
                                  <a:pt x="260" y="1200"/>
                                </a:lnTo>
                                <a:lnTo>
                                  <a:pt x="384" y="1381"/>
                                </a:lnTo>
                                <a:lnTo>
                                  <a:pt x="508" y="1526"/>
                                </a:lnTo>
                                <a:lnTo>
                                  <a:pt x="618" y="1628"/>
                                </a:lnTo>
                                <a:lnTo>
                                  <a:pt x="353" y="1319"/>
                                </a:lnTo>
                                <a:lnTo>
                                  <a:pt x="291" y="1222"/>
                                </a:lnTo>
                                <a:lnTo>
                                  <a:pt x="198" y="1099"/>
                                </a:lnTo>
                                <a:lnTo>
                                  <a:pt x="185" y="1054"/>
                                </a:lnTo>
                                <a:lnTo>
                                  <a:pt x="158" y="921"/>
                                </a:lnTo>
                                <a:lnTo>
                                  <a:pt x="198" y="956"/>
                                </a:lnTo>
                                <a:lnTo>
                                  <a:pt x="154" y="740"/>
                                </a:lnTo>
                                <a:lnTo>
                                  <a:pt x="176" y="740"/>
                                </a:lnTo>
                                <a:lnTo>
                                  <a:pt x="149" y="590"/>
                                </a:lnTo>
                                <a:lnTo>
                                  <a:pt x="185" y="590"/>
                                </a:lnTo>
                                <a:lnTo>
                                  <a:pt x="207" y="661"/>
                                </a:lnTo>
                                <a:lnTo>
                                  <a:pt x="291" y="771"/>
                                </a:lnTo>
                                <a:lnTo>
                                  <a:pt x="534" y="1024"/>
                                </a:lnTo>
                                <a:lnTo>
                                  <a:pt x="268" y="718"/>
                                </a:lnTo>
                                <a:lnTo>
                                  <a:pt x="207" y="652"/>
                                </a:lnTo>
                                <a:lnTo>
                                  <a:pt x="198" y="590"/>
                                </a:lnTo>
                                <a:lnTo>
                                  <a:pt x="158" y="485"/>
                                </a:lnTo>
                                <a:lnTo>
                                  <a:pt x="185" y="520"/>
                                </a:lnTo>
                                <a:lnTo>
                                  <a:pt x="123" y="383"/>
                                </a:lnTo>
                                <a:lnTo>
                                  <a:pt x="149" y="423"/>
                                </a:lnTo>
                                <a:lnTo>
                                  <a:pt x="202" y="418"/>
                                </a:lnTo>
                                <a:lnTo>
                                  <a:pt x="362" y="599"/>
                                </a:lnTo>
                                <a:lnTo>
                                  <a:pt x="198" y="423"/>
                                </a:lnTo>
                                <a:lnTo>
                                  <a:pt x="149" y="286"/>
                                </a:lnTo>
                                <a:lnTo>
                                  <a:pt x="198" y="286"/>
                                </a:lnTo>
                                <a:lnTo>
                                  <a:pt x="402" y="366"/>
                                </a:lnTo>
                                <a:lnTo>
                                  <a:pt x="512" y="471"/>
                                </a:lnTo>
                                <a:lnTo>
                                  <a:pt x="255" y="317"/>
                                </a:lnTo>
                                <a:lnTo>
                                  <a:pt x="185" y="286"/>
                                </a:lnTo>
                                <a:lnTo>
                                  <a:pt x="158" y="220"/>
                                </a:lnTo>
                                <a:lnTo>
                                  <a:pt x="136" y="119"/>
                                </a:lnTo>
                                <a:lnTo>
                                  <a:pt x="79" y="0"/>
                                </a:lnTo>
                                <a:lnTo>
                                  <a:pt x="66" y="48"/>
                                </a:lnTo>
                                <a:lnTo>
                                  <a:pt x="52" y="8"/>
                                </a:lnTo>
                                <a:lnTo>
                                  <a:pt x="0" y="33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ededed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635040" y="4859280"/>
                          <a:ext cx="65520" cy="1062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82" h="2951">
                              <a:moveTo>
                                <a:pt x="37" y="0"/>
                              </a:moveTo>
                              <a:lnTo>
                                <a:pt x="73" y="225"/>
                              </a:lnTo>
                              <a:lnTo>
                                <a:pt x="109" y="582"/>
                              </a:lnTo>
                              <a:lnTo>
                                <a:pt x="147" y="1076"/>
                              </a:lnTo>
                              <a:lnTo>
                                <a:pt x="182" y="1703"/>
                              </a:lnTo>
                              <a:lnTo>
                                <a:pt x="182" y="2373"/>
                              </a:lnTo>
                              <a:lnTo>
                                <a:pt x="165" y="2951"/>
                              </a:lnTo>
                              <a:lnTo>
                                <a:pt x="147" y="2951"/>
                              </a:lnTo>
                              <a:lnTo>
                                <a:pt x="165" y="2373"/>
                              </a:lnTo>
                              <a:lnTo>
                                <a:pt x="165" y="1879"/>
                              </a:lnTo>
                              <a:lnTo>
                                <a:pt x="126" y="1340"/>
                              </a:lnTo>
                              <a:lnTo>
                                <a:pt x="73" y="807"/>
                              </a:lnTo>
                              <a:lnTo>
                                <a:pt x="0" y="136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299880" y="4424400"/>
                          <a:ext cx="194040" cy="9511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39" h="2642">
                              <a:moveTo>
                                <a:pt x="156" y="2642"/>
                              </a:moveTo>
                              <a:lnTo>
                                <a:pt x="116" y="2188"/>
                              </a:lnTo>
                              <a:lnTo>
                                <a:pt x="101" y="1995"/>
                              </a:lnTo>
                              <a:lnTo>
                                <a:pt x="62" y="1756"/>
                              </a:lnTo>
                              <a:lnTo>
                                <a:pt x="23" y="1525"/>
                              </a:lnTo>
                              <a:lnTo>
                                <a:pt x="7" y="1394"/>
                              </a:lnTo>
                              <a:lnTo>
                                <a:pt x="0" y="1262"/>
                              </a:lnTo>
                              <a:lnTo>
                                <a:pt x="7" y="1062"/>
                              </a:lnTo>
                              <a:lnTo>
                                <a:pt x="15" y="862"/>
                              </a:lnTo>
                              <a:lnTo>
                                <a:pt x="77" y="361"/>
                              </a:lnTo>
                              <a:lnTo>
                                <a:pt x="101" y="246"/>
                              </a:lnTo>
                              <a:lnTo>
                                <a:pt x="156" y="115"/>
                              </a:lnTo>
                              <a:lnTo>
                                <a:pt x="195" y="30"/>
                              </a:lnTo>
                              <a:lnTo>
                                <a:pt x="250" y="0"/>
                              </a:lnTo>
                              <a:lnTo>
                                <a:pt x="297" y="30"/>
                              </a:lnTo>
                              <a:lnTo>
                                <a:pt x="351" y="115"/>
                              </a:lnTo>
                              <a:lnTo>
                                <a:pt x="407" y="269"/>
                              </a:lnTo>
                              <a:lnTo>
                                <a:pt x="423" y="377"/>
                              </a:lnTo>
                              <a:lnTo>
                                <a:pt x="462" y="539"/>
                              </a:lnTo>
                              <a:lnTo>
                                <a:pt x="485" y="677"/>
                              </a:lnTo>
                              <a:lnTo>
                                <a:pt x="532" y="1371"/>
                              </a:lnTo>
                              <a:lnTo>
                                <a:pt x="539" y="1502"/>
                              </a:lnTo>
                              <a:lnTo>
                                <a:pt x="532" y="1726"/>
                              </a:lnTo>
                              <a:lnTo>
                                <a:pt x="501" y="2372"/>
                              </a:lnTo>
                              <a:lnTo>
                                <a:pt x="501" y="1741"/>
                              </a:lnTo>
                              <a:lnTo>
                                <a:pt x="485" y="1464"/>
                              </a:lnTo>
                              <a:lnTo>
                                <a:pt x="477" y="1286"/>
                              </a:lnTo>
                              <a:lnTo>
                                <a:pt x="454" y="1062"/>
                              </a:lnTo>
                              <a:lnTo>
                                <a:pt x="430" y="831"/>
                              </a:lnTo>
                              <a:lnTo>
                                <a:pt x="398" y="608"/>
                              </a:lnTo>
                              <a:lnTo>
                                <a:pt x="359" y="400"/>
                              </a:lnTo>
                              <a:lnTo>
                                <a:pt x="328" y="215"/>
                              </a:lnTo>
                              <a:lnTo>
                                <a:pt x="297" y="115"/>
                              </a:lnTo>
                              <a:lnTo>
                                <a:pt x="258" y="69"/>
                              </a:lnTo>
                              <a:lnTo>
                                <a:pt x="219" y="115"/>
                              </a:lnTo>
                              <a:lnTo>
                                <a:pt x="188" y="207"/>
                              </a:lnTo>
                              <a:lnTo>
                                <a:pt x="172" y="377"/>
                              </a:lnTo>
                              <a:lnTo>
                                <a:pt x="172" y="508"/>
                              </a:lnTo>
                              <a:lnTo>
                                <a:pt x="164" y="754"/>
                              </a:lnTo>
                              <a:lnTo>
                                <a:pt x="149" y="901"/>
                              </a:lnTo>
                              <a:lnTo>
                                <a:pt x="109" y="1139"/>
                              </a:lnTo>
                              <a:lnTo>
                                <a:pt x="101" y="1262"/>
                              </a:lnTo>
                              <a:lnTo>
                                <a:pt x="93" y="1379"/>
                              </a:lnTo>
                              <a:lnTo>
                                <a:pt x="93" y="1556"/>
                              </a:lnTo>
                              <a:lnTo>
                                <a:pt x="164" y="2149"/>
                              </a:lnTo>
                              <a:lnTo>
                                <a:pt x="156" y="26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" name=""/>
                      <p:cNvGrpSpPr/>
                      <p:nvPr/>
                    </p:nvGrpSpPr>
                    <p:grpSpPr>
                      <a:xfrm>
                        <a:off x="325440" y="3429000"/>
                        <a:ext cx="327240" cy="3319920"/>
                        <a:chOff x="325440" y="3429000"/>
                        <a:chExt cx="327240" cy="3319920"/>
                      </a:xfrm>
                    </p:grpSpPr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325440" y="5911920"/>
                          <a:ext cx="198720" cy="8370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552" h="2325">
                              <a:moveTo>
                                <a:pt x="552" y="2325"/>
                              </a:moveTo>
                              <a:lnTo>
                                <a:pt x="474" y="2102"/>
                              </a:lnTo>
                              <a:lnTo>
                                <a:pt x="435" y="1963"/>
                              </a:lnTo>
                              <a:lnTo>
                                <a:pt x="420" y="1854"/>
                              </a:lnTo>
                              <a:lnTo>
                                <a:pt x="296" y="780"/>
                              </a:lnTo>
                              <a:lnTo>
                                <a:pt x="225" y="440"/>
                              </a:lnTo>
                              <a:lnTo>
                                <a:pt x="178" y="223"/>
                              </a:lnTo>
                              <a:lnTo>
                                <a:pt x="139" y="115"/>
                              </a:lnTo>
                              <a:lnTo>
                                <a:pt x="93" y="30"/>
                              </a:lnTo>
                              <a:lnTo>
                                <a:pt x="54" y="0"/>
                              </a:lnTo>
                              <a:lnTo>
                                <a:pt x="15" y="23"/>
                              </a:lnTo>
                              <a:lnTo>
                                <a:pt x="0" y="154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372960" y="3429000"/>
                          <a:ext cx="279720" cy="30675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777" h="8521">
                              <a:moveTo>
                                <a:pt x="0" y="8521"/>
                              </a:moveTo>
                              <a:lnTo>
                                <a:pt x="274" y="5364"/>
                              </a:lnTo>
                              <a:lnTo>
                                <a:pt x="305" y="4855"/>
                              </a:lnTo>
                              <a:lnTo>
                                <a:pt x="376" y="4036"/>
                              </a:lnTo>
                              <a:lnTo>
                                <a:pt x="440" y="3180"/>
                              </a:lnTo>
                              <a:lnTo>
                                <a:pt x="479" y="2717"/>
                              </a:lnTo>
                              <a:lnTo>
                                <a:pt x="494" y="2223"/>
                              </a:lnTo>
                              <a:lnTo>
                                <a:pt x="518" y="1759"/>
                              </a:lnTo>
                              <a:lnTo>
                                <a:pt x="565" y="1219"/>
                              </a:lnTo>
                              <a:lnTo>
                                <a:pt x="604" y="725"/>
                              </a:lnTo>
                              <a:lnTo>
                                <a:pt x="667" y="293"/>
                              </a:lnTo>
                              <a:lnTo>
                                <a:pt x="706" y="23"/>
                              </a:lnTo>
                              <a:lnTo>
                                <a:pt x="737" y="0"/>
                              </a:lnTo>
                              <a:lnTo>
                                <a:pt x="761" y="138"/>
                              </a:lnTo>
                              <a:lnTo>
                                <a:pt x="777" y="617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422280" y="4805280"/>
                          <a:ext cx="224280" cy="11307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623" h="3141">
                              <a:moveTo>
                                <a:pt x="0" y="3141"/>
                              </a:moveTo>
                              <a:lnTo>
                                <a:pt x="118" y="2462"/>
                              </a:lnTo>
                              <a:lnTo>
                                <a:pt x="189" y="1675"/>
                              </a:lnTo>
                              <a:lnTo>
                                <a:pt x="229" y="1327"/>
                              </a:lnTo>
                              <a:lnTo>
                                <a:pt x="284" y="926"/>
                              </a:lnTo>
                              <a:lnTo>
                                <a:pt x="355" y="509"/>
                              </a:lnTo>
                              <a:lnTo>
                                <a:pt x="410" y="246"/>
                              </a:lnTo>
                              <a:lnTo>
                                <a:pt x="449" y="115"/>
                              </a:lnTo>
                              <a:lnTo>
                                <a:pt x="505" y="23"/>
                              </a:lnTo>
                              <a:lnTo>
                                <a:pt x="568" y="0"/>
                              </a:lnTo>
                              <a:lnTo>
                                <a:pt x="600" y="69"/>
                              </a:lnTo>
                              <a:lnTo>
                                <a:pt x="623" y="277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326880" y="5207040"/>
                          <a:ext cx="103680" cy="5511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288" h="1531">
                              <a:moveTo>
                                <a:pt x="0" y="0"/>
                              </a:moveTo>
                              <a:lnTo>
                                <a:pt x="46" y="100"/>
                              </a:lnTo>
                              <a:lnTo>
                                <a:pt x="109" y="208"/>
                              </a:lnTo>
                              <a:lnTo>
                                <a:pt x="163" y="425"/>
                              </a:lnTo>
                              <a:lnTo>
                                <a:pt x="210" y="610"/>
                              </a:lnTo>
                              <a:lnTo>
                                <a:pt x="249" y="797"/>
                              </a:lnTo>
                              <a:lnTo>
                                <a:pt x="265" y="959"/>
                              </a:lnTo>
                              <a:lnTo>
                                <a:pt x="280" y="1113"/>
                              </a:lnTo>
                              <a:lnTo>
                                <a:pt x="288" y="1322"/>
                              </a:lnTo>
                              <a:lnTo>
                                <a:pt x="288" y="1531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ededed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506600" y="6280200"/>
                    <a:ext cx="454320" cy="281520"/>
                    <a:chOff x="1506600" y="6280200"/>
                    <a:chExt cx="454320" cy="2815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506600" y="6291360"/>
                      <a:ext cx="100440" cy="270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79" h="751">
                          <a:moveTo>
                            <a:pt x="223" y="0"/>
                          </a:moveTo>
                          <a:lnTo>
                            <a:pt x="203" y="14"/>
                          </a:lnTo>
                          <a:lnTo>
                            <a:pt x="113" y="147"/>
                          </a:lnTo>
                          <a:lnTo>
                            <a:pt x="56" y="274"/>
                          </a:lnTo>
                          <a:lnTo>
                            <a:pt x="0" y="431"/>
                          </a:lnTo>
                          <a:lnTo>
                            <a:pt x="0" y="602"/>
                          </a:lnTo>
                          <a:lnTo>
                            <a:pt x="28" y="751"/>
                          </a:lnTo>
                          <a:lnTo>
                            <a:pt x="56" y="751"/>
                          </a:lnTo>
                          <a:lnTo>
                            <a:pt x="28" y="602"/>
                          </a:lnTo>
                          <a:lnTo>
                            <a:pt x="28" y="477"/>
                          </a:lnTo>
                          <a:lnTo>
                            <a:pt x="85" y="340"/>
                          </a:lnTo>
                          <a:lnTo>
                            <a:pt x="166" y="205"/>
                          </a:lnTo>
                          <a:lnTo>
                            <a:pt x="279" y="34"/>
                          </a:lnTo>
                          <a:lnTo>
                            <a:pt x="223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1589040" y="6280200"/>
                      <a:ext cx="371880" cy="279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033" h="777">
                          <a:moveTo>
                            <a:pt x="1033" y="777"/>
                          </a:moveTo>
                          <a:lnTo>
                            <a:pt x="888" y="702"/>
                          </a:lnTo>
                          <a:lnTo>
                            <a:pt x="831" y="658"/>
                          </a:lnTo>
                          <a:lnTo>
                            <a:pt x="795" y="622"/>
                          </a:lnTo>
                          <a:lnTo>
                            <a:pt x="574" y="260"/>
                          </a:lnTo>
                          <a:lnTo>
                            <a:pt x="459" y="145"/>
                          </a:lnTo>
                          <a:lnTo>
                            <a:pt x="371" y="74"/>
                          </a:lnTo>
                          <a:lnTo>
                            <a:pt x="305" y="39"/>
                          </a:lnTo>
                          <a:lnTo>
                            <a:pt x="220" y="13"/>
                          </a:lnTo>
                          <a:lnTo>
                            <a:pt x="141" y="0"/>
                          </a:lnTo>
                          <a:lnTo>
                            <a:pt x="83" y="4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ln w="1260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2468520" y="5816520"/>
                    <a:ext cx="797400" cy="748080"/>
                    <a:chOff x="2468520" y="5816520"/>
                    <a:chExt cx="797400" cy="748080"/>
                  </a:xfrm>
                </p:grpSpPr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2468520" y="5819760"/>
                      <a:ext cx="797400" cy="637200"/>
                      <a:chOff x="2468520" y="5819760"/>
                      <a:chExt cx="797400" cy="637200"/>
                    </a:xfrm>
                  </p:grpSpPr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3122640" y="6194520"/>
                        <a:ext cx="135360" cy="262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6" h="729">
                            <a:moveTo>
                              <a:pt x="74" y="0"/>
                            </a:moveTo>
                            <a:lnTo>
                              <a:pt x="150" y="54"/>
                            </a:lnTo>
                            <a:lnTo>
                              <a:pt x="225" y="142"/>
                            </a:lnTo>
                            <a:lnTo>
                              <a:pt x="301" y="265"/>
                            </a:lnTo>
                            <a:lnTo>
                              <a:pt x="376" y="419"/>
                            </a:lnTo>
                            <a:lnTo>
                              <a:pt x="376" y="584"/>
                            </a:lnTo>
                            <a:lnTo>
                              <a:pt x="339" y="729"/>
                            </a:lnTo>
                            <a:lnTo>
                              <a:pt x="301" y="729"/>
                            </a:lnTo>
                            <a:lnTo>
                              <a:pt x="339" y="584"/>
                            </a:lnTo>
                            <a:lnTo>
                              <a:pt x="339" y="464"/>
                            </a:lnTo>
                            <a:lnTo>
                              <a:pt x="263" y="331"/>
                            </a:lnTo>
                            <a:lnTo>
                              <a:pt x="150" y="200"/>
                            </a:lnTo>
                            <a:lnTo>
                              <a:pt x="0" y="33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2468520" y="6048360"/>
                        <a:ext cx="225720" cy="260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27" h="724">
                            <a:moveTo>
                              <a:pt x="612" y="113"/>
                            </a:moveTo>
                            <a:lnTo>
                              <a:pt x="482" y="0"/>
                            </a:lnTo>
                            <a:lnTo>
                              <a:pt x="395" y="1"/>
                            </a:lnTo>
                            <a:lnTo>
                              <a:pt x="328" y="7"/>
                            </a:lnTo>
                            <a:lnTo>
                              <a:pt x="269" y="39"/>
                            </a:lnTo>
                            <a:lnTo>
                              <a:pt x="125" y="132"/>
                            </a:lnTo>
                            <a:lnTo>
                              <a:pt x="77" y="173"/>
                            </a:lnTo>
                            <a:lnTo>
                              <a:pt x="48" y="215"/>
                            </a:lnTo>
                            <a:lnTo>
                              <a:pt x="9" y="340"/>
                            </a:lnTo>
                            <a:lnTo>
                              <a:pt x="0" y="378"/>
                            </a:lnTo>
                            <a:lnTo>
                              <a:pt x="9" y="425"/>
                            </a:lnTo>
                            <a:lnTo>
                              <a:pt x="33" y="475"/>
                            </a:lnTo>
                            <a:lnTo>
                              <a:pt x="91" y="552"/>
                            </a:lnTo>
                            <a:lnTo>
                              <a:pt x="139" y="603"/>
                            </a:lnTo>
                            <a:lnTo>
                              <a:pt x="211" y="657"/>
                            </a:lnTo>
                            <a:lnTo>
                              <a:pt x="352" y="724"/>
                            </a:lnTo>
                            <a:lnTo>
                              <a:pt x="279" y="640"/>
                            </a:lnTo>
                            <a:lnTo>
                              <a:pt x="221" y="563"/>
                            </a:lnTo>
                            <a:lnTo>
                              <a:pt x="187" y="493"/>
                            </a:lnTo>
                            <a:lnTo>
                              <a:pt x="197" y="425"/>
                            </a:lnTo>
                            <a:lnTo>
                              <a:pt x="211" y="378"/>
                            </a:lnTo>
                            <a:lnTo>
                              <a:pt x="187" y="318"/>
                            </a:lnTo>
                            <a:lnTo>
                              <a:pt x="173" y="269"/>
                            </a:lnTo>
                            <a:lnTo>
                              <a:pt x="231" y="173"/>
                            </a:lnTo>
                            <a:lnTo>
                              <a:pt x="240" y="123"/>
                            </a:lnTo>
                            <a:lnTo>
                              <a:pt x="293" y="82"/>
                            </a:lnTo>
                            <a:lnTo>
                              <a:pt x="395" y="29"/>
                            </a:lnTo>
                            <a:lnTo>
                              <a:pt x="448" y="70"/>
                            </a:lnTo>
                            <a:lnTo>
                              <a:pt x="627" y="136"/>
                            </a:lnTo>
                            <a:lnTo>
                              <a:pt x="612" y="113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2900520" y="5819760"/>
                        <a:ext cx="365400" cy="376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15" h="1046">
                            <a:moveTo>
                              <a:pt x="194" y="0"/>
                            </a:moveTo>
                            <a:lnTo>
                              <a:pt x="260" y="4"/>
                            </a:lnTo>
                            <a:lnTo>
                              <a:pt x="352" y="17"/>
                            </a:lnTo>
                            <a:lnTo>
                              <a:pt x="291" y="22"/>
                            </a:lnTo>
                            <a:lnTo>
                              <a:pt x="339" y="35"/>
                            </a:lnTo>
                            <a:lnTo>
                              <a:pt x="392" y="57"/>
                            </a:lnTo>
                            <a:lnTo>
                              <a:pt x="476" y="61"/>
                            </a:lnTo>
                            <a:lnTo>
                              <a:pt x="600" y="66"/>
                            </a:lnTo>
                            <a:lnTo>
                              <a:pt x="476" y="61"/>
                            </a:lnTo>
                            <a:lnTo>
                              <a:pt x="392" y="74"/>
                            </a:lnTo>
                            <a:lnTo>
                              <a:pt x="458" y="88"/>
                            </a:lnTo>
                            <a:lnTo>
                              <a:pt x="414" y="97"/>
                            </a:lnTo>
                            <a:lnTo>
                              <a:pt x="525" y="127"/>
                            </a:lnTo>
                            <a:lnTo>
                              <a:pt x="710" y="154"/>
                            </a:lnTo>
                            <a:lnTo>
                              <a:pt x="525" y="132"/>
                            </a:lnTo>
                            <a:lnTo>
                              <a:pt x="458" y="136"/>
                            </a:lnTo>
                            <a:lnTo>
                              <a:pt x="591" y="171"/>
                            </a:lnTo>
                            <a:lnTo>
                              <a:pt x="507" y="171"/>
                            </a:lnTo>
                            <a:lnTo>
                              <a:pt x="649" y="211"/>
                            </a:lnTo>
                            <a:lnTo>
                              <a:pt x="728" y="224"/>
                            </a:lnTo>
                            <a:lnTo>
                              <a:pt x="918" y="273"/>
                            </a:lnTo>
                            <a:lnTo>
                              <a:pt x="640" y="220"/>
                            </a:lnTo>
                            <a:lnTo>
                              <a:pt x="561" y="224"/>
                            </a:lnTo>
                            <a:lnTo>
                              <a:pt x="684" y="251"/>
                            </a:lnTo>
                            <a:lnTo>
                              <a:pt x="600" y="260"/>
                            </a:lnTo>
                            <a:lnTo>
                              <a:pt x="706" y="299"/>
                            </a:lnTo>
                            <a:lnTo>
                              <a:pt x="1006" y="423"/>
                            </a:lnTo>
                            <a:lnTo>
                              <a:pt x="706" y="304"/>
                            </a:lnTo>
                            <a:lnTo>
                              <a:pt x="609" y="304"/>
                            </a:lnTo>
                            <a:lnTo>
                              <a:pt x="715" y="352"/>
                            </a:lnTo>
                            <a:lnTo>
                              <a:pt x="640" y="348"/>
                            </a:lnTo>
                            <a:lnTo>
                              <a:pt x="733" y="410"/>
                            </a:lnTo>
                            <a:lnTo>
                              <a:pt x="1006" y="520"/>
                            </a:lnTo>
                            <a:lnTo>
                              <a:pt x="1006" y="520"/>
                            </a:lnTo>
                            <a:lnTo>
                              <a:pt x="728" y="414"/>
                            </a:lnTo>
                            <a:lnTo>
                              <a:pt x="640" y="401"/>
                            </a:lnTo>
                            <a:lnTo>
                              <a:pt x="706" y="440"/>
                            </a:lnTo>
                            <a:lnTo>
                              <a:pt x="649" y="432"/>
                            </a:lnTo>
                            <a:lnTo>
                              <a:pt x="733" y="493"/>
                            </a:lnTo>
                            <a:lnTo>
                              <a:pt x="1015" y="613"/>
                            </a:lnTo>
                            <a:lnTo>
                              <a:pt x="728" y="493"/>
                            </a:lnTo>
                            <a:lnTo>
                              <a:pt x="693" y="493"/>
                            </a:lnTo>
                            <a:lnTo>
                              <a:pt x="966" y="671"/>
                            </a:lnTo>
                            <a:lnTo>
                              <a:pt x="675" y="493"/>
                            </a:lnTo>
                            <a:lnTo>
                              <a:pt x="728" y="543"/>
                            </a:lnTo>
                            <a:lnTo>
                              <a:pt x="675" y="525"/>
                            </a:lnTo>
                            <a:lnTo>
                              <a:pt x="759" y="596"/>
                            </a:lnTo>
                            <a:lnTo>
                              <a:pt x="944" y="733"/>
                            </a:lnTo>
                            <a:lnTo>
                              <a:pt x="759" y="605"/>
                            </a:lnTo>
                            <a:lnTo>
                              <a:pt x="684" y="596"/>
                            </a:lnTo>
                            <a:lnTo>
                              <a:pt x="759" y="636"/>
                            </a:lnTo>
                            <a:lnTo>
                              <a:pt x="1002" y="838"/>
                            </a:lnTo>
                            <a:lnTo>
                              <a:pt x="834" y="706"/>
                            </a:lnTo>
                            <a:lnTo>
                              <a:pt x="733" y="636"/>
                            </a:lnTo>
                            <a:lnTo>
                              <a:pt x="684" y="631"/>
                            </a:lnTo>
                            <a:lnTo>
                              <a:pt x="750" y="680"/>
                            </a:lnTo>
                            <a:lnTo>
                              <a:pt x="693" y="671"/>
                            </a:lnTo>
                            <a:lnTo>
                              <a:pt x="777" y="733"/>
                            </a:lnTo>
                            <a:lnTo>
                              <a:pt x="816" y="785"/>
                            </a:lnTo>
                            <a:lnTo>
                              <a:pt x="909" y="887"/>
                            </a:lnTo>
                            <a:lnTo>
                              <a:pt x="807" y="785"/>
                            </a:lnTo>
                            <a:lnTo>
                              <a:pt x="759" y="750"/>
                            </a:lnTo>
                            <a:lnTo>
                              <a:pt x="706" y="741"/>
                            </a:lnTo>
                            <a:lnTo>
                              <a:pt x="807" y="838"/>
                            </a:lnTo>
                            <a:lnTo>
                              <a:pt x="693" y="741"/>
                            </a:lnTo>
                            <a:lnTo>
                              <a:pt x="759" y="785"/>
                            </a:lnTo>
                            <a:lnTo>
                              <a:pt x="684" y="777"/>
                            </a:lnTo>
                            <a:lnTo>
                              <a:pt x="852" y="909"/>
                            </a:lnTo>
                            <a:lnTo>
                              <a:pt x="715" y="816"/>
                            </a:lnTo>
                            <a:lnTo>
                              <a:pt x="675" y="816"/>
                            </a:lnTo>
                            <a:lnTo>
                              <a:pt x="693" y="852"/>
                            </a:lnTo>
                            <a:lnTo>
                              <a:pt x="807" y="944"/>
                            </a:lnTo>
                            <a:lnTo>
                              <a:pt x="684" y="860"/>
                            </a:lnTo>
                            <a:lnTo>
                              <a:pt x="649" y="830"/>
                            </a:lnTo>
                            <a:lnTo>
                              <a:pt x="706" y="904"/>
                            </a:lnTo>
                            <a:lnTo>
                              <a:pt x="640" y="891"/>
                            </a:lnTo>
                            <a:lnTo>
                              <a:pt x="759" y="1046"/>
                            </a:lnTo>
                            <a:lnTo>
                              <a:pt x="622" y="927"/>
                            </a:lnTo>
                            <a:lnTo>
                              <a:pt x="591" y="949"/>
                            </a:lnTo>
                            <a:lnTo>
                              <a:pt x="600" y="1010"/>
                            </a:lnTo>
                            <a:lnTo>
                              <a:pt x="583" y="1010"/>
                            </a:lnTo>
                            <a:lnTo>
                              <a:pt x="583" y="944"/>
                            </a:lnTo>
                            <a:lnTo>
                              <a:pt x="583" y="904"/>
                            </a:lnTo>
                            <a:lnTo>
                              <a:pt x="521" y="927"/>
                            </a:lnTo>
                            <a:lnTo>
                              <a:pt x="534" y="904"/>
                            </a:lnTo>
                            <a:lnTo>
                              <a:pt x="583" y="852"/>
                            </a:lnTo>
                            <a:lnTo>
                              <a:pt x="525" y="860"/>
                            </a:lnTo>
                            <a:lnTo>
                              <a:pt x="600" y="794"/>
                            </a:lnTo>
                            <a:lnTo>
                              <a:pt x="534" y="821"/>
                            </a:lnTo>
                            <a:lnTo>
                              <a:pt x="427" y="918"/>
                            </a:lnTo>
                            <a:lnTo>
                              <a:pt x="525" y="812"/>
                            </a:lnTo>
                            <a:lnTo>
                              <a:pt x="583" y="772"/>
                            </a:lnTo>
                            <a:lnTo>
                              <a:pt x="569" y="772"/>
                            </a:lnTo>
                            <a:lnTo>
                              <a:pt x="507" y="794"/>
                            </a:lnTo>
                            <a:lnTo>
                              <a:pt x="383" y="847"/>
                            </a:lnTo>
                            <a:lnTo>
                              <a:pt x="392" y="838"/>
                            </a:lnTo>
                            <a:lnTo>
                              <a:pt x="525" y="777"/>
                            </a:lnTo>
                            <a:lnTo>
                              <a:pt x="569" y="728"/>
                            </a:lnTo>
                            <a:lnTo>
                              <a:pt x="507" y="728"/>
                            </a:lnTo>
                            <a:lnTo>
                              <a:pt x="569" y="680"/>
                            </a:lnTo>
                            <a:lnTo>
                              <a:pt x="485" y="688"/>
                            </a:lnTo>
                            <a:lnTo>
                              <a:pt x="352" y="741"/>
                            </a:lnTo>
                            <a:lnTo>
                              <a:pt x="485" y="688"/>
                            </a:lnTo>
                            <a:lnTo>
                              <a:pt x="552" y="631"/>
                            </a:lnTo>
                            <a:lnTo>
                              <a:pt x="476" y="644"/>
                            </a:lnTo>
                            <a:lnTo>
                              <a:pt x="525" y="600"/>
                            </a:lnTo>
                            <a:lnTo>
                              <a:pt x="458" y="631"/>
                            </a:lnTo>
                            <a:lnTo>
                              <a:pt x="507" y="561"/>
                            </a:lnTo>
                            <a:lnTo>
                              <a:pt x="445" y="596"/>
                            </a:lnTo>
                            <a:lnTo>
                              <a:pt x="295" y="684"/>
                            </a:lnTo>
                            <a:lnTo>
                              <a:pt x="458" y="596"/>
                            </a:lnTo>
                            <a:lnTo>
                              <a:pt x="521" y="511"/>
                            </a:lnTo>
                            <a:lnTo>
                              <a:pt x="445" y="530"/>
                            </a:lnTo>
                            <a:lnTo>
                              <a:pt x="308" y="613"/>
                            </a:lnTo>
                            <a:lnTo>
                              <a:pt x="445" y="525"/>
                            </a:lnTo>
                            <a:lnTo>
                              <a:pt x="498" y="449"/>
                            </a:lnTo>
                            <a:lnTo>
                              <a:pt x="436" y="463"/>
                            </a:lnTo>
                            <a:lnTo>
                              <a:pt x="485" y="418"/>
                            </a:lnTo>
                            <a:lnTo>
                              <a:pt x="427" y="436"/>
                            </a:lnTo>
                            <a:lnTo>
                              <a:pt x="224" y="640"/>
                            </a:lnTo>
                            <a:lnTo>
                              <a:pt x="436" y="418"/>
                            </a:lnTo>
                            <a:lnTo>
                              <a:pt x="436" y="361"/>
                            </a:lnTo>
                            <a:lnTo>
                              <a:pt x="374" y="388"/>
                            </a:lnTo>
                            <a:lnTo>
                              <a:pt x="251" y="502"/>
                            </a:lnTo>
                            <a:lnTo>
                              <a:pt x="401" y="352"/>
                            </a:lnTo>
                            <a:lnTo>
                              <a:pt x="427" y="304"/>
                            </a:lnTo>
                            <a:lnTo>
                              <a:pt x="374" y="326"/>
                            </a:lnTo>
                            <a:lnTo>
                              <a:pt x="110" y="511"/>
                            </a:lnTo>
                            <a:lnTo>
                              <a:pt x="224" y="414"/>
                            </a:lnTo>
                            <a:lnTo>
                              <a:pt x="361" y="313"/>
                            </a:lnTo>
                            <a:lnTo>
                              <a:pt x="383" y="251"/>
                            </a:lnTo>
                            <a:lnTo>
                              <a:pt x="317" y="282"/>
                            </a:lnTo>
                            <a:lnTo>
                              <a:pt x="352" y="220"/>
                            </a:lnTo>
                            <a:lnTo>
                              <a:pt x="110" y="374"/>
                            </a:lnTo>
                            <a:lnTo>
                              <a:pt x="339" y="211"/>
                            </a:lnTo>
                            <a:lnTo>
                              <a:pt x="361" y="167"/>
                            </a:lnTo>
                            <a:lnTo>
                              <a:pt x="291" y="202"/>
                            </a:lnTo>
                            <a:lnTo>
                              <a:pt x="299" y="132"/>
                            </a:lnTo>
                            <a:lnTo>
                              <a:pt x="207" y="163"/>
                            </a:lnTo>
                            <a:lnTo>
                              <a:pt x="0" y="264"/>
                            </a:lnTo>
                            <a:lnTo>
                              <a:pt x="207" y="158"/>
                            </a:lnTo>
                            <a:lnTo>
                              <a:pt x="251" y="88"/>
                            </a:lnTo>
                            <a:lnTo>
                              <a:pt x="194" y="110"/>
                            </a:lnTo>
                            <a:lnTo>
                              <a:pt x="224" y="57"/>
                            </a:lnTo>
                            <a:lnTo>
                              <a:pt x="176" y="70"/>
                            </a:lnTo>
                            <a:lnTo>
                              <a:pt x="167" y="30"/>
                            </a:lnTo>
                            <a:lnTo>
                              <a:pt x="176" y="13"/>
                            </a:lnTo>
                            <a:lnTo>
                              <a:pt x="194" y="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2657520" y="5816520"/>
                      <a:ext cx="486000" cy="748080"/>
                      <a:chOff x="2657520" y="5816520"/>
                      <a:chExt cx="486000" cy="74808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2673360" y="6173640"/>
                        <a:ext cx="470160" cy="30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306" h="839">
                            <a:moveTo>
                              <a:pt x="0" y="839"/>
                            </a:moveTo>
                            <a:lnTo>
                              <a:pt x="193" y="653"/>
                            </a:lnTo>
                            <a:lnTo>
                              <a:pt x="357" y="446"/>
                            </a:lnTo>
                            <a:lnTo>
                              <a:pt x="441" y="354"/>
                            </a:lnTo>
                            <a:lnTo>
                              <a:pt x="560" y="250"/>
                            </a:lnTo>
                            <a:lnTo>
                              <a:pt x="720" y="139"/>
                            </a:lnTo>
                            <a:lnTo>
                              <a:pt x="839" y="70"/>
                            </a:lnTo>
                            <a:lnTo>
                              <a:pt x="929" y="37"/>
                            </a:lnTo>
                            <a:lnTo>
                              <a:pt x="1048" y="9"/>
                            </a:lnTo>
                            <a:lnTo>
                              <a:pt x="1182" y="0"/>
                            </a:lnTo>
                            <a:lnTo>
                              <a:pt x="1241" y="23"/>
                            </a:lnTo>
                            <a:lnTo>
                              <a:pt x="1306" y="78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657520" y="5816520"/>
                        <a:ext cx="322560" cy="7480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96" h="2078">
                            <a:moveTo>
                              <a:pt x="4" y="2078"/>
                            </a:moveTo>
                            <a:lnTo>
                              <a:pt x="0" y="1885"/>
                            </a:lnTo>
                            <a:lnTo>
                              <a:pt x="0" y="1738"/>
                            </a:lnTo>
                            <a:lnTo>
                              <a:pt x="19" y="1636"/>
                            </a:lnTo>
                            <a:lnTo>
                              <a:pt x="29" y="1510"/>
                            </a:lnTo>
                            <a:lnTo>
                              <a:pt x="29" y="1381"/>
                            </a:lnTo>
                            <a:lnTo>
                              <a:pt x="34" y="1273"/>
                            </a:lnTo>
                            <a:lnTo>
                              <a:pt x="59" y="1173"/>
                            </a:lnTo>
                            <a:lnTo>
                              <a:pt x="89" y="1000"/>
                            </a:lnTo>
                            <a:lnTo>
                              <a:pt x="134" y="811"/>
                            </a:lnTo>
                            <a:lnTo>
                              <a:pt x="188" y="620"/>
                            </a:lnTo>
                            <a:lnTo>
                              <a:pt x="233" y="414"/>
                            </a:lnTo>
                            <a:lnTo>
                              <a:pt x="273" y="292"/>
                            </a:lnTo>
                            <a:lnTo>
                              <a:pt x="303" y="244"/>
                            </a:lnTo>
                            <a:lnTo>
                              <a:pt x="387" y="161"/>
                            </a:lnTo>
                            <a:lnTo>
                              <a:pt x="463" y="101"/>
                            </a:lnTo>
                            <a:lnTo>
                              <a:pt x="553" y="53"/>
                            </a:lnTo>
                            <a:lnTo>
                              <a:pt x="642" y="11"/>
                            </a:lnTo>
                            <a:lnTo>
                              <a:pt x="707" y="0"/>
                            </a:lnTo>
                            <a:lnTo>
                              <a:pt x="791" y="0"/>
                            </a:lnTo>
                            <a:lnTo>
                              <a:pt x="866" y="15"/>
                            </a:lnTo>
                            <a:lnTo>
                              <a:pt x="896" y="35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1198440" y="5999040"/>
                    <a:ext cx="806760" cy="676800"/>
                    <a:chOff x="1198440" y="5999040"/>
                    <a:chExt cx="806760" cy="67680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198440" y="6070680"/>
                      <a:ext cx="424080" cy="348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78" h="967">
                          <a:moveTo>
                            <a:pt x="665" y="13"/>
                          </a:moveTo>
                          <a:lnTo>
                            <a:pt x="587" y="0"/>
                          </a:lnTo>
                          <a:lnTo>
                            <a:pt x="537" y="26"/>
                          </a:lnTo>
                          <a:lnTo>
                            <a:pt x="485" y="34"/>
                          </a:lnTo>
                          <a:lnTo>
                            <a:pt x="368" y="42"/>
                          </a:lnTo>
                          <a:lnTo>
                            <a:pt x="83" y="42"/>
                          </a:lnTo>
                          <a:lnTo>
                            <a:pt x="368" y="49"/>
                          </a:lnTo>
                          <a:lnTo>
                            <a:pt x="451" y="34"/>
                          </a:lnTo>
                          <a:lnTo>
                            <a:pt x="504" y="42"/>
                          </a:lnTo>
                          <a:lnTo>
                            <a:pt x="436" y="59"/>
                          </a:lnTo>
                          <a:lnTo>
                            <a:pt x="485" y="59"/>
                          </a:lnTo>
                          <a:lnTo>
                            <a:pt x="436" y="85"/>
                          </a:lnTo>
                          <a:lnTo>
                            <a:pt x="64" y="229"/>
                          </a:lnTo>
                          <a:lnTo>
                            <a:pt x="451" y="85"/>
                          </a:lnTo>
                          <a:lnTo>
                            <a:pt x="436" y="102"/>
                          </a:lnTo>
                          <a:lnTo>
                            <a:pt x="384" y="128"/>
                          </a:lnTo>
                          <a:lnTo>
                            <a:pt x="335" y="136"/>
                          </a:lnTo>
                          <a:lnTo>
                            <a:pt x="233" y="145"/>
                          </a:lnTo>
                          <a:lnTo>
                            <a:pt x="64" y="128"/>
                          </a:lnTo>
                          <a:lnTo>
                            <a:pt x="335" y="145"/>
                          </a:lnTo>
                          <a:lnTo>
                            <a:pt x="384" y="128"/>
                          </a:lnTo>
                          <a:lnTo>
                            <a:pt x="436" y="118"/>
                          </a:lnTo>
                          <a:lnTo>
                            <a:pt x="421" y="145"/>
                          </a:lnTo>
                          <a:lnTo>
                            <a:pt x="384" y="153"/>
                          </a:lnTo>
                          <a:lnTo>
                            <a:pt x="49" y="237"/>
                          </a:lnTo>
                          <a:lnTo>
                            <a:pt x="384" y="161"/>
                          </a:lnTo>
                          <a:lnTo>
                            <a:pt x="421" y="161"/>
                          </a:lnTo>
                          <a:lnTo>
                            <a:pt x="384" y="186"/>
                          </a:lnTo>
                          <a:lnTo>
                            <a:pt x="335" y="212"/>
                          </a:lnTo>
                          <a:lnTo>
                            <a:pt x="49" y="264"/>
                          </a:lnTo>
                          <a:lnTo>
                            <a:pt x="368" y="202"/>
                          </a:lnTo>
                          <a:lnTo>
                            <a:pt x="384" y="202"/>
                          </a:lnTo>
                          <a:lnTo>
                            <a:pt x="402" y="212"/>
                          </a:lnTo>
                          <a:lnTo>
                            <a:pt x="335" y="246"/>
                          </a:lnTo>
                          <a:lnTo>
                            <a:pt x="402" y="237"/>
                          </a:lnTo>
                          <a:lnTo>
                            <a:pt x="316" y="281"/>
                          </a:lnTo>
                          <a:lnTo>
                            <a:pt x="249" y="305"/>
                          </a:lnTo>
                          <a:lnTo>
                            <a:pt x="116" y="324"/>
                          </a:lnTo>
                          <a:lnTo>
                            <a:pt x="49" y="324"/>
                          </a:lnTo>
                          <a:lnTo>
                            <a:pt x="166" y="315"/>
                          </a:lnTo>
                          <a:lnTo>
                            <a:pt x="301" y="297"/>
                          </a:lnTo>
                          <a:lnTo>
                            <a:pt x="335" y="289"/>
                          </a:lnTo>
                          <a:lnTo>
                            <a:pt x="301" y="315"/>
                          </a:lnTo>
                          <a:lnTo>
                            <a:pt x="233" y="348"/>
                          </a:lnTo>
                          <a:lnTo>
                            <a:pt x="116" y="366"/>
                          </a:lnTo>
                          <a:lnTo>
                            <a:pt x="0" y="381"/>
                          </a:lnTo>
                          <a:lnTo>
                            <a:pt x="150" y="356"/>
                          </a:lnTo>
                          <a:lnTo>
                            <a:pt x="249" y="330"/>
                          </a:lnTo>
                          <a:lnTo>
                            <a:pt x="335" y="305"/>
                          </a:lnTo>
                          <a:lnTo>
                            <a:pt x="350" y="297"/>
                          </a:lnTo>
                          <a:lnTo>
                            <a:pt x="335" y="324"/>
                          </a:lnTo>
                          <a:lnTo>
                            <a:pt x="368" y="315"/>
                          </a:lnTo>
                          <a:lnTo>
                            <a:pt x="402" y="324"/>
                          </a:lnTo>
                          <a:lnTo>
                            <a:pt x="335" y="348"/>
                          </a:lnTo>
                          <a:lnTo>
                            <a:pt x="335" y="366"/>
                          </a:lnTo>
                          <a:lnTo>
                            <a:pt x="249" y="399"/>
                          </a:lnTo>
                          <a:lnTo>
                            <a:pt x="282" y="399"/>
                          </a:lnTo>
                          <a:lnTo>
                            <a:pt x="249" y="417"/>
                          </a:lnTo>
                          <a:lnTo>
                            <a:pt x="132" y="450"/>
                          </a:lnTo>
                          <a:lnTo>
                            <a:pt x="30" y="459"/>
                          </a:lnTo>
                          <a:lnTo>
                            <a:pt x="181" y="441"/>
                          </a:lnTo>
                          <a:lnTo>
                            <a:pt x="267" y="417"/>
                          </a:lnTo>
                          <a:lnTo>
                            <a:pt x="316" y="408"/>
                          </a:lnTo>
                          <a:lnTo>
                            <a:pt x="316" y="432"/>
                          </a:lnTo>
                          <a:lnTo>
                            <a:pt x="316" y="441"/>
                          </a:lnTo>
                          <a:lnTo>
                            <a:pt x="267" y="477"/>
                          </a:lnTo>
                          <a:lnTo>
                            <a:pt x="218" y="501"/>
                          </a:lnTo>
                          <a:lnTo>
                            <a:pt x="249" y="501"/>
                          </a:lnTo>
                          <a:lnTo>
                            <a:pt x="202" y="518"/>
                          </a:lnTo>
                          <a:lnTo>
                            <a:pt x="30" y="561"/>
                          </a:lnTo>
                          <a:lnTo>
                            <a:pt x="150" y="534"/>
                          </a:lnTo>
                          <a:lnTo>
                            <a:pt x="233" y="518"/>
                          </a:lnTo>
                          <a:lnTo>
                            <a:pt x="233" y="544"/>
                          </a:lnTo>
                          <a:lnTo>
                            <a:pt x="181" y="551"/>
                          </a:lnTo>
                          <a:lnTo>
                            <a:pt x="233" y="544"/>
                          </a:lnTo>
                          <a:lnTo>
                            <a:pt x="233" y="561"/>
                          </a:lnTo>
                          <a:lnTo>
                            <a:pt x="202" y="577"/>
                          </a:lnTo>
                          <a:lnTo>
                            <a:pt x="49" y="602"/>
                          </a:lnTo>
                          <a:lnTo>
                            <a:pt x="181" y="577"/>
                          </a:lnTo>
                          <a:lnTo>
                            <a:pt x="181" y="586"/>
                          </a:lnTo>
                          <a:lnTo>
                            <a:pt x="202" y="594"/>
                          </a:lnTo>
                          <a:lnTo>
                            <a:pt x="49" y="653"/>
                          </a:lnTo>
                          <a:lnTo>
                            <a:pt x="166" y="610"/>
                          </a:lnTo>
                          <a:lnTo>
                            <a:pt x="202" y="602"/>
                          </a:lnTo>
                          <a:lnTo>
                            <a:pt x="218" y="620"/>
                          </a:lnTo>
                          <a:lnTo>
                            <a:pt x="181" y="637"/>
                          </a:lnTo>
                          <a:lnTo>
                            <a:pt x="218" y="628"/>
                          </a:lnTo>
                          <a:lnTo>
                            <a:pt x="181" y="679"/>
                          </a:lnTo>
                          <a:lnTo>
                            <a:pt x="30" y="738"/>
                          </a:lnTo>
                          <a:lnTo>
                            <a:pt x="181" y="679"/>
                          </a:lnTo>
                          <a:lnTo>
                            <a:pt x="166" y="704"/>
                          </a:lnTo>
                          <a:lnTo>
                            <a:pt x="218" y="679"/>
                          </a:lnTo>
                          <a:lnTo>
                            <a:pt x="218" y="704"/>
                          </a:lnTo>
                          <a:lnTo>
                            <a:pt x="233" y="824"/>
                          </a:lnTo>
                          <a:lnTo>
                            <a:pt x="384" y="967"/>
                          </a:lnTo>
                          <a:lnTo>
                            <a:pt x="233" y="816"/>
                          </a:lnTo>
                          <a:lnTo>
                            <a:pt x="233" y="756"/>
                          </a:lnTo>
                          <a:lnTo>
                            <a:pt x="249" y="712"/>
                          </a:lnTo>
                          <a:lnTo>
                            <a:pt x="267" y="679"/>
                          </a:lnTo>
                          <a:lnTo>
                            <a:pt x="301" y="620"/>
                          </a:lnTo>
                          <a:lnTo>
                            <a:pt x="335" y="645"/>
                          </a:lnTo>
                          <a:lnTo>
                            <a:pt x="553" y="967"/>
                          </a:lnTo>
                          <a:lnTo>
                            <a:pt x="350" y="645"/>
                          </a:lnTo>
                          <a:lnTo>
                            <a:pt x="350" y="610"/>
                          </a:lnTo>
                          <a:lnTo>
                            <a:pt x="384" y="628"/>
                          </a:lnTo>
                          <a:lnTo>
                            <a:pt x="421" y="943"/>
                          </a:lnTo>
                          <a:lnTo>
                            <a:pt x="402" y="671"/>
                          </a:lnTo>
                          <a:lnTo>
                            <a:pt x="384" y="620"/>
                          </a:lnTo>
                          <a:lnTo>
                            <a:pt x="368" y="602"/>
                          </a:lnTo>
                          <a:lnTo>
                            <a:pt x="384" y="561"/>
                          </a:lnTo>
                          <a:lnTo>
                            <a:pt x="402" y="594"/>
                          </a:lnTo>
                          <a:lnTo>
                            <a:pt x="451" y="661"/>
                          </a:lnTo>
                          <a:lnTo>
                            <a:pt x="504" y="704"/>
                          </a:lnTo>
                          <a:lnTo>
                            <a:pt x="640" y="765"/>
                          </a:lnTo>
                          <a:lnTo>
                            <a:pt x="926" y="875"/>
                          </a:lnTo>
                          <a:lnTo>
                            <a:pt x="553" y="712"/>
                          </a:lnTo>
                          <a:lnTo>
                            <a:pt x="485" y="671"/>
                          </a:lnTo>
                          <a:lnTo>
                            <a:pt x="451" y="645"/>
                          </a:lnTo>
                          <a:lnTo>
                            <a:pt x="421" y="610"/>
                          </a:lnTo>
                          <a:lnTo>
                            <a:pt x="436" y="518"/>
                          </a:lnTo>
                          <a:lnTo>
                            <a:pt x="451" y="544"/>
                          </a:lnTo>
                          <a:lnTo>
                            <a:pt x="451" y="492"/>
                          </a:lnTo>
                          <a:lnTo>
                            <a:pt x="451" y="477"/>
                          </a:lnTo>
                          <a:lnTo>
                            <a:pt x="485" y="518"/>
                          </a:lnTo>
                          <a:lnTo>
                            <a:pt x="809" y="832"/>
                          </a:lnTo>
                          <a:lnTo>
                            <a:pt x="537" y="577"/>
                          </a:lnTo>
                          <a:lnTo>
                            <a:pt x="504" y="551"/>
                          </a:lnTo>
                          <a:lnTo>
                            <a:pt x="485" y="518"/>
                          </a:lnTo>
                          <a:lnTo>
                            <a:pt x="485" y="424"/>
                          </a:lnTo>
                          <a:lnTo>
                            <a:pt x="504" y="432"/>
                          </a:lnTo>
                          <a:lnTo>
                            <a:pt x="519" y="381"/>
                          </a:lnTo>
                          <a:lnTo>
                            <a:pt x="571" y="399"/>
                          </a:lnTo>
                          <a:lnTo>
                            <a:pt x="821" y="748"/>
                          </a:lnTo>
                          <a:lnTo>
                            <a:pt x="689" y="577"/>
                          </a:lnTo>
                          <a:lnTo>
                            <a:pt x="640" y="501"/>
                          </a:lnTo>
                          <a:lnTo>
                            <a:pt x="571" y="432"/>
                          </a:lnTo>
                          <a:lnTo>
                            <a:pt x="571" y="391"/>
                          </a:lnTo>
                          <a:lnTo>
                            <a:pt x="553" y="324"/>
                          </a:lnTo>
                          <a:lnTo>
                            <a:pt x="587" y="330"/>
                          </a:lnTo>
                          <a:lnTo>
                            <a:pt x="723" y="679"/>
                          </a:lnTo>
                          <a:lnTo>
                            <a:pt x="571" y="305"/>
                          </a:lnTo>
                          <a:lnTo>
                            <a:pt x="571" y="272"/>
                          </a:lnTo>
                          <a:lnTo>
                            <a:pt x="587" y="297"/>
                          </a:lnTo>
                          <a:lnTo>
                            <a:pt x="587" y="220"/>
                          </a:lnTo>
                          <a:lnTo>
                            <a:pt x="621" y="246"/>
                          </a:lnTo>
                          <a:lnTo>
                            <a:pt x="621" y="202"/>
                          </a:lnTo>
                          <a:lnTo>
                            <a:pt x="671" y="229"/>
                          </a:lnTo>
                          <a:lnTo>
                            <a:pt x="741" y="315"/>
                          </a:lnTo>
                          <a:lnTo>
                            <a:pt x="821" y="366"/>
                          </a:lnTo>
                          <a:lnTo>
                            <a:pt x="975" y="450"/>
                          </a:lnTo>
                          <a:lnTo>
                            <a:pt x="1058" y="526"/>
                          </a:lnTo>
                          <a:lnTo>
                            <a:pt x="821" y="366"/>
                          </a:lnTo>
                          <a:lnTo>
                            <a:pt x="757" y="324"/>
                          </a:lnTo>
                          <a:lnTo>
                            <a:pt x="689" y="264"/>
                          </a:lnTo>
                          <a:lnTo>
                            <a:pt x="671" y="220"/>
                          </a:lnTo>
                          <a:lnTo>
                            <a:pt x="640" y="145"/>
                          </a:lnTo>
                          <a:lnTo>
                            <a:pt x="655" y="153"/>
                          </a:lnTo>
                          <a:lnTo>
                            <a:pt x="689" y="145"/>
                          </a:lnTo>
                          <a:lnTo>
                            <a:pt x="671" y="112"/>
                          </a:lnTo>
                          <a:lnTo>
                            <a:pt x="704" y="145"/>
                          </a:lnTo>
                          <a:lnTo>
                            <a:pt x="741" y="177"/>
                          </a:lnTo>
                          <a:lnTo>
                            <a:pt x="821" y="212"/>
                          </a:lnTo>
                          <a:lnTo>
                            <a:pt x="944" y="246"/>
                          </a:lnTo>
                          <a:lnTo>
                            <a:pt x="1178" y="330"/>
                          </a:lnTo>
                          <a:lnTo>
                            <a:pt x="791" y="202"/>
                          </a:lnTo>
                          <a:lnTo>
                            <a:pt x="741" y="169"/>
                          </a:lnTo>
                          <a:lnTo>
                            <a:pt x="723" y="153"/>
                          </a:lnTo>
                          <a:lnTo>
                            <a:pt x="723" y="67"/>
                          </a:lnTo>
                          <a:lnTo>
                            <a:pt x="757" y="93"/>
                          </a:lnTo>
                          <a:lnTo>
                            <a:pt x="809" y="136"/>
                          </a:lnTo>
                          <a:lnTo>
                            <a:pt x="907" y="202"/>
                          </a:lnTo>
                          <a:lnTo>
                            <a:pt x="1043" y="272"/>
                          </a:lnTo>
                          <a:lnTo>
                            <a:pt x="1076" y="305"/>
                          </a:lnTo>
                          <a:lnTo>
                            <a:pt x="787" y="136"/>
                          </a:lnTo>
                          <a:lnTo>
                            <a:pt x="757" y="75"/>
                          </a:lnTo>
                          <a:lnTo>
                            <a:pt x="772" y="34"/>
                          </a:lnTo>
                          <a:lnTo>
                            <a:pt x="692" y="8"/>
                          </a:lnTo>
                          <a:lnTo>
                            <a:pt x="665" y="13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442880" y="5999040"/>
                      <a:ext cx="562320" cy="676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562" h="1880">
                          <a:moveTo>
                            <a:pt x="1562" y="1880"/>
                          </a:moveTo>
                          <a:lnTo>
                            <a:pt x="1518" y="1731"/>
                          </a:lnTo>
                          <a:lnTo>
                            <a:pt x="1027" y="711"/>
                          </a:lnTo>
                          <a:lnTo>
                            <a:pt x="809" y="396"/>
                          </a:lnTo>
                          <a:lnTo>
                            <a:pt x="743" y="290"/>
                          </a:lnTo>
                          <a:lnTo>
                            <a:pt x="659" y="172"/>
                          </a:lnTo>
                          <a:lnTo>
                            <a:pt x="562" y="81"/>
                          </a:lnTo>
                          <a:lnTo>
                            <a:pt x="472" y="35"/>
                          </a:lnTo>
                          <a:lnTo>
                            <a:pt x="357" y="1"/>
                          </a:lnTo>
                          <a:lnTo>
                            <a:pt x="242" y="0"/>
                          </a:lnTo>
                          <a:lnTo>
                            <a:pt x="164" y="36"/>
                          </a:lnTo>
                          <a:lnTo>
                            <a:pt x="0" y="210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530280" y="4486320"/>
                    <a:ext cx="1167120" cy="2100600"/>
                    <a:chOff x="530280" y="4486320"/>
                    <a:chExt cx="1167120" cy="2100600"/>
                  </a:xfrm>
                </p:grpSpPr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828720" y="4486320"/>
                      <a:ext cx="565560" cy="2100600"/>
                      <a:chOff x="828720" y="4486320"/>
                      <a:chExt cx="565560" cy="210060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906480" y="4486320"/>
                        <a:ext cx="487800" cy="2100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355" h="5835">
                            <a:moveTo>
                              <a:pt x="0" y="5835"/>
                            </a:moveTo>
                            <a:lnTo>
                              <a:pt x="484" y="3673"/>
                            </a:lnTo>
                            <a:lnTo>
                              <a:pt x="540" y="3323"/>
                            </a:lnTo>
                            <a:lnTo>
                              <a:pt x="660" y="2763"/>
                            </a:lnTo>
                            <a:lnTo>
                              <a:pt x="773" y="2178"/>
                            </a:lnTo>
                            <a:lnTo>
                              <a:pt x="829" y="1858"/>
                            </a:lnTo>
                            <a:lnTo>
                              <a:pt x="862" y="1521"/>
                            </a:lnTo>
                            <a:lnTo>
                              <a:pt x="907" y="1205"/>
                            </a:lnTo>
                            <a:lnTo>
                              <a:pt x="979" y="834"/>
                            </a:lnTo>
                            <a:lnTo>
                              <a:pt x="1057" y="494"/>
                            </a:lnTo>
                            <a:lnTo>
                              <a:pt x="1158" y="198"/>
                            </a:lnTo>
                            <a:lnTo>
                              <a:pt x="1236" y="13"/>
                            </a:lnTo>
                            <a:lnTo>
                              <a:pt x="1284" y="0"/>
                            </a:lnTo>
                            <a:lnTo>
                              <a:pt x="1328" y="94"/>
                            </a:lnTo>
                            <a:lnTo>
                              <a:pt x="1355" y="420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993600" y="5424480"/>
                        <a:ext cx="386280" cy="7797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073" h="2166">
                            <a:moveTo>
                              <a:pt x="0" y="2166"/>
                            </a:moveTo>
                            <a:lnTo>
                              <a:pt x="203" y="1698"/>
                            </a:lnTo>
                            <a:lnTo>
                              <a:pt x="331" y="1156"/>
                            </a:lnTo>
                            <a:lnTo>
                              <a:pt x="399" y="914"/>
                            </a:lnTo>
                            <a:lnTo>
                              <a:pt x="491" y="637"/>
                            </a:lnTo>
                            <a:lnTo>
                              <a:pt x="615" y="349"/>
                            </a:lnTo>
                            <a:lnTo>
                              <a:pt x="706" y="172"/>
                            </a:lnTo>
                            <a:lnTo>
                              <a:pt x="777" y="81"/>
                            </a:lnTo>
                            <a:lnTo>
                              <a:pt x="872" y="13"/>
                            </a:lnTo>
                            <a:lnTo>
                              <a:pt x="979" y="0"/>
                            </a:lnTo>
                            <a:lnTo>
                              <a:pt x="1026" y="47"/>
                            </a:lnTo>
                            <a:lnTo>
                              <a:pt x="1073" y="189"/>
                            </a:lnTo>
                          </a:path>
                        </a:pathLst>
                      </a:custGeom>
                      <a:ln w="2556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828720" y="5707080"/>
                        <a:ext cx="189360" cy="375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526" h="1042">
                            <a:moveTo>
                              <a:pt x="0" y="0"/>
                            </a:moveTo>
                            <a:lnTo>
                              <a:pt x="87" y="67"/>
                            </a:lnTo>
                            <a:lnTo>
                              <a:pt x="197" y="144"/>
                            </a:lnTo>
                            <a:lnTo>
                              <a:pt x="293" y="289"/>
                            </a:lnTo>
                            <a:lnTo>
                              <a:pt x="380" y="413"/>
                            </a:lnTo>
                            <a:lnTo>
                              <a:pt x="454" y="544"/>
                            </a:lnTo>
                            <a:lnTo>
                              <a:pt x="490" y="652"/>
                            </a:lnTo>
                            <a:lnTo>
                              <a:pt x="514" y="756"/>
                            </a:lnTo>
                            <a:lnTo>
                              <a:pt x="526" y="898"/>
                            </a:lnTo>
                            <a:lnTo>
                              <a:pt x="526" y="1042"/>
                            </a:lnTo>
                          </a:path>
                        </a:pathLst>
                      </a:custGeom>
                      <a:ln w="12600">
                        <a:solidFill>
                          <a:srgbClr val="ededed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" name=""/>
                    <p:cNvGrpSpPr/>
                    <p:nvPr/>
                  </p:nvGrpSpPr>
                  <p:grpSpPr>
                    <a:xfrm>
                      <a:off x="530280" y="4510080"/>
                      <a:ext cx="1167120" cy="2030760"/>
                      <a:chOff x="530280" y="4510080"/>
                      <a:chExt cx="1167120" cy="2030760"/>
                    </a:xfrm>
                  </p:grpSpPr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530280" y="5641920"/>
                        <a:ext cx="336960" cy="6670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36" h="1853">
                            <a:moveTo>
                              <a:pt x="925" y="288"/>
                            </a:moveTo>
                            <a:lnTo>
                              <a:pt x="858" y="165"/>
                            </a:lnTo>
                            <a:lnTo>
                              <a:pt x="826" y="119"/>
                            </a:lnTo>
                            <a:lnTo>
                              <a:pt x="759" y="79"/>
                            </a:lnTo>
                            <a:lnTo>
                              <a:pt x="694" y="43"/>
                            </a:lnTo>
                            <a:lnTo>
                              <a:pt x="606" y="6"/>
                            </a:lnTo>
                            <a:lnTo>
                              <a:pt x="531" y="0"/>
                            </a:lnTo>
                            <a:lnTo>
                              <a:pt x="464" y="16"/>
                            </a:lnTo>
                            <a:lnTo>
                              <a:pt x="385" y="36"/>
                            </a:lnTo>
                            <a:lnTo>
                              <a:pt x="298" y="69"/>
                            </a:lnTo>
                            <a:lnTo>
                              <a:pt x="242" y="139"/>
                            </a:lnTo>
                            <a:lnTo>
                              <a:pt x="186" y="238"/>
                            </a:lnTo>
                            <a:lnTo>
                              <a:pt x="131" y="314"/>
                            </a:lnTo>
                            <a:lnTo>
                              <a:pt x="87" y="394"/>
                            </a:lnTo>
                            <a:lnTo>
                              <a:pt x="34" y="500"/>
                            </a:lnTo>
                            <a:lnTo>
                              <a:pt x="0" y="722"/>
                            </a:lnTo>
                            <a:lnTo>
                              <a:pt x="11" y="891"/>
                            </a:lnTo>
                            <a:lnTo>
                              <a:pt x="55" y="1137"/>
                            </a:lnTo>
                            <a:lnTo>
                              <a:pt x="131" y="1349"/>
                            </a:lnTo>
                            <a:lnTo>
                              <a:pt x="298" y="1853"/>
                            </a:lnTo>
                            <a:lnTo>
                              <a:pt x="232" y="1313"/>
                            </a:lnTo>
                            <a:lnTo>
                              <a:pt x="198" y="1127"/>
                            </a:lnTo>
                            <a:lnTo>
                              <a:pt x="174" y="961"/>
                            </a:lnTo>
                            <a:lnTo>
                              <a:pt x="163" y="785"/>
                            </a:lnTo>
                            <a:lnTo>
                              <a:pt x="186" y="589"/>
                            </a:lnTo>
                            <a:lnTo>
                              <a:pt x="209" y="440"/>
                            </a:lnTo>
                            <a:lnTo>
                              <a:pt x="254" y="255"/>
                            </a:lnTo>
                            <a:lnTo>
                              <a:pt x="321" y="165"/>
                            </a:lnTo>
                            <a:lnTo>
                              <a:pt x="408" y="132"/>
                            </a:lnTo>
                            <a:lnTo>
                              <a:pt x="638" y="112"/>
                            </a:lnTo>
                            <a:lnTo>
                              <a:pt x="782" y="175"/>
                            </a:lnTo>
                            <a:lnTo>
                              <a:pt x="936" y="311"/>
                            </a:lnTo>
                            <a:lnTo>
                              <a:pt x="925" y="288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773280" y="5165640"/>
                        <a:ext cx="344880" cy="6526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58" h="1813">
                            <a:moveTo>
                              <a:pt x="281" y="1813"/>
                            </a:moveTo>
                            <a:lnTo>
                              <a:pt x="212" y="1499"/>
                            </a:lnTo>
                            <a:lnTo>
                              <a:pt x="183" y="1369"/>
                            </a:lnTo>
                            <a:lnTo>
                              <a:pt x="116" y="1205"/>
                            </a:lnTo>
                            <a:lnTo>
                              <a:pt x="46" y="1049"/>
                            </a:lnTo>
                            <a:lnTo>
                              <a:pt x="8" y="958"/>
                            </a:lnTo>
                            <a:lnTo>
                              <a:pt x="0" y="864"/>
                            </a:lnTo>
                            <a:lnTo>
                              <a:pt x="17" y="727"/>
                            </a:lnTo>
                            <a:lnTo>
                              <a:pt x="29" y="590"/>
                            </a:lnTo>
                            <a:lnTo>
                              <a:pt x="134" y="250"/>
                            </a:lnTo>
                            <a:lnTo>
                              <a:pt x="183" y="166"/>
                            </a:lnTo>
                            <a:lnTo>
                              <a:pt x="272" y="76"/>
                            </a:lnTo>
                            <a:lnTo>
                              <a:pt x="348" y="20"/>
                            </a:lnTo>
                            <a:lnTo>
                              <a:pt x="444" y="0"/>
                            </a:lnTo>
                            <a:lnTo>
                              <a:pt x="523" y="40"/>
                            </a:lnTo>
                            <a:lnTo>
                              <a:pt x="622" y="76"/>
                            </a:lnTo>
                            <a:lnTo>
                              <a:pt x="719" y="186"/>
                            </a:lnTo>
                            <a:lnTo>
                              <a:pt x="754" y="260"/>
                            </a:lnTo>
                            <a:lnTo>
                              <a:pt x="815" y="370"/>
                            </a:lnTo>
                            <a:lnTo>
                              <a:pt x="865" y="463"/>
                            </a:lnTo>
                            <a:lnTo>
                              <a:pt x="950" y="938"/>
                            </a:lnTo>
                            <a:lnTo>
                              <a:pt x="958" y="1029"/>
                            </a:lnTo>
                            <a:lnTo>
                              <a:pt x="941" y="1185"/>
                            </a:lnTo>
                            <a:lnTo>
                              <a:pt x="888" y="1629"/>
                            </a:lnTo>
                            <a:lnTo>
                              <a:pt x="891" y="1195"/>
                            </a:lnTo>
                            <a:lnTo>
                              <a:pt x="865" y="1002"/>
                            </a:lnTo>
                            <a:lnTo>
                              <a:pt x="842" y="884"/>
                            </a:lnTo>
                            <a:lnTo>
                              <a:pt x="804" y="727"/>
                            </a:lnTo>
                            <a:lnTo>
                              <a:pt x="766" y="570"/>
                            </a:lnTo>
                            <a:lnTo>
                              <a:pt x="707" y="417"/>
                            </a:lnTo>
                            <a:lnTo>
                              <a:pt x="639" y="277"/>
                            </a:lnTo>
                            <a:lnTo>
                              <a:pt x="581" y="150"/>
                            </a:lnTo>
                            <a:lnTo>
                              <a:pt x="523" y="76"/>
                            </a:lnTo>
                            <a:lnTo>
                              <a:pt x="456" y="50"/>
                            </a:lnTo>
                            <a:lnTo>
                              <a:pt x="389" y="76"/>
                            </a:lnTo>
                            <a:lnTo>
                              <a:pt x="339" y="143"/>
                            </a:lnTo>
                            <a:lnTo>
                              <a:pt x="310" y="260"/>
                            </a:lnTo>
                            <a:lnTo>
                              <a:pt x="310" y="350"/>
                            </a:lnTo>
                            <a:lnTo>
                              <a:pt x="289" y="517"/>
                            </a:lnTo>
                            <a:lnTo>
                              <a:pt x="260" y="617"/>
                            </a:lnTo>
                            <a:lnTo>
                              <a:pt x="192" y="781"/>
                            </a:lnTo>
                            <a:lnTo>
                              <a:pt x="183" y="864"/>
                            </a:lnTo>
                            <a:lnTo>
                              <a:pt x="172" y="948"/>
                            </a:lnTo>
                            <a:lnTo>
                              <a:pt x="172" y="1069"/>
                            </a:lnTo>
                            <a:lnTo>
                              <a:pt x="289" y="1472"/>
                            </a:lnTo>
                            <a:lnTo>
                              <a:pt x="281" y="1813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6" name=""/>
                      <p:cNvGrpSpPr/>
                      <p:nvPr/>
                    </p:nvGrpSpPr>
                    <p:grpSpPr>
                      <a:xfrm>
                        <a:off x="1120680" y="4510080"/>
                        <a:ext cx="576720" cy="952920"/>
                        <a:chOff x="1120680" y="4510080"/>
                        <a:chExt cx="576720" cy="952920"/>
                      </a:xfrm>
                    </p:grpSpPr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1120680" y="4510080"/>
                          <a:ext cx="302040" cy="948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39" h="2634">
                              <a:moveTo>
                                <a:pt x="747" y="202"/>
                              </a:moveTo>
                              <a:lnTo>
                                <a:pt x="764" y="61"/>
                              </a:lnTo>
                              <a:lnTo>
                                <a:pt x="839" y="48"/>
                              </a:lnTo>
                              <a:lnTo>
                                <a:pt x="756" y="0"/>
                              </a:lnTo>
                              <a:lnTo>
                                <a:pt x="725" y="4"/>
                              </a:lnTo>
                              <a:lnTo>
                                <a:pt x="667" y="22"/>
                              </a:lnTo>
                              <a:lnTo>
                                <a:pt x="663" y="66"/>
                              </a:lnTo>
                              <a:lnTo>
                                <a:pt x="613" y="92"/>
                              </a:lnTo>
                              <a:lnTo>
                                <a:pt x="185" y="471"/>
                              </a:lnTo>
                              <a:lnTo>
                                <a:pt x="0" y="577"/>
                              </a:lnTo>
                              <a:lnTo>
                                <a:pt x="176" y="467"/>
                              </a:lnTo>
                              <a:lnTo>
                                <a:pt x="503" y="233"/>
                              </a:lnTo>
                              <a:lnTo>
                                <a:pt x="613" y="198"/>
                              </a:lnTo>
                              <a:lnTo>
                                <a:pt x="516" y="299"/>
                              </a:lnTo>
                              <a:lnTo>
                                <a:pt x="613" y="308"/>
                              </a:lnTo>
                              <a:lnTo>
                                <a:pt x="74" y="715"/>
                              </a:lnTo>
                              <a:lnTo>
                                <a:pt x="441" y="458"/>
                              </a:lnTo>
                              <a:lnTo>
                                <a:pt x="618" y="383"/>
                              </a:lnTo>
                              <a:lnTo>
                                <a:pt x="613" y="440"/>
                              </a:lnTo>
                              <a:lnTo>
                                <a:pt x="547" y="520"/>
                              </a:lnTo>
                              <a:lnTo>
                                <a:pt x="503" y="590"/>
                              </a:lnTo>
                              <a:lnTo>
                                <a:pt x="375" y="746"/>
                              </a:lnTo>
                              <a:lnTo>
                                <a:pt x="167" y="904"/>
                              </a:lnTo>
                              <a:lnTo>
                                <a:pt x="314" y="794"/>
                              </a:lnTo>
                              <a:lnTo>
                                <a:pt x="486" y="635"/>
                              </a:lnTo>
                              <a:lnTo>
                                <a:pt x="547" y="564"/>
                              </a:lnTo>
                              <a:lnTo>
                                <a:pt x="613" y="498"/>
                              </a:lnTo>
                              <a:lnTo>
                                <a:pt x="578" y="502"/>
                              </a:lnTo>
                              <a:lnTo>
                                <a:pt x="637" y="542"/>
                              </a:lnTo>
                              <a:lnTo>
                                <a:pt x="574" y="590"/>
                              </a:lnTo>
                              <a:lnTo>
                                <a:pt x="486" y="724"/>
                              </a:lnTo>
                              <a:lnTo>
                                <a:pt x="384" y="869"/>
                              </a:lnTo>
                              <a:lnTo>
                                <a:pt x="274" y="979"/>
                              </a:lnTo>
                              <a:lnTo>
                                <a:pt x="464" y="746"/>
                              </a:lnTo>
                              <a:lnTo>
                                <a:pt x="547" y="635"/>
                              </a:lnTo>
                              <a:lnTo>
                                <a:pt x="613" y="542"/>
                              </a:lnTo>
                              <a:lnTo>
                                <a:pt x="637" y="542"/>
                              </a:lnTo>
                              <a:lnTo>
                                <a:pt x="587" y="680"/>
                              </a:lnTo>
                              <a:lnTo>
                                <a:pt x="645" y="643"/>
                              </a:lnTo>
                              <a:lnTo>
                                <a:pt x="613" y="724"/>
                              </a:lnTo>
                              <a:lnTo>
                                <a:pt x="547" y="816"/>
                              </a:lnTo>
                              <a:lnTo>
                                <a:pt x="274" y="1050"/>
                              </a:lnTo>
                              <a:lnTo>
                                <a:pt x="141" y="1160"/>
                              </a:lnTo>
                              <a:lnTo>
                                <a:pt x="547" y="843"/>
                              </a:lnTo>
                              <a:lnTo>
                                <a:pt x="591" y="794"/>
                              </a:lnTo>
                              <a:lnTo>
                                <a:pt x="637" y="724"/>
                              </a:lnTo>
                              <a:lnTo>
                                <a:pt x="583" y="878"/>
                              </a:lnTo>
                              <a:lnTo>
                                <a:pt x="672" y="821"/>
                              </a:lnTo>
                              <a:lnTo>
                                <a:pt x="591" y="1024"/>
                              </a:lnTo>
                              <a:lnTo>
                                <a:pt x="574" y="1068"/>
                              </a:lnTo>
                              <a:lnTo>
                                <a:pt x="547" y="1094"/>
                              </a:lnTo>
                              <a:lnTo>
                                <a:pt x="437" y="1204"/>
                              </a:lnTo>
                              <a:lnTo>
                                <a:pt x="318" y="1306"/>
                              </a:lnTo>
                              <a:lnTo>
                                <a:pt x="97" y="1482"/>
                              </a:lnTo>
                              <a:lnTo>
                                <a:pt x="336" y="1275"/>
                              </a:lnTo>
                              <a:lnTo>
                                <a:pt x="486" y="1160"/>
                              </a:lnTo>
                              <a:lnTo>
                                <a:pt x="578" y="1037"/>
                              </a:lnTo>
                              <a:lnTo>
                                <a:pt x="654" y="984"/>
                              </a:lnTo>
                              <a:lnTo>
                                <a:pt x="672" y="993"/>
                              </a:lnTo>
                              <a:lnTo>
                                <a:pt x="225" y="1513"/>
                              </a:lnTo>
                              <a:lnTo>
                                <a:pt x="565" y="1156"/>
                              </a:lnTo>
                              <a:lnTo>
                                <a:pt x="650" y="1143"/>
                              </a:lnTo>
                              <a:lnTo>
                                <a:pt x="552" y="1337"/>
                              </a:lnTo>
                              <a:lnTo>
                                <a:pt x="637" y="1293"/>
                              </a:lnTo>
                              <a:lnTo>
                                <a:pt x="508" y="1504"/>
                              </a:lnTo>
                              <a:lnTo>
                                <a:pt x="424" y="1641"/>
                              </a:lnTo>
                              <a:lnTo>
                                <a:pt x="274" y="1756"/>
                              </a:lnTo>
                              <a:lnTo>
                                <a:pt x="57" y="1892"/>
                              </a:lnTo>
                              <a:lnTo>
                                <a:pt x="230" y="1804"/>
                              </a:lnTo>
                              <a:lnTo>
                                <a:pt x="375" y="1694"/>
                              </a:lnTo>
                              <a:lnTo>
                                <a:pt x="441" y="1619"/>
                              </a:lnTo>
                              <a:lnTo>
                                <a:pt x="538" y="1482"/>
                              </a:lnTo>
                              <a:lnTo>
                                <a:pt x="637" y="1350"/>
                              </a:lnTo>
                              <a:lnTo>
                                <a:pt x="534" y="1539"/>
                              </a:lnTo>
                              <a:lnTo>
                                <a:pt x="613" y="1473"/>
                              </a:lnTo>
                              <a:lnTo>
                                <a:pt x="530" y="1623"/>
                              </a:lnTo>
                              <a:lnTo>
                                <a:pt x="600" y="1592"/>
                              </a:lnTo>
                              <a:lnTo>
                                <a:pt x="521" y="1773"/>
                              </a:lnTo>
                              <a:lnTo>
                                <a:pt x="613" y="1707"/>
                              </a:lnTo>
                              <a:lnTo>
                                <a:pt x="530" y="1804"/>
                              </a:lnTo>
                              <a:lnTo>
                                <a:pt x="424" y="1941"/>
                              </a:lnTo>
                              <a:lnTo>
                                <a:pt x="336" y="1981"/>
                              </a:lnTo>
                              <a:lnTo>
                                <a:pt x="70" y="2149"/>
                              </a:lnTo>
                              <a:lnTo>
                                <a:pt x="92" y="2131"/>
                              </a:lnTo>
                              <a:lnTo>
                                <a:pt x="314" y="1986"/>
                              </a:lnTo>
                              <a:lnTo>
                                <a:pt x="530" y="1848"/>
                              </a:lnTo>
                              <a:lnTo>
                                <a:pt x="591" y="1782"/>
                              </a:lnTo>
                              <a:lnTo>
                                <a:pt x="508" y="1919"/>
                              </a:lnTo>
                              <a:lnTo>
                                <a:pt x="574" y="1892"/>
                              </a:lnTo>
                              <a:lnTo>
                                <a:pt x="530" y="1963"/>
                              </a:lnTo>
                              <a:lnTo>
                                <a:pt x="508" y="2056"/>
                              </a:lnTo>
                              <a:lnTo>
                                <a:pt x="547" y="2030"/>
                              </a:lnTo>
                              <a:lnTo>
                                <a:pt x="499" y="2109"/>
                              </a:lnTo>
                              <a:lnTo>
                                <a:pt x="336" y="2242"/>
                              </a:lnTo>
                              <a:lnTo>
                                <a:pt x="230" y="2259"/>
                              </a:lnTo>
                              <a:lnTo>
                                <a:pt x="97" y="2286"/>
                              </a:lnTo>
                              <a:lnTo>
                                <a:pt x="358" y="2215"/>
                              </a:lnTo>
                              <a:lnTo>
                                <a:pt x="530" y="2101"/>
                              </a:lnTo>
                              <a:lnTo>
                                <a:pt x="574" y="2012"/>
                              </a:lnTo>
                              <a:lnTo>
                                <a:pt x="508" y="2206"/>
                              </a:lnTo>
                              <a:lnTo>
                                <a:pt x="578" y="2158"/>
                              </a:lnTo>
                              <a:lnTo>
                                <a:pt x="534" y="2264"/>
                              </a:lnTo>
                              <a:lnTo>
                                <a:pt x="464" y="2409"/>
                              </a:lnTo>
                              <a:lnTo>
                                <a:pt x="35" y="2634"/>
                              </a:lnTo>
                              <a:lnTo>
                                <a:pt x="468" y="2427"/>
                              </a:lnTo>
                              <a:lnTo>
                                <a:pt x="508" y="2352"/>
                              </a:lnTo>
                              <a:lnTo>
                                <a:pt x="534" y="2308"/>
                              </a:lnTo>
                              <a:lnTo>
                                <a:pt x="609" y="2250"/>
                              </a:lnTo>
                              <a:lnTo>
                                <a:pt x="654" y="2356"/>
                              </a:lnTo>
                              <a:lnTo>
                                <a:pt x="672" y="2158"/>
                              </a:lnTo>
                              <a:lnTo>
                                <a:pt x="747" y="2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1352520" y="4510080"/>
                          <a:ext cx="344880" cy="952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958" h="2647">
                              <a:moveTo>
                                <a:pt x="0" y="2303"/>
                              </a:moveTo>
                              <a:lnTo>
                                <a:pt x="8" y="2189"/>
                              </a:lnTo>
                              <a:lnTo>
                                <a:pt x="74" y="2255"/>
                              </a:lnTo>
                              <a:lnTo>
                                <a:pt x="48" y="2096"/>
                              </a:lnTo>
                              <a:lnTo>
                                <a:pt x="119" y="2118"/>
                              </a:lnTo>
                              <a:lnTo>
                                <a:pt x="353" y="2647"/>
                              </a:lnTo>
                              <a:lnTo>
                                <a:pt x="136" y="2189"/>
                              </a:lnTo>
                              <a:lnTo>
                                <a:pt x="110" y="2114"/>
                              </a:lnTo>
                              <a:lnTo>
                                <a:pt x="92" y="2034"/>
                              </a:lnTo>
                              <a:lnTo>
                                <a:pt x="136" y="2052"/>
                              </a:lnTo>
                              <a:lnTo>
                                <a:pt x="247" y="2215"/>
                              </a:lnTo>
                              <a:lnTo>
                                <a:pt x="331" y="2431"/>
                              </a:lnTo>
                              <a:lnTo>
                                <a:pt x="202" y="2118"/>
                              </a:lnTo>
                              <a:lnTo>
                                <a:pt x="127" y="2030"/>
                              </a:lnTo>
                              <a:lnTo>
                                <a:pt x="119" y="1901"/>
                              </a:lnTo>
                              <a:lnTo>
                                <a:pt x="167" y="1941"/>
                              </a:lnTo>
                              <a:lnTo>
                                <a:pt x="158" y="1800"/>
                              </a:lnTo>
                              <a:lnTo>
                                <a:pt x="202" y="1844"/>
                              </a:lnTo>
                              <a:lnTo>
                                <a:pt x="419" y="2325"/>
                              </a:lnTo>
                              <a:lnTo>
                                <a:pt x="180" y="1778"/>
                              </a:lnTo>
                              <a:lnTo>
                                <a:pt x="158" y="1685"/>
                              </a:lnTo>
                              <a:lnTo>
                                <a:pt x="224" y="1738"/>
                              </a:lnTo>
                              <a:lnTo>
                                <a:pt x="397" y="2008"/>
                              </a:lnTo>
                              <a:lnTo>
                                <a:pt x="202" y="1734"/>
                              </a:lnTo>
                              <a:lnTo>
                                <a:pt x="136" y="1592"/>
                              </a:lnTo>
                              <a:lnTo>
                                <a:pt x="202" y="1641"/>
                              </a:lnTo>
                              <a:lnTo>
                                <a:pt x="158" y="1548"/>
                              </a:lnTo>
                              <a:lnTo>
                                <a:pt x="224" y="1570"/>
                              </a:lnTo>
                              <a:lnTo>
                                <a:pt x="287" y="1734"/>
                              </a:lnTo>
                              <a:lnTo>
                                <a:pt x="441" y="1808"/>
                              </a:lnTo>
                              <a:lnTo>
                                <a:pt x="269" y="1685"/>
                              </a:lnTo>
                              <a:lnTo>
                                <a:pt x="202" y="1548"/>
                              </a:lnTo>
                              <a:lnTo>
                                <a:pt x="180" y="1478"/>
                              </a:lnTo>
                              <a:lnTo>
                                <a:pt x="243" y="1548"/>
                              </a:lnTo>
                              <a:lnTo>
                                <a:pt x="202" y="1390"/>
                              </a:lnTo>
                              <a:lnTo>
                                <a:pt x="243" y="1407"/>
                              </a:lnTo>
                              <a:lnTo>
                                <a:pt x="278" y="1487"/>
                              </a:lnTo>
                              <a:lnTo>
                                <a:pt x="477" y="1588"/>
                              </a:lnTo>
                              <a:lnTo>
                                <a:pt x="344" y="1509"/>
                              </a:lnTo>
                              <a:lnTo>
                                <a:pt x="305" y="1482"/>
                              </a:lnTo>
                              <a:lnTo>
                                <a:pt x="211" y="1319"/>
                              </a:lnTo>
                              <a:lnTo>
                                <a:pt x="243" y="1350"/>
                              </a:lnTo>
                              <a:lnTo>
                                <a:pt x="224" y="1248"/>
                              </a:lnTo>
                              <a:lnTo>
                                <a:pt x="216" y="1266"/>
                              </a:lnTo>
                              <a:lnTo>
                                <a:pt x="305" y="1310"/>
                              </a:lnTo>
                              <a:lnTo>
                                <a:pt x="243" y="1200"/>
                              </a:lnTo>
                              <a:lnTo>
                                <a:pt x="309" y="1226"/>
                              </a:lnTo>
                              <a:lnTo>
                                <a:pt x="649" y="1368"/>
                              </a:lnTo>
                              <a:lnTo>
                                <a:pt x="314" y="1200"/>
                              </a:lnTo>
                              <a:lnTo>
                                <a:pt x="261" y="1116"/>
                              </a:lnTo>
                              <a:lnTo>
                                <a:pt x="340" y="1160"/>
                              </a:lnTo>
                              <a:lnTo>
                                <a:pt x="243" y="993"/>
                              </a:lnTo>
                              <a:lnTo>
                                <a:pt x="309" y="1006"/>
                              </a:lnTo>
                              <a:lnTo>
                                <a:pt x="269" y="922"/>
                              </a:lnTo>
                              <a:lnTo>
                                <a:pt x="274" y="904"/>
                              </a:lnTo>
                              <a:lnTo>
                                <a:pt x="358" y="975"/>
                              </a:lnTo>
                              <a:lnTo>
                                <a:pt x="278" y="852"/>
                              </a:lnTo>
                              <a:lnTo>
                                <a:pt x="340" y="852"/>
                              </a:lnTo>
                              <a:lnTo>
                                <a:pt x="269" y="768"/>
                              </a:lnTo>
                              <a:lnTo>
                                <a:pt x="309" y="768"/>
                              </a:lnTo>
                              <a:lnTo>
                                <a:pt x="269" y="719"/>
                              </a:lnTo>
                              <a:lnTo>
                                <a:pt x="331" y="719"/>
                              </a:lnTo>
                              <a:lnTo>
                                <a:pt x="468" y="821"/>
                              </a:lnTo>
                              <a:lnTo>
                                <a:pt x="831" y="957"/>
                              </a:lnTo>
                              <a:lnTo>
                                <a:pt x="631" y="904"/>
                              </a:lnTo>
                              <a:lnTo>
                                <a:pt x="525" y="838"/>
                              </a:lnTo>
                              <a:lnTo>
                                <a:pt x="358" y="750"/>
                              </a:lnTo>
                              <a:lnTo>
                                <a:pt x="331" y="719"/>
                              </a:lnTo>
                              <a:lnTo>
                                <a:pt x="287" y="630"/>
                              </a:lnTo>
                              <a:lnTo>
                                <a:pt x="353" y="652"/>
                              </a:lnTo>
                              <a:lnTo>
                                <a:pt x="278" y="507"/>
                              </a:lnTo>
                              <a:lnTo>
                                <a:pt x="322" y="507"/>
                              </a:lnTo>
                              <a:lnTo>
                                <a:pt x="269" y="405"/>
                              </a:lnTo>
                              <a:lnTo>
                                <a:pt x="331" y="405"/>
                              </a:lnTo>
                              <a:lnTo>
                                <a:pt x="375" y="454"/>
                              </a:lnTo>
                              <a:lnTo>
                                <a:pt x="525" y="529"/>
                              </a:lnTo>
                              <a:lnTo>
                                <a:pt x="958" y="702"/>
                              </a:lnTo>
                              <a:lnTo>
                                <a:pt x="481" y="493"/>
                              </a:lnTo>
                              <a:lnTo>
                                <a:pt x="375" y="445"/>
                              </a:lnTo>
                              <a:lnTo>
                                <a:pt x="353" y="405"/>
                              </a:lnTo>
                              <a:lnTo>
                                <a:pt x="287" y="335"/>
                              </a:lnTo>
                              <a:lnTo>
                                <a:pt x="331" y="357"/>
                              </a:lnTo>
                              <a:lnTo>
                                <a:pt x="224" y="264"/>
                              </a:lnTo>
                              <a:lnTo>
                                <a:pt x="269" y="291"/>
                              </a:lnTo>
                              <a:lnTo>
                                <a:pt x="367" y="286"/>
                              </a:lnTo>
                              <a:lnTo>
                                <a:pt x="649" y="410"/>
                              </a:lnTo>
                              <a:lnTo>
                                <a:pt x="353" y="291"/>
                              </a:lnTo>
                              <a:lnTo>
                                <a:pt x="269" y="198"/>
                              </a:lnTo>
                              <a:lnTo>
                                <a:pt x="353" y="198"/>
                              </a:lnTo>
                              <a:lnTo>
                                <a:pt x="769" y="343"/>
                              </a:lnTo>
                              <a:lnTo>
                                <a:pt x="464" y="216"/>
                              </a:lnTo>
                              <a:lnTo>
                                <a:pt x="331" y="198"/>
                              </a:lnTo>
                              <a:lnTo>
                                <a:pt x="287" y="149"/>
                              </a:lnTo>
                              <a:lnTo>
                                <a:pt x="243" y="79"/>
                              </a:lnTo>
                              <a:lnTo>
                                <a:pt x="145" y="0"/>
                              </a:lnTo>
                              <a:lnTo>
                                <a:pt x="119" y="35"/>
                              </a:lnTo>
                              <a:lnTo>
                                <a:pt x="92" y="8"/>
                              </a:lnTo>
                              <a:lnTo>
                                <a:pt x="0" y="230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eded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1360440" y="5465880"/>
                        <a:ext cx="113040" cy="727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14" h="2021">
                            <a:moveTo>
                              <a:pt x="64" y="0"/>
                            </a:moveTo>
                            <a:lnTo>
                              <a:pt x="125" y="154"/>
                            </a:lnTo>
                            <a:lnTo>
                              <a:pt x="188" y="398"/>
                            </a:lnTo>
                            <a:lnTo>
                              <a:pt x="252" y="737"/>
                            </a:lnTo>
                            <a:lnTo>
                              <a:pt x="314" y="1166"/>
                            </a:lnTo>
                            <a:lnTo>
                              <a:pt x="314" y="1626"/>
                            </a:lnTo>
                            <a:lnTo>
                              <a:pt x="283" y="2021"/>
                            </a:lnTo>
                            <a:lnTo>
                              <a:pt x="252" y="2021"/>
                            </a:lnTo>
                            <a:lnTo>
                              <a:pt x="283" y="1626"/>
                            </a:lnTo>
                            <a:lnTo>
                              <a:pt x="283" y="1287"/>
                            </a:lnTo>
                            <a:lnTo>
                              <a:pt x="219" y="918"/>
                            </a:lnTo>
                            <a:lnTo>
                              <a:pt x="125" y="553"/>
                            </a:lnTo>
                            <a:lnTo>
                              <a:pt x="0" y="93"/>
                            </a:lnTo>
                            <a:lnTo>
                              <a:pt x="64" y="0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977760" y="6191280"/>
                        <a:ext cx="295560" cy="349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21" h="971">
                            <a:moveTo>
                              <a:pt x="821" y="971"/>
                            </a:moveTo>
                            <a:lnTo>
                              <a:pt x="699" y="756"/>
                            </a:lnTo>
                            <a:lnTo>
                              <a:pt x="597" y="515"/>
                            </a:lnTo>
                            <a:lnTo>
                              <a:pt x="542" y="409"/>
                            </a:lnTo>
                            <a:lnTo>
                              <a:pt x="465" y="289"/>
                            </a:lnTo>
                            <a:lnTo>
                              <a:pt x="365" y="161"/>
                            </a:lnTo>
                            <a:lnTo>
                              <a:pt x="293" y="81"/>
                            </a:lnTo>
                            <a:lnTo>
                              <a:pt x="238" y="43"/>
                            </a:lnTo>
                            <a:lnTo>
                              <a:pt x="161" y="12"/>
                            </a:lnTo>
                            <a:lnTo>
                              <a:pt x="77" y="0"/>
                            </a:lnTo>
                            <a:lnTo>
                              <a:pt x="39" y="26"/>
                            </a:lnTo>
                            <a:lnTo>
                              <a:pt x="0" y="89"/>
                            </a:lnTo>
                            <a:lnTo>
                              <a:pt x="821" y="971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335240" y="4913280"/>
                    <a:ext cx="1125720" cy="1754640"/>
                    <a:chOff x="1335240" y="4913280"/>
                    <a:chExt cx="1125720" cy="1754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890720" y="4919760"/>
                      <a:ext cx="267120" cy="1748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42" h="4856">
                          <a:moveTo>
                            <a:pt x="738" y="4856"/>
                          </a:moveTo>
                          <a:lnTo>
                            <a:pt x="742" y="4154"/>
                          </a:lnTo>
                          <a:lnTo>
                            <a:pt x="742" y="3831"/>
                          </a:lnTo>
                          <a:lnTo>
                            <a:pt x="726" y="3603"/>
                          </a:lnTo>
                          <a:lnTo>
                            <a:pt x="717" y="3330"/>
                          </a:lnTo>
                          <a:lnTo>
                            <a:pt x="719" y="3044"/>
                          </a:lnTo>
                          <a:lnTo>
                            <a:pt x="712" y="2804"/>
                          </a:lnTo>
                          <a:lnTo>
                            <a:pt x="693" y="2588"/>
                          </a:lnTo>
                          <a:lnTo>
                            <a:pt x="668" y="2204"/>
                          </a:lnTo>
                          <a:lnTo>
                            <a:pt x="632" y="1788"/>
                          </a:lnTo>
                          <a:lnTo>
                            <a:pt x="588" y="1365"/>
                          </a:lnTo>
                          <a:lnTo>
                            <a:pt x="547" y="914"/>
                          </a:lnTo>
                          <a:lnTo>
                            <a:pt x="517" y="643"/>
                          </a:lnTo>
                          <a:lnTo>
                            <a:pt x="489" y="538"/>
                          </a:lnTo>
                          <a:lnTo>
                            <a:pt x="419" y="355"/>
                          </a:lnTo>
                          <a:lnTo>
                            <a:pt x="358" y="222"/>
                          </a:lnTo>
                          <a:lnTo>
                            <a:pt x="286" y="115"/>
                          </a:lnTo>
                          <a:lnTo>
                            <a:pt x="211" y="27"/>
                          </a:lnTo>
                          <a:lnTo>
                            <a:pt x="158" y="2"/>
                          </a:lnTo>
                          <a:lnTo>
                            <a:pt x="86" y="0"/>
                          </a:lnTo>
                          <a:lnTo>
                            <a:pt x="30" y="3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ln w="25560">
                      <a:solidFill>
                        <a:srgbClr val="ededed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335240" y="4913280"/>
                      <a:ext cx="741600" cy="1251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060" h="3476">
                          <a:moveTo>
                            <a:pt x="1676" y="0"/>
                          </a:moveTo>
                          <a:lnTo>
                            <a:pt x="1570" y="13"/>
                          </a:lnTo>
                          <a:lnTo>
                            <a:pt x="1253" y="79"/>
                          </a:lnTo>
                          <a:lnTo>
                            <a:pt x="1522" y="57"/>
                          </a:lnTo>
                          <a:lnTo>
                            <a:pt x="1434" y="97"/>
                          </a:lnTo>
                          <a:lnTo>
                            <a:pt x="1341" y="149"/>
                          </a:lnTo>
                          <a:lnTo>
                            <a:pt x="1001" y="158"/>
                          </a:lnTo>
                          <a:lnTo>
                            <a:pt x="749" y="167"/>
                          </a:lnTo>
                          <a:lnTo>
                            <a:pt x="1001" y="171"/>
                          </a:lnTo>
                          <a:lnTo>
                            <a:pt x="1209" y="167"/>
                          </a:lnTo>
                          <a:lnTo>
                            <a:pt x="1341" y="198"/>
                          </a:lnTo>
                          <a:lnTo>
                            <a:pt x="1244" y="238"/>
                          </a:lnTo>
                          <a:lnTo>
                            <a:pt x="1310" y="255"/>
                          </a:lnTo>
                          <a:lnTo>
                            <a:pt x="1121" y="335"/>
                          </a:lnTo>
                          <a:lnTo>
                            <a:pt x="926" y="348"/>
                          </a:lnTo>
                          <a:lnTo>
                            <a:pt x="590" y="379"/>
                          </a:lnTo>
                          <a:lnTo>
                            <a:pt x="1121" y="352"/>
                          </a:lnTo>
                          <a:lnTo>
                            <a:pt x="1244" y="366"/>
                          </a:lnTo>
                          <a:lnTo>
                            <a:pt x="1023" y="458"/>
                          </a:lnTo>
                          <a:lnTo>
                            <a:pt x="1165" y="458"/>
                          </a:lnTo>
                          <a:lnTo>
                            <a:pt x="917" y="564"/>
                          </a:lnTo>
                          <a:lnTo>
                            <a:pt x="723" y="626"/>
                          </a:lnTo>
                          <a:lnTo>
                            <a:pt x="498" y="732"/>
                          </a:lnTo>
                          <a:lnTo>
                            <a:pt x="934" y="582"/>
                          </a:lnTo>
                          <a:lnTo>
                            <a:pt x="1072" y="590"/>
                          </a:lnTo>
                          <a:lnTo>
                            <a:pt x="859" y="674"/>
                          </a:lnTo>
                          <a:lnTo>
                            <a:pt x="1001" y="692"/>
                          </a:lnTo>
                          <a:lnTo>
                            <a:pt x="829" y="789"/>
                          </a:lnTo>
                          <a:lnTo>
                            <a:pt x="286" y="1015"/>
                          </a:lnTo>
                          <a:lnTo>
                            <a:pt x="829" y="811"/>
                          </a:lnTo>
                          <a:lnTo>
                            <a:pt x="983" y="811"/>
                          </a:lnTo>
                          <a:lnTo>
                            <a:pt x="811" y="940"/>
                          </a:lnTo>
                          <a:lnTo>
                            <a:pt x="934" y="935"/>
                          </a:lnTo>
                          <a:lnTo>
                            <a:pt x="776" y="1085"/>
                          </a:lnTo>
                          <a:lnTo>
                            <a:pt x="171" y="1394"/>
                          </a:lnTo>
                          <a:lnTo>
                            <a:pt x="793" y="1099"/>
                          </a:lnTo>
                          <a:lnTo>
                            <a:pt x="934" y="1054"/>
                          </a:lnTo>
                          <a:lnTo>
                            <a:pt x="829" y="1165"/>
                          </a:lnTo>
                          <a:lnTo>
                            <a:pt x="917" y="1147"/>
                          </a:lnTo>
                          <a:lnTo>
                            <a:pt x="776" y="1306"/>
                          </a:lnTo>
                          <a:lnTo>
                            <a:pt x="533" y="1509"/>
                          </a:lnTo>
                          <a:lnTo>
                            <a:pt x="0" y="1685"/>
                          </a:lnTo>
                          <a:lnTo>
                            <a:pt x="533" y="1526"/>
                          </a:lnTo>
                          <a:lnTo>
                            <a:pt x="793" y="1319"/>
                          </a:lnTo>
                          <a:lnTo>
                            <a:pt x="846" y="1319"/>
                          </a:lnTo>
                          <a:lnTo>
                            <a:pt x="383" y="1910"/>
                          </a:lnTo>
                          <a:lnTo>
                            <a:pt x="886" y="1319"/>
                          </a:lnTo>
                          <a:lnTo>
                            <a:pt x="793" y="1434"/>
                          </a:lnTo>
                          <a:lnTo>
                            <a:pt x="886" y="1394"/>
                          </a:lnTo>
                          <a:lnTo>
                            <a:pt x="736" y="1575"/>
                          </a:lnTo>
                          <a:lnTo>
                            <a:pt x="339" y="1764"/>
                          </a:lnTo>
                          <a:lnTo>
                            <a:pt x="736" y="1601"/>
                          </a:lnTo>
                          <a:lnTo>
                            <a:pt x="859" y="1575"/>
                          </a:lnTo>
                          <a:lnTo>
                            <a:pt x="736" y="1694"/>
                          </a:lnTo>
                          <a:lnTo>
                            <a:pt x="291" y="2280"/>
                          </a:lnTo>
                          <a:lnTo>
                            <a:pt x="621" y="1875"/>
                          </a:lnTo>
                          <a:lnTo>
                            <a:pt x="776" y="1694"/>
                          </a:lnTo>
                          <a:lnTo>
                            <a:pt x="859" y="1672"/>
                          </a:lnTo>
                          <a:lnTo>
                            <a:pt x="754" y="1800"/>
                          </a:lnTo>
                          <a:lnTo>
                            <a:pt x="846" y="1782"/>
                          </a:lnTo>
                          <a:lnTo>
                            <a:pt x="705" y="1936"/>
                          </a:lnTo>
                          <a:lnTo>
                            <a:pt x="639" y="2077"/>
                          </a:lnTo>
                          <a:lnTo>
                            <a:pt x="471" y="2280"/>
                          </a:lnTo>
                          <a:lnTo>
                            <a:pt x="652" y="2091"/>
                          </a:lnTo>
                          <a:lnTo>
                            <a:pt x="736" y="1989"/>
                          </a:lnTo>
                          <a:lnTo>
                            <a:pt x="829" y="1963"/>
                          </a:lnTo>
                          <a:lnTo>
                            <a:pt x="652" y="2227"/>
                          </a:lnTo>
                          <a:lnTo>
                            <a:pt x="846" y="1963"/>
                          </a:lnTo>
                          <a:lnTo>
                            <a:pt x="736" y="2091"/>
                          </a:lnTo>
                          <a:lnTo>
                            <a:pt x="859" y="2060"/>
                          </a:lnTo>
                          <a:lnTo>
                            <a:pt x="855" y="2157"/>
                          </a:lnTo>
                          <a:lnTo>
                            <a:pt x="449" y="2545"/>
                          </a:lnTo>
                          <a:lnTo>
                            <a:pt x="886" y="2170"/>
                          </a:lnTo>
                          <a:lnTo>
                            <a:pt x="846" y="2258"/>
                          </a:lnTo>
                          <a:lnTo>
                            <a:pt x="652" y="2501"/>
                          </a:lnTo>
                          <a:lnTo>
                            <a:pt x="859" y="2285"/>
                          </a:lnTo>
                          <a:lnTo>
                            <a:pt x="917" y="2205"/>
                          </a:lnTo>
                          <a:lnTo>
                            <a:pt x="829" y="2404"/>
                          </a:lnTo>
                          <a:lnTo>
                            <a:pt x="934" y="2369"/>
                          </a:lnTo>
                          <a:lnTo>
                            <a:pt x="899" y="2523"/>
                          </a:lnTo>
                          <a:lnTo>
                            <a:pt x="965" y="2452"/>
                          </a:lnTo>
                          <a:lnTo>
                            <a:pt x="1023" y="2514"/>
                          </a:lnTo>
                          <a:lnTo>
                            <a:pt x="1001" y="2683"/>
                          </a:lnTo>
                          <a:lnTo>
                            <a:pt x="551" y="3476"/>
                          </a:lnTo>
                          <a:lnTo>
                            <a:pt x="1041" y="2683"/>
                          </a:lnTo>
                          <a:lnTo>
                            <a:pt x="1041" y="2501"/>
                          </a:lnTo>
                          <a:lnTo>
                            <a:pt x="1041" y="2395"/>
                          </a:lnTo>
                          <a:lnTo>
                            <a:pt x="1147" y="2452"/>
                          </a:lnTo>
                          <a:lnTo>
                            <a:pt x="1954" y="2982"/>
                          </a:lnTo>
                          <a:lnTo>
                            <a:pt x="1103" y="2404"/>
                          </a:lnTo>
                          <a:lnTo>
                            <a:pt x="1041" y="2258"/>
                          </a:lnTo>
                          <a:lnTo>
                            <a:pt x="1121" y="2285"/>
                          </a:lnTo>
                          <a:lnTo>
                            <a:pt x="1001" y="2108"/>
                          </a:lnTo>
                          <a:lnTo>
                            <a:pt x="1103" y="2174"/>
                          </a:lnTo>
                          <a:lnTo>
                            <a:pt x="1301" y="2430"/>
                          </a:lnTo>
                          <a:lnTo>
                            <a:pt x="1121" y="2157"/>
                          </a:lnTo>
                          <a:lnTo>
                            <a:pt x="1041" y="2047"/>
                          </a:lnTo>
                          <a:lnTo>
                            <a:pt x="1059" y="2047"/>
                          </a:lnTo>
                          <a:lnTo>
                            <a:pt x="1165" y="2108"/>
                          </a:lnTo>
                          <a:lnTo>
                            <a:pt x="1253" y="2166"/>
                          </a:lnTo>
                          <a:lnTo>
                            <a:pt x="2060" y="2355"/>
                          </a:lnTo>
                          <a:lnTo>
                            <a:pt x="1222" y="2122"/>
                          </a:lnTo>
                          <a:lnTo>
                            <a:pt x="1121" y="2060"/>
                          </a:lnTo>
                          <a:lnTo>
                            <a:pt x="1059" y="1928"/>
                          </a:lnTo>
                          <a:lnTo>
                            <a:pt x="1165" y="1928"/>
                          </a:lnTo>
                          <a:lnTo>
                            <a:pt x="1059" y="1800"/>
                          </a:lnTo>
                          <a:lnTo>
                            <a:pt x="1187" y="1848"/>
                          </a:lnTo>
                          <a:lnTo>
                            <a:pt x="1553" y="1950"/>
                          </a:lnTo>
                          <a:lnTo>
                            <a:pt x="1196" y="1822"/>
                          </a:lnTo>
                          <a:lnTo>
                            <a:pt x="1085" y="1672"/>
                          </a:lnTo>
                          <a:lnTo>
                            <a:pt x="1209" y="1711"/>
                          </a:lnTo>
                          <a:lnTo>
                            <a:pt x="1121" y="1597"/>
                          </a:lnTo>
                          <a:lnTo>
                            <a:pt x="1244" y="1672"/>
                          </a:lnTo>
                          <a:lnTo>
                            <a:pt x="1165" y="1495"/>
                          </a:lnTo>
                          <a:lnTo>
                            <a:pt x="1262" y="1584"/>
                          </a:lnTo>
                          <a:lnTo>
                            <a:pt x="1553" y="1831"/>
                          </a:lnTo>
                          <a:lnTo>
                            <a:pt x="1244" y="1584"/>
                          </a:lnTo>
                          <a:lnTo>
                            <a:pt x="1147" y="1359"/>
                          </a:lnTo>
                          <a:lnTo>
                            <a:pt x="1262" y="1403"/>
                          </a:lnTo>
                          <a:lnTo>
                            <a:pt x="1659" y="1610"/>
                          </a:lnTo>
                          <a:lnTo>
                            <a:pt x="1262" y="1394"/>
                          </a:lnTo>
                          <a:lnTo>
                            <a:pt x="1178" y="1196"/>
                          </a:lnTo>
                          <a:lnTo>
                            <a:pt x="1279" y="1231"/>
                          </a:lnTo>
                          <a:lnTo>
                            <a:pt x="1196" y="1121"/>
                          </a:lnTo>
                          <a:lnTo>
                            <a:pt x="1301" y="1160"/>
                          </a:lnTo>
                          <a:lnTo>
                            <a:pt x="1628" y="1698"/>
                          </a:lnTo>
                          <a:lnTo>
                            <a:pt x="1279" y="1107"/>
                          </a:lnTo>
                          <a:lnTo>
                            <a:pt x="1279" y="962"/>
                          </a:lnTo>
                          <a:lnTo>
                            <a:pt x="1381" y="1028"/>
                          </a:lnTo>
                          <a:lnTo>
                            <a:pt x="1597" y="1337"/>
                          </a:lnTo>
                          <a:lnTo>
                            <a:pt x="1332" y="940"/>
                          </a:lnTo>
                          <a:lnTo>
                            <a:pt x="1301" y="811"/>
                          </a:lnTo>
                          <a:lnTo>
                            <a:pt x="1381" y="868"/>
                          </a:lnTo>
                          <a:lnTo>
                            <a:pt x="1637" y="1121"/>
                          </a:lnTo>
                          <a:lnTo>
                            <a:pt x="1879" y="1213"/>
                          </a:lnTo>
                          <a:lnTo>
                            <a:pt x="1628" y="1099"/>
                          </a:lnTo>
                          <a:lnTo>
                            <a:pt x="1398" y="829"/>
                          </a:lnTo>
                          <a:lnTo>
                            <a:pt x="1363" y="661"/>
                          </a:lnTo>
                          <a:lnTo>
                            <a:pt x="1465" y="740"/>
                          </a:lnTo>
                          <a:lnTo>
                            <a:pt x="1416" y="582"/>
                          </a:lnTo>
                          <a:lnTo>
                            <a:pt x="1672" y="806"/>
                          </a:lnTo>
                          <a:lnTo>
                            <a:pt x="1434" y="564"/>
                          </a:lnTo>
                          <a:lnTo>
                            <a:pt x="1398" y="445"/>
                          </a:lnTo>
                          <a:lnTo>
                            <a:pt x="1522" y="533"/>
                          </a:lnTo>
                          <a:lnTo>
                            <a:pt x="1504" y="348"/>
                          </a:lnTo>
                          <a:lnTo>
                            <a:pt x="1641" y="463"/>
                          </a:lnTo>
                          <a:lnTo>
                            <a:pt x="1976" y="749"/>
                          </a:lnTo>
                          <a:lnTo>
                            <a:pt x="1592" y="361"/>
                          </a:lnTo>
                          <a:lnTo>
                            <a:pt x="1597" y="238"/>
                          </a:lnTo>
                          <a:lnTo>
                            <a:pt x="1676" y="282"/>
                          </a:lnTo>
                          <a:lnTo>
                            <a:pt x="1628" y="149"/>
                          </a:lnTo>
                          <a:lnTo>
                            <a:pt x="1711" y="185"/>
                          </a:lnTo>
                          <a:lnTo>
                            <a:pt x="1729" y="74"/>
                          </a:lnTo>
                          <a:lnTo>
                            <a:pt x="1711" y="30"/>
                          </a:lnTo>
                          <a:lnTo>
                            <a:pt x="1676" y="0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4" name=""/>
                    <p:cNvGrpSpPr/>
                    <p:nvPr/>
                  </p:nvGrpSpPr>
                  <p:grpSpPr>
                    <a:xfrm>
                      <a:off x="1808280" y="5164200"/>
                      <a:ext cx="652680" cy="983160"/>
                      <a:chOff x="1808280" y="5164200"/>
                      <a:chExt cx="652680" cy="983160"/>
                    </a:xfrm>
                  </p:grpSpPr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1808280" y="5578560"/>
                        <a:ext cx="341640" cy="568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49" h="1580">
                            <a:moveTo>
                              <a:pt x="949" y="568"/>
                            </a:moveTo>
                            <a:lnTo>
                              <a:pt x="850" y="57"/>
                            </a:lnTo>
                            <a:lnTo>
                              <a:pt x="725" y="8"/>
                            </a:lnTo>
                            <a:lnTo>
                              <a:pt x="619" y="0"/>
                            </a:lnTo>
                            <a:lnTo>
                              <a:pt x="458" y="22"/>
                            </a:lnTo>
                            <a:lnTo>
                              <a:pt x="356" y="79"/>
                            </a:lnTo>
                            <a:lnTo>
                              <a:pt x="246" y="159"/>
                            </a:lnTo>
                            <a:lnTo>
                              <a:pt x="136" y="300"/>
                            </a:lnTo>
                            <a:lnTo>
                              <a:pt x="75" y="499"/>
                            </a:lnTo>
                            <a:lnTo>
                              <a:pt x="45" y="667"/>
                            </a:lnTo>
                            <a:lnTo>
                              <a:pt x="0" y="899"/>
                            </a:lnTo>
                            <a:lnTo>
                              <a:pt x="0" y="1056"/>
                            </a:lnTo>
                            <a:lnTo>
                              <a:pt x="75" y="1263"/>
                            </a:lnTo>
                            <a:lnTo>
                              <a:pt x="216" y="1440"/>
                            </a:lnTo>
                            <a:lnTo>
                              <a:pt x="356" y="1580"/>
                            </a:lnTo>
                            <a:lnTo>
                              <a:pt x="276" y="1368"/>
                            </a:lnTo>
                            <a:lnTo>
                              <a:pt x="246" y="1166"/>
                            </a:lnTo>
                            <a:lnTo>
                              <a:pt x="261" y="959"/>
                            </a:lnTo>
                            <a:lnTo>
                              <a:pt x="276" y="772"/>
                            </a:lnTo>
                            <a:lnTo>
                              <a:pt x="307" y="587"/>
                            </a:lnTo>
                            <a:lnTo>
                              <a:pt x="356" y="422"/>
                            </a:lnTo>
                            <a:lnTo>
                              <a:pt x="371" y="294"/>
                            </a:lnTo>
                            <a:lnTo>
                              <a:pt x="432" y="165"/>
                            </a:lnTo>
                            <a:lnTo>
                              <a:pt x="573" y="63"/>
                            </a:lnTo>
                            <a:lnTo>
                              <a:pt x="695" y="71"/>
                            </a:lnTo>
                            <a:lnTo>
                              <a:pt x="816" y="355"/>
                            </a:lnTo>
                            <a:lnTo>
                              <a:pt x="911" y="422"/>
                            </a:lnTo>
                            <a:lnTo>
                              <a:pt x="949" y="568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2079720" y="5164200"/>
                        <a:ext cx="381240" cy="695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59" h="1932">
                            <a:moveTo>
                              <a:pt x="23" y="308"/>
                            </a:moveTo>
                            <a:lnTo>
                              <a:pt x="244" y="0"/>
                            </a:lnTo>
                            <a:lnTo>
                              <a:pt x="383" y="8"/>
                            </a:lnTo>
                            <a:lnTo>
                              <a:pt x="503" y="26"/>
                            </a:lnTo>
                            <a:lnTo>
                              <a:pt x="601" y="109"/>
                            </a:lnTo>
                            <a:lnTo>
                              <a:pt x="842" y="358"/>
                            </a:lnTo>
                            <a:lnTo>
                              <a:pt x="920" y="468"/>
                            </a:lnTo>
                            <a:lnTo>
                              <a:pt x="980" y="575"/>
                            </a:lnTo>
                            <a:lnTo>
                              <a:pt x="1036" y="907"/>
                            </a:lnTo>
                            <a:lnTo>
                              <a:pt x="1059" y="1006"/>
                            </a:lnTo>
                            <a:lnTo>
                              <a:pt x="1036" y="1134"/>
                            </a:lnTo>
                            <a:lnTo>
                              <a:pt x="999" y="1267"/>
                            </a:lnTo>
                            <a:lnTo>
                              <a:pt x="902" y="1475"/>
                            </a:lnTo>
                            <a:lnTo>
                              <a:pt x="823" y="1609"/>
                            </a:lnTo>
                            <a:lnTo>
                              <a:pt x="703" y="1754"/>
                            </a:lnTo>
                            <a:lnTo>
                              <a:pt x="462" y="1932"/>
                            </a:lnTo>
                            <a:lnTo>
                              <a:pt x="583" y="1706"/>
                            </a:lnTo>
                            <a:lnTo>
                              <a:pt x="684" y="1502"/>
                            </a:lnTo>
                            <a:lnTo>
                              <a:pt x="745" y="1312"/>
                            </a:lnTo>
                            <a:lnTo>
                              <a:pt x="721" y="1134"/>
                            </a:lnTo>
                            <a:lnTo>
                              <a:pt x="703" y="1006"/>
                            </a:lnTo>
                            <a:lnTo>
                              <a:pt x="745" y="851"/>
                            </a:lnTo>
                            <a:lnTo>
                              <a:pt x="763" y="720"/>
                            </a:lnTo>
                            <a:lnTo>
                              <a:pt x="661" y="468"/>
                            </a:lnTo>
                            <a:lnTo>
                              <a:pt x="643" y="332"/>
                            </a:lnTo>
                            <a:lnTo>
                              <a:pt x="560" y="225"/>
                            </a:lnTo>
                            <a:lnTo>
                              <a:pt x="383" y="83"/>
                            </a:lnTo>
                            <a:lnTo>
                              <a:pt x="300" y="192"/>
                            </a:lnTo>
                            <a:lnTo>
                              <a:pt x="0" y="370"/>
                            </a:lnTo>
                            <a:lnTo>
                              <a:pt x="23" y="308"/>
                            </a:lnTo>
                            <a:close/>
                          </a:path>
                        </a:pathLst>
                      </a:custGeom>
                      <a:solidFill>
                        <a:srgbClr val="ededed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2409840" y="5530680"/>
                  <a:ext cx="459360" cy="435240"/>
                  <a:chOff x="2409840" y="5530680"/>
                  <a:chExt cx="459360" cy="43524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2409840" y="5530680"/>
                    <a:ext cx="265320" cy="424080"/>
                  </a:xfrm>
                  <a:custGeom>
                    <a:avLst/>
                    <a:gdLst/>
                    <a:ahLst/>
                    <a:rect l="0" t="0" r="r" b="b"/>
                    <a:pathLst>
                      <a:path w="737" h="1178">
                        <a:moveTo>
                          <a:pt x="640" y="101"/>
                        </a:moveTo>
                        <a:lnTo>
                          <a:pt x="658" y="30"/>
                        </a:lnTo>
                        <a:lnTo>
                          <a:pt x="737" y="26"/>
                        </a:lnTo>
                        <a:lnTo>
                          <a:pt x="649" y="0"/>
                        </a:lnTo>
                        <a:lnTo>
                          <a:pt x="613" y="0"/>
                        </a:lnTo>
                        <a:lnTo>
                          <a:pt x="552" y="13"/>
                        </a:lnTo>
                        <a:lnTo>
                          <a:pt x="552" y="30"/>
                        </a:lnTo>
                        <a:lnTo>
                          <a:pt x="499" y="44"/>
                        </a:lnTo>
                        <a:lnTo>
                          <a:pt x="154" y="176"/>
                        </a:lnTo>
                        <a:lnTo>
                          <a:pt x="380" y="114"/>
                        </a:lnTo>
                        <a:lnTo>
                          <a:pt x="499" y="97"/>
                        </a:lnTo>
                        <a:lnTo>
                          <a:pt x="393" y="145"/>
                        </a:lnTo>
                        <a:lnTo>
                          <a:pt x="499" y="149"/>
                        </a:lnTo>
                        <a:lnTo>
                          <a:pt x="176" y="268"/>
                        </a:lnTo>
                        <a:lnTo>
                          <a:pt x="313" y="224"/>
                        </a:lnTo>
                        <a:lnTo>
                          <a:pt x="503" y="189"/>
                        </a:lnTo>
                        <a:lnTo>
                          <a:pt x="499" y="216"/>
                        </a:lnTo>
                        <a:lnTo>
                          <a:pt x="428" y="255"/>
                        </a:lnTo>
                        <a:lnTo>
                          <a:pt x="380" y="291"/>
                        </a:lnTo>
                        <a:lnTo>
                          <a:pt x="246" y="348"/>
                        </a:lnTo>
                        <a:lnTo>
                          <a:pt x="30" y="445"/>
                        </a:lnTo>
                        <a:lnTo>
                          <a:pt x="180" y="388"/>
                        </a:lnTo>
                        <a:lnTo>
                          <a:pt x="361" y="313"/>
                        </a:lnTo>
                        <a:lnTo>
                          <a:pt x="428" y="277"/>
                        </a:lnTo>
                        <a:lnTo>
                          <a:pt x="499" y="242"/>
                        </a:lnTo>
                        <a:lnTo>
                          <a:pt x="459" y="246"/>
                        </a:lnTo>
                        <a:lnTo>
                          <a:pt x="521" y="268"/>
                        </a:lnTo>
                        <a:lnTo>
                          <a:pt x="455" y="291"/>
                        </a:lnTo>
                        <a:lnTo>
                          <a:pt x="361" y="357"/>
                        </a:lnTo>
                        <a:lnTo>
                          <a:pt x="255" y="427"/>
                        </a:lnTo>
                        <a:lnTo>
                          <a:pt x="136" y="480"/>
                        </a:lnTo>
                        <a:lnTo>
                          <a:pt x="339" y="366"/>
                        </a:lnTo>
                        <a:lnTo>
                          <a:pt x="428" y="313"/>
                        </a:lnTo>
                        <a:lnTo>
                          <a:pt x="499" y="268"/>
                        </a:lnTo>
                        <a:lnTo>
                          <a:pt x="521" y="268"/>
                        </a:lnTo>
                        <a:lnTo>
                          <a:pt x="472" y="330"/>
                        </a:lnTo>
                        <a:lnTo>
                          <a:pt x="534" y="317"/>
                        </a:lnTo>
                        <a:lnTo>
                          <a:pt x="499" y="357"/>
                        </a:lnTo>
                        <a:lnTo>
                          <a:pt x="428" y="401"/>
                        </a:lnTo>
                        <a:lnTo>
                          <a:pt x="295" y="467"/>
                        </a:lnTo>
                        <a:lnTo>
                          <a:pt x="136" y="515"/>
                        </a:lnTo>
                        <a:lnTo>
                          <a:pt x="0" y="568"/>
                        </a:lnTo>
                        <a:lnTo>
                          <a:pt x="176" y="511"/>
                        </a:lnTo>
                        <a:lnTo>
                          <a:pt x="428" y="414"/>
                        </a:lnTo>
                        <a:lnTo>
                          <a:pt x="472" y="388"/>
                        </a:lnTo>
                        <a:lnTo>
                          <a:pt x="521" y="357"/>
                        </a:lnTo>
                        <a:lnTo>
                          <a:pt x="464" y="432"/>
                        </a:lnTo>
                        <a:lnTo>
                          <a:pt x="561" y="401"/>
                        </a:lnTo>
                        <a:lnTo>
                          <a:pt x="472" y="502"/>
                        </a:lnTo>
                        <a:lnTo>
                          <a:pt x="455" y="524"/>
                        </a:lnTo>
                        <a:lnTo>
                          <a:pt x="428" y="537"/>
                        </a:lnTo>
                        <a:lnTo>
                          <a:pt x="313" y="591"/>
                        </a:lnTo>
                        <a:lnTo>
                          <a:pt x="185" y="640"/>
                        </a:lnTo>
                        <a:lnTo>
                          <a:pt x="202" y="627"/>
                        </a:lnTo>
                        <a:lnTo>
                          <a:pt x="361" y="568"/>
                        </a:lnTo>
                        <a:lnTo>
                          <a:pt x="459" y="507"/>
                        </a:lnTo>
                        <a:lnTo>
                          <a:pt x="543" y="485"/>
                        </a:lnTo>
                        <a:lnTo>
                          <a:pt x="556" y="485"/>
                        </a:lnTo>
                        <a:lnTo>
                          <a:pt x="83" y="741"/>
                        </a:lnTo>
                        <a:lnTo>
                          <a:pt x="450" y="564"/>
                        </a:lnTo>
                        <a:lnTo>
                          <a:pt x="508" y="537"/>
                        </a:lnTo>
                        <a:lnTo>
                          <a:pt x="433" y="658"/>
                        </a:lnTo>
                        <a:lnTo>
                          <a:pt x="521" y="636"/>
                        </a:lnTo>
                        <a:lnTo>
                          <a:pt x="136" y="860"/>
                        </a:lnTo>
                        <a:lnTo>
                          <a:pt x="282" y="794"/>
                        </a:lnTo>
                        <a:lnTo>
                          <a:pt x="380" y="741"/>
                        </a:lnTo>
                        <a:lnTo>
                          <a:pt x="419" y="728"/>
                        </a:lnTo>
                        <a:lnTo>
                          <a:pt x="521" y="662"/>
                        </a:lnTo>
                        <a:lnTo>
                          <a:pt x="415" y="755"/>
                        </a:lnTo>
                        <a:lnTo>
                          <a:pt x="499" y="724"/>
                        </a:lnTo>
                        <a:lnTo>
                          <a:pt x="411" y="799"/>
                        </a:lnTo>
                        <a:lnTo>
                          <a:pt x="486" y="781"/>
                        </a:lnTo>
                        <a:lnTo>
                          <a:pt x="397" y="869"/>
                        </a:lnTo>
                        <a:lnTo>
                          <a:pt x="499" y="838"/>
                        </a:lnTo>
                        <a:lnTo>
                          <a:pt x="406" y="887"/>
                        </a:lnTo>
                        <a:lnTo>
                          <a:pt x="260" y="918"/>
                        </a:lnTo>
                        <a:lnTo>
                          <a:pt x="114" y="975"/>
                        </a:lnTo>
                        <a:lnTo>
                          <a:pt x="406" y="909"/>
                        </a:lnTo>
                        <a:lnTo>
                          <a:pt x="472" y="874"/>
                        </a:lnTo>
                        <a:lnTo>
                          <a:pt x="384" y="944"/>
                        </a:lnTo>
                        <a:lnTo>
                          <a:pt x="455" y="931"/>
                        </a:lnTo>
                        <a:lnTo>
                          <a:pt x="411" y="962"/>
                        </a:lnTo>
                        <a:lnTo>
                          <a:pt x="389" y="1010"/>
                        </a:lnTo>
                        <a:lnTo>
                          <a:pt x="428" y="997"/>
                        </a:lnTo>
                        <a:lnTo>
                          <a:pt x="375" y="1037"/>
                        </a:lnTo>
                        <a:lnTo>
                          <a:pt x="92" y="1107"/>
                        </a:lnTo>
                        <a:lnTo>
                          <a:pt x="321" y="1063"/>
                        </a:lnTo>
                        <a:lnTo>
                          <a:pt x="406" y="1032"/>
                        </a:lnTo>
                        <a:lnTo>
                          <a:pt x="455" y="988"/>
                        </a:lnTo>
                        <a:lnTo>
                          <a:pt x="384" y="1081"/>
                        </a:lnTo>
                        <a:lnTo>
                          <a:pt x="459" y="1059"/>
                        </a:lnTo>
                        <a:lnTo>
                          <a:pt x="415" y="1112"/>
                        </a:lnTo>
                        <a:lnTo>
                          <a:pt x="308" y="1178"/>
                        </a:lnTo>
                        <a:lnTo>
                          <a:pt x="415" y="1125"/>
                        </a:lnTo>
                        <a:lnTo>
                          <a:pt x="490" y="1103"/>
                        </a:lnTo>
                        <a:lnTo>
                          <a:pt x="543" y="1156"/>
                        </a:lnTo>
                        <a:lnTo>
                          <a:pt x="561" y="1059"/>
                        </a:lnTo>
                        <a:lnTo>
                          <a:pt x="640" y="101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602080" y="5530680"/>
                    <a:ext cx="267120" cy="435240"/>
                  </a:xfrm>
                  <a:custGeom>
                    <a:avLst/>
                    <a:gdLst/>
                    <a:ahLst/>
                    <a:rect l="0" t="0" r="r" b="b"/>
                    <a:pathLst>
                      <a:path w="742" h="1209">
                        <a:moveTo>
                          <a:pt x="0" y="1134"/>
                        </a:moveTo>
                        <a:lnTo>
                          <a:pt x="8" y="1076"/>
                        </a:lnTo>
                        <a:lnTo>
                          <a:pt x="79" y="1107"/>
                        </a:lnTo>
                        <a:lnTo>
                          <a:pt x="52" y="1032"/>
                        </a:lnTo>
                        <a:lnTo>
                          <a:pt x="123" y="1041"/>
                        </a:lnTo>
                        <a:lnTo>
                          <a:pt x="283" y="1209"/>
                        </a:lnTo>
                        <a:lnTo>
                          <a:pt x="145" y="1076"/>
                        </a:lnTo>
                        <a:lnTo>
                          <a:pt x="119" y="1037"/>
                        </a:lnTo>
                        <a:lnTo>
                          <a:pt x="97" y="1002"/>
                        </a:lnTo>
                        <a:lnTo>
                          <a:pt x="145" y="1010"/>
                        </a:lnTo>
                        <a:lnTo>
                          <a:pt x="305" y="1134"/>
                        </a:lnTo>
                        <a:lnTo>
                          <a:pt x="217" y="1041"/>
                        </a:lnTo>
                        <a:lnTo>
                          <a:pt x="132" y="997"/>
                        </a:lnTo>
                        <a:lnTo>
                          <a:pt x="123" y="935"/>
                        </a:lnTo>
                        <a:lnTo>
                          <a:pt x="176" y="957"/>
                        </a:lnTo>
                        <a:lnTo>
                          <a:pt x="167" y="887"/>
                        </a:lnTo>
                        <a:lnTo>
                          <a:pt x="217" y="909"/>
                        </a:lnTo>
                        <a:lnTo>
                          <a:pt x="481" y="1116"/>
                        </a:lnTo>
                        <a:lnTo>
                          <a:pt x="195" y="874"/>
                        </a:lnTo>
                        <a:lnTo>
                          <a:pt x="167" y="830"/>
                        </a:lnTo>
                        <a:lnTo>
                          <a:pt x="239" y="856"/>
                        </a:lnTo>
                        <a:lnTo>
                          <a:pt x="393" y="966"/>
                        </a:lnTo>
                        <a:lnTo>
                          <a:pt x="217" y="852"/>
                        </a:lnTo>
                        <a:lnTo>
                          <a:pt x="145" y="781"/>
                        </a:lnTo>
                        <a:lnTo>
                          <a:pt x="217" y="807"/>
                        </a:lnTo>
                        <a:lnTo>
                          <a:pt x="167" y="763"/>
                        </a:lnTo>
                        <a:lnTo>
                          <a:pt x="239" y="772"/>
                        </a:lnTo>
                        <a:lnTo>
                          <a:pt x="300" y="852"/>
                        </a:lnTo>
                        <a:lnTo>
                          <a:pt x="283" y="830"/>
                        </a:lnTo>
                        <a:lnTo>
                          <a:pt x="217" y="763"/>
                        </a:lnTo>
                        <a:lnTo>
                          <a:pt x="195" y="728"/>
                        </a:lnTo>
                        <a:lnTo>
                          <a:pt x="256" y="763"/>
                        </a:lnTo>
                        <a:lnTo>
                          <a:pt x="217" y="684"/>
                        </a:lnTo>
                        <a:lnTo>
                          <a:pt x="256" y="693"/>
                        </a:lnTo>
                        <a:lnTo>
                          <a:pt x="296" y="733"/>
                        </a:lnTo>
                        <a:lnTo>
                          <a:pt x="525" y="860"/>
                        </a:lnTo>
                        <a:lnTo>
                          <a:pt x="441" y="803"/>
                        </a:lnTo>
                        <a:lnTo>
                          <a:pt x="322" y="728"/>
                        </a:lnTo>
                        <a:lnTo>
                          <a:pt x="225" y="649"/>
                        </a:lnTo>
                        <a:lnTo>
                          <a:pt x="256" y="662"/>
                        </a:lnTo>
                        <a:lnTo>
                          <a:pt x="239" y="613"/>
                        </a:lnTo>
                        <a:lnTo>
                          <a:pt x="225" y="622"/>
                        </a:lnTo>
                        <a:lnTo>
                          <a:pt x="322" y="644"/>
                        </a:lnTo>
                        <a:lnTo>
                          <a:pt x="256" y="590"/>
                        </a:lnTo>
                        <a:lnTo>
                          <a:pt x="327" y="605"/>
                        </a:lnTo>
                        <a:lnTo>
                          <a:pt x="441" y="640"/>
                        </a:lnTo>
                        <a:lnTo>
                          <a:pt x="694" y="728"/>
                        </a:lnTo>
                        <a:lnTo>
                          <a:pt x="557" y="662"/>
                        </a:lnTo>
                        <a:lnTo>
                          <a:pt x="331" y="590"/>
                        </a:lnTo>
                        <a:lnTo>
                          <a:pt x="274" y="546"/>
                        </a:lnTo>
                        <a:lnTo>
                          <a:pt x="358" y="568"/>
                        </a:lnTo>
                        <a:lnTo>
                          <a:pt x="256" y="489"/>
                        </a:lnTo>
                        <a:lnTo>
                          <a:pt x="327" y="493"/>
                        </a:lnTo>
                        <a:lnTo>
                          <a:pt x="283" y="454"/>
                        </a:lnTo>
                        <a:lnTo>
                          <a:pt x="292" y="445"/>
                        </a:lnTo>
                        <a:lnTo>
                          <a:pt x="380" y="480"/>
                        </a:lnTo>
                        <a:lnTo>
                          <a:pt x="292" y="418"/>
                        </a:lnTo>
                        <a:lnTo>
                          <a:pt x="362" y="418"/>
                        </a:lnTo>
                        <a:lnTo>
                          <a:pt x="283" y="379"/>
                        </a:lnTo>
                        <a:lnTo>
                          <a:pt x="327" y="379"/>
                        </a:lnTo>
                        <a:lnTo>
                          <a:pt x="283" y="352"/>
                        </a:lnTo>
                        <a:lnTo>
                          <a:pt x="742" y="498"/>
                        </a:lnTo>
                        <a:lnTo>
                          <a:pt x="538" y="436"/>
                        </a:lnTo>
                        <a:lnTo>
                          <a:pt x="353" y="352"/>
                        </a:lnTo>
                        <a:lnTo>
                          <a:pt x="305" y="308"/>
                        </a:lnTo>
                        <a:lnTo>
                          <a:pt x="375" y="321"/>
                        </a:lnTo>
                        <a:lnTo>
                          <a:pt x="296" y="251"/>
                        </a:lnTo>
                        <a:lnTo>
                          <a:pt x="340" y="251"/>
                        </a:lnTo>
                        <a:lnTo>
                          <a:pt x="283" y="198"/>
                        </a:lnTo>
                        <a:lnTo>
                          <a:pt x="353" y="198"/>
                        </a:lnTo>
                        <a:lnTo>
                          <a:pt x="397" y="224"/>
                        </a:lnTo>
                        <a:lnTo>
                          <a:pt x="610" y="282"/>
                        </a:lnTo>
                        <a:lnTo>
                          <a:pt x="397" y="220"/>
                        </a:lnTo>
                        <a:lnTo>
                          <a:pt x="375" y="198"/>
                        </a:lnTo>
                        <a:lnTo>
                          <a:pt x="305" y="163"/>
                        </a:lnTo>
                        <a:lnTo>
                          <a:pt x="353" y="176"/>
                        </a:lnTo>
                        <a:lnTo>
                          <a:pt x="239" y="127"/>
                        </a:lnTo>
                        <a:lnTo>
                          <a:pt x="283" y="141"/>
                        </a:lnTo>
                        <a:lnTo>
                          <a:pt x="389" y="141"/>
                        </a:lnTo>
                        <a:lnTo>
                          <a:pt x="592" y="189"/>
                        </a:lnTo>
                        <a:lnTo>
                          <a:pt x="375" y="141"/>
                        </a:lnTo>
                        <a:lnTo>
                          <a:pt x="283" y="97"/>
                        </a:lnTo>
                        <a:lnTo>
                          <a:pt x="716" y="189"/>
                        </a:lnTo>
                        <a:lnTo>
                          <a:pt x="358" y="92"/>
                        </a:lnTo>
                        <a:lnTo>
                          <a:pt x="305" y="74"/>
                        </a:lnTo>
                        <a:lnTo>
                          <a:pt x="256" y="39"/>
                        </a:lnTo>
                        <a:lnTo>
                          <a:pt x="154" y="0"/>
                        </a:lnTo>
                        <a:lnTo>
                          <a:pt x="123" y="17"/>
                        </a:lnTo>
                        <a:lnTo>
                          <a:pt x="101" y="4"/>
                        </a:lnTo>
                        <a:lnTo>
                          <a:pt x="0" y="1134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2622600" y="6002280"/>
                  <a:ext cx="109800" cy="354240"/>
                </a:xfrm>
                <a:custGeom>
                  <a:avLst/>
                  <a:gdLst/>
                  <a:ahLst/>
                  <a:rect l="0" t="0" r="r" b="b"/>
                  <a:pathLst>
                    <a:path w="305" h="984">
                      <a:moveTo>
                        <a:pt x="30" y="0"/>
                      </a:moveTo>
                      <a:lnTo>
                        <a:pt x="97" y="74"/>
                      </a:lnTo>
                      <a:lnTo>
                        <a:pt x="168" y="194"/>
                      </a:lnTo>
                      <a:lnTo>
                        <a:pt x="239" y="357"/>
                      </a:lnTo>
                      <a:lnTo>
                        <a:pt x="305" y="569"/>
                      </a:lnTo>
                      <a:lnTo>
                        <a:pt x="305" y="790"/>
                      </a:lnTo>
                      <a:lnTo>
                        <a:pt x="269" y="984"/>
                      </a:lnTo>
                      <a:lnTo>
                        <a:pt x="239" y="984"/>
                      </a:lnTo>
                      <a:lnTo>
                        <a:pt x="269" y="790"/>
                      </a:lnTo>
                      <a:lnTo>
                        <a:pt x="269" y="627"/>
                      </a:lnTo>
                      <a:lnTo>
                        <a:pt x="199" y="445"/>
                      </a:lnTo>
                      <a:lnTo>
                        <a:pt x="97" y="268"/>
                      </a:lnTo>
                      <a:lnTo>
                        <a:pt x="0" y="3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736640" y="5516640"/>
                <a:ext cx="907200" cy="1041840"/>
                <a:chOff x="1736640" y="5516640"/>
                <a:chExt cx="907200" cy="1041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905120" y="6213600"/>
                  <a:ext cx="319320" cy="344880"/>
                </a:xfrm>
                <a:custGeom>
                  <a:avLst/>
                  <a:gdLst/>
                  <a:ahLst/>
                  <a:rect l="0" t="0" r="r" b="b"/>
                  <a:pathLst>
                    <a:path w="887" h="958">
                      <a:moveTo>
                        <a:pt x="209" y="958"/>
                      </a:moveTo>
                      <a:lnTo>
                        <a:pt x="30" y="551"/>
                      </a:lnTo>
                      <a:lnTo>
                        <a:pt x="18" y="534"/>
                      </a:lnTo>
                      <a:lnTo>
                        <a:pt x="6" y="499"/>
                      </a:lnTo>
                      <a:lnTo>
                        <a:pt x="6" y="464"/>
                      </a:lnTo>
                      <a:lnTo>
                        <a:pt x="0" y="430"/>
                      </a:lnTo>
                      <a:lnTo>
                        <a:pt x="6" y="389"/>
                      </a:lnTo>
                      <a:lnTo>
                        <a:pt x="24" y="331"/>
                      </a:lnTo>
                      <a:lnTo>
                        <a:pt x="123" y="104"/>
                      </a:lnTo>
                      <a:lnTo>
                        <a:pt x="147" y="86"/>
                      </a:lnTo>
                      <a:lnTo>
                        <a:pt x="190" y="46"/>
                      </a:lnTo>
                      <a:lnTo>
                        <a:pt x="240" y="23"/>
                      </a:lnTo>
                      <a:lnTo>
                        <a:pt x="313" y="5"/>
                      </a:lnTo>
                      <a:lnTo>
                        <a:pt x="369" y="0"/>
                      </a:lnTo>
                      <a:lnTo>
                        <a:pt x="418" y="11"/>
                      </a:lnTo>
                      <a:lnTo>
                        <a:pt x="481" y="28"/>
                      </a:lnTo>
                      <a:lnTo>
                        <a:pt x="554" y="69"/>
                      </a:lnTo>
                      <a:lnTo>
                        <a:pt x="641" y="115"/>
                      </a:lnTo>
                      <a:lnTo>
                        <a:pt x="690" y="150"/>
                      </a:lnTo>
                      <a:lnTo>
                        <a:pt x="727" y="191"/>
                      </a:lnTo>
                      <a:lnTo>
                        <a:pt x="745" y="214"/>
                      </a:lnTo>
                      <a:lnTo>
                        <a:pt x="819" y="337"/>
                      </a:lnTo>
                      <a:lnTo>
                        <a:pt x="825" y="343"/>
                      </a:lnTo>
                      <a:lnTo>
                        <a:pt x="844" y="395"/>
                      </a:lnTo>
                      <a:lnTo>
                        <a:pt x="850" y="430"/>
                      </a:lnTo>
                      <a:lnTo>
                        <a:pt x="887" y="609"/>
                      </a:lnTo>
                      <a:lnTo>
                        <a:pt x="838" y="505"/>
                      </a:lnTo>
                      <a:lnTo>
                        <a:pt x="795" y="424"/>
                      </a:lnTo>
                      <a:lnTo>
                        <a:pt x="745" y="343"/>
                      </a:lnTo>
                      <a:lnTo>
                        <a:pt x="684" y="261"/>
                      </a:lnTo>
                      <a:lnTo>
                        <a:pt x="474" y="75"/>
                      </a:lnTo>
                      <a:lnTo>
                        <a:pt x="418" y="52"/>
                      </a:lnTo>
                      <a:lnTo>
                        <a:pt x="369" y="40"/>
                      </a:lnTo>
                      <a:lnTo>
                        <a:pt x="332" y="40"/>
                      </a:lnTo>
                      <a:lnTo>
                        <a:pt x="289" y="63"/>
                      </a:lnTo>
                      <a:lnTo>
                        <a:pt x="233" y="127"/>
                      </a:lnTo>
                      <a:lnTo>
                        <a:pt x="172" y="348"/>
                      </a:lnTo>
                      <a:lnTo>
                        <a:pt x="110" y="499"/>
                      </a:lnTo>
                      <a:lnTo>
                        <a:pt x="104" y="534"/>
                      </a:lnTo>
                      <a:lnTo>
                        <a:pt x="110" y="569"/>
                      </a:lnTo>
                      <a:lnTo>
                        <a:pt x="116" y="604"/>
                      </a:lnTo>
                      <a:lnTo>
                        <a:pt x="166" y="679"/>
                      </a:lnTo>
                      <a:lnTo>
                        <a:pt x="135" y="609"/>
                      </a:lnTo>
                      <a:lnTo>
                        <a:pt x="196" y="755"/>
                      </a:lnTo>
                      <a:lnTo>
                        <a:pt x="227" y="831"/>
                      </a:lnTo>
                      <a:lnTo>
                        <a:pt x="240" y="889"/>
                      </a:lnTo>
                      <a:lnTo>
                        <a:pt x="215" y="947"/>
                      </a:lnTo>
                      <a:lnTo>
                        <a:pt x="209" y="958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36640" y="6091200"/>
                  <a:ext cx="356040" cy="327240"/>
                </a:xfrm>
                <a:custGeom>
                  <a:avLst/>
                  <a:gdLst/>
                  <a:ahLst/>
                  <a:rect l="0" t="0" r="r" b="b"/>
                  <a:pathLst>
                    <a:path w="989" h="909">
                      <a:moveTo>
                        <a:pt x="977" y="141"/>
                      </a:moveTo>
                      <a:lnTo>
                        <a:pt x="906" y="81"/>
                      </a:lnTo>
                      <a:lnTo>
                        <a:pt x="872" y="58"/>
                      </a:lnTo>
                      <a:lnTo>
                        <a:pt x="802" y="39"/>
                      </a:lnTo>
                      <a:lnTo>
                        <a:pt x="733" y="21"/>
                      </a:lnTo>
                      <a:lnTo>
                        <a:pt x="641" y="3"/>
                      </a:lnTo>
                      <a:lnTo>
                        <a:pt x="561" y="0"/>
                      </a:lnTo>
                      <a:lnTo>
                        <a:pt x="490" y="8"/>
                      </a:lnTo>
                      <a:lnTo>
                        <a:pt x="407" y="17"/>
                      </a:lnTo>
                      <a:lnTo>
                        <a:pt x="314" y="34"/>
                      </a:lnTo>
                      <a:lnTo>
                        <a:pt x="256" y="68"/>
                      </a:lnTo>
                      <a:lnTo>
                        <a:pt x="196" y="117"/>
                      </a:lnTo>
                      <a:lnTo>
                        <a:pt x="138" y="154"/>
                      </a:lnTo>
                      <a:lnTo>
                        <a:pt x="92" y="193"/>
                      </a:lnTo>
                      <a:lnTo>
                        <a:pt x="36" y="245"/>
                      </a:lnTo>
                      <a:lnTo>
                        <a:pt x="0" y="354"/>
                      </a:lnTo>
                      <a:lnTo>
                        <a:pt x="12" y="437"/>
                      </a:lnTo>
                      <a:lnTo>
                        <a:pt x="58" y="558"/>
                      </a:lnTo>
                      <a:lnTo>
                        <a:pt x="138" y="662"/>
                      </a:lnTo>
                      <a:lnTo>
                        <a:pt x="314" y="909"/>
                      </a:lnTo>
                      <a:lnTo>
                        <a:pt x="246" y="644"/>
                      </a:lnTo>
                      <a:lnTo>
                        <a:pt x="209" y="553"/>
                      </a:lnTo>
                      <a:lnTo>
                        <a:pt x="184" y="472"/>
                      </a:lnTo>
                      <a:lnTo>
                        <a:pt x="172" y="385"/>
                      </a:lnTo>
                      <a:lnTo>
                        <a:pt x="196" y="289"/>
                      </a:lnTo>
                      <a:lnTo>
                        <a:pt x="221" y="216"/>
                      </a:lnTo>
                      <a:lnTo>
                        <a:pt x="268" y="125"/>
                      </a:lnTo>
                      <a:lnTo>
                        <a:pt x="339" y="81"/>
                      </a:lnTo>
                      <a:lnTo>
                        <a:pt x="431" y="65"/>
                      </a:lnTo>
                      <a:lnTo>
                        <a:pt x="674" y="55"/>
                      </a:lnTo>
                      <a:lnTo>
                        <a:pt x="826" y="86"/>
                      </a:lnTo>
                      <a:lnTo>
                        <a:pt x="989" y="152"/>
                      </a:lnTo>
                      <a:lnTo>
                        <a:pt x="977" y="141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90800" y="5853240"/>
                  <a:ext cx="368640" cy="321120"/>
                </a:xfrm>
                <a:custGeom>
                  <a:avLst/>
                  <a:gdLst/>
                  <a:ahLst/>
                  <a:rect l="0" t="0" r="r" b="b"/>
                  <a:pathLst>
                    <a:path w="1024" h="892">
                      <a:moveTo>
                        <a:pt x="299" y="892"/>
                      </a:moveTo>
                      <a:lnTo>
                        <a:pt x="227" y="738"/>
                      </a:lnTo>
                      <a:lnTo>
                        <a:pt x="196" y="674"/>
                      </a:lnTo>
                      <a:lnTo>
                        <a:pt x="124" y="593"/>
                      </a:lnTo>
                      <a:lnTo>
                        <a:pt x="49" y="516"/>
                      </a:lnTo>
                      <a:lnTo>
                        <a:pt x="9" y="471"/>
                      </a:lnTo>
                      <a:lnTo>
                        <a:pt x="0" y="425"/>
                      </a:lnTo>
                      <a:lnTo>
                        <a:pt x="18" y="358"/>
                      </a:lnTo>
                      <a:lnTo>
                        <a:pt x="31" y="291"/>
                      </a:lnTo>
                      <a:lnTo>
                        <a:pt x="143" y="123"/>
                      </a:lnTo>
                      <a:lnTo>
                        <a:pt x="196" y="82"/>
                      </a:lnTo>
                      <a:lnTo>
                        <a:pt x="290" y="37"/>
                      </a:lnTo>
                      <a:lnTo>
                        <a:pt x="371" y="9"/>
                      </a:lnTo>
                      <a:lnTo>
                        <a:pt x="474" y="0"/>
                      </a:lnTo>
                      <a:lnTo>
                        <a:pt x="559" y="19"/>
                      </a:lnTo>
                      <a:lnTo>
                        <a:pt x="665" y="37"/>
                      </a:lnTo>
                      <a:lnTo>
                        <a:pt x="768" y="91"/>
                      </a:lnTo>
                      <a:lnTo>
                        <a:pt x="805" y="127"/>
                      </a:lnTo>
                      <a:lnTo>
                        <a:pt x="871" y="182"/>
                      </a:lnTo>
                      <a:lnTo>
                        <a:pt x="924" y="229"/>
                      </a:lnTo>
                      <a:lnTo>
                        <a:pt x="1014" y="461"/>
                      </a:lnTo>
                      <a:lnTo>
                        <a:pt x="1024" y="506"/>
                      </a:lnTo>
                      <a:lnTo>
                        <a:pt x="1005" y="583"/>
                      </a:lnTo>
                      <a:lnTo>
                        <a:pt x="949" y="802"/>
                      </a:lnTo>
                      <a:lnTo>
                        <a:pt x="952" y="588"/>
                      </a:lnTo>
                      <a:lnTo>
                        <a:pt x="924" y="493"/>
                      </a:lnTo>
                      <a:lnTo>
                        <a:pt x="899" y="435"/>
                      </a:lnTo>
                      <a:lnTo>
                        <a:pt x="858" y="358"/>
                      </a:lnTo>
                      <a:lnTo>
                        <a:pt x="818" y="281"/>
                      </a:lnTo>
                      <a:lnTo>
                        <a:pt x="755" y="205"/>
                      </a:lnTo>
                      <a:lnTo>
                        <a:pt x="684" y="136"/>
                      </a:lnTo>
                      <a:lnTo>
                        <a:pt x="621" y="73"/>
                      </a:lnTo>
                      <a:lnTo>
                        <a:pt x="559" y="37"/>
                      </a:lnTo>
                      <a:lnTo>
                        <a:pt x="486" y="24"/>
                      </a:lnTo>
                      <a:lnTo>
                        <a:pt x="414" y="37"/>
                      </a:lnTo>
                      <a:lnTo>
                        <a:pt x="361" y="70"/>
                      </a:lnTo>
                      <a:lnTo>
                        <a:pt x="330" y="127"/>
                      </a:lnTo>
                      <a:lnTo>
                        <a:pt x="330" y="172"/>
                      </a:lnTo>
                      <a:lnTo>
                        <a:pt x="308" y="255"/>
                      </a:lnTo>
                      <a:lnTo>
                        <a:pt x="277" y="304"/>
                      </a:lnTo>
                      <a:lnTo>
                        <a:pt x="205" y="384"/>
                      </a:lnTo>
                      <a:lnTo>
                        <a:pt x="196" y="425"/>
                      </a:lnTo>
                      <a:lnTo>
                        <a:pt x="184" y="466"/>
                      </a:lnTo>
                      <a:lnTo>
                        <a:pt x="184" y="525"/>
                      </a:lnTo>
                      <a:lnTo>
                        <a:pt x="308" y="725"/>
                      </a:lnTo>
                      <a:lnTo>
                        <a:pt x="299" y="892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5516640"/>
                  <a:ext cx="510120" cy="1040040"/>
                </a:xfrm>
                <a:custGeom>
                  <a:avLst/>
                  <a:gdLst/>
                  <a:ahLst/>
                  <a:rect l="0" t="0" r="r" b="b"/>
                  <a:pathLst>
                    <a:path fill="none" w="1417" h="2889">
                      <a:moveTo>
                        <a:pt x="0" y="2889"/>
                      </a:moveTo>
                      <a:lnTo>
                        <a:pt x="506" y="1819"/>
                      </a:lnTo>
                      <a:lnTo>
                        <a:pt x="565" y="1646"/>
                      </a:lnTo>
                      <a:lnTo>
                        <a:pt x="690" y="1368"/>
                      </a:lnTo>
                      <a:lnTo>
                        <a:pt x="808" y="1078"/>
                      </a:lnTo>
                      <a:lnTo>
                        <a:pt x="867" y="920"/>
                      </a:lnTo>
                      <a:lnTo>
                        <a:pt x="902" y="753"/>
                      </a:lnTo>
                      <a:lnTo>
                        <a:pt x="948" y="596"/>
                      </a:lnTo>
                      <a:lnTo>
                        <a:pt x="1023" y="413"/>
                      </a:lnTo>
                      <a:lnTo>
                        <a:pt x="1105" y="245"/>
                      </a:lnTo>
                      <a:lnTo>
                        <a:pt x="1211" y="98"/>
                      </a:lnTo>
                      <a:lnTo>
                        <a:pt x="1292" y="6"/>
                      </a:lnTo>
                      <a:lnTo>
                        <a:pt x="1342" y="0"/>
                      </a:lnTo>
                      <a:lnTo>
                        <a:pt x="1389" y="46"/>
                      </a:lnTo>
                      <a:lnTo>
                        <a:pt x="1417" y="208"/>
                      </a:lnTo>
                    </a:path>
                  </a:pathLst>
                </a:custGeom>
                <a:ln w="25560">
                  <a:solidFill>
                    <a:srgbClr val="ededed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222640" y="5979960"/>
                  <a:ext cx="408240" cy="384480"/>
                </a:xfrm>
                <a:custGeom>
                  <a:avLst/>
                  <a:gdLst/>
                  <a:ahLst/>
                  <a:rect l="0" t="0" r="r" b="b"/>
                  <a:pathLst>
                    <a:path fill="none" w="1134" h="1068">
                      <a:moveTo>
                        <a:pt x="0" y="1068"/>
                      </a:moveTo>
                      <a:lnTo>
                        <a:pt x="215" y="837"/>
                      </a:lnTo>
                      <a:lnTo>
                        <a:pt x="349" y="570"/>
                      </a:lnTo>
                      <a:lnTo>
                        <a:pt x="421" y="450"/>
                      </a:lnTo>
                      <a:lnTo>
                        <a:pt x="518" y="313"/>
                      </a:lnTo>
                      <a:lnTo>
                        <a:pt x="650" y="172"/>
                      </a:lnTo>
                      <a:lnTo>
                        <a:pt x="747" y="85"/>
                      </a:lnTo>
                      <a:lnTo>
                        <a:pt x="822" y="40"/>
                      </a:lnTo>
                      <a:lnTo>
                        <a:pt x="922" y="6"/>
                      </a:lnTo>
                      <a:lnTo>
                        <a:pt x="1034" y="0"/>
                      </a:lnTo>
                      <a:lnTo>
                        <a:pt x="1084" y="23"/>
                      </a:lnTo>
                      <a:lnTo>
                        <a:pt x="1134" y="93"/>
                      </a:lnTo>
                    </a:path>
                  </a:pathLst>
                </a:custGeom>
                <a:ln w="12600">
                  <a:solidFill>
                    <a:srgbClr val="ededed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49480" y="6119640"/>
                  <a:ext cx="195480" cy="186120"/>
                </a:xfrm>
                <a:custGeom>
                  <a:avLst/>
                  <a:gdLst/>
                  <a:ahLst/>
                  <a:rect l="0" t="0" r="r" b="b"/>
                  <a:pathLst>
                    <a:path fill="none" w="543" h="517">
                      <a:moveTo>
                        <a:pt x="0" y="0"/>
                      </a:moveTo>
                      <a:lnTo>
                        <a:pt x="90" y="33"/>
                      </a:lnTo>
                      <a:lnTo>
                        <a:pt x="202" y="71"/>
                      </a:lnTo>
                      <a:lnTo>
                        <a:pt x="303" y="144"/>
                      </a:lnTo>
                      <a:lnTo>
                        <a:pt x="393" y="205"/>
                      </a:lnTo>
                      <a:lnTo>
                        <a:pt x="468" y="270"/>
                      </a:lnTo>
                      <a:lnTo>
                        <a:pt x="505" y="323"/>
                      </a:lnTo>
                      <a:lnTo>
                        <a:pt x="530" y="375"/>
                      </a:lnTo>
                      <a:lnTo>
                        <a:pt x="543" y="446"/>
                      </a:lnTo>
                      <a:lnTo>
                        <a:pt x="543" y="517"/>
                      </a:lnTo>
                    </a:path>
                  </a:pathLst>
                </a:custGeom>
                <a:ln w="12600">
                  <a:solidFill>
                    <a:srgbClr val="ededed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0" y="6423120"/>
              <a:ext cx="9131760" cy="422640"/>
            </a:xfrm>
            <a:custGeom>
              <a:avLst/>
              <a:gdLst/>
              <a:ahLst/>
              <a:rect l="0" t="0" r="r" b="b"/>
              <a:pathLst>
                <a:path w="25366" h="1174">
                  <a:moveTo>
                    <a:pt x="0" y="1174"/>
                  </a:moveTo>
                  <a:lnTo>
                    <a:pt x="25366" y="1174"/>
                  </a:lnTo>
                  <a:lnTo>
                    <a:pt x="25366" y="358"/>
                  </a:lnTo>
                  <a:lnTo>
                    <a:pt x="24550" y="490"/>
                  </a:lnTo>
                  <a:lnTo>
                    <a:pt x="22482" y="578"/>
                  </a:lnTo>
                  <a:lnTo>
                    <a:pt x="20273" y="446"/>
                  </a:lnTo>
                  <a:lnTo>
                    <a:pt x="18248" y="622"/>
                  </a:lnTo>
                  <a:lnTo>
                    <a:pt x="17260" y="622"/>
                  </a:lnTo>
                  <a:lnTo>
                    <a:pt x="16696" y="578"/>
                  </a:lnTo>
                  <a:lnTo>
                    <a:pt x="15236" y="358"/>
                  </a:lnTo>
                  <a:lnTo>
                    <a:pt x="13124" y="402"/>
                  </a:lnTo>
                  <a:lnTo>
                    <a:pt x="12092" y="194"/>
                  </a:lnTo>
                  <a:lnTo>
                    <a:pt x="10725" y="224"/>
                  </a:lnTo>
                  <a:lnTo>
                    <a:pt x="9781" y="358"/>
                  </a:lnTo>
                  <a:lnTo>
                    <a:pt x="9032" y="402"/>
                  </a:lnTo>
                  <a:lnTo>
                    <a:pt x="7713" y="314"/>
                  </a:lnTo>
                  <a:lnTo>
                    <a:pt x="6351" y="224"/>
                  </a:lnTo>
                  <a:lnTo>
                    <a:pt x="4982" y="88"/>
                  </a:lnTo>
                  <a:lnTo>
                    <a:pt x="3338" y="176"/>
                  </a:lnTo>
                  <a:lnTo>
                    <a:pt x="1693" y="314"/>
                  </a:lnTo>
                  <a:lnTo>
                    <a:pt x="564" y="44"/>
                  </a:lnTo>
                  <a:lnTo>
                    <a:pt x="0" y="0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