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solidFill>
              <a:srgbClr val="c0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7200" y="357120"/>
              <a:ext cx="8229960" cy="6182280"/>
              <a:chOff x="457200" y="357120"/>
              <a:chExt cx="8229960" cy="6182280"/>
            </a:xfrm>
          </p:grpSpPr>
          <p:sp>
            <p:nvSpPr>
              <p:cNvPr id="3" name=""/>
              <p:cNvSpPr/>
              <p:nvPr/>
            </p:nvSpPr>
            <p:spPr>
              <a:xfrm>
                <a:off x="457200" y="361800"/>
                <a:ext cx="8229960" cy="162360"/>
              </a:xfrm>
              <a:custGeom>
                <a:avLst/>
                <a:gdLst/>
                <a:ahLst/>
                <a:rect l="0" t="0" r="r" b="b"/>
                <a:pathLst>
                  <a:path w="22861" h="451">
                    <a:moveTo>
                      <a:pt x="0" y="0"/>
                    </a:moveTo>
                    <a:lnTo>
                      <a:pt x="22861" y="14"/>
                    </a:lnTo>
                    <a:lnTo>
                      <a:pt x="22458" y="451"/>
                    </a:lnTo>
                    <a:lnTo>
                      <a:pt x="389" y="4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457200" y="366840"/>
                <a:ext cx="135360" cy="6172560"/>
                <a:chOff x="457200" y="366840"/>
                <a:chExt cx="135360" cy="617256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457200" y="366840"/>
                  <a:ext cx="135360" cy="1448280"/>
                </a:xfrm>
                <a:custGeom>
                  <a:avLst/>
                  <a:gdLst/>
                  <a:ahLst/>
                  <a:rect l="0" t="0" r="r" b="b"/>
                  <a:pathLst>
                    <a:path w="376" h="4023">
                      <a:moveTo>
                        <a:pt x="0" y="0"/>
                      </a:moveTo>
                      <a:lnTo>
                        <a:pt x="376" y="423"/>
                      </a:lnTo>
                      <a:lnTo>
                        <a:pt x="376" y="3600"/>
                      </a:lnTo>
                      <a:lnTo>
                        <a:pt x="0" y="40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457200" y="1343160"/>
                  <a:ext cx="124200" cy="5196240"/>
                </a:xfrm>
                <a:custGeom>
                  <a:avLst/>
                  <a:gdLst/>
                  <a:ahLst/>
                  <a:rect l="0" t="0" r="r" b="b"/>
                  <a:pathLst>
                    <a:path w="345" h="14434">
                      <a:moveTo>
                        <a:pt x="0" y="0"/>
                      </a:moveTo>
                      <a:lnTo>
                        <a:pt x="345" y="473"/>
                      </a:lnTo>
                      <a:lnTo>
                        <a:pt x="345" y="13960"/>
                      </a:lnTo>
                      <a:lnTo>
                        <a:pt x="0" y="144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8550360" y="357120"/>
                <a:ext cx="136800" cy="6167880"/>
                <a:chOff x="8550360" y="357120"/>
                <a:chExt cx="136800" cy="61678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550360" y="357120"/>
                  <a:ext cx="136800" cy="1443240"/>
                </a:xfrm>
                <a:custGeom>
                  <a:avLst/>
                  <a:gdLst/>
                  <a:ahLst/>
                  <a:rect l="0" t="0" r="r" b="b"/>
                  <a:pathLst>
                    <a:path w="380" h="4009">
                      <a:moveTo>
                        <a:pt x="380" y="0"/>
                      </a:moveTo>
                      <a:lnTo>
                        <a:pt x="0" y="410"/>
                      </a:lnTo>
                      <a:lnTo>
                        <a:pt x="0" y="3586"/>
                      </a:lnTo>
                      <a:lnTo>
                        <a:pt x="380" y="4009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550360" y="1247760"/>
                  <a:ext cx="132120" cy="5277240"/>
                </a:xfrm>
                <a:custGeom>
                  <a:avLst/>
                  <a:gdLst/>
                  <a:ahLst/>
                  <a:rect l="0" t="0" r="r" b="b"/>
                  <a:pathLst>
                    <a:path w="367" h="14659">
                      <a:moveTo>
                        <a:pt x="367" y="0"/>
                      </a:moveTo>
                      <a:lnTo>
                        <a:pt x="13" y="480"/>
                      </a:lnTo>
                      <a:lnTo>
                        <a:pt x="0" y="14258"/>
                      </a:lnTo>
                      <a:lnTo>
                        <a:pt x="367" y="14659"/>
                      </a:lnTo>
                      <a:lnTo>
                        <a:pt x="367" y="0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457200" y="6386400"/>
                <a:ext cx="8229960" cy="138600"/>
              </a:xfrm>
              <a:custGeom>
                <a:avLst/>
                <a:gdLst/>
                <a:ahLst/>
                <a:rect l="0" t="0" r="r" b="b"/>
                <a:pathLst>
                  <a:path w="22861" h="385">
                    <a:moveTo>
                      <a:pt x="0" y="385"/>
                    </a:moveTo>
                    <a:lnTo>
                      <a:pt x="22861" y="385"/>
                    </a:lnTo>
                    <a:lnTo>
                      <a:pt x="22470" y="0"/>
                    </a:lnTo>
                    <a:lnTo>
                      <a:pt x="390" y="0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92200" y="523800"/>
                <a:ext cx="7958160" cy="5857920"/>
              </a:xfrm>
              <a:prstGeom prst="rect">
                <a:avLst/>
              </a:prstGeom>
              <a:solidFill>
                <a:srgbClr val="0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71400" y="61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714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