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1520" y="101520"/>
            <a:ext cx="8940960" cy="6654960"/>
            <a:chOff x="101520" y="101520"/>
            <a:chExt cx="8940960" cy="6654960"/>
          </a:xfrm>
        </p:grpSpPr>
        <p:sp>
          <p:nvSpPr>
            <p:cNvPr id="1" name=""/>
            <p:cNvSpPr/>
            <p:nvPr/>
          </p:nvSpPr>
          <p:spPr>
            <a:xfrm>
              <a:off x="101520" y="101520"/>
              <a:ext cx="8940960" cy="665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cc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360" y="219240"/>
              <a:ext cx="8694720" cy="641988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98440" y="291960"/>
              <a:ext cx="8548560" cy="6273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cc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25520" y="425520"/>
              <a:ext cx="8292960" cy="600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