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31400" cy="6845400"/>
            <a:chOff x="0" y="648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6480"/>
              <a:ext cx="9131400" cy="684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61880" y="336600"/>
              <a:ext cx="8225280" cy="6183720"/>
              <a:chOff x="461880" y="336600"/>
              <a:chExt cx="8225280" cy="6183720"/>
            </a:xfrm>
          </p:grpSpPr>
          <p:sp>
            <p:nvSpPr>
              <p:cNvPr id="3" name=""/>
              <p:cNvSpPr/>
              <p:nvPr/>
            </p:nvSpPr>
            <p:spPr>
              <a:xfrm>
                <a:off x="461880" y="336600"/>
                <a:ext cx="8225280" cy="167040"/>
              </a:xfrm>
              <a:custGeom>
                <a:avLst/>
                <a:gdLst/>
                <a:ahLst/>
                <a:rect l="0" t="0" r="r" b="b"/>
                <a:pathLst>
                  <a:path w="22848" h="464">
                    <a:moveTo>
                      <a:pt x="0" y="4"/>
                    </a:moveTo>
                    <a:lnTo>
                      <a:pt x="22848" y="0"/>
                    </a:lnTo>
                    <a:lnTo>
                      <a:pt x="22438" y="464"/>
                    </a:lnTo>
                    <a:lnTo>
                      <a:pt x="361" y="45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5120" y="347760"/>
                <a:ext cx="127440" cy="6172560"/>
              </a:xfrm>
              <a:custGeom>
                <a:avLst/>
                <a:gdLst/>
                <a:ahLst/>
                <a:rect l="0" t="0" r="r" b="b"/>
                <a:pathLst>
                  <a:path w="354" h="17146">
                    <a:moveTo>
                      <a:pt x="0" y="0"/>
                    </a:moveTo>
                    <a:lnTo>
                      <a:pt x="350" y="414"/>
                    </a:lnTo>
                    <a:lnTo>
                      <a:pt x="354" y="16744"/>
                    </a:lnTo>
                    <a:lnTo>
                      <a:pt x="0" y="171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537400" y="339840"/>
                <a:ext cx="149760" cy="6175800"/>
              </a:xfrm>
              <a:custGeom>
                <a:avLst/>
                <a:gdLst/>
                <a:ahLst/>
                <a:rect l="0" t="0" r="r" b="b"/>
                <a:pathLst>
                  <a:path w="416" h="17155">
                    <a:moveTo>
                      <a:pt x="416" y="0"/>
                    </a:moveTo>
                    <a:lnTo>
                      <a:pt x="0" y="445"/>
                    </a:lnTo>
                    <a:lnTo>
                      <a:pt x="0" y="16736"/>
                    </a:lnTo>
                    <a:lnTo>
                      <a:pt x="416" y="17155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5120" y="6367320"/>
                <a:ext cx="8222040" cy="152640"/>
              </a:xfrm>
              <a:custGeom>
                <a:avLst/>
                <a:gdLst/>
                <a:ahLst/>
                <a:rect l="0" t="0" r="r" b="b"/>
                <a:pathLst>
                  <a:path w="22839" h="424">
                    <a:moveTo>
                      <a:pt x="0" y="424"/>
                    </a:moveTo>
                    <a:lnTo>
                      <a:pt x="22839" y="419"/>
                    </a:lnTo>
                    <a:lnTo>
                      <a:pt x="22421" y="0"/>
                    </a:lnTo>
                    <a:lnTo>
                      <a:pt x="352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95440" y="501480"/>
                <a:ext cx="7943760" cy="5870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