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400" cy="6845400"/>
            <a:chOff x="0" y="0"/>
            <a:chExt cx="9131400" cy="68454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31400" cy="819000"/>
              <a:chOff x="0" y="0"/>
              <a:chExt cx="9131400" cy="819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31400" cy="819000"/>
              </a:xfrm>
              <a:prstGeom prst="rect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0" y="209520"/>
                <a:ext cx="8761680" cy="464040"/>
                <a:chOff x="0" y="209520"/>
                <a:chExt cx="8761680" cy="464040"/>
              </a:xfrm>
            </p:grpSpPr>
            <p:grpSp>
              <p:nvGrpSpPr>
                <p:cNvPr id="4" name=""/>
                <p:cNvGrpSpPr/>
                <p:nvPr/>
              </p:nvGrpSpPr>
              <p:grpSpPr>
                <a:xfrm>
                  <a:off x="0" y="647640"/>
                  <a:ext cx="6934320" cy="25560"/>
                  <a:chOff x="0" y="647640"/>
                  <a:chExt cx="6934320" cy="2556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0" y="647640"/>
                    <a:ext cx="5935680" cy="25560"/>
                  </a:xfrm>
                  <a:prstGeom prst="rect">
                    <a:avLst/>
                  </a:pr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5924520" y="647640"/>
                    <a:ext cx="1009800" cy="25560"/>
                  </a:xfrm>
                  <a:prstGeom prst="rect">
                    <a:avLst/>
                  </a:pr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" name=""/>
                <p:cNvGrpSpPr/>
                <p:nvPr/>
              </p:nvGrpSpPr>
              <p:grpSpPr>
                <a:xfrm>
                  <a:off x="6880320" y="209520"/>
                  <a:ext cx="1881360" cy="464040"/>
                  <a:chOff x="6880320" y="209520"/>
                  <a:chExt cx="1881360" cy="464040"/>
                </a:xfrm>
              </p:grpSpPr>
              <p:sp>
                <p:nvSpPr>
                  <p:cNvPr id="8" name=""/>
                  <p:cNvSpPr/>
                  <p:nvPr/>
                </p:nvSpPr>
                <p:spPr>
                  <a:xfrm>
                    <a:off x="6962760" y="209520"/>
                    <a:ext cx="1798920" cy="464040"/>
                  </a:xfrm>
                  <a:custGeom>
                    <a:avLst/>
                    <a:gdLst/>
                    <a:ahLst/>
                    <a:rect l="0" t="0" r="r" b="b"/>
                    <a:pathLst>
                      <a:path w="4997" h="1289">
                        <a:moveTo>
                          <a:pt x="0" y="211"/>
                        </a:moveTo>
                        <a:lnTo>
                          <a:pt x="189" y="154"/>
                        </a:lnTo>
                        <a:lnTo>
                          <a:pt x="970" y="702"/>
                        </a:lnTo>
                        <a:lnTo>
                          <a:pt x="1023" y="733"/>
                        </a:lnTo>
                        <a:lnTo>
                          <a:pt x="1067" y="746"/>
                        </a:lnTo>
                        <a:lnTo>
                          <a:pt x="1102" y="750"/>
                        </a:lnTo>
                        <a:lnTo>
                          <a:pt x="1133" y="750"/>
                        </a:lnTo>
                        <a:lnTo>
                          <a:pt x="1168" y="750"/>
                        </a:lnTo>
                        <a:lnTo>
                          <a:pt x="1256" y="728"/>
                        </a:lnTo>
                        <a:lnTo>
                          <a:pt x="3974" y="79"/>
                        </a:lnTo>
                        <a:lnTo>
                          <a:pt x="4115" y="52"/>
                        </a:lnTo>
                        <a:lnTo>
                          <a:pt x="4238" y="26"/>
                        </a:lnTo>
                        <a:lnTo>
                          <a:pt x="4318" y="17"/>
                        </a:lnTo>
                        <a:lnTo>
                          <a:pt x="4423" y="8"/>
                        </a:lnTo>
                        <a:lnTo>
                          <a:pt x="4512" y="0"/>
                        </a:lnTo>
                        <a:lnTo>
                          <a:pt x="4595" y="8"/>
                        </a:lnTo>
                        <a:lnTo>
                          <a:pt x="4719" y="26"/>
                        </a:lnTo>
                        <a:lnTo>
                          <a:pt x="4798" y="48"/>
                        </a:lnTo>
                        <a:lnTo>
                          <a:pt x="4873" y="83"/>
                        </a:lnTo>
                        <a:lnTo>
                          <a:pt x="4957" y="123"/>
                        </a:lnTo>
                        <a:lnTo>
                          <a:pt x="4997" y="207"/>
                        </a:lnTo>
                        <a:lnTo>
                          <a:pt x="4970" y="277"/>
                        </a:lnTo>
                        <a:lnTo>
                          <a:pt x="4917" y="336"/>
                        </a:lnTo>
                        <a:lnTo>
                          <a:pt x="4851" y="389"/>
                        </a:lnTo>
                        <a:lnTo>
                          <a:pt x="4732" y="459"/>
                        </a:lnTo>
                        <a:lnTo>
                          <a:pt x="4582" y="521"/>
                        </a:lnTo>
                        <a:lnTo>
                          <a:pt x="4494" y="556"/>
                        </a:lnTo>
                        <a:lnTo>
                          <a:pt x="4393" y="587"/>
                        </a:lnTo>
                        <a:lnTo>
                          <a:pt x="4212" y="631"/>
                        </a:lnTo>
                        <a:lnTo>
                          <a:pt x="3960" y="688"/>
                        </a:lnTo>
                        <a:lnTo>
                          <a:pt x="1825" y="1170"/>
                        </a:lnTo>
                        <a:lnTo>
                          <a:pt x="1609" y="1210"/>
                        </a:lnTo>
                        <a:lnTo>
                          <a:pt x="1464" y="1236"/>
                        </a:lnTo>
                        <a:lnTo>
                          <a:pt x="1040" y="1276"/>
                        </a:lnTo>
                        <a:lnTo>
                          <a:pt x="714" y="1289"/>
                        </a:lnTo>
                        <a:lnTo>
                          <a:pt x="366" y="1280"/>
                        </a:lnTo>
                        <a:lnTo>
                          <a:pt x="264" y="1249"/>
                        </a:lnTo>
                        <a:lnTo>
                          <a:pt x="291" y="1232"/>
                        </a:lnTo>
                        <a:lnTo>
                          <a:pt x="273" y="1214"/>
                        </a:lnTo>
                        <a:lnTo>
                          <a:pt x="255" y="1214"/>
                        </a:lnTo>
                        <a:lnTo>
                          <a:pt x="233" y="1197"/>
                        </a:lnTo>
                        <a:lnTo>
                          <a:pt x="233" y="1179"/>
                        </a:lnTo>
                        <a:lnTo>
                          <a:pt x="246" y="1157"/>
                        </a:lnTo>
                        <a:lnTo>
                          <a:pt x="273" y="1135"/>
                        </a:lnTo>
                        <a:lnTo>
                          <a:pt x="343" y="1082"/>
                        </a:lnTo>
                        <a:lnTo>
                          <a:pt x="414" y="1051"/>
                        </a:lnTo>
                        <a:lnTo>
                          <a:pt x="436" y="1042"/>
                        </a:lnTo>
                        <a:lnTo>
                          <a:pt x="0" y="211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"/>
                  <p:cNvSpPr/>
                  <p:nvPr/>
                </p:nvSpPr>
                <p:spPr>
                  <a:xfrm>
                    <a:off x="7904160" y="487440"/>
                    <a:ext cx="368640" cy="127440"/>
                  </a:xfrm>
                  <a:custGeom>
                    <a:avLst/>
                    <a:gdLst/>
                    <a:ahLst/>
                    <a:rect l="0" t="0" r="r" b="b"/>
                    <a:pathLst>
                      <a:path w="1024" h="354">
                        <a:moveTo>
                          <a:pt x="0" y="217"/>
                        </a:moveTo>
                        <a:lnTo>
                          <a:pt x="860" y="354"/>
                        </a:lnTo>
                        <a:lnTo>
                          <a:pt x="1024" y="266"/>
                        </a:lnTo>
                        <a:lnTo>
                          <a:pt x="931" y="0"/>
                        </a:lnTo>
                        <a:lnTo>
                          <a:pt x="0" y="217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" name=""/>
                  <p:cNvSpPr/>
                  <p:nvPr/>
                </p:nvSpPr>
                <p:spPr>
                  <a:xfrm>
                    <a:off x="6880320" y="561960"/>
                    <a:ext cx="373320" cy="49680"/>
                  </a:xfrm>
                  <a:custGeom>
                    <a:avLst/>
                    <a:gdLst/>
                    <a:ahLst/>
                    <a:rect l="0" t="0" r="r" b="b"/>
                    <a:pathLst>
                      <a:path w="1037" h="138">
                        <a:moveTo>
                          <a:pt x="1037" y="60"/>
                        </a:moveTo>
                        <a:lnTo>
                          <a:pt x="1028" y="67"/>
                        </a:lnTo>
                        <a:lnTo>
                          <a:pt x="1024" y="74"/>
                        </a:lnTo>
                        <a:lnTo>
                          <a:pt x="1007" y="85"/>
                        </a:lnTo>
                        <a:lnTo>
                          <a:pt x="981" y="100"/>
                        </a:lnTo>
                        <a:lnTo>
                          <a:pt x="938" y="116"/>
                        </a:lnTo>
                        <a:lnTo>
                          <a:pt x="891" y="123"/>
                        </a:lnTo>
                        <a:lnTo>
                          <a:pt x="813" y="135"/>
                        </a:lnTo>
                        <a:lnTo>
                          <a:pt x="723" y="138"/>
                        </a:lnTo>
                        <a:lnTo>
                          <a:pt x="645" y="138"/>
                        </a:lnTo>
                        <a:lnTo>
                          <a:pt x="611" y="135"/>
                        </a:lnTo>
                        <a:lnTo>
                          <a:pt x="529" y="127"/>
                        </a:lnTo>
                        <a:lnTo>
                          <a:pt x="0" y="45"/>
                        </a:lnTo>
                        <a:lnTo>
                          <a:pt x="25" y="37"/>
                        </a:lnTo>
                        <a:lnTo>
                          <a:pt x="55" y="25"/>
                        </a:lnTo>
                        <a:lnTo>
                          <a:pt x="90" y="18"/>
                        </a:lnTo>
                        <a:lnTo>
                          <a:pt x="154" y="3"/>
                        </a:lnTo>
                        <a:lnTo>
                          <a:pt x="223" y="0"/>
                        </a:lnTo>
                        <a:lnTo>
                          <a:pt x="1037" y="6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4680" bIns="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7054920" y="307800"/>
                    <a:ext cx="811440" cy="174960"/>
                  </a:xfrm>
                  <a:custGeom>
                    <a:avLst/>
                    <a:gdLst/>
                    <a:ahLst/>
                    <a:rect l="0" t="0" r="r" b="b"/>
                    <a:pathLst>
                      <a:path w="2254" h="486">
                        <a:moveTo>
                          <a:pt x="2254" y="318"/>
                        </a:moveTo>
                        <a:lnTo>
                          <a:pt x="202" y="0"/>
                        </a:lnTo>
                        <a:lnTo>
                          <a:pt x="0" y="61"/>
                        </a:lnTo>
                        <a:lnTo>
                          <a:pt x="811" y="296"/>
                        </a:lnTo>
                        <a:lnTo>
                          <a:pt x="1288" y="486"/>
                        </a:lnTo>
                        <a:lnTo>
                          <a:pt x="2254" y="318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" name=""/>
            <p:cNvGrpSpPr/>
            <p:nvPr/>
          </p:nvGrpSpPr>
          <p:grpSpPr>
            <a:xfrm>
              <a:off x="0" y="4619520"/>
              <a:ext cx="9131400" cy="2225880"/>
              <a:chOff x="0" y="4619520"/>
              <a:chExt cx="9131400" cy="2225880"/>
            </a:xfrm>
          </p:grpSpPr>
          <p:sp>
            <p:nvSpPr>
              <p:cNvPr id="13" name=""/>
              <p:cNvSpPr/>
              <p:nvPr/>
            </p:nvSpPr>
            <p:spPr>
              <a:xfrm>
                <a:off x="0" y="6400800"/>
                <a:ext cx="9131400" cy="444600"/>
              </a:xfrm>
              <a:prstGeom prst="rect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" name=""/>
              <p:cNvGrpSpPr/>
              <p:nvPr/>
            </p:nvGrpSpPr>
            <p:grpSpPr>
              <a:xfrm>
                <a:off x="112680" y="4619520"/>
                <a:ext cx="1103760" cy="1826280"/>
                <a:chOff x="112680" y="4619520"/>
                <a:chExt cx="1103760" cy="182628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611280" y="6262560"/>
                  <a:ext cx="32040" cy="32040"/>
                </a:xfrm>
                <a:custGeom>
                  <a:avLst/>
                  <a:gdLst/>
                  <a:ahLst/>
                  <a:rect l="0" t="0" r="r" b="b"/>
                  <a:pathLst>
                    <a:path w="89" h="89">
                      <a:moveTo>
                        <a:pt x="0" y="89"/>
                      </a:moveTo>
                      <a:lnTo>
                        <a:pt x="0" y="0"/>
                      </a:lnTo>
                      <a:lnTo>
                        <a:pt x="89" y="0"/>
                      </a:lnTo>
                      <a:lnTo>
                        <a:pt x="89" y="89"/>
                      </a:lnTo>
                      <a:lnTo>
                        <a:pt x="0" y="89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657360" y="6262560"/>
                  <a:ext cx="33840" cy="32040"/>
                </a:xfrm>
                <a:custGeom>
                  <a:avLst/>
                  <a:gdLst/>
                  <a:ahLst/>
                  <a:rect l="0" t="0" r="r" b="b"/>
                  <a:pathLst>
                    <a:path w="94" h="89">
                      <a:moveTo>
                        <a:pt x="0" y="89"/>
                      </a:moveTo>
                      <a:lnTo>
                        <a:pt x="0" y="0"/>
                      </a:lnTo>
                      <a:lnTo>
                        <a:pt x="94" y="0"/>
                      </a:lnTo>
                      <a:lnTo>
                        <a:pt x="94" y="89"/>
                      </a:lnTo>
                      <a:lnTo>
                        <a:pt x="0" y="89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706320" y="6262560"/>
                  <a:ext cx="32040" cy="32040"/>
                </a:xfrm>
                <a:custGeom>
                  <a:avLst/>
                  <a:gdLst/>
                  <a:ahLst/>
                  <a:rect l="0" t="0" r="r" b="b"/>
                  <a:pathLst>
                    <a:path w="89" h="89">
                      <a:moveTo>
                        <a:pt x="0" y="89"/>
                      </a:moveTo>
                      <a:lnTo>
                        <a:pt x="0" y="0"/>
                      </a:lnTo>
                      <a:lnTo>
                        <a:pt x="89" y="0"/>
                      </a:lnTo>
                      <a:lnTo>
                        <a:pt x="89" y="89"/>
                      </a:lnTo>
                      <a:lnTo>
                        <a:pt x="0" y="89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755640" y="6262560"/>
                  <a:ext cx="28800" cy="32040"/>
                </a:xfrm>
                <a:custGeom>
                  <a:avLst/>
                  <a:gdLst/>
                  <a:ahLst/>
                  <a:rect l="0" t="0" r="r" b="b"/>
                  <a:pathLst>
                    <a:path w="80" h="89">
                      <a:moveTo>
                        <a:pt x="0" y="89"/>
                      </a:moveTo>
                      <a:lnTo>
                        <a:pt x="0" y="0"/>
                      </a:lnTo>
                      <a:lnTo>
                        <a:pt x="80" y="0"/>
                      </a:lnTo>
                      <a:lnTo>
                        <a:pt x="80" y="89"/>
                      </a:lnTo>
                      <a:lnTo>
                        <a:pt x="0" y="89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800280" y="6262560"/>
                  <a:ext cx="30600" cy="32040"/>
                </a:xfrm>
                <a:custGeom>
                  <a:avLst/>
                  <a:gdLst/>
                  <a:ahLst/>
                  <a:rect l="0" t="0" r="r" b="b"/>
                  <a:pathLst>
                    <a:path w="85" h="89">
                      <a:moveTo>
                        <a:pt x="0" y="89"/>
                      </a:moveTo>
                      <a:lnTo>
                        <a:pt x="0" y="0"/>
                      </a:lnTo>
                      <a:lnTo>
                        <a:pt x="85" y="0"/>
                      </a:lnTo>
                      <a:lnTo>
                        <a:pt x="85" y="89"/>
                      </a:lnTo>
                      <a:lnTo>
                        <a:pt x="0" y="89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847800" y="6262560"/>
                  <a:ext cx="32040" cy="32040"/>
                </a:xfrm>
                <a:custGeom>
                  <a:avLst/>
                  <a:gdLst/>
                  <a:ahLst/>
                  <a:rect l="0" t="0" r="r" b="b"/>
                  <a:pathLst>
                    <a:path w="89" h="89">
                      <a:moveTo>
                        <a:pt x="0" y="89"/>
                      </a:moveTo>
                      <a:lnTo>
                        <a:pt x="0" y="0"/>
                      </a:lnTo>
                      <a:lnTo>
                        <a:pt x="89" y="0"/>
                      </a:lnTo>
                      <a:lnTo>
                        <a:pt x="89" y="89"/>
                      </a:lnTo>
                      <a:lnTo>
                        <a:pt x="0" y="89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895320" y="6262560"/>
                  <a:ext cx="30600" cy="32040"/>
                </a:xfrm>
                <a:custGeom>
                  <a:avLst/>
                  <a:gdLst/>
                  <a:ahLst/>
                  <a:rect l="0" t="0" r="r" b="b"/>
                  <a:pathLst>
                    <a:path w="85" h="89">
                      <a:moveTo>
                        <a:pt x="0" y="89"/>
                      </a:moveTo>
                      <a:lnTo>
                        <a:pt x="0" y="0"/>
                      </a:lnTo>
                      <a:lnTo>
                        <a:pt x="85" y="0"/>
                      </a:lnTo>
                      <a:lnTo>
                        <a:pt x="85" y="89"/>
                      </a:lnTo>
                      <a:lnTo>
                        <a:pt x="0" y="89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942840" y="6262560"/>
                  <a:ext cx="33840" cy="32040"/>
                </a:xfrm>
                <a:custGeom>
                  <a:avLst/>
                  <a:gdLst/>
                  <a:ahLst/>
                  <a:rect l="0" t="0" r="r" b="b"/>
                  <a:pathLst>
                    <a:path w="94" h="89">
                      <a:moveTo>
                        <a:pt x="0" y="89"/>
                      </a:moveTo>
                      <a:lnTo>
                        <a:pt x="0" y="0"/>
                      </a:lnTo>
                      <a:lnTo>
                        <a:pt x="94" y="0"/>
                      </a:lnTo>
                      <a:lnTo>
                        <a:pt x="94" y="89"/>
                      </a:lnTo>
                      <a:lnTo>
                        <a:pt x="0" y="89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306360" y="5410080"/>
                  <a:ext cx="59040" cy="535320"/>
                </a:xfrm>
                <a:custGeom>
                  <a:avLst/>
                  <a:gdLst/>
                  <a:ahLst/>
                  <a:rect l="0" t="0" r="r" b="b"/>
                  <a:pathLst>
                    <a:path w="164" h="1487">
                      <a:moveTo>
                        <a:pt x="92" y="158"/>
                      </a:moveTo>
                      <a:lnTo>
                        <a:pt x="92" y="252"/>
                      </a:lnTo>
                      <a:lnTo>
                        <a:pt x="164" y="1487"/>
                      </a:lnTo>
                      <a:lnTo>
                        <a:pt x="138" y="1456"/>
                      </a:lnTo>
                      <a:lnTo>
                        <a:pt x="118" y="1383"/>
                      </a:lnTo>
                      <a:lnTo>
                        <a:pt x="62" y="1144"/>
                      </a:lnTo>
                      <a:lnTo>
                        <a:pt x="25" y="943"/>
                      </a:lnTo>
                      <a:lnTo>
                        <a:pt x="11" y="823"/>
                      </a:lnTo>
                      <a:lnTo>
                        <a:pt x="2" y="701"/>
                      </a:lnTo>
                      <a:lnTo>
                        <a:pt x="0" y="543"/>
                      </a:lnTo>
                      <a:lnTo>
                        <a:pt x="6" y="385"/>
                      </a:lnTo>
                      <a:lnTo>
                        <a:pt x="25" y="210"/>
                      </a:lnTo>
                      <a:lnTo>
                        <a:pt x="41" y="80"/>
                      </a:lnTo>
                      <a:lnTo>
                        <a:pt x="55" y="7"/>
                      </a:lnTo>
                      <a:lnTo>
                        <a:pt x="57" y="0"/>
                      </a:lnTo>
                      <a:lnTo>
                        <a:pt x="92" y="158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360360" y="6199200"/>
                  <a:ext cx="856080" cy="246600"/>
                </a:xfrm>
                <a:custGeom>
                  <a:avLst/>
                  <a:gdLst/>
                  <a:ahLst/>
                  <a:rect l="0" t="0" r="r" b="b"/>
                  <a:pathLst>
                    <a:path w="2378" h="685">
                      <a:moveTo>
                        <a:pt x="17" y="81"/>
                      </a:moveTo>
                      <a:lnTo>
                        <a:pt x="251" y="63"/>
                      </a:lnTo>
                      <a:lnTo>
                        <a:pt x="2236" y="2"/>
                      </a:lnTo>
                      <a:lnTo>
                        <a:pt x="2287" y="2"/>
                      </a:lnTo>
                      <a:lnTo>
                        <a:pt x="2345" y="0"/>
                      </a:lnTo>
                      <a:lnTo>
                        <a:pt x="2361" y="14"/>
                      </a:lnTo>
                      <a:lnTo>
                        <a:pt x="2373" y="51"/>
                      </a:lnTo>
                      <a:lnTo>
                        <a:pt x="2378" y="84"/>
                      </a:lnTo>
                      <a:lnTo>
                        <a:pt x="2376" y="119"/>
                      </a:lnTo>
                      <a:lnTo>
                        <a:pt x="2366" y="154"/>
                      </a:lnTo>
                      <a:lnTo>
                        <a:pt x="2353" y="185"/>
                      </a:lnTo>
                      <a:lnTo>
                        <a:pt x="2333" y="216"/>
                      </a:lnTo>
                      <a:lnTo>
                        <a:pt x="2307" y="249"/>
                      </a:lnTo>
                      <a:lnTo>
                        <a:pt x="2272" y="286"/>
                      </a:lnTo>
                      <a:lnTo>
                        <a:pt x="2236" y="317"/>
                      </a:lnTo>
                      <a:lnTo>
                        <a:pt x="2155" y="382"/>
                      </a:lnTo>
                      <a:lnTo>
                        <a:pt x="2119" y="412"/>
                      </a:lnTo>
                      <a:lnTo>
                        <a:pt x="2091" y="443"/>
                      </a:lnTo>
                      <a:lnTo>
                        <a:pt x="2061" y="480"/>
                      </a:lnTo>
                      <a:lnTo>
                        <a:pt x="2033" y="521"/>
                      </a:lnTo>
                      <a:lnTo>
                        <a:pt x="2022" y="533"/>
                      </a:lnTo>
                      <a:lnTo>
                        <a:pt x="1951" y="559"/>
                      </a:lnTo>
                      <a:lnTo>
                        <a:pt x="1918" y="559"/>
                      </a:lnTo>
                      <a:lnTo>
                        <a:pt x="1734" y="570"/>
                      </a:lnTo>
                      <a:lnTo>
                        <a:pt x="1617" y="582"/>
                      </a:lnTo>
                      <a:lnTo>
                        <a:pt x="1429" y="610"/>
                      </a:lnTo>
                      <a:lnTo>
                        <a:pt x="1091" y="671"/>
                      </a:lnTo>
                      <a:lnTo>
                        <a:pt x="1012" y="680"/>
                      </a:lnTo>
                      <a:lnTo>
                        <a:pt x="933" y="685"/>
                      </a:lnTo>
                      <a:lnTo>
                        <a:pt x="855" y="685"/>
                      </a:lnTo>
                      <a:lnTo>
                        <a:pt x="801" y="685"/>
                      </a:lnTo>
                      <a:lnTo>
                        <a:pt x="728" y="680"/>
                      </a:lnTo>
                      <a:lnTo>
                        <a:pt x="603" y="666"/>
                      </a:lnTo>
                      <a:lnTo>
                        <a:pt x="554" y="657"/>
                      </a:lnTo>
                      <a:lnTo>
                        <a:pt x="510" y="648"/>
                      </a:lnTo>
                      <a:lnTo>
                        <a:pt x="470" y="636"/>
                      </a:lnTo>
                      <a:lnTo>
                        <a:pt x="432" y="619"/>
                      </a:lnTo>
                      <a:lnTo>
                        <a:pt x="394" y="603"/>
                      </a:lnTo>
                      <a:lnTo>
                        <a:pt x="360" y="584"/>
                      </a:lnTo>
                      <a:lnTo>
                        <a:pt x="315" y="549"/>
                      </a:lnTo>
                      <a:lnTo>
                        <a:pt x="277" y="511"/>
                      </a:lnTo>
                      <a:lnTo>
                        <a:pt x="88" y="307"/>
                      </a:lnTo>
                      <a:lnTo>
                        <a:pt x="63" y="277"/>
                      </a:lnTo>
                      <a:lnTo>
                        <a:pt x="43" y="244"/>
                      </a:lnTo>
                      <a:lnTo>
                        <a:pt x="22" y="211"/>
                      </a:lnTo>
                      <a:lnTo>
                        <a:pt x="10" y="174"/>
                      </a:lnTo>
                      <a:lnTo>
                        <a:pt x="2" y="145"/>
                      </a:lnTo>
                      <a:lnTo>
                        <a:pt x="0" y="112"/>
                      </a:lnTo>
                      <a:lnTo>
                        <a:pt x="0" y="98"/>
                      </a:lnTo>
                      <a:lnTo>
                        <a:pt x="17" y="81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360360" y="6194520"/>
                  <a:ext cx="565560" cy="159120"/>
                </a:xfrm>
                <a:custGeom>
                  <a:avLst/>
                  <a:gdLst/>
                  <a:ahLst/>
                  <a:rect l="0" t="0" r="r" b="b"/>
                  <a:pathLst>
                    <a:path w="1571" h="442">
                      <a:moveTo>
                        <a:pt x="817" y="442"/>
                      </a:moveTo>
                      <a:lnTo>
                        <a:pt x="769" y="440"/>
                      </a:lnTo>
                      <a:lnTo>
                        <a:pt x="703" y="440"/>
                      </a:lnTo>
                      <a:lnTo>
                        <a:pt x="604" y="440"/>
                      </a:lnTo>
                      <a:lnTo>
                        <a:pt x="507" y="433"/>
                      </a:lnTo>
                      <a:lnTo>
                        <a:pt x="425" y="424"/>
                      </a:lnTo>
                      <a:lnTo>
                        <a:pt x="371" y="417"/>
                      </a:lnTo>
                      <a:lnTo>
                        <a:pt x="330" y="410"/>
                      </a:lnTo>
                      <a:lnTo>
                        <a:pt x="292" y="399"/>
                      </a:lnTo>
                      <a:lnTo>
                        <a:pt x="251" y="385"/>
                      </a:lnTo>
                      <a:lnTo>
                        <a:pt x="213" y="372"/>
                      </a:lnTo>
                      <a:lnTo>
                        <a:pt x="178" y="353"/>
                      </a:lnTo>
                      <a:lnTo>
                        <a:pt x="142" y="337"/>
                      </a:lnTo>
                      <a:lnTo>
                        <a:pt x="101" y="309"/>
                      </a:lnTo>
                      <a:lnTo>
                        <a:pt x="66" y="282"/>
                      </a:lnTo>
                      <a:lnTo>
                        <a:pt x="38" y="250"/>
                      </a:lnTo>
                      <a:lnTo>
                        <a:pt x="17" y="220"/>
                      </a:lnTo>
                      <a:lnTo>
                        <a:pt x="7" y="190"/>
                      </a:lnTo>
                      <a:lnTo>
                        <a:pt x="0" y="158"/>
                      </a:lnTo>
                      <a:lnTo>
                        <a:pt x="2" y="126"/>
                      </a:lnTo>
                      <a:lnTo>
                        <a:pt x="38" y="102"/>
                      </a:lnTo>
                      <a:lnTo>
                        <a:pt x="78" y="93"/>
                      </a:lnTo>
                      <a:lnTo>
                        <a:pt x="117" y="86"/>
                      </a:lnTo>
                      <a:lnTo>
                        <a:pt x="188" y="82"/>
                      </a:lnTo>
                      <a:lnTo>
                        <a:pt x="616" y="61"/>
                      </a:lnTo>
                      <a:lnTo>
                        <a:pt x="662" y="61"/>
                      </a:lnTo>
                      <a:lnTo>
                        <a:pt x="820" y="63"/>
                      </a:lnTo>
                      <a:lnTo>
                        <a:pt x="916" y="61"/>
                      </a:lnTo>
                      <a:lnTo>
                        <a:pt x="1079" y="52"/>
                      </a:lnTo>
                      <a:lnTo>
                        <a:pt x="1112" y="45"/>
                      </a:lnTo>
                      <a:lnTo>
                        <a:pt x="1163" y="29"/>
                      </a:lnTo>
                      <a:lnTo>
                        <a:pt x="1208" y="20"/>
                      </a:lnTo>
                      <a:lnTo>
                        <a:pt x="1246" y="13"/>
                      </a:lnTo>
                      <a:lnTo>
                        <a:pt x="1284" y="9"/>
                      </a:lnTo>
                      <a:lnTo>
                        <a:pt x="1335" y="9"/>
                      </a:lnTo>
                      <a:lnTo>
                        <a:pt x="1571" y="0"/>
                      </a:lnTo>
                      <a:lnTo>
                        <a:pt x="1424" y="54"/>
                      </a:lnTo>
                      <a:lnTo>
                        <a:pt x="1241" y="142"/>
                      </a:lnTo>
                      <a:lnTo>
                        <a:pt x="1158" y="181"/>
                      </a:lnTo>
                      <a:lnTo>
                        <a:pt x="1102" y="213"/>
                      </a:lnTo>
                      <a:lnTo>
                        <a:pt x="1067" y="218"/>
                      </a:lnTo>
                      <a:lnTo>
                        <a:pt x="866" y="236"/>
                      </a:lnTo>
                      <a:lnTo>
                        <a:pt x="797" y="238"/>
                      </a:lnTo>
                      <a:lnTo>
                        <a:pt x="738" y="236"/>
                      </a:lnTo>
                      <a:lnTo>
                        <a:pt x="665" y="231"/>
                      </a:lnTo>
                      <a:lnTo>
                        <a:pt x="631" y="231"/>
                      </a:lnTo>
                      <a:lnTo>
                        <a:pt x="614" y="263"/>
                      </a:lnTo>
                      <a:lnTo>
                        <a:pt x="578" y="275"/>
                      </a:lnTo>
                      <a:lnTo>
                        <a:pt x="540" y="272"/>
                      </a:lnTo>
                      <a:lnTo>
                        <a:pt x="497" y="268"/>
                      </a:lnTo>
                      <a:lnTo>
                        <a:pt x="443" y="259"/>
                      </a:lnTo>
                      <a:lnTo>
                        <a:pt x="408" y="252"/>
                      </a:lnTo>
                      <a:lnTo>
                        <a:pt x="376" y="243"/>
                      </a:lnTo>
                      <a:lnTo>
                        <a:pt x="338" y="227"/>
                      </a:lnTo>
                      <a:lnTo>
                        <a:pt x="305" y="211"/>
                      </a:lnTo>
                      <a:lnTo>
                        <a:pt x="269" y="188"/>
                      </a:lnTo>
                      <a:lnTo>
                        <a:pt x="246" y="218"/>
                      </a:lnTo>
                      <a:lnTo>
                        <a:pt x="246" y="247"/>
                      </a:lnTo>
                      <a:lnTo>
                        <a:pt x="262" y="282"/>
                      </a:lnTo>
                      <a:lnTo>
                        <a:pt x="307" y="309"/>
                      </a:lnTo>
                      <a:lnTo>
                        <a:pt x="346" y="330"/>
                      </a:lnTo>
                      <a:lnTo>
                        <a:pt x="379" y="344"/>
                      </a:lnTo>
                      <a:lnTo>
                        <a:pt x="413" y="360"/>
                      </a:lnTo>
                      <a:lnTo>
                        <a:pt x="448" y="372"/>
                      </a:lnTo>
                      <a:lnTo>
                        <a:pt x="481" y="381"/>
                      </a:lnTo>
                      <a:lnTo>
                        <a:pt x="548" y="397"/>
                      </a:lnTo>
                      <a:lnTo>
                        <a:pt x="588" y="404"/>
                      </a:lnTo>
                      <a:lnTo>
                        <a:pt x="621" y="408"/>
                      </a:lnTo>
                      <a:lnTo>
                        <a:pt x="693" y="415"/>
                      </a:lnTo>
                      <a:lnTo>
                        <a:pt x="761" y="417"/>
                      </a:lnTo>
                      <a:lnTo>
                        <a:pt x="822" y="417"/>
                      </a:lnTo>
                      <a:lnTo>
                        <a:pt x="848" y="417"/>
                      </a:lnTo>
                      <a:lnTo>
                        <a:pt x="817" y="442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1041480" y="6249960"/>
                  <a:ext cx="146520" cy="70200"/>
                </a:xfrm>
                <a:custGeom>
                  <a:avLst/>
                  <a:gdLst/>
                  <a:ahLst/>
                  <a:rect l="0" t="0" r="r" b="b"/>
                  <a:pathLst>
                    <a:path w="407" h="195">
                      <a:moveTo>
                        <a:pt x="0" y="152"/>
                      </a:moveTo>
                      <a:lnTo>
                        <a:pt x="407" y="0"/>
                      </a:lnTo>
                      <a:lnTo>
                        <a:pt x="402" y="35"/>
                      </a:lnTo>
                      <a:lnTo>
                        <a:pt x="4" y="195"/>
                      </a:lnTo>
                      <a:lnTo>
                        <a:pt x="0" y="152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35040" y="6230880"/>
                  <a:ext cx="27360" cy="19440"/>
                </a:xfrm>
                <a:custGeom>
                  <a:avLst/>
                  <a:gdLst/>
                  <a:ahLst/>
                  <a:rect l="0" t="0" r="r" b="b"/>
                  <a:pathLst>
                    <a:path w="76" h="54">
                      <a:moveTo>
                        <a:pt x="31" y="54"/>
                      </a:moveTo>
                      <a:lnTo>
                        <a:pt x="6" y="54"/>
                      </a:lnTo>
                      <a:lnTo>
                        <a:pt x="0" y="25"/>
                      </a:lnTo>
                      <a:lnTo>
                        <a:pt x="29" y="0"/>
                      </a:lnTo>
                      <a:lnTo>
                        <a:pt x="58" y="17"/>
                      </a:lnTo>
                      <a:lnTo>
                        <a:pt x="76" y="31"/>
                      </a:lnTo>
                      <a:lnTo>
                        <a:pt x="31" y="5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577800" y="6064200"/>
                  <a:ext cx="66960" cy="168480"/>
                </a:xfrm>
                <a:custGeom>
                  <a:avLst/>
                  <a:gdLst/>
                  <a:ahLst/>
                  <a:rect l="0" t="0" r="r" b="b"/>
                  <a:pathLst>
                    <a:path w="186" h="468">
                      <a:moveTo>
                        <a:pt x="144" y="468"/>
                      </a:moveTo>
                      <a:lnTo>
                        <a:pt x="0" y="0"/>
                      </a:lnTo>
                      <a:lnTo>
                        <a:pt x="77" y="111"/>
                      </a:lnTo>
                      <a:lnTo>
                        <a:pt x="85" y="127"/>
                      </a:lnTo>
                      <a:lnTo>
                        <a:pt x="90" y="150"/>
                      </a:lnTo>
                      <a:lnTo>
                        <a:pt x="166" y="420"/>
                      </a:lnTo>
                      <a:lnTo>
                        <a:pt x="181" y="420"/>
                      </a:lnTo>
                      <a:lnTo>
                        <a:pt x="186" y="443"/>
                      </a:lnTo>
                      <a:lnTo>
                        <a:pt x="144" y="468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 flipH="1" flipV="1">
                  <a:off x="885960" y="6086520"/>
                  <a:ext cx="6120" cy="76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12680" y="4619520"/>
                  <a:ext cx="698760" cy="1553040"/>
                </a:xfrm>
                <a:custGeom>
                  <a:avLst/>
                  <a:gdLst/>
                  <a:ahLst/>
                  <a:rect l="0" t="0" r="r" b="b"/>
                  <a:pathLst>
                    <a:path w="1941" h="4314">
                      <a:moveTo>
                        <a:pt x="1941" y="4314"/>
                      </a:moveTo>
                      <a:lnTo>
                        <a:pt x="1289" y="2274"/>
                      </a:lnTo>
                      <a:lnTo>
                        <a:pt x="259" y="444"/>
                      </a:lnTo>
                      <a:lnTo>
                        <a:pt x="0" y="0"/>
                      </a:lnTo>
                      <a:lnTo>
                        <a:pt x="1941" y="431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206280" y="4807080"/>
                  <a:ext cx="675000" cy="1268640"/>
                </a:xfrm>
                <a:custGeom>
                  <a:avLst/>
                  <a:gdLst/>
                  <a:ahLst/>
                  <a:rect l="0" t="0" r="r" b="b"/>
                  <a:pathLst>
                    <a:path w="1875" h="3524">
                      <a:moveTo>
                        <a:pt x="1875" y="3524"/>
                      </a:moveTo>
                      <a:lnTo>
                        <a:pt x="920" y="1799"/>
                      </a:lnTo>
                      <a:lnTo>
                        <a:pt x="0" y="0"/>
                      </a:lnTo>
                      <a:lnTo>
                        <a:pt x="1875" y="352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7680" y="5438880"/>
                  <a:ext cx="329040" cy="93960"/>
                </a:xfrm>
                <a:custGeom>
                  <a:avLst/>
                  <a:gdLst/>
                  <a:ahLst/>
                  <a:rect l="0" t="0" r="r" b="b"/>
                  <a:pathLst>
                    <a:path w="914" h="261">
                      <a:moveTo>
                        <a:pt x="508" y="169"/>
                      </a:moveTo>
                      <a:lnTo>
                        <a:pt x="914" y="0"/>
                      </a:lnTo>
                      <a:lnTo>
                        <a:pt x="513" y="179"/>
                      </a:lnTo>
                      <a:lnTo>
                        <a:pt x="0" y="261"/>
                      </a:lnTo>
                      <a:lnTo>
                        <a:pt x="508" y="169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42840" bIns="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98360" y="4797360"/>
                  <a:ext cx="228960" cy="698760"/>
                </a:xfrm>
                <a:custGeom>
                  <a:avLst/>
                  <a:gdLst/>
                  <a:ahLst/>
                  <a:rect l="0" t="0" r="r" b="b"/>
                  <a:pathLst>
                    <a:path w="636" h="1941">
                      <a:moveTo>
                        <a:pt x="636" y="1941"/>
                      </a:moveTo>
                      <a:lnTo>
                        <a:pt x="610" y="1903"/>
                      </a:lnTo>
                      <a:lnTo>
                        <a:pt x="524" y="1751"/>
                      </a:lnTo>
                      <a:lnTo>
                        <a:pt x="420" y="1539"/>
                      </a:lnTo>
                      <a:lnTo>
                        <a:pt x="284" y="1187"/>
                      </a:lnTo>
                      <a:lnTo>
                        <a:pt x="182" y="886"/>
                      </a:lnTo>
                      <a:lnTo>
                        <a:pt x="114" y="642"/>
                      </a:lnTo>
                      <a:lnTo>
                        <a:pt x="22" y="199"/>
                      </a:lnTo>
                      <a:lnTo>
                        <a:pt x="2" y="68"/>
                      </a:lnTo>
                      <a:lnTo>
                        <a:pt x="0" y="33"/>
                      </a:lnTo>
                      <a:lnTo>
                        <a:pt x="0" y="0"/>
                      </a:lnTo>
                      <a:lnTo>
                        <a:pt x="27" y="38"/>
                      </a:lnTo>
                      <a:lnTo>
                        <a:pt x="628" y="1915"/>
                      </a:lnTo>
                      <a:lnTo>
                        <a:pt x="636" y="1938"/>
                      </a:lnTo>
                      <a:lnTo>
                        <a:pt x="636" y="1941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23920" y="4946760"/>
                  <a:ext cx="633600" cy="1144800"/>
                </a:xfrm>
                <a:custGeom>
                  <a:avLst/>
                  <a:gdLst/>
                  <a:ahLst/>
                  <a:rect l="0" t="0" r="r" b="b"/>
                  <a:pathLst>
                    <a:path w="1760" h="3180">
                      <a:moveTo>
                        <a:pt x="1760" y="3082"/>
                      </a:moveTo>
                      <a:lnTo>
                        <a:pt x="1725" y="3049"/>
                      </a:lnTo>
                      <a:lnTo>
                        <a:pt x="1157" y="2390"/>
                      </a:lnTo>
                      <a:lnTo>
                        <a:pt x="975" y="2148"/>
                      </a:lnTo>
                      <a:lnTo>
                        <a:pt x="672" y="1698"/>
                      </a:lnTo>
                      <a:lnTo>
                        <a:pt x="511" y="1423"/>
                      </a:lnTo>
                      <a:lnTo>
                        <a:pt x="413" y="1207"/>
                      </a:lnTo>
                      <a:lnTo>
                        <a:pt x="252" y="829"/>
                      </a:lnTo>
                      <a:lnTo>
                        <a:pt x="112" y="372"/>
                      </a:lnTo>
                      <a:lnTo>
                        <a:pt x="77" y="254"/>
                      </a:lnTo>
                      <a:lnTo>
                        <a:pt x="0" y="0"/>
                      </a:lnTo>
                      <a:lnTo>
                        <a:pt x="35" y="267"/>
                      </a:lnTo>
                      <a:lnTo>
                        <a:pt x="147" y="763"/>
                      </a:lnTo>
                      <a:lnTo>
                        <a:pt x="322" y="1822"/>
                      </a:lnTo>
                      <a:lnTo>
                        <a:pt x="399" y="2142"/>
                      </a:lnTo>
                      <a:lnTo>
                        <a:pt x="455" y="2325"/>
                      </a:lnTo>
                      <a:lnTo>
                        <a:pt x="511" y="2501"/>
                      </a:lnTo>
                      <a:lnTo>
                        <a:pt x="581" y="2664"/>
                      </a:lnTo>
                      <a:lnTo>
                        <a:pt x="609" y="2729"/>
                      </a:lnTo>
                      <a:lnTo>
                        <a:pt x="644" y="2795"/>
                      </a:lnTo>
                      <a:lnTo>
                        <a:pt x="679" y="2853"/>
                      </a:lnTo>
                      <a:lnTo>
                        <a:pt x="715" y="2906"/>
                      </a:lnTo>
                      <a:lnTo>
                        <a:pt x="750" y="2951"/>
                      </a:lnTo>
                      <a:lnTo>
                        <a:pt x="785" y="2991"/>
                      </a:lnTo>
                      <a:lnTo>
                        <a:pt x="820" y="3023"/>
                      </a:lnTo>
                      <a:lnTo>
                        <a:pt x="869" y="3062"/>
                      </a:lnTo>
                      <a:lnTo>
                        <a:pt x="912" y="3102"/>
                      </a:lnTo>
                      <a:lnTo>
                        <a:pt x="954" y="3128"/>
                      </a:lnTo>
                      <a:lnTo>
                        <a:pt x="982" y="3147"/>
                      </a:lnTo>
                      <a:lnTo>
                        <a:pt x="1017" y="3160"/>
                      </a:lnTo>
                      <a:lnTo>
                        <a:pt x="1052" y="3180"/>
                      </a:lnTo>
                      <a:lnTo>
                        <a:pt x="1066" y="3180"/>
                      </a:lnTo>
                      <a:lnTo>
                        <a:pt x="1760" y="3082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9600" y="5567400"/>
                  <a:ext cx="140040" cy="617760"/>
                </a:xfrm>
                <a:custGeom>
                  <a:avLst/>
                  <a:gdLst/>
                  <a:ahLst/>
                  <a:rect l="0" t="0" r="r" b="b"/>
                  <a:pathLst>
                    <a:path w="389" h="1716">
                      <a:moveTo>
                        <a:pt x="389" y="1443"/>
                      </a:moveTo>
                      <a:lnTo>
                        <a:pt x="362" y="1405"/>
                      </a:lnTo>
                      <a:lnTo>
                        <a:pt x="273" y="1265"/>
                      </a:lnTo>
                      <a:lnTo>
                        <a:pt x="212" y="1154"/>
                      </a:lnTo>
                      <a:lnTo>
                        <a:pt x="174" y="1080"/>
                      </a:lnTo>
                      <a:lnTo>
                        <a:pt x="139" y="997"/>
                      </a:lnTo>
                      <a:lnTo>
                        <a:pt x="108" y="909"/>
                      </a:lnTo>
                      <a:lnTo>
                        <a:pt x="83" y="816"/>
                      </a:lnTo>
                      <a:lnTo>
                        <a:pt x="56" y="692"/>
                      </a:lnTo>
                      <a:lnTo>
                        <a:pt x="27" y="538"/>
                      </a:lnTo>
                      <a:lnTo>
                        <a:pt x="17" y="448"/>
                      </a:lnTo>
                      <a:lnTo>
                        <a:pt x="7" y="242"/>
                      </a:lnTo>
                      <a:lnTo>
                        <a:pt x="7" y="0"/>
                      </a:lnTo>
                      <a:lnTo>
                        <a:pt x="4" y="42"/>
                      </a:lnTo>
                      <a:lnTo>
                        <a:pt x="0" y="536"/>
                      </a:lnTo>
                      <a:lnTo>
                        <a:pt x="22" y="938"/>
                      </a:lnTo>
                      <a:lnTo>
                        <a:pt x="41" y="1106"/>
                      </a:lnTo>
                      <a:lnTo>
                        <a:pt x="73" y="1310"/>
                      </a:lnTo>
                      <a:lnTo>
                        <a:pt x="98" y="1422"/>
                      </a:lnTo>
                      <a:lnTo>
                        <a:pt x="147" y="1583"/>
                      </a:lnTo>
                      <a:lnTo>
                        <a:pt x="162" y="1635"/>
                      </a:lnTo>
                      <a:lnTo>
                        <a:pt x="197" y="1716"/>
                      </a:lnTo>
                      <a:lnTo>
                        <a:pt x="195" y="1685"/>
                      </a:lnTo>
                      <a:lnTo>
                        <a:pt x="204" y="1652"/>
                      </a:lnTo>
                      <a:lnTo>
                        <a:pt x="219" y="1630"/>
                      </a:lnTo>
                      <a:lnTo>
                        <a:pt x="389" y="1443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78000" y="6157800"/>
                  <a:ext cx="12960" cy="36720"/>
                </a:xfrm>
                <a:custGeom>
                  <a:avLst/>
                  <a:gdLst/>
                  <a:ahLst/>
                  <a:rect l="0" t="0" r="r" b="b"/>
                  <a:pathLst>
                    <a:path w="36" h="102">
                      <a:moveTo>
                        <a:pt x="26" y="0"/>
                      </a:moveTo>
                      <a:lnTo>
                        <a:pt x="5" y="29"/>
                      </a:lnTo>
                      <a:lnTo>
                        <a:pt x="0" y="59"/>
                      </a:lnTo>
                      <a:lnTo>
                        <a:pt x="9" y="88"/>
                      </a:lnTo>
                      <a:lnTo>
                        <a:pt x="34" y="102"/>
                      </a:lnTo>
                      <a:lnTo>
                        <a:pt x="36" y="102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130320" y="5054760"/>
                  <a:ext cx="149760" cy="1117800"/>
                </a:xfrm>
                <a:custGeom>
                  <a:avLst/>
                  <a:gdLst/>
                  <a:ahLst/>
                  <a:rect l="0" t="0" r="r" b="b"/>
                  <a:pathLst>
                    <a:path w="416" h="3105">
                      <a:moveTo>
                        <a:pt x="142" y="0"/>
                      </a:moveTo>
                      <a:lnTo>
                        <a:pt x="127" y="30"/>
                      </a:lnTo>
                      <a:lnTo>
                        <a:pt x="120" y="64"/>
                      </a:lnTo>
                      <a:lnTo>
                        <a:pt x="27" y="704"/>
                      </a:lnTo>
                      <a:lnTo>
                        <a:pt x="4" y="960"/>
                      </a:lnTo>
                      <a:lnTo>
                        <a:pt x="0" y="1143"/>
                      </a:lnTo>
                      <a:lnTo>
                        <a:pt x="42" y="1898"/>
                      </a:lnTo>
                      <a:lnTo>
                        <a:pt x="71" y="2173"/>
                      </a:lnTo>
                      <a:lnTo>
                        <a:pt x="137" y="2536"/>
                      </a:lnTo>
                      <a:lnTo>
                        <a:pt x="199" y="2787"/>
                      </a:lnTo>
                      <a:lnTo>
                        <a:pt x="224" y="2873"/>
                      </a:lnTo>
                      <a:lnTo>
                        <a:pt x="239" y="2922"/>
                      </a:lnTo>
                      <a:lnTo>
                        <a:pt x="256" y="2965"/>
                      </a:lnTo>
                      <a:lnTo>
                        <a:pt x="276" y="3001"/>
                      </a:lnTo>
                      <a:lnTo>
                        <a:pt x="306" y="3043"/>
                      </a:lnTo>
                      <a:lnTo>
                        <a:pt x="347" y="3079"/>
                      </a:lnTo>
                      <a:lnTo>
                        <a:pt x="381" y="3095"/>
                      </a:lnTo>
                      <a:lnTo>
                        <a:pt x="416" y="3105"/>
                      </a:lnTo>
                      <a:lnTo>
                        <a:pt x="416" y="3067"/>
                      </a:lnTo>
                      <a:lnTo>
                        <a:pt x="219" y="1415"/>
                      </a:lnTo>
                      <a:lnTo>
                        <a:pt x="144" y="28"/>
                      </a:lnTo>
                      <a:lnTo>
                        <a:pt x="142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0320" y="5375160"/>
                  <a:ext cx="194040" cy="748080"/>
                </a:xfrm>
                <a:custGeom>
                  <a:avLst/>
                  <a:gdLst/>
                  <a:ahLst/>
                  <a:rect l="0" t="0" r="r" b="b"/>
                  <a:pathLst>
                    <a:path w="539" h="2078">
                      <a:moveTo>
                        <a:pt x="27" y="70"/>
                      </a:moveTo>
                      <a:lnTo>
                        <a:pt x="34" y="210"/>
                      </a:lnTo>
                      <a:lnTo>
                        <a:pt x="77" y="536"/>
                      </a:lnTo>
                      <a:lnTo>
                        <a:pt x="102" y="664"/>
                      </a:lnTo>
                      <a:lnTo>
                        <a:pt x="157" y="881"/>
                      </a:lnTo>
                      <a:lnTo>
                        <a:pt x="210" y="1048"/>
                      </a:lnTo>
                      <a:lnTo>
                        <a:pt x="317" y="1322"/>
                      </a:lnTo>
                      <a:lnTo>
                        <a:pt x="522" y="1760"/>
                      </a:lnTo>
                      <a:lnTo>
                        <a:pt x="537" y="1795"/>
                      </a:lnTo>
                      <a:lnTo>
                        <a:pt x="539" y="1826"/>
                      </a:lnTo>
                      <a:lnTo>
                        <a:pt x="535" y="1861"/>
                      </a:lnTo>
                      <a:lnTo>
                        <a:pt x="510" y="1894"/>
                      </a:lnTo>
                      <a:lnTo>
                        <a:pt x="475" y="1923"/>
                      </a:lnTo>
                      <a:lnTo>
                        <a:pt x="384" y="1986"/>
                      </a:lnTo>
                      <a:lnTo>
                        <a:pt x="344" y="2017"/>
                      </a:lnTo>
                      <a:lnTo>
                        <a:pt x="304" y="2053"/>
                      </a:lnTo>
                      <a:lnTo>
                        <a:pt x="269" y="2078"/>
                      </a:lnTo>
                      <a:lnTo>
                        <a:pt x="250" y="2038"/>
                      </a:lnTo>
                      <a:lnTo>
                        <a:pt x="192" y="1845"/>
                      </a:lnTo>
                      <a:lnTo>
                        <a:pt x="129" y="1573"/>
                      </a:lnTo>
                      <a:lnTo>
                        <a:pt x="62" y="1171"/>
                      </a:lnTo>
                      <a:lnTo>
                        <a:pt x="9" y="690"/>
                      </a:lnTo>
                      <a:lnTo>
                        <a:pt x="0" y="379"/>
                      </a:lnTo>
                      <a:lnTo>
                        <a:pt x="0" y="254"/>
                      </a:lnTo>
                      <a:lnTo>
                        <a:pt x="22" y="0"/>
                      </a:lnTo>
                      <a:lnTo>
                        <a:pt x="27" y="7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252360" y="6167520"/>
                  <a:ext cx="35280" cy="54360"/>
                </a:xfrm>
                <a:custGeom>
                  <a:avLst/>
                  <a:gdLst/>
                  <a:ahLst/>
                  <a:rect l="0" t="0" r="r" b="b"/>
                  <a:pathLst>
                    <a:path w="98" h="151">
                      <a:moveTo>
                        <a:pt x="80" y="151"/>
                      </a:moveTo>
                      <a:lnTo>
                        <a:pt x="98" y="145"/>
                      </a:lnTo>
                      <a:lnTo>
                        <a:pt x="8" y="2"/>
                      </a:lnTo>
                      <a:lnTo>
                        <a:pt x="0" y="0"/>
                      </a:lnTo>
                      <a:lnTo>
                        <a:pt x="80" y="151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281160" y="6232680"/>
                  <a:ext cx="33840" cy="20880"/>
                </a:xfrm>
                <a:custGeom>
                  <a:avLst/>
                  <a:gdLst/>
                  <a:ahLst/>
                  <a:rect l="0" t="0" r="r" b="b"/>
                  <a:pathLst>
                    <a:path w="94" h="58">
                      <a:moveTo>
                        <a:pt x="61" y="0"/>
                      </a:moveTo>
                      <a:lnTo>
                        <a:pt x="94" y="58"/>
                      </a:lnTo>
                      <a:lnTo>
                        <a:pt x="4" y="20"/>
                      </a:lnTo>
                      <a:lnTo>
                        <a:pt x="0" y="1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93760" y="6215040"/>
                  <a:ext cx="114840" cy="35280"/>
                </a:xfrm>
                <a:custGeom>
                  <a:avLst/>
                  <a:gdLst/>
                  <a:ahLst/>
                  <a:rect l="0" t="0" r="r" b="b"/>
                  <a:pathLst>
                    <a:path w="319" h="98">
                      <a:moveTo>
                        <a:pt x="0" y="12"/>
                      </a:moveTo>
                      <a:lnTo>
                        <a:pt x="79" y="0"/>
                      </a:lnTo>
                      <a:lnTo>
                        <a:pt x="319" y="41"/>
                      </a:lnTo>
                      <a:lnTo>
                        <a:pt x="307" y="98"/>
                      </a:lnTo>
                      <a:lnTo>
                        <a:pt x="74" y="22"/>
                      </a:lnTo>
                      <a:lnTo>
                        <a:pt x="0" y="14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374760" y="6267600"/>
                  <a:ext cx="11520" cy="20880"/>
                </a:xfrm>
                <a:custGeom>
                  <a:avLst/>
                  <a:gdLst/>
                  <a:ahLst/>
                  <a:rect l="0" t="0" r="r" b="b"/>
                  <a:pathLst>
                    <a:path w="32" h="58">
                      <a:moveTo>
                        <a:pt x="0" y="0"/>
                      </a:moveTo>
                      <a:lnTo>
                        <a:pt x="20" y="23"/>
                      </a:lnTo>
                      <a:lnTo>
                        <a:pt x="32" y="58"/>
                      </a:lnTo>
                      <a:lnTo>
                        <a:pt x="5" y="4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320760" y="6215040"/>
                  <a:ext cx="57600" cy="9720"/>
                </a:xfrm>
                <a:custGeom>
                  <a:avLst/>
                  <a:gdLst/>
                  <a:ahLst/>
                  <a:rect l="0" t="0" r="r" b="b"/>
                  <a:pathLst>
                    <a:path w="160" h="27">
                      <a:moveTo>
                        <a:pt x="0" y="3"/>
                      </a:moveTo>
                      <a:lnTo>
                        <a:pt x="14" y="0"/>
                      </a:lnTo>
                      <a:lnTo>
                        <a:pt x="158" y="18"/>
                      </a:lnTo>
                      <a:lnTo>
                        <a:pt x="160" y="27"/>
                      </a:lnTo>
                      <a:lnTo>
                        <a:pt x="131" y="25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442800" y="6230880"/>
                  <a:ext cx="6120" cy="0"/>
                </a:xfrm>
                <a:custGeom>
                  <a:avLst/>
                  <a:gdLst/>
                  <a:ahLst/>
                  <a:rect l="0" t="0" r="r" b="b"/>
                  <a:pathLst>
                    <a:path w="1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15960" y="6083280"/>
                  <a:ext cx="265320" cy="35280"/>
                </a:xfrm>
                <a:custGeom>
                  <a:avLst/>
                  <a:gdLst/>
                  <a:ahLst/>
                  <a:rect l="0" t="0" r="r" b="b"/>
                  <a:pathLst>
                    <a:path w="737" h="98">
                      <a:moveTo>
                        <a:pt x="0" y="77"/>
                      </a:moveTo>
                      <a:lnTo>
                        <a:pt x="712" y="0"/>
                      </a:lnTo>
                      <a:lnTo>
                        <a:pt x="737" y="20"/>
                      </a:lnTo>
                      <a:lnTo>
                        <a:pt x="12" y="98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" name=""/>
                <p:cNvGrpSpPr/>
                <p:nvPr/>
              </p:nvGrpSpPr>
              <p:grpSpPr>
                <a:xfrm>
                  <a:off x="284040" y="6143760"/>
                  <a:ext cx="625680" cy="77760"/>
                  <a:chOff x="284040" y="6143760"/>
                  <a:chExt cx="625680" cy="77760"/>
                </a:xfrm>
              </p:grpSpPr>
              <p:sp>
                <p:nvSpPr>
                  <p:cNvPr id="47" name=""/>
                  <p:cNvSpPr/>
                  <p:nvPr/>
                </p:nvSpPr>
                <p:spPr>
                  <a:xfrm>
                    <a:off x="733320" y="6167520"/>
                    <a:ext cx="19080" cy="54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8" name=""/>
                  <p:cNvGrpSpPr/>
                  <p:nvPr/>
                </p:nvGrpSpPr>
                <p:grpSpPr>
                  <a:xfrm>
                    <a:off x="284040" y="6143760"/>
                    <a:ext cx="625680" cy="75960"/>
                    <a:chOff x="284040" y="6143760"/>
                    <a:chExt cx="625680" cy="75960"/>
                  </a:xfrm>
                </p:grpSpPr>
                <p:sp>
                  <p:nvSpPr>
                    <p:cNvPr id="49" name=""/>
                    <p:cNvSpPr/>
                    <p:nvPr/>
                  </p:nvSpPr>
                  <p:spPr>
                    <a:xfrm>
                      <a:off x="550800" y="6176880"/>
                      <a:ext cx="11160" cy="4284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8280" bIns="-8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" name=""/>
                    <p:cNvSpPr/>
                    <p:nvPr/>
                  </p:nvSpPr>
                  <p:spPr>
                    <a:xfrm>
                      <a:off x="303120" y="6148440"/>
                      <a:ext cx="15840" cy="6336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12240" bIns="12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" name=""/>
                    <p:cNvSpPr/>
                    <p:nvPr/>
                  </p:nvSpPr>
                  <p:spPr>
                    <a:xfrm>
                      <a:off x="392040" y="6164280"/>
                      <a:ext cx="495720" cy="129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377" h="36">
                          <a:moveTo>
                            <a:pt x="1377" y="2"/>
                          </a:moveTo>
                          <a:lnTo>
                            <a:pt x="978" y="2"/>
                          </a:lnTo>
                          <a:lnTo>
                            <a:pt x="455" y="36"/>
                          </a:lnTo>
                          <a:lnTo>
                            <a:pt x="0" y="0"/>
                          </a:lnTo>
                          <a:lnTo>
                            <a:pt x="1377" y="2"/>
                          </a:lnTo>
                          <a:close/>
                        </a:path>
                      </a:pathLst>
                    </a:custGeom>
                    <a:solidFill>
                      <a:srgbClr val="cecece"/>
                    </a:solidFill>
                    <a:ln w="12600">
                      <a:solidFill>
                        <a:srgbClr val="ffffff"/>
                      </a:solidFill>
                      <a:round/>
                    </a:ln>
                  </p:spPr>
                  <p:txBody>
                    <a:bodyPr lIns="96120" rIns="96120" tIns="-38160" bIns="-38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" name=""/>
                    <p:cNvSpPr/>
                    <p:nvPr/>
                  </p:nvSpPr>
                  <p:spPr>
                    <a:xfrm flipH="1" flipV="1">
                      <a:off x="284040" y="6143760"/>
                      <a:ext cx="81000" cy="1404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" name=""/>
                    <p:cNvSpPr/>
                    <p:nvPr/>
                  </p:nvSpPr>
                  <p:spPr>
                    <a:xfrm>
                      <a:off x="892080" y="6162840"/>
                      <a:ext cx="17640" cy="3636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14760" bIns="-14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85800" y="704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2076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