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29600" cy="6842160"/>
            <a:chOff x="0" y="0"/>
            <a:chExt cx="9129600" cy="68421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29600" cy="6842160"/>
              <a:chOff x="0" y="0"/>
              <a:chExt cx="9129600" cy="68421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262080"/>
                <a:ext cx="91296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741240"/>
                <a:ext cx="91296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1220760"/>
                <a:ext cx="91296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701720"/>
                <a:ext cx="91296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2181240"/>
                <a:ext cx="91296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2660760"/>
                <a:ext cx="91296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3139920"/>
                <a:ext cx="91296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3619440"/>
                <a:ext cx="91296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4098960"/>
                <a:ext cx="91296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4579920"/>
                <a:ext cx="91296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5059440"/>
                <a:ext cx="91296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538960"/>
                <a:ext cx="91296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6018120"/>
                <a:ext cx="91296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6497640"/>
                <a:ext cx="91296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" name=""/>
              <p:cNvGrpSpPr/>
              <p:nvPr/>
            </p:nvGrpSpPr>
            <p:grpSpPr>
              <a:xfrm>
                <a:off x="307800" y="0"/>
                <a:ext cx="6919920" cy="6842160"/>
                <a:chOff x="307800" y="0"/>
                <a:chExt cx="6919920" cy="684216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30780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1424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12248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152892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93680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234324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274968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15612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356400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397044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437832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478476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19264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9908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600696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641340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682164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772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" name=""/>
              <p:cNvSpPr/>
              <p:nvPr/>
            </p:nvSpPr>
            <p:spPr>
              <a:xfrm>
                <a:off x="7635960" y="0"/>
                <a:ext cx="0" cy="684216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8042400" y="0"/>
                <a:ext cx="0" cy="684216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50280" y="0"/>
                <a:ext cx="0" cy="684216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56720" y="0"/>
                <a:ext cx="0" cy="684216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" name=""/>
            <p:cNvGrpSpPr/>
            <p:nvPr/>
          </p:nvGrpSpPr>
          <p:grpSpPr>
            <a:xfrm>
              <a:off x="7223040" y="266760"/>
              <a:ext cx="1635480" cy="6229440"/>
              <a:chOff x="7223040" y="266760"/>
              <a:chExt cx="1635480" cy="6229440"/>
            </a:xfrm>
          </p:grpSpPr>
          <p:sp>
            <p:nvSpPr>
              <p:cNvPr id="40" name=""/>
              <p:cNvSpPr/>
              <p:nvPr/>
            </p:nvSpPr>
            <p:spPr>
              <a:xfrm>
                <a:off x="8448840" y="266760"/>
                <a:ext cx="390600" cy="471600"/>
              </a:xfrm>
              <a:prstGeom prst="rect">
                <a:avLst/>
              </a:prstGeom>
              <a:gradFill rotWithShape="0">
                <a:gsLst>
                  <a:gs pos="0">
                    <a:srgbClr val="7b7b7b"/>
                  </a:gs>
                  <a:gs pos="100000">
                    <a:srgbClr val="cecece"/>
                  </a:gs>
                </a:gsLst>
                <a:lin ang="5400000"/>
              </a:gradFill>
              <a:ln w="12600">
                <a:solidFill>
                  <a:srgbClr val="cecec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9160" y="266760"/>
                <a:ext cx="407880" cy="476280"/>
              </a:xfrm>
              <a:prstGeom prst="rect">
                <a:avLst/>
              </a:prstGeom>
              <a:gradFill rotWithShape="0">
                <a:gsLst>
                  <a:gs pos="0">
                    <a:srgbClr val="7b7b7b"/>
                  </a:gs>
                  <a:gs pos="100000">
                    <a:srgbClr val="cecece"/>
                  </a:gs>
                </a:gsLst>
                <a:lin ang="5400000"/>
              </a:gradFill>
              <a:ln w="12600">
                <a:solidFill>
                  <a:srgbClr val="cecec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448840" y="735120"/>
                <a:ext cx="406440" cy="476280"/>
              </a:xfrm>
              <a:prstGeom prst="rect">
                <a:avLst/>
              </a:prstGeom>
              <a:gradFill rotWithShape="0">
                <a:gsLst>
                  <a:gs pos="0">
                    <a:srgbClr val="7b7b7b"/>
                  </a:gs>
                  <a:gs pos="100000">
                    <a:srgbClr val="cecece"/>
                  </a:gs>
                </a:gsLst>
                <a:lin ang="5400000"/>
              </a:gradFill>
              <a:ln w="12600">
                <a:solidFill>
                  <a:srgbClr val="cecec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223040" y="735120"/>
                <a:ext cx="407880" cy="476280"/>
              </a:xfrm>
              <a:prstGeom prst="rect">
                <a:avLst/>
              </a:prstGeom>
              <a:gradFill rotWithShape="0">
                <a:gsLst>
                  <a:gs pos="0">
                    <a:srgbClr val="7b7b7b"/>
                  </a:gs>
                  <a:gs pos="100000">
                    <a:srgbClr val="cecece"/>
                  </a:gs>
                </a:gsLst>
                <a:lin ang="5400000"/>
              </a:gradFill>
              <a:ln w="12600">
                <a:solidFill>
                  <a:srgbClr val="cecec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635960" y="1217520"/>
                <a:ext cx="399960" cy="480960"/>
              </a:xfrm>
              <a:prstGeom prst="rect">
                <a:avLst/>
              </a:prstGeom>
              <a:gradFill rotWithShape="0">
                <a:gsLst>
                  <a:gs pos="0">
                    <a:srgbClr val="7b7b7b"/>
                  </a:gs>
                  <a:gs pos="100000">
                    <a:srgbClr val="cecece"/>
                  </a:gs>
                </a:gsLst>
                <a:lin ang="5400000"/>
              </a:gradFill>
              <a:ln w="12600">
                <a:solidFill>
                  <a:srgbClr val="cecec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448840" y="1704960"/>
                <a:ext cx="409680" cy="479520"/>
              </a:xfrm>
              <a:prstGeom prst="rect">
                <a:avLst/>
              </a:prstGeom>
              <a:gradFill rotWithShape="0">
                <a:gsLst>
                  <a:gs pos="0">
                    <a:srgbClr val="7b7b7b"/>
                  </a:gs>
                  <a:gs pos="100000">
                    <a:srgbClr val="cecece"/>
                  </a:gs>
                </a:gsLst>
                <a:lin ang="5400000"/>
              </a:gradFill>
              <a:ln w="12600">
                <a:solidFill>
                  <a:srgbClr val="cecec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039160" y="1704960"/>
                <a:ext cx="407880" cy="476280"/>
              </a:xfrm>
              <a:prstGeom prst="rect">
                <a:avLst/>
              </a:prstGeom>
              <a:gradFill rotWithShape="0">
                <a:gsLst>
                  <a:gs pos="0">
                    <a:srgbClr val="7b7b7b"/>
                  </a:gs>
                  <a:gs pos="100000">
                    <a:srgbClr val="cecece"/>
                  </a:gs>
                </a:gsLst>
                <a:lin ang="5400000"/>
              </a:gradFill>
              <a:ln w="12600">
                <a:solidFill>
                  <a:srgbClr val="cecec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448840" y="2181240"/>
                <a:ext cx="406440" cy="476280"/>
              </a:xfrm>
              <a:prstGeom prst="rect">
                <a:avLst/>
              </a:prstGeom>
              <a:gradFill rotWithShape="0">
                <a:gsLst>
                  <a:gs pos="0">
                    <a:srgbClr val="7b7b7b"/>
                  </a:gs>
                  <a:gs pos="100000">
                    <a:srgbClr val="cecece"/>
                  </a:gs>
                </a:gsLst>
                <a:lin ang="5400000"/>
              </a:gradFill>
              <a:ln w="12600">
                <a:solidFill>
                  <a:srgbClr val="cecec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039160" y="2657520"/>
                <a:ext cx="399960" cy="485640"/>
              </a:xfrm>
              <a:prstGeom prst="rect">
                <a:avLst/>
              </a:prstGeom>
              <a:gradFill rotWithShape="0">
                <a:gsLst>
                  <a:gs pos="0">
                    <a:srgbClr val="7b7b7b"/>
                  </a:gs>
                  <a:gs pos="100000">
                    <a:srgbClr val="cecece"/>
                  </a:gs>
                </a:gsLst>
                <a:lin ang="5400000"/>
              </a:gradFill>
              <a:ln w="12600">
                <a:solidFill>
                  <a:srgbClr val="cecec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039160" y="3143160"/>
                <a:ext cx="407880" cy="476280"/>
              </a:xfrm>
              <a:prstGeom prst="rect">
                <a:avLst/>
              </a:prstGeom>
              <a:gradFill rotWithShape="0">
                <a:gsLst>
                  <a:gs pos="0">
                    <a:srgbClr val="7b7b7b"/>
                  </a:gs>
                  <a:gs pos="100000">
                    <a:srgbClr val="cecece"/>
                  </a:gs>
                </a:gsLst>
                <a:lin ang="5400000"/>
              </a:gradFill>
              <a:ln w="12600">
                <a:solidFill>
                  <a:srgbClr val="cecec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448840" y="3619440"/>
                <a:ext cx="409680" cy="479520"/>
              </a:xfrm>
              <a:prstGeom prst="rect">
                <a:avLst/>
              </a:prstGeom>
              <a:gradFill rotWithShape="0">
                <a:gsLst>
                  <a:gs pos="0">
                    <a:srgbClr val="7b7b7b"/>
                  </a:gs>
                  <a:gs pos="100000">
                    <a:srgbClr val="cecece"/>
                  </a:gs>
                </a:gsLst>
                <a:lin ang="5400000"/>
              </a:gradFill>
              <a:ln w="12600">
                <a:solidFill>
                  <a:srgbClr val="cecec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448840" y="4095720"/>
                <a:ext cx="409680" cy="485640"/>
              </a:xfrm>
              <a:prstGeom prst="rect">
                <a:avLst/>
              </a:prstGeom>
              <a:gradFill rotWithShape="0">
                <a:gsLst>
                  <a:gs pos="0">
                    <a:srgbClr val="7b7b7b"/>
                  </a:gs>
                  <a:gs pos="100000">
                    <a:srgbClr val="cecece"/>
                  </a:gs>
                </a:gsLst>
                <a:lin ang="5400000"/>
              </a:gradFill>
              <a:ln w="12600">
                <a:solidFill>
                  <a:srgbClr val="cecec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039160" y="4095720"/>
                <a:ext cx="409680" cy="485640"/>
              </a:xfrm>
              <a:prstGeom prst="rect">
                <a:avLst/>
              </a:prstGeom>
              <a:gradFill rotWithShape="0">
                <a:gsLst>
                  <a:gs pos="0">
                    <a:srgbClr val="7b7b7b"/>
                  </a:gs>
                  <a:gs pos="100000">
                    <a:srgbClr val="cecece"/>
                  </a:gs>
                </a:gsLst>
                <a:lin ang="5400000"/>
              </a:gradFill>
              <a:ln w="12600">
                <a:solidFill>
                  <a:srgbClr val="cecec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448840" y="4581360"/>
                <a:ext cx="406440" cy="476280"/>
              </a:xfrm>
              <a:prstGeom prst="rect">
                <a:avLst/>
              </a:prstGeom>
              <a:gradFill rotWithShape="0">
                <a:gsLst>
                  <a:gs pos="0">
                    <a:srgbClr val="7b7b7b"/>
                  </a:gs>
                  <a:gs pos="100000">
                    <a:srgbClr val="cecece"/>
                  </a:gs>
                </a:gsLst>
                <a:lin ang="5400000"/>
              </a:gradFill>
              <a:ln w="12600">
                <a:solidFill>
                  <a:srgbClr val="cecec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48840" y="5535720"/>
                <a:ext cx="406440" cy="476280"/>
              </a:xfrm>
              <a:prstGeom prst="rect">
                <a:avLst/>
              </a:prstGeom>
              <a:gradFill rotWithShape="0">
                <a:gsLst>
                  <a:gs pos="0">
                    <a:srgbClr val="7b7b7b"/>
                  </a:gs>
                  <a:gs pos="100000">
                    <a:srgbClr val="cecece"/>
                  </a:gs>
                </a:gsLst>
                <a:lin ang="5400000"/>
              </a:gradFill>
              <a:ln w="12600">
                <a:solidFill>
                  <a:srgbClr val="cecec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039160" y="5535720"/>
                <a:ext cx="406440" cy="476280"/>
              </a:xfrm>
              <a:prstGeom prst="rect">
                <a:avLst/>
              </a:prstGeom>
              <a:gradFill rotWithShape="0">
                <a:gsLst>
                  <a:gs pos="0">
                    <a:srgbClr val="7b7b7b"/>
                  </a:gs>
                  <a:gs pos="100000">
                    <a:srgbClr val="cecece"/>
                  </a:gs>
                </a:gsLst>
                <a:lin ang="5400000"/>
              </a:gradFill>
              <a:ln w="12600">
                <a:solidFill>
                  <a:srgbClr val="cecec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039160" y="6019920"/>
                <a:ext cx="399960" cy="476280"/>
              </a:xfrm>
              <a:prstGeom prst="rect">
                <a:avLst/>
              </a:prstGeom>
              <a:gradFill rotWithShape="0">
                <a:gsLst>
                  <a:gs pos="0">
                    <a:srgbClr val="7b7b7b"/>
                  </a:gs>
                  <a:gs pos="100000">
                    <a:srgbClr val="cecece"/>
                  </a:gs>
                </a:gsLst>
                <a:lin ang="5400000"/>
              </a:gradFill>
              <a:ln w="12600">
                <a:solidFill>
                  <a:srgbClr val="cecec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08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