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9600" cy="6842160"/>
            <a:chOff x="0" y="0"/>
            <a:chExt cx="9129600" cy="68421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29600" cy="6842160"/>
              <a:chOff x="0" y="0"/>
              <a:chExt cx="9129600" cy="68421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6208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74124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122076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70172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218124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266076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313992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361944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409896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457992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505944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53896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601812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6497640"/>
                <a:ext cx="91296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856720" y="0"/>
                <a:ext cx="0" cy="684216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450280" y="0"/>
                <a:ext cx="0" cy="684216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042400" y="0"/>
                <a:ext cx="0" cy="684216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5960" y="0"/>
                <a:ext cx="0" cy="6842160"/>
              </a:xfrm>
              <a:prstGeom prst="line">
                <a:avLst/>
              </a:prstGeom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" name=""/>
              <p:cNvGrpSpPr/>
              <p:nvPr/>
            </p:nvGrpSpPr>
            <p:grpSpPr>
              <a:xfrm>
                <a:off x="307800" y="0"/>
                <a:ext cx="6919920" cy="6842160"/>
                <a:chOff x="307800" y="0"/>
                <a:chExt cx="6919920" cy="684216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72277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821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64134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60069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990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5192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7847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43783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9704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5640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561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7496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343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936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15289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1224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714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07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" name=""/>
            <p:cNvGrpSpPr/>
            <p:nvPr/>
          </p:nvGrpSpPr>
          <p:grpSpPr>
            <a:xfrm>
              <a:off x="7223040" y="258840"/>
              <a:ext cx="1636920" cy="6243480"/>
              <a:chOff x="7223040" y="258840"/>
              <a:chExt cx="1636920" cy="6243480"/>
            </a:xfrm>
          </p:grpSpPr>
          <p:sp>
            <p:nvSpPr>
              <p:cNvPr id="40" name=""/>
              <p:cNvSpPr/>
              <p:nvPr/>
            </p:nvSpPr>
            <p:spPr>
              <a:xfrm>
                <a:off x="8035920" y="60166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c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443800" y="553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9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035920" y="553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2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43800" y="45766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c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407440" y="4095720"/>
                <a:ext cx="452520" cy="4856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2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35920" y="409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9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43800" y="361800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9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35920" y="313704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2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35920" y="26575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c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443800" y="217800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2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43800" y="17002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c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35920" y="17002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9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1280" y="12193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2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43800" y="73980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420026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223040" y="73980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c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443800" y="25884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8901f3"/>
                  </a:gs>
                  <a:gs pos="100000">
                    <a:srgbClr val="29004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035920" y="258840"/>
                <a:ext cx="411120" cy="485640"/>
              </a:xfrm>
              <a:prstGeom prst="rect">
                <a:avLst/>
              </a:prstGeom>
              <a:gradFill rotWithShape="0">
                <a:gsLst>
                  <a:gs pos="0">
                    <a:srgbClr val="00dfca"/>
                  </a:gs>
                  <a:gs pos="100000">
                    <a:srgbClr val="00423c"/>
                  </a:gs>
                </a:gsLst>
                <a:lin ang="5400000"/>
              </a:gra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60948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98612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