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942-9B5A-4DC0-A03F-C7872E20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C93-B116-4C1A-A5B9-0938728C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2D7-2573-4A97-B3AE-1EB62368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F2C-EBC5-4FFA-8D52-7F86AF6D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F57-F86D-4DFE-97CA-E0D5B3E7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E4B-C3DA-4F29-AB02-75A12648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551-C66E-4E8B-9674-D4E06AAA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95E-088C-4FDC-AEE9-1E3A4DE0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0C5-10BC-46D1-989C-99CD775B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D53-C823-442E-B402-12FD8022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2BFE-DE36-4C5D-99AF-5D5D26D8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03C-CDDC-489E-A0FC-34CD8833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D8C7-4423-4975-ABAE-A65DABF6F1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380880"/>
            <a:ext cx="106668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唐诗鉴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0667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登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9322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山居秋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3716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出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4508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春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08720" y="59500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2" action="ppaction://hlinksldjump"/>
              </a:rPr>
              <a:t>返回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08720" y="59500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2" action="ppaction://hlinksldjump"/>
              </a:rPr>
              <a:t>返回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308720" y="59500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2" action="ppaction://hlinksldjump"/>
              </a:rPr>
              <a:t>返回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50000">
              <a:srgbClr val="6699ff"/>
            </a:gs>
            <a:gs pos="100000">
              <a:srgbClr val="2f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804000" cy="4248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08720" y="59500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2" action="ppaction://hlinksldjump"/>
              </a:rPr>
              <a:t>返回首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01:17:03Z</dcterms:created>
  <dc:creator>lzf</dc:creator>
  <dc:description/>
  <dc:language>en-US</dc:language>
  <cp:lastModifiedBy>未知用户</cp:lastModifiedBy>
  <dcterms:modified xsi:type="dcterms:W3CDTF">2012-12-12T03:33:07Z</dcterms:modified>
  <cp:revision>16</cp:revision>
  <dc:subject/>
  <dc:title>PowerPoint 演示文稿</dc:title>
</cp:coreProperties>
</file>